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BDA-7D14-4482-9DAD-150B2ED0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BD9-B4C0-4B88-A916-613E37E0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73B-7018-4416-9AD7-F97C7A04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0E1-48D3-4DC8-94D8-831DD902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AFC-8643-4B4D-B4D7-A1ADE233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3DE-848B-42F3-B521-229D85ED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87F-FDBB-464D-84DA-67B3282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352-5F04-44E1-8D15-FD7307B6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5DC-3CEF-4D0F-B06C-82D39CD2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EF6-20CD-489E-8420-53CC1CC0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610-8C1D-419E-95CA-A63FC61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9FA-42A4-4AC4-9BD0-265970DF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A9C1-1FF2-40A4-BEF6-455910BA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AutoShape 215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216" descr="water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09"/>
          <p:cNvSpPr/>
          <p:nvPr/>
        </p:nvSpPr>
        <p:spPr>
          <a:xfrm>
            <a:off x="0" y="1981080"/>
            <a:ext cx="4257720" cy="2068560"/>
          </a:xfrm>
          <a:prstGeom prst="pie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403"/>
          <p:cNvSpPr/>
          <p:nvPr/>
        </p:nvSpPr>
        <p:spPr>
          <a:xfrm>
            <a:off x="-11160" y="0"/>
            <a:ext cx="5145120" cy="4338720"/>
          </a:xfrm>
          <a:prstGeom prst="pie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cacaca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reeform 404"/>
          <p:cNvSpPr/>
          <p:nvPr/>
        </p:nvSpPr>
        <p:spPr>
          <a:xfrm>
            <a:off x="3581280" y="0"/>
            <a:ext cx="2522520" cy="4613400"/>
          </a:xfrm>
          <a:prstGeom prst="pie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405"/>
          <p:cNvSpPr/>
          <p:nvPr/>
        </p:nvSpPr>
        <p:spPr>
          <a:xfrm>
            <a:off x="6294600" y="1366920"/>
            <a:ext cx="2849400" cy="3324240"/>
          </a:xfrm>
          <a:prstGeom prst="pie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407"/>
          <p:cNvSpPr/>
          <p:nvPr/>
        </p:nvSpPr>
        <p:spPr>
          <a:xfrm>
            <a:off x="5562720" y="-22320"/>
            <a:ext cx="3290760" cy="4702320"/>
          </a:xfrm>
          <a:prstGeom prst="pie">
            <a:avLst/>
          </a:pr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12" descr="drop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1" descr="water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1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w Cen MT"/>
              </a:rPr>
              <a:t>Классный час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</a:rPr>
              <a:t>«Апелляция – способ выразить несогласие»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ный руководитель 9 «Г»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БУГ № 2 г.Новокубанс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Щербакова Ольга Анато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Подведение итогов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нтерес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Т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руд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собен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Г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лав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Заключительное слово </a:t>
            </a:r>
            <a:br>
              <a:rPr sz="3200"/>
            </a:b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классного руководителя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Рассчитывайте только на свои силы – и у вас всё получится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Удачи на экзаменах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7683"/>
                </a:solidFill>
                <a:latin typeface="Arial"/>
              </a:rPr>
              <a:t>Организационный блок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e5f0c"/>
                </a:solidFill>
                <a:latin typeface="Arial"/>
              </a:rPr>
              <a:t>Цель:</a:t>
            </a:r>
            <a:r>
              <a:rPr b="1" lang="ru-RU" sz="3200" spc="-1" strike="noStrike">
                <a:solidFill>
                  <a:srgbClr val="01768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17683"/>
                </a:solidFill>
                <a:latin typeface="Arial"/>
              </a:rPr>
              <a:t>подготовка учащихся к сдаче Г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7683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e5f0c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7683"/>
                </a:solidFill>
                <a:latin typeface="Arial"/>
              </a:rPr>
              <a:t>познакомить выпускников с процедурой и содержанием апелляции на ГИ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7683"/>
                </a:solidFill>
                <a:latin typeface="Arial"/>
              </a:rPr>
              <a:t>повысить учебную мотив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Вступительное слово</a:t>
            </a:r>
            <a:br>
              <a:rPr sz="3200"/>
            </a:b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 классного руководителя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05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eaf"/>
                </a:solidFill>
                <a:latin typeface="Arial"/>
              </a:rPr>
              <a:t>Возникновение проблемных ситуаций в период сдачи ГИА – не редкость. Поэтому выпускникам и их родителям стоит изучить свои возможности при подаче апелляции после экзам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03552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Упражнение «Расшифровка»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62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Г</a:t>
            </a:r>
            <a:r>
              <a:rPr b="0" lang="ru-RU" sz="7200" spc="-1" strike="noStrike">
                <a:solidFill>
                  <a:srgbClr val="019eaf"/>
                </a:solidFill>
                <a:latin typeface="Arial"/>
              </a:rPr>
              <a:t>осударственна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7200" spc="-1" strike="noStrike">
                <a:solidFill>
                  <a:srgbClr val="019eaf"/>
                </a:solidFill>
                <a:latin typeface="Arial"/>
              </a:rPr>
              <a:t>тогова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7200" spc="-1" strike="noStrike">
                <a:solidFill>
                  <a:srgbClr val="019eaf"/>
                </a:solidFill>
                <a:latin typeface="Arial"/>
              </a:rPr>
              <a:t>ттестац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Информационный блок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24360" y="1523880"/>
            <a:ext cx="468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ea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19eaf"/>
                </a:solidFill>
                <a:latin typeface="Arial"/>
              </a:rPr>
              <a:t>Апелляция – это протест участника ГИА, оформленный в виде особого письменного заявления в адрес конфликтной (апелляционной) комиссии, которая создается при ГЭК каждого субъекта федер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3" descr="Апелляция на ЕГЭ – ваш шанс изменить результат"/>
          <p:cNvPicPr/>
          <p:nvPr/>
        </p:nvPicPr>
        <p:blipFill>
          <a:blip r:embed="rId1"/>
          <a:stretch/>
        </p:blipFill>
        <p:spPr>
          <a:xfrm>
            <a:off x="468360" y="177336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19ea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Виды апелляции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Комиссия принимает и рассматривает апелляции двух видов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по процедуре проведения ГИ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по результатам ГИ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Апелляция о нарушении </a:t>
            </a:r>
            <a:br>
              <a:rPr sz="3200"/>
            </a:b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процедуры проведения ГИА</a:t>
            </a:r>
            <a:r>
              <a:rPr b="1" lang="ru-RU" sz="46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1" lang="en-US" sz="4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84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подается выпускником в письменной форме непосредственно в день проведения экзамена до выхода из ОУ-ППЭ руководителю РЭ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Результаты оформляются в форме заключения комиссии и передаются в тот же день уполномоченным представителем РЭК в конфликтную комисс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При удовлетворении апелляции результат ГИА-9, по процедуре которого была подана апелляция, отменяется и участнику ГИА-9 предоставляется возможность сдать ГИА-9 по данному общеобразовательному предмету в иной день, предусмотренный единым расписанием проведения ГИА-9 в текущем г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1904760" cy="2381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Апелляция по результатам ГИА.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08360" y="1523880"/>
            <a:ext cx="4896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9eaf"/>
                </a:solidFill>
                <a:latin typeface="Arial"/>
              </a:rPr>
              <a:t>В случае несогласия с выставленной отметкой следует в 3-дневный срок подать апелляцию в письменной форме в территориальную конфликтную комиссию либо руководителю того ОУ, в котором обучающийся ознакомился с официальными результатами экзам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9eaf"/>
                </a:solidFill>
                <a:latin typeface="Arial"/>
              </a:rPr>
              <a:t>Руководитель ОУ, принявший апелляцию, должен сразу же передать ее в территориальную конфликтную комисс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9eaf"/>
                </a:solidFill>
                <a:latin typeface="Arial"/>
              </a:rPr>
              <a:t>По результатам рассмотрения апелляции комиссия принимает решение об отклонении апелляции и сохранении выставленных баллов либо об удовлетворении апелляции и выставлении других баллов</a:t>
            </a: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095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Играем в ГИА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составить тест о правилах, сроках подачи, процедуре рассмотрения апелляции, состоящий из трех блоков: А, В и С (3-4 вопрос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Структура вопросов соответствует структуре КИМ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Tatiana</cp:lastModifiedBy>
  <dcterms:modified xsi:type="dcterms:W3CDTF">2012-12-20T14:38:07Z</dcterms:modified>
  <cp:revision>10</cp:revision>
  <dc:subject/>
  <dc:title>Themegallery PowerTemplate</dc:title>
</cp:coreProperties>
</file>