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D3C-0D64-44A2-AC22-2754E734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30EF-2007-4BD1-B9B1-C4A31C33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222B-1300-4863-AF21-E9DD858E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F95-F143-4635-831A-CCFE7689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A5E-B89F-4047-B707-B50DA626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30D-8EA9-4509-BC3E-A087E80E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CDB-42CB-4D9F-B69A-E214F175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BB06-A467-4D96-9781-1EEF4163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1D0-F45E-4E2F-AFB2-20C4DF0D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322-F49C-4D36-BA3D-AE7010C7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CDE-CEB3-46D6-87D3-ACFAA7ED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318B-9095-41AE-9A84-1C117D45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362320" y="645768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57200" y="6460920"/>
            <a:ext cx="1752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648320" y="64767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7B30-1992-4801-B7C1-C31F1CE01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3a71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720a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4598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AutoShape 215"/>
          <p:cNvSpPr/>
          <p:nvPr/>
        </p:nvSpPr>
        <p:spPr>
          <a:xfrm>
            <a:off x="179280" y="115920"/>
            <a:ext cx="8785440" cy="6553080"/>
          </a:xfrm>
          <a:prstGeom prst="roundRect">
            <a:avLst>
              <a:gd name="adj" fmla="val 3986"/>
            </a:avLst>
          </a:prstGeom>
          <a:solidFill>
            <a:srgbClr val="e7ffe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216" descr="water"/>
          <p:cNvPicPr/>
          <p:nvPr/>
        </p:nvPicPr>
        <p:blipFill>
          <a:blip r:embed="rId2"/>
          <a:srcRect l="22412" t="16378" r="0" b="27484"/>
          <a:stretch/>
        </p:blipFill>
        <p:spPr>
          <a:xfrm>
            <a:off x="108000" y="0"/>
            <a:ext cx="1368360" cy="11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09"/>
          <p:cNvSpPr/>
          <p:nvPr/>
        </p:nvSpPr>
        <p:spPr>
          <a:xfrm>
            <a:off x="0" y="1981080"/>
            <a:ext cx="4257720" cy="2068560"/>
          </a:xfrm>
          <a:prstGeom prst="pie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403"/>
          <p:cNvSpPr/>
          <p:nvPr/>
        </p:nvSpPr>
        <p:spPr>
          <a:xfrm>
            <a:off x="-11160" y="0"/>
            <a:ext cx="5145120" cy="4338720"/>
          </a:xfrm>
          <a:prstGeom prst="pie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cacaca">
                  <a:alpha val="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Freeform 404"/>
          <p:cNvSpPr/>
          <p:nvPr/>
        </p:nvSpPr>
        <p:spPr>
          <a:xfrm>
            <a:off x="3581280" y="0"/>
            <a:ext cx="2522520" cy="4613400"/>
          </a:xfrm>
          <a:prstGeom prst="pie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reeform 405"/>
          <p:cNvSpPr/>
          <p:nvPr/>
        </p:nvSpPr>
        <p:spPr>
          <a:xfrm>
            <a:off x="6294600" y="1366920"/>
            <a:ext cx="2849400" cy="3324240"/>
          </a:xfrm>
          <a:prstGeom prst="pie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Freeform 407"/>
          <p:cNvSpPr/>
          <p:nvPr/>
        </p:nvSpPr>
        <p:spPr>
          <a:xfrm>
            <a:off x="5562720" y="-22320"/>
            <a:ext cx="3290760" cy="4702320"/>
          </a:xfrm>
          <a:prstGeom prst="pie">
            <a:avLst/>
          </a:prstGeom>
          <a:gradFill rotWithShape="0">
            <a:gsLst>
              <a:gs pos="0">
                <a:srgbClr val="ffffff">
                  <a:alpha val="17254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12" descr="drop"/>
          <p:cNvPicPr/>
          <p:nvPr/>
        </p:nvPicPr>
        <p:blipFill>
          <a:blip r:embed="rId2"/>
          <a:stretch/>
        </p:blipFill>
        <p:spPr>
          <a:xfrm>
            <a:off x="755640" y="364500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11" descr="water"/>
          <p:cNvPicPr/>
          <p:nvPr/>
        </p:nvPicPr>
        <p:blipFill>
          <a:blip r:embed="rId3"/>
          <a:srcRect l="22412" t="16378" r="0" b="27484"/>
          <a:stretch/>
        </p:blipFill>
        <p:spPr>
          <a:xfrm>
            <a:off x="755640" y="393372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3a71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720a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4598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78920" y="6524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1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w Cen MT"/>
              </a:rPr>
              <a:t>Классный час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w Cen MT"/>
              </a:rPr>
              <a:t>«Апелляция – способ выразить несогласие» 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3068640"/>
            <a:ext cx="6400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готов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ный руководитель 9 «Г» клас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БУГ № 2 г.Новокубанс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Щербакова Ольга Анатол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Подведение итогов</a:t>
            </a:r>
            <a:endParaRPr b="1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И</a:t>
            </a:r>
            <a:r>
              <a:rPr b="0" lang="ru-RU" sz="4800" spc="-1" strike="noStrike">
                <a:solidFill>
                  <a:srgbClr val="019eaf"/>
                </a:solidFill>
                <a:latin typeface="Arial"/>
              </a:rPr>
              <a:t>нтересно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Т</a:t>
            </a:r>
            <a:r>
              <a:rPr b="0" lang="ru-RU" sz="4800" spc="-1" strike="noStrike">
                <a:solidFill>
                  <a:srgbClr val="019eaf"/>
                </a:solidFill>
                <a:latin typeface="Arial"/>
              </a:rPr>
              <a:t>рудно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О</a:t>
            </a:r>
            <a:r>
              <a:rPr b="0" lang="ru-RU" sz="4800" spc="-1" strike="noStrike">
                <a:solidFill>
                  <a:srgbClr val="019eaf"/>
                </a:solidFill>
                <a:latin typeface="Arial"/>
              </a:rPr>
              <a:t>собенно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Г</a:t>
            </a:r>
            <a:r>
              <a:rPr b="0" lang="ru-RU" sz="4800" spc="-1" strike="noStrike">
                <a:solidFill>
                  <a:srgbClr val="019eaf"/>
                </a:solidFill>
                <a:latin typeface="Arial"/>
              </a:rPr>
              <a:t>лавно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Заключительное слово </a:t>
            </a:r>
            <a:br>
              <a:rPr sz="3200"/>
            </a:b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классного руководителя</a:t>
            </a:r>
            <a:endParaRPr b="1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19eaf"/>
                </a:solidFill>
                <a:latin typeface="Arial"/>
              </a:rPr>
              <a:t>Рассчитывайте только на свои силы – и у вас всё получится!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19eaf"/>
                </a:solidFill>
                <a:latin typeface="Arial"/>
              </a:rPr>
              <a:t>Удачи на экзаменах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7683"/>
                </a:solidFill>
                <a:latin typeface="Arial"/>
              </a:rPr>
              <a:t>Организационный блок</a:t>
            </a:r>
            <a:endParaRPr b="1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ce5f0c"/>
                </a:solidFill>
                <a:latin typeface="Arial"/>
              </a:rPr>
              <a:t>Цель:</a:t>
            </a:r>
            <a:r>
              <a:rPr b="1" lang="ru-RU" sz="3200" spc="-1" strike="noStrike">
                <a:solidFill>
                  <a:srgbClr val="017683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17683"/>
                </a:solidFill>
                <a:latin typeface="Arial"/>
              </a:rPr>
              <a:t>подготовка учащихся к сдаче ГИ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7683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ce5f0c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7683"/>
                </a:solidFill>
                <a:latin typeface="Arial"/>
              </a:rPr>
              <a:t>познакомить выпускников с процедурой и содержанием апелляции на ГИ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7683"/>
                </a:solidFill>
                <a:latin typeface="Arial"/>
              </a:rPr>
              <a:t>повысить учебную мотивац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Вступительное слово</a:t>
            </a:r>
            <a:br>
              <a:rPr sz="3200"/>
            </a:b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 классного руководителя</a:t>
            </a:r>
            <a:endParaRPr b="1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505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9eaf"/>
                </a:solidFill>
                <a:latin typeface="Arial"/>
              </a:rPr>
              <a:t>Возникновение проблемных ситуаций в период сдачи ГИА – не редкость. Поэтому выпускникам и их родителям стоит изучить свои возможности при подаче апелляции после экзаме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303552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Упражнение «Расшифровка»</a:t>
            </a:r>
            <a:endParaRPr b="1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62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6600"/>
                </a:solidFill>
                <a:latin typeface="Arial"/>
              </a:rPr>
              <a:t>Г</a:t>
            </a:r>
            <a:r>
              <a:rPr b="0" lang="ru-RU" sz="7200" spc="-1" strike="noStrike">
                <a:solidFill>
                  <a:srgbClr val="019eaf"/>
                </a:solidFill>
                <a:latin typeface="Arial"/>
              </a:rPr>
              <a:t>осударственна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6600"/>
                </a:solidFill>
                <a:latin typeface="Arial"/>
              </a:rPr>
              <a:t>И</a:t>
            </a:r>
            <a:r>
              <a:rPr b="0" lang="ru-RU" sz="7200" spc="-1" strike="noStrike">
                <a:solidFill>
                  <a:srgbClr val="019eaf"/>
                </a:solidFill>
                <a:latin typeface="Arial"/>
              </a:rPr>
              <a:t>тогова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6600"/>
                </a:solidFill>
                <a:latin typeface="Arial"/>
              </a:rPr>
              <a:t>А</a:t>
            </a:r>
            <a:r>
              <a:rPr b="0" lang="ru-RU" sz="7200" spc="-1" strike="noStrike">
                <a:solidFill>
                  <a:srgbClr val="019eaf"/>
                </a:solidFill>
                <a:latin typeface="Arial"/>
              </a:rPr>
              <a:t>ттестац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Информационный блок</a:t>
            </a:r>
            <a:endParaRPr b="1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24360" y="1523880"/>
            <a:ext cx="468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9ea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19eaf"/>
                </a:solidFill>
                <a:latin typeface="Arial"/>
              </a:rPr>
              <a:t>Апелляция – это протест участника ГИА, оформленный в виде особого письменного заявления в адрес конфликтной (апелляционной) комиссии, которая создается при ГЭК каждого субъекта федер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Rectangle 3" descr="Апелляция на ЕГЭ – ваш шанс изменить результат"/>
          <p:cNvPicPr/>
          <p:nvPr/>
        </p:nvPicPr>
        <p:blipFill>
          <a:blip r:embed="rId1"/>
          <a:stretch/>
        </p:blipFill>
        <p:spPr>
          <a:xfrm>
            <a:off x="468360" y="1773360"/>
            <a:ext cx="3527280" cy="35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19ea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Виды апелляции</a:t>
            </a:r>
            <a:endParaRPr b="1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9eaf"/>
                </a:solidFill>
                <a:latin typeface="Arial"/>
              </a:rPr>
              <a:t>Комиссия принимает и рассматривает апелляции двух видов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9eaf"/>
                </a:solidFill>
                <a:latin typeface="Arial"/>
              </a:rPr>
              <a:t>по процедуре проведения ГИ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9eaf"/>
                </a:solidFill>
                <a:latin typeface="Arial"/>
              </a:rPr>
              <a:t>по результатам ГИ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Апелляция о нарушении </a:t>
            </a:r>
            <a:br>
              <a:rPr sz="3200"/>
            </a:b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процедуры проведения ГИА</a:t>
            </a:r>
            <a:r>
              <a:rPr b="1" lang="ru-RU" sz="46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1" lang="en-US" sz="4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5843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9eaf"/>
                </a:solidFill>
                <a:latin typeface="Arial"/>
              </a:rPr>
              <a:t>подается выпускником в письменной форме непосредственно в день проведения экзамена до выхода из ОУ-ППЭ руководителю РЭ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9eaf"/>
                </a:solidFill>
                <a:latin typeface="Arial"/>
              </a:rPr>
              <a:t>Результаты оформляются в форме заключения комиссии и передаются в тот же день уполномоченным представителем РЭК в конфликтную комисс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9eaf"/>
                </a:solidFill>
                <a:latin typeface="Arial"/>
              </a:rPr>
              <a:t>При удовлетворении апелляции результат ГИА-9, по процедуре которого была подана апелляция, отменяется и участнику ГИА-9 предоставляется возможность сдать ГИА-9 по данному общеобразовательному предмету в иной день, предусмотренный единым расписанием проведения ГИА-9 в текущем го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Rectangle 3" descr=""/>
          <p:cNvPicPr/>
          <p:nvPr/>
        </p:nvPicPr>
        <p:blipFill>
          <a:blip r:embed="rId1"/>
          <a:stretch/>
        </p:blipFill>
        <p:spPr>
          <a:xfrm>
            <a:off x="6659640" y="2637000"/>
            <a:ext cx="1904760" cy="2381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Апелляция по результатам ГИА.</a:t>
            </a:r>
            <a:endParaRPr b="1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08360" y="1523880"/>
            <a:ext cx="4896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9eaf"/>
                </a:solidFill>
                <a:latin typeface="Arial"/>
              </a:rPr>
              <a:t>В случае несогласия с выставленной отметкой следует в 3-дневный срок подать апелляцию в письменной форме в территориальную конфликтную комиссию либо руководителю того ОУ, в котором обучающийся ознакомился с официальными результатами экзаме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9eaf"/>
                </a:solidFill>
                <a:latin typeface="Arial"/>
              </a:rPr>
              <a:t>Руководитель ОУ, принявший апелляцию, должен сразу же передать ее в территориальную конфликтную комисс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9eaf"/>
                </a:solidFill>
                <a:latin typeface="Arial"/>
              </a:rPr>
              <a:t>По результатам рассмотрения апелляции комиссия принимает решение об отклонении апелляции и сохранении выставленных баллов либо об удовлетворении апелляции и выставлении других баллов</a:t>
            </a:r>
            <a:r>
              <a:rPr b="0" lang="ru-RU" sz="2000" spc="-1" strike="noStrike">
                <a:solidFill>
                  <a:srgbClr val="019ea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Rectangle 3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0956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9eaf"/>
                </a:solidFill>
                <a:latin typeface="Arial"/>
              </a:rPr>
              <a:t>Играем в ГИА</a:t>
            </a:r>
            <a:endParaRPr b="1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9eaf"/>
                </a:solidFill>
                <a:latin typeface="Arial"/>
              </a:rPr>
              <a:t>составить тест о правилах, сроках подачи, процедуре рассмотрения апелляции, состоящий из трех блоков: А, В и С (3-4 вопроса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9eaf"/>
                </a:solidFill>
                <a:latin typeface="Arial"/>
              </a:rPr>
              <a:t>Структура вопросов соответствует структуре КИМ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9:02:05Z</dcterms:created>
  <dc:creator>1</dc:creator>
  <dc:description/>
  <dc:language>en-US</dc:language>
  <cp:lastModifiedBy>Tatiana</cp:lastModifiedBy>
  <dcterms:modified xsi:type="dcterms:W3CDTF">2012-12-20T14:38:07Z</dcterms:modified>
  <cp:revision>10</cp:revision>
  <dc:subject/>
  <dc:title>Themegallery PowerTemplate</dc:title>
</cp:coreProperties>
</file>