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328-CB81-44D3-B792-F88FF8D6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766-E572-42C2-A5CC-49C830D2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6BB-CD23-401D-9A32-62872E7F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B5A-700F-4B46-A6E5-345CC073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BF6-5465-40D4-B59E-4632672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E43-10D9-4215-9F8D-25320CA0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B5F-E27A-4EEC-84A0-A4EB751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3BE-7ACF-420E-8594-7DDE29C2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D89-7B80-4AB9-9A47-EAAAD80A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FE9-474E-4175-96DA-6E994718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93F-F1C0-4384-B3FD-361E7841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21C-C443-4F0D-AC2C-876E4A1A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Tetrad30.png"/>
          <p:cNvPicPr/>
          <p:nvPr/>
        </p:nvPicPr>
        <p:blipFill>
          <a:blip r:embed="rId2"/>
          <a:stretch/>
        </p:blipFill>
        <p:spPr>
          <a:xfrm>
            <a:off x="12600" y="23760"/>
            <a:ext cx="9118800" cy="681048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pen.gif"/>
          <p:cNvPicPr/>
          <p:nvPr/>
        </p:nvPicPr>
        <p:blipFill>
          <a:blip r:embed="rId3"/>
          <a:stretch/>
        </p:blipFill>
        <p:spPr>
          <a:xfrm>
            <a:off x="7812000" y="5661000"/>
            <a:ext cx="103212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Рисунок 6" descr="Tetrad30.png"/>
          <p:cNvPicPr/>
          <p:nvPr/>
        </p:nvPicPr>
        <p:blipFill>
          <a:blip r:embed="rId2"/>
          <a:stretch/>
        </p:blipFill>
        <p:spPr>
          <a:xfrm>
            <a:off x="12600" y="23760"/>
            <a:ext cx="9118800" cy="6810480"/>
          </a:xfrm>
          <a:prstGeom prst="rect">
            <a:avLst/>
          </a:prstGeom>
          <a:ln w="0">
            <a:noFill/>
          </a:ln>
        </p:spPr>
      </p:pic>
      <p:pic>
        <p:nvPicPr>
          <p:cNvPr id="41" name="Рисунок 7" descr="pen.gif"/>
          <p:cNvPicPr/>
          <p:nvPr/>
        </p:nvPicPr>
        <p:blipFill>
          <a:blip r:embed="rId3"/>
          <a:stretch/>
        </p:blipFill>
        <p:spPr>
          <a:xfrm>
            <a:off x="7812000" y="5661000"/>
            <a:ext cx="10321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9B9D-F74B-471E-8ECC-37A4B5E2C0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ебования к современному уроку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условиях введения ФГО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ель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5713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вет на вопрос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Зачем? Ради чего?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бобщенный образ максимально желаемого достижения (результат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бстрактный характер и ценностное наполнени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может относиться к теме и к курсу в целом (спор в педагогике о наличии цели у отдельного урок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обычно формулируется в виде отглагольного существительного (развитие, становление, создание, формирование, воспитание, понимание и т.п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могут иметь разную ценностную направленность: к знаниям, умениям, отношениям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зможные виды целе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идактические или учебные (связаны с компонентом знаний, термин «образовательные» является неточным – излишне широким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звивающие (связаны с умения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спитательные (могут формулироваться и как ценностны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дачи в структур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улируются через глаго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бъяснить, изучить, рассмотреть, обобщить, узнать, сравнить, закрепить, расширить представления, сопоставить, обсудить и т.п.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дачи могут быть дидактическими или обучающими, деятельностными, ценностны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тносятся к организации занятия, к содержанию темы, к деятельности учащихся и учителя на занятии, к подведению итогов, к оцениванию и обсуждению (рефлекс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отражают деятельность на каждом этапе заня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жидаем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4200" y="9284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язаны с целями и задач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огут разделяться на предметные, метапредметные и личност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оотносятся с компонентами знаний, умений, отношения и ценностных ориентир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ключают индикаторы и показатели (количественные и качественные характеристики результат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имеют конкретный и проверяемый характе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формулируются от учащихся («В результате занятия учащиеся смогут…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могут быть сформулированы и обсуждены вместе с учащими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озвращение к ним в конце занятия может быть проведено в ходе рефлек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отивационный 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916280"/>
            <a:ext cx="82296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те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а (ситуация-проблема (основной вопрос занятия, обращение внимания на главное противоречие), ситуация – иллюстрация, ситуация-оценка, ситуация-тренинг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буждение к совершенствованию определенных действ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250920" y="105264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овокупность всех факторов, которые побуждают человека к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395280" y="3860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Ы ПРОВЕДЕНИЯ МОТИВ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260280" y="42926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ассмотрение ситу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250920" y="4653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абота с понятиями (терминам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219240" y="5013360"/>
            <a:ext cx="35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ализ документа (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250920" y="537372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абота с высказыванием (афоризм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9"/>
          <p:cNvSpPr/>
          <p:nvPr/>
        </p:nvSpPr>
        <p:spPr>
          <a:xfrm>
            <a:off x="252720" y="5661000"/>
            <a:ext cx="33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афическое из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0"/>
          <p:cNvSpPr/>
          <p:nvPr/>
        </p:nvSpPr>
        <p:spPr>
          <a:xfrm>
            <a:off x="250920" y="59500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гад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6017760" y="4437000"/>
            <a:ext cx="10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п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2"/>
          <p:cNvSpPr/>
          <p:nvPr/>
        </p:nvSpPr>
        <p:spPr>
          <a:xfrm>
            <a:off x="5164200" y="5157720"/>
            <a:ext cx="34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стандартн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539640" y="692280"/>
            <a:ext cx="7272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Результаты мотивации на ур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нтерес к изучаемым вопро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мение формулировать проблемы для рассмотр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вместное формулирование темы ур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ктуализация имеющихся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1"/>
          <p:cNvSpPr/>
          <p:nvPr/>
        </p:nvSpPr>
        <p:spPr>
          <a:xfrm>
            <a:off x="250920" y="260280"/>
            <a:ext cx="822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нформацион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395280" y="1125360"/>
            <a:ext cx="734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ные источ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ьменные источник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фические источники (схемы, диаграммы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ктронные источник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ео источник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(вещественные, изобразительные, статистическ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395280" y="479736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Учебная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познаватель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йди , выбери…, изуч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особы передач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екц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монолог, рассказ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Бесед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развернутые ответы на вопросы, рассуждения, пресс-конференции и т.п.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Работа с документом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индивидуальное чтение, анализ или групповой обсуждение, постановка вопросов и поиск ответов, выделение главного, формулирование выводов и т.п.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бмен опытом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социальным и другим, в том числе и через проведение исследования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Интернет коммуникац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электронная почта, поисковые сайты, скайп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налитический 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су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те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(отбо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тво (деятельность по созданию нового продук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налитический 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Учебная задач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познавательные УУ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-   спроектируй стратегию поис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равни, оцени, классифициру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сследуй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коммуникативные УУ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учет позиции партнера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(выслушай, пойми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сотрудничество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(договоритесь о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ценочный 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 (формализованная – отметка, неформальная – поддержка или критик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мооце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заимооценива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ксперти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395280" y="3860640"/>
            <a:ext cx="77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чебная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егулятивные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амоконтроль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предели критерии оцен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амооценку (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коррекцию (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выбор(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1"/>
          <a:stretch/>
        </p:blipFill>
        <p:spPr>
          <a:xfrm>
            <a:off x="1517760" y="506520"/>
            <a:ext cx="5217840" cy="8287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684360" y="1700280"/>
            <a:ext cx="7056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аще организуются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индивидуальны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рупповы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формы работы на урок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ФЛЕКСИВНЫЙ БЛОК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е к произошедш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ение труд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своение опы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324000" y="3357720"/>
            <a:ext cx="82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Учебная задач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личностные УУ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на самоопределение (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выбери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на смыслообразование (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формулируй свое понимание, смоделируй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на мотивацию (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выскажи свою позицию, видение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на нравственную оценку (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оцени факт относительно своего видения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468360" y="704160"/>
            <a:ext cx="7199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уро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уро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ение о результат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личнос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тапредме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ме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 уро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олог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3284640"/>
          <a:ext cx="8280360" cy="2592360"/>
        </p:xfrm>
        <a:graphic>
          <a:graphicData uri="http://schemas.openxmlformats.org/drawingml/2006/table">
            <a:tbl>
              <a:tblPr/>
              <a:tblGrid>
                <a:gridCol w="318960"/>
                <a:gridCol w="1273320"/>
                <a:gridCol w="1433520"/>
                <a:gridCol w="1911240"/>
                <a:gridCol w="1751040"/>
                <a:gridCol w="1592280"/>
              </a:tblGrid>
              <a:tr h="179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00" y="404640"/>
          <a:ext cx="8496000" cy="6140520"/>
        </p:xfrm>
        <a:graphic>
          <a:graphicData uri="http://schemas.openxmlformats.org/drawingml/2006/table">
            <a:tbl>
              <a:tblPr/>
              <a:tblGrid>
                <a:gridCol w="2808000"/>
                <a:gridCol w="1152720"/>
                <a:gridCol w="718920"/>
                <a:gridCol w="2232360"/>
                <a:gridCol w="865080"/>
                <a:gridCol w="718920"/>
              </a:tblGrid>
              <a:tr h="489960"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 для учащихся, выполнение которых приведёт к достижению запланирован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отивация к учебной деятельности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70e02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Формулирование темы урока, постановка цели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Открытие нового зн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70e0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Закрепление  нового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онтролирующее задание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ефлексия учебной деятельности на уроке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3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70e0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361800"/>
            <a:ext cx="72738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урока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прослеживая карту по вертикали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ю учителем ЗАДАЧ уро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развивающих форм, методов и  способ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УД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уществление оценивания и контр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250920" y="2602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араметры, которые не должны являться главными показателями качества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1042920" y="126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ями оценки урока Н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539640" y="1844640"/>
            <a:ext cx="70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ём написанного учениками в тетрад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выставленных ученикам отм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упражнений, выполненных за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ная или письменная форма выполняемы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типность или разнотипность содержания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е традиционных этапов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еделение времени по различным этап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большого (малого) количества наглядных пособ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для работы на уроке уче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2358360" y="62064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250920" y="14130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Современные технологии проведения урока в начальной школе с учетом требований ФГОС: Методическое пособие/Под ред. Н.Н.Деменевой. – М.: АРКТИ, 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250920" y="2276640"/>
            <a:ext cx="74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Федеральный государственный образовательный стандарт начального общего образования/ М-во образования и науки Рос.Федерации. - М.: Просвещение, 2010. - 31 с. – (Стандарты второго поколения) воплощение новых стандартов школьного образования. Дидактические 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304560" y="385776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yshared.ru/slide/231702/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285840" y="435780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А.Н. Иоффе «Структура современного урока истории и обществознания как основа организации деятельности учащихся», Преподавание истории в школе,№1 2012 год, стр.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ри постулата современного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000" y="1412640"/>
            <a:ext cx="7219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рок есть открытие истины, поиск истины и осмысление истины в совместной деятельности детей и учи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рок есть часть жизни ребёнка, и проживание этой жизни должно совершаться на уровне высокой общечеловеческой культу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еловек в качестве субъекта осмысления истины и в качестве субъекта жизни на уроке всегда является наивысшей ценностью, выступая в роли цели и никогда не выступая в роли сред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2114640" y="414360"/>
            <a:ext cx="4584600" cy="1023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250920" y="1484280"/>
            <a:ext cx="5859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рошее начало и хорошее оконч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844640"/>
            <a:ext cx="828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ко сформулированные тема, цель, задачи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50920" y="2276640"/>
            <a:ext cx="7129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должен быть проблемным и развивающ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250920" y="2637000"/>
            <a:ext cx="6697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 активизирует деятельность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250920" y="3068640"/>
            <a:ext cx="741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од делают сами учащие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250920" y="3429000"/>
            <a:ext cx="712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нимум репродукции и максимум творчества и сотвор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250920" y="4221000"/>
            <a:ext cx="6770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сбережение и здоровьесбере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250920" y="4653000"/>
            <a:ext cx="7489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т уровня и возможностей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250920" y="5013360"/>
            <a:ext cx="7489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должен быть добр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1828800" y="506520"/>
            <a:ext cx="4584600" cy="8776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766440" y="1844640"/>
            <a:ext cx="2792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обода выб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765000" y="2276640"/>
            <a:ext cx="2114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т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765000" y="2637000"/>
            <a:ext cx="2381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776880" y="3068640"/>
            <a:ext cx="435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альность (высокий КПД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767880" y="3429000"/>
            <a:ext cx="2625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тная 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8468199"/>
          <p:cNvPicPr/>
          <p:nvPr/>
        </p:nvPicPr>
        <p:blipFill>
          <a:blip r:embed="rId2"/>
          <a:srcRect l="0" t="4315" r="41983" b="0"/>
          <a:stretch/>
        </p:blipFill>
        <p:spPr>
          <a:xfrm>
            <a:off x="6227640" y="3500280"/>
            <a:ext cx="2298960" cy="28022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9"/>
          <p:cNvSpPr/>
          <p:nvPr/>
        </p:nvSpPr>
        <p:spPr>
          <a:xfrm>
            <a:off x="395280" y="5013360"/>
            <a:ext cx="55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урок, на котором учитель, лишь направляя детей, дает рекомендации в течение урока. Поэтому дети ощущают, что ведут урок с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1"/>
          <p:cNvSpPr/>
          <p:nvPr/>
        </p:nvSpPr>
        <p:spPr>
          <a:xfrm>
            <a:off x="1638000" y="4221000"/>
            <a:ext cx="39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«Высший пилотаж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адиционные элементы структуры урок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Закрепление пройден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онтроль и оценка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омашне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Обобщение и систематизация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учебник Педагогика. Под ред. П.И. Пидкасистог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ОЧНАЯ СТРУКТУРА УРО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нелинейная моде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1643040"/>
            <a:ext cx="2571840" cy="5214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рганизаци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643800" y="1643040"/>
            <a:ext cx="2500200" cy="5214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отиваци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556000" y="1643040"/>
            <a:ext cx="2087280" cy="2506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Информаци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643280" y="4143240"/>
            <a:ext cx="2016360" cy="2714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ефлексив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43280" y="1643040"/>
            <a:ext cx="2017800" cy="2506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Аналит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56000" y="4143240"/>
            <a:ext cx="2087280" cy="2714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це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ОЧНАЯ СТРУКТУРА УРОК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линейная моде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рганизационны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Мотивационны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Информационны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Аналитически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Оценочны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Рефлексивны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рганизационный 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е результат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цель, задач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кции и пояс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ное слово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еделение по групп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работка правил работы (определение норм, процедур работ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труирование простра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7:49:40Z</dcterms:created>
  <dc:creator>user</dc:creator>
  <dc:description/>
  <dc:language>en-US</dc:language>
  <cp:lastModifiedBy>admin</cp:lastModifiedBy>
  <dcterms:modified xsi:type="dcterms:W3CDTF">2013-03-09T18:48:01Z</dcterms:modified>
  <cp:revision>55</cp:revision>
  <dc:subject/>
  <dc:title>Критерии современного урока в условиях введения ФГОС</dc:title>
</cp:coreProperties>
</file>