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5BF-9A32-4398-A249-63D7F3E6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321-DCBC-4F5C-A4C8-A7B518D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6C7-97B2-4BB1-8A92-27382357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866-9373-4CCA-B131-8B170EA7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3F3D-C2B4-486D-90C1-6590B011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F5E-B317-4C88-8F16-595409E6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E70-0D6B-483D-9E26-021FCBFD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D5ED-EBCB-4C0D-875E-AA23847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162-59DE-42B9-9C4A-4ECB8E0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6517-11FB-4C34-8E14-63A8910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AC3-18F5-43F8-A021-73AE7F1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7ED-1AD7-4DC8-809E-25642C3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03A-788F-4F6C-AFE8-949559F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8FD1-3314-4FFB-8124-1327BE9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46E-CB65-4270-A8CE-6BCCC3C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EC08-4AE9-4D92-BDD9-28D6D23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140B-F7C3-412F-AC6E-CED391E5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2405-C4CE-4601-847D-731B3E8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A970-224E-4952-9A11-60212FD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03AB-1E82-414C-888D-E291B211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E374-B932-4D6E-BE5E-38DB1932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70FD-19BC-44AA-9382-3CF12B7C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774-59D7-42BE-B975-B02B5340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7AFF-AC76-4756-9337-09738DF8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3444-CF8F-4357-843C-936C048B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A09B-2F6A-4A59-A7B6-6F77648F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C8F5-D6A2-4222-A0A9-07772AD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8047-2B2B-4A23-8D15-499E797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1E97-E7FC-43B8-9DA5-556ADC6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74E4-5FC3-4A72-A38D-8154B944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6351-F6A3-4C57-9AAB-657C3D6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0154-76B6-47B5-BDEA-CE0670B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34E0-8330-4393-A7CB-8AEC0C8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6E3-2C7E-41E7-8407-26FF9EF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0EA5-4E65-468C-AA1A-F93A94DC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C173-ED8B-46A3-BE38-05E49FE3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3CF9-B9C1-4671-BD9A-B4B1D8DA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E2A7-74B0-4B58-9F1F-4EFD6783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3FDA-7B2F-43A8-B753-762A262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36B4-E5A8-4722-80B2-8D20A84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7AE3-5B13-4869-B9F6-643166A2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588A-E2BB-4311-A2C1-FD0EB557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696F-63CE-4CF5-8028-53DFA2AA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9C0-6BA1-4A5B-AEE9-31A4E0B6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031-AE32-42E4-A84B-9B54708F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6C5-458C-4188-A140-80647AE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77E-E7CD-4D3F-8F0F-65043934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1D4-C232-4B8D-AAD3-A97EA4F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A8BC-936C-48EE-928A-A01B152C715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A34-927E-45DD-8D00-65CD7CAAB0D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4EFD-BE98-4DC3-A67B-8E5201D6D85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634F-EED2-49BE-AC18-27EFF650E25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353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Татарстан Республикасы Апас районы Чури – Бураш төп гомуми белем бирү мәктәб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000000"/>
                </a:solidFill>
                <a:latin typeface="Gungsuh"/>
                <a:ea typeface="Gungsuh"/>
              </a:rPr>
              <a:t>Урын һәм вакыт рәвешләр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Татар теле һәм әдәбияты укытучыс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Шәфигуллина Гүзәл Фәрит кыз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689040" y="1079640"/>
            <a:ext cx="777240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1373040" y="1397160"/>
            <a:ext cx="687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әрескә йомга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инди сүз төркемен өйрәнд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әрсә ул рәвеш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әвеш турында нәрсәләр беләсез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әвешнең нинди төркемчәләрен беләсез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билгеләмәләрен әйтү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187280" y="2060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тиҗә шул: һәрберегез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 яхшы хәзерләнгә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р уңышлар, сәламәтле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згә теләк шул миннән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02600" cy="6672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58920" y="1916280"/>
            <a:ext cx="640080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Өй эш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tt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ләр кулланып  “ Кадерле әнимә” темасына хат яз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725040" y="1268280"/>
            <a:ext cx="7777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ксат: 1. Урын һәм вакыт рәвешләре турында аңлат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Рәвеш турында белемнәрне тирәнәйтү,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алаштыру, рәвешләрнең сөйләм телен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етудагы әһәмиятен ачыкла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2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Туган телнең матурлыгын тоярга өйрәтү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322280" y="1054080"/>
            <a:ext cx="6284880" cy="385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0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90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1109520" y="1484280"/>
            <a:ext cx="68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я зур бүле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Өйрәнәбез бүлеп – бүлеп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Исем, фигыль, алмашлы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Сыйфат, сан, рәвеш, ымлык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Кисәкчә, бәйлек, теркәгеч,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Саный китсәң бихисап...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Рәвешне ныклап өйрәнү</a:t>
            </a:r>
            <a:br>
              <a:rPr sz="2800"/>
            </a:b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Бүген безнең төп макса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43000" y="731520"/>
            <a:ext cx="640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ш яки хәлнең билгесен белдерә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чек? Ни рәвешле? Күпме? Кайчан? Кайда? Ник? Нигә? сорауларына җавап бирә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өрлән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гыльне, сыйфатны, рәвешне ачыклы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Исемне ачыклап килгәндә аергыч та була ала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Җөмләдә күбрәк хәл бул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90" descr=""/>
          <p:cNvPicPr/>
          <p:nvPr/>
        </p:nvPicPr>
        <p:blipFill>
          <a:blip r:embed="rId1"/>
          <a:stretch/>
        </p:blipFill>
        <p:spPr>
          <a:xfrm>
            <a:off x="63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115640" y="1125000"/>
            <a:ext cx="7272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аф рәвешләр эшнең сыйфатын белдерәләр. Ничек? Ни рәвешле? сорауларына җавап бирәләр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хшату – чагыштыру рәвешләре эшнең үтәлү ысулын белдерәләр. Ничек? Ни төсле? сорауларына җавап бирәләр. 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</a:t>
            </a:r>
            <a:r>
              <a:rPr b="0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үләм – чама рәвешләре эш яки билгенең күләм – чамасын белдерәләр. Күпме? Ни чаклы? Никадәр? сорауларына җавап бирәләр. ( Мисаллар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6920" y="1628640"/>
            <a:ext cx="6742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ртәгә иртән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ароход белән китәрбез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Ф.Әмирхан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Җәйгән урын өстенә </a:t>
            </a: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югарыдан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дөбердәп тегермән ташы килеп төште.( Әкият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– Килегез </a:t>
            </a:r>
            <a:r>
              <a:rPr b="1" i="1" lang="tt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бирегә, биредә</a:t>
            </a:r>
            <a:r>
              <a:rPr b="1" i="1" lang="tt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үрәсезме, шоссе юллары. ( И.Гази 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90" descr=""/>
          <p:cNvPicPr/>
          <p:nvPr/>
        </p:nvPicPr>
        <p:blipFill>
          <a:blip r:embed="rId1"/>
          <a:stretch/>
        </p:blipFill>
        <p:spPr>
          <a:xfrm>
            <a:off x="41400" y="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43000" y="1267920"/>
            <a:ext cx="6400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әвешләрне таб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раулар ку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әрсә белдерүләрен ачыкла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әтиҗә чыгару, билгеләмәсен әйтү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90" descr=""/>
          <p:cNvPicPr/>
          <p:nvPr/>
        </p:nvPicPr>
        <p:blipFill>
          <a:blip r:embed="rId1"/>
          <a:stretch/>
        </p:blipFill>
        <p:spPr>
          <a:xfrm>
            <a:off x="0" y="0"/>
            <a:ext cx="8994600" cy="6672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87280" y="1341360"/>
            <a:ext cx="6400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ызыклы грамматика (өстәмә материал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нди авырлык үлчәү берәмлегенә -лап кушымчасы өстәп язып рәвеш ясап бул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Өйнең кар – яңгырдан саклый торган өске капламасы исеменә нинди хәреф өстәп язсагыз, рәвеш килеп чыгар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нди балык ел фасылын белдерүче рәвешкә “адаш” булып йөр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Әтиеңнең әтисе сиңа кем булганны бел дә, шул сүзнең беренче иҗегенә рус телендәге “мин” сүзен ялгап, рәвеш я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-4147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tt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Юлы” сүзенең алдына нинди санны ялгап рәвеш ясарга мөмкин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60440" indent="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5:56:48Z</dcterms:created>
  <dc:creator>Шафигуллина</dc:creator>
  <dc:description/>
  <dc:language>en-US</dc:language>
  <cp:lastModifiedBy>Шафигуллина</cp:lastModifiedBy>
  <dcterms:modified xsi:type="dcterms:W3CDTF">2013-03-11T10:33:10Z</dcterms:modified>
  <cp:revision>15</cp:revision>
  <dc:subject/>
  <dc:title>Презентация PowerPoint</dc:title>
</cp:coreProperties>
</file>