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13.png" ContentType="image/png"/>
  <Override PartName="/ppt/media/image9.png" ContentType="image/pn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2614-A81A-4800-8973-380CC5645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0242-BAD6-4491-9234-A279141E1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D473-C54D-4E7C-A290-B20DE639A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6C77-9578-4F31-9162-68D78B648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1699D-5853-4579-9424-484606600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77D47-F767-4089-9C4E-3CD16E00F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BB200-8F75-45AC-8B4C-E617D4E57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53999-C9B8-4501-8035-850FE7D52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76A3F-0EA0-4A4C-80A3-CC29E2E28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F8CEC-625A-46F9-AB46-0C52ACA00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36976-9C28-436F-B7A2-1E614F75E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A1C2-14A7-4895-9C97-0353EDE50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E58DF-2A86-4B3E-A60A-A2A6543BE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8BB34-58CB-4DDE-A123-0C385324A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6A7D4-6CE7-457C-BD05-FB3DACDBE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A0A1A-0F11-4E38-AA4D-B3C77FCE9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76315-CFAB-4BC5-AAC0-E29041573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1AD29-C269-4465-82CD-64D2B3195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86D72-0397-4A07-9203-41746D58C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DF924-DE45-4D5E-AB21-8752AB435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52CB3-D356-401C-92FF-33C0F588E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10F9C-6B95-4675-B627-58B0E77F7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D838-7E88-47A6-B5E8-10104425F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1E2FE-91B3-4587-89D0-0D543FB89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26F24-2696-485C-B2B1-5C11AD441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E5EED-C3CC-4FA2-AC48-802A936C1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E63E8-0502-4C6D-A06E-B1F653D6F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0A542-B525-4563-A099-AE099238D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09C16-001D-48C7-A951-7403759AA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FEE91-E522-497A-B989-00AC07578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DADB5-A260-4A2E-8373-E69382387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DA084-F6F8-48AB-B3F3-9FEAB9F71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CC614-358B-4E6E-A1DC-A5C6E2B22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1A98-0E13-4059-AB6E-73B88052B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00F68-857F-4D10-8B39-8F8972217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71A823-989B-4715-89D9-76A9C6194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98CC0-5DF2-4752-BE91-1B7CF7812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1AD72-075C-4937-B08E-A83F76861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A1C15-A612-48D1-B223-C64CC6DDE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FAADF-81CF-41D6-A8FE-377C46632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938D4-EDA6-430B-80BF-E61AD881F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ADF839-D625-46F8-B9A8-08A569305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27D30-BA21-4160-B0AB-0A819325C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4B62-F738-47F2-9C8F-3D2A8AE3B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08C3-0813-4567-9681-F594958DA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2E71-DEAA-4FBC-B052-14768108F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DDFE-4B5F-448D-9387-69043AA49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A1C6-6FD5-4D85-9973-B0AAC9C74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80AA9-5778-4E6E-A65F-02192D86B2F7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FF43F-9F4F-4089-BE41-F6EF5C5DC1F0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90B38-567E-403A-97EA-A56C51CC9D51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05B52-32FD-4D76-B4BF-B01CF9FA619F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395280" y="1125000"/>
            <a:ext cx="835344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Gungsuh"/>
                <a:ea typeface="Gungsuh"/>
              </a:rPr>
              <a:t>Татарстан Республикасы Апас районы Чури – Бураш төп гомуми белем бирү мәктәбе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200" spc="-1" strike="noStrike">
                <a:solidFill>
                  <a:srgbClr val="000000"/>
                </a:solidFill>
                <a:latin typeface="Gungsuh"/>
                <a:ea typeface="Gungsuh"/>
              </a:rPr>
              <a:t>Урын һәм вакыт рәвешләре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Gungsuh"/>
                <a:ea typeface="Gungsuh"/>
              </a:rPr>
              <a:t>Татар теле һәм әдәбияты укытучысы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Gungsuh"/>
                <a:ea typeface="Gungsuh"/>
              </a:rPr>
              <a:t>Шәфигуллина Гүзәл Фәрит кызы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6" name="Заголовок 1" descr=""/>
          <p:cNvPicPr/>
          <p:nvPr/>
        </p:nvPicPr>
        <p:blipFill>
          <a:blip r:embed="rId2"/>
          <a:stretch/>
        </p:blipFill>
        <p:spPr>
          <a:xfrm>
            <a:off x="689040" y="1079640"/>
            <a:ext cx="7772400" cy="4797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190" descr=""/>
          <p:cNvPicPr/>
          <p:nvPr/>
        </p:nvPicPr>
        <p:blipFill>
          <a:blip r:embed="rId1"/>
          <a:stretch/>
        </p:blipFill>
        <p:spPr>
          <a:xfrm>
            <a:off x="41400" y="698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4" name="Прямоугольник 4"/>
          <p:cNvSpPr/>
          <p:nvPr/>
        </p:nvSpPr>
        <p:spPr>
          <a:xfrm>
            <a:off x="1373040" y="1397160"/>
            <a:ext cx="68709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әрескә йомгак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tt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tt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Нинди сүз төркемен өйрәндек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tt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Нәрсә ул рәвеш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tt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Рәвеш турында нәрсәләр беләсез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tt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Рәвешнең нинди төркемчәләрен беләсез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tt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билгеләмәләрен әйтү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pull dir="l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190" descr=""/>
          <p:cNvPicPr/>
          <p:nvPr/>
        </p:nvPicPr>
        <p:blipFill>
          <a:blip r:embed="rId1"/>
          <a:stretch/>
        </p:blipFill>
        <p:spPr>
          <a:xfrm>
            <a:off x="41400" y="698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1187280" y="206028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tt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әтиҗә шул: һәрберегез,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tt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к яхшы хәзерләнгән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tt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ур уңышлар, сәламәтлек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tt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згә теләк шул миннән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pull dir="l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190" descr=""/>
          <p:cNvPicPr/>
          <p:nvPr/>
        </p:nvPicPr>
        <p:blipFill>
          <a:blip r:embed="rId1"/>
          <a:stretch/>
        </p:blipFill>
        <p:spPr>
          <a:xfrm>
            <a:off x="41400" y="69840"/>
            <a:ext cx="9102600" cy="66722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1258920" y="1916280"/>
            <a:ext cx="6400800" cy="34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Өй эше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</a:t>
            </a:r>
            <a:r>
              <a:rPr b="0" lang="tt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әвешләр кулланып  “ Кадерле әнимә” темасына хат язу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pull dir="l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190" descr=""/>
          <p:cNvPicPr/>
          <p:nvPr/>
        </p:nvPicPr>
        <p:blipFill>
          <a:blip r:embed="rId1"/>
          <a:stretch/>
        </p:blipFill>
        <p:spPr>
          <a:xfrm>
            <a:off x="41400" y="698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 txBox="1"/>
          <p:nvPr/>
        </p:nvSpPr>
        <p:spPr>
          <a:xfrm>
            <a:off x="725040" y="1268280"/>
            <a:ext cx="777708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just">
              <a:lnSpc>
                <a:spcPct val="2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Максат: 1. Урын һәм вакыт рәвешләре турында аңлату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2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        </a:t>
            </a:r>
            <a:r>
              <a:rPr b="1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. Рәвеш турында белемнәрне тирәнәйтү, 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2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истемалаштыру, рәвешләрнең сөйләм телен  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2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             </a:t>
            </a:r>
            <a:r>
              <a:rPr b="1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аетудагы әһәмиятен ачыклау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2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         </a:t>
            </a:r>
            <a:r>
              <a:rPr b="1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3. Туган телнең матурлыгын тоярга өйрәтү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Заголовок 1" descr=""/>
          <p:cNvPicPr/>
          <p:nvPr/>
        </p:nvPicPr>
        <p:blipFill>
          <a:blip r:embed="rId1"/>
          <a:stretch/>
        </p:blipFill>
        <p:spPr>
          <a:xfrm>
            <a:off x="1322280" y="1054080"/>
            <a:ext cx="6284880" cy="38592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90" descr=""/>
          <p:cNvPicPr/>
          <p:nvPr/>
        </p:nvPicPr>
        <p:blipFill>
          <a:blip r:embed="rId2"/>
          <a:stretch/>
        </p:blipFill>
        <p:spPr>
          <a:xfrm>
            <a:off x="0" y="284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190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Прямоугольник 2"/>
          <p:cNvSpPr/>
          <p:nvPr/>
        </p:nvSpPr>
        <p:spPr>
          <a:xfrm>
            <a:off x="1109520" y="1484280"/>
            <a:ext cx="6840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tt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фология зур бүлек,</a:t>
            </a:r>
            <a:br>
              <a:rPr sz="2800"/>
            </a:br>
            <a:r>
              <a:rPr b="0" lang="tt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Өйрәнәбез бүлеп – бүлеп.</a:t>
            </a:r>
            <a:br>
              <a:rPr sz="2800"/>
            </a:br>
            <a:r>
              <a:rPr b="0" lang="tt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Исем, фигыль, алмашлык,</a:t>
            </a:r>
            <a:br>
              <a:rPr sz="2800"/>
            </a:br>
            <a:r>
              <a:rPr b="0" lang="tt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Сыйфат, сан, рәвеш, ымлык,</a:t>
            </a:r>
            <a:br>
              <a:rPr sz="2800"/>
            </a:br>
            <a:r>
              <a:rPr b="0" lang="tt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Кисәкчә, бәйлек, теркәгеч,</a:t>
            </a:r>
            <a:br>
              <a:rPr sz="2800"/>
            </a:br>
            <a:r>
              <a:rPr b="0" lang="tt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Саный китсәң бихисап...</a:t>
            </a:r>
            <a:br>
              <a:rPr sz="2800"/>
            </a:br>
            <a:r>
              <a:rPr b="0" lang="tt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Рәвешне ныклап өйрәнү</a:t>
            </a:r>
            <a:br>
              <a:rPr sz="2800"/>
            </a:br>
            <a:r>
              <a:rPr b="0" lang="tt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Бүген безнең төп максат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pull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190" descr=""/>
          <p:cNvPicPr/>
          <p:nvPr/>
        </p:nvPicPr>
        <p:blipFill>
          <a:blip r:embed="rId1"/>
          <a:stretch/>
        </p:blipFill>
        <p:spPr>
          <a:xfrm>
            <a:off x="41400" y="698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 txBox="1"/>
          <p:nvPr/>
        </p:nvSpPr>
        <p:spPr>
          <a:xfrm>
            <a:off x="1143000" y="731520"/>
            <a:ext cx="64008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әвеш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                             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 algn="ctr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1" lang="tt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ш яки хәлнең билгесен белдерә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                             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 algn="ctr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ичек? Ни рәвешле? Күпме? Кайчан? Кайда? Ник? Нигә? сорауларына җавап бирә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                             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 algn="ctr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1" lang="tt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Төрләнми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                             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 algn="ctr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Фигыльне, сыйфатны, рәвешне ачыклый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</a:t>
            </a:r>
            <a:r>
              <a:rPr b="1" lang="tt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 Исемне ачыклап килгәндә аергыч та була ала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 algn="ctr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Җөмләдә күбрәк хәл була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cover dir="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190" descr=""/>
          <p:cNvPicPr/>
          <p:nvPr/>
        </p:nvPicPr>
        <p:blipFill>
          <a:blip r:embed="rId1"/>
          <a:stretch/>
        </p:blipFill>
        <p:spPr>
          <a:xfrm>
            <a:off x="63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1115640" y="1125000"/>
            <a:ext cx="7272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tt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Саф рәвешләр эшнең сыйфатын белдерәләр. Ничек? Ни рәвешле? сорауларына җавап бирәләр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 Мисаллар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    </a:t>
            </a:r>
            <a:r>
              <a:rPr b="0" lang="tt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хшату – чагыштыру рәвешләре эшнең үтәлү ысулын белдерәләр. Ничек? Ни төсле? сорауларына җавап бирәләр. ( Мисаллар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    </a:t>
            </a:r>
            <a:r>
              <a:rPr b="0" lang="tt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Күләм – чама рәвешләре эш яки билгенең күләм – чамасын белдерәләр. Күпме? Ни чаклы? Никадәр? сорауларына җавап бирәләр. ( Мисаллар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pull dir="l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190" descr=""/>
          <p:cNvPicPr/>
          <p:nvPr/>
        </p:nvPicPr>
        <p:blipFill>
          <a:blip r:embed="rId1"/>
          <a:stretch/>
        </p:blipFill>
        <p:spPr>
          <a:xfrm>
            <a:off x="41400" y="698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1186920" y="1628640"/>
            <a:ext cx="67424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2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Иртәгә иртән</a:t>
            </a:r>
            <a:r>
              <a:rPr b="1" i="1" lang="tt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пароход белән китәрбез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1" i="1" lang="tt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Ф.Әмирхан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. Җәйгән урын өстенә </a:t>
            </a:r>
            <a:r>
              <a:rPr b="1" i="1" lang="tt-RU" sz="22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югарыдан</a:t>
            </a:r>
            <a:r>
              <a:rPr b="1" i="1" lang="tt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дөбердәп тегермән ташы килеп төште.( Әкият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</a:t>
            </a:r>
            <a:r>
              <a:rPr b="1" i="1" lang="tt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3.– Килегез </a:t>
            </a:r>
            <a:r>
              <a:rPr b="1" i="1" lang="tt-RU" sz="22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бирегә, биредә</a:t>
            </a:r>
            <a:r>
              <a:rPr b="1" i="1" lang="tt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, күрәсезме, шоссе юллары. ( И.Гази 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pull dir="l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190" descr=""/>
          <p:cNvPicPr/>
          <p:nvPr/>
        </p:nvPicPr>
        <p:blipFill>
          <a:blip r:embed="rId1"/>
          <a:stretch/>
        </p:blipFill>
        <p:spPr>
          <a:xfrm>
            <a:off x="41400" y="698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1143000" y="1267920"/>
            <a:ext cx="640080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</a:t>
            </a:r>
            <a:r>
              <a:rPr b="0" lang="tt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әвешләрне табу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</a:t>
            </a:r>
            <a:r>
              <a:rPr b="0" lang="tt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ораулар кую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</a:t>
            </a:r>
            <a:r>
              <a:rPr b="0" lang="tt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әрсә белдерүләрен ачыклау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</a:t>
            </a:r>
            <a:r>
              <a:rPr b="0" lang="tt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әтиҗә чыгару, билгеләмәсен әйтү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pull dir="l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190" descr=""/>
          <p:cNvPicPr/>
          <p:nvPr/>
        </p:nvPicPr>
        <p:blipFill>
          <a:blip r:embed="rId1"/>
          <a:stretch/>
        </p:blipFill>
        <p:spPr>
          <a:xfrm>
            <a:off x="0" y="0"/>
            <a:ext cx="8994600" cy="667224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1187280" y="1341360"/>
            <a:ext cx="640080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0440" indent="0" algn="ctr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ызыклы грамматика (өстәмә материал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60440" indent="-41472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инди авырлык үлчәү берәмлегенә -лап кушымчасы өстәп язып рәвеш ясап була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460440" indent="-41472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Өйнең кар – яңгырдан саклый торган өске капламасы исеменә нинди хәреф өстәп язсагыз, рәвеш килеп чыгар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460440" indent="-41472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инди балык ел фасылын белдерүче рәвешкә “адаш” булып йөри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460440" indent="-41472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</a:t>
            </a:r>
            <a:r>
              <a:rPr b="0" lang="tt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Әтиеңнең әтисе сиңа кем булганны бел дә, шул сүзнең беренче иҗегенә рус телендәге “мин” сүзен ялгап, рәвеш яса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460440" indent="-41472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“</a:t>
            </a:r>
            <a:r>
              <a:rPr b="0" lang="tt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Юлы” сүзенең алдына нинди санны ялгап рәвеш ясарга мөмкин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460440" indent="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pull dir="l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4T05:56:48Z</dcterms:created>
  <dc:creator>Шафигуллина</dc:creator>
  <dc:description/>
  <dc:language>en-US</dc:language>
  <cp:lastModifiedBy>Шафигуллина</cp:lastModifiedBy>
  <dcterms:modified xsi:type="dcterms:W3CDTF">2013-03-11T10:33:10Z</dcterms:modified>
  <cp:revision>15</cp:revision>
  <dc:subject/>
  <dc:title>Презентация PowerPoint</dc:title>
</cp:coreProperties>
</file>