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9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gif" ContentType="image/gi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D93E-65A1-4BA1-9E10-E00DC78B7E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0E58-63F6-4689-B294-A28C004EFC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78C-2573-427C-A837-F2326952BE2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8BF-0419-43F6-B235-38DCF8BC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654-F27C-4A82-A869-B69A144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C49-ADB3-4DE2-8221-B44936A1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BB4-9BA4-4BF5-AD01-9A296C46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098E-A856-475D-A71B-D2A902BC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EDE6-EA38-4AF1-9EE8-1EE5B7CB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64FD-D4B4-42DC-909F-ED119EA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6170-1B9F-49F1-9007-6C79F48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E06-FB26-44A7-8B2A-0AF55686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3520-28E8-4E8D-BE52-2408BF7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4E50-F586-4D44-9286-70BFC5B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6D6-1CE6-46BC-96D2-2264461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1185-0FEA-4E1F-8B09-07354D4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B4C-1BE0-48CB-923D-A3E79627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F2E-C1B0-4C6A-8C8F-580D30BA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783-F2F7-49C2-BBC3-E3A6C5A4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0381-F18A-42F5-B710-E1DF5692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6B5-BA76-455E-9DB4-2C85ED3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A54-1ABA-4054-9096-559571D7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093-8C47-4AAF-9570-12E8E41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76F-185C-4874-9F21-9F81B5B0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89F-D883-4996-91B8-434C7B3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B45-D24E-4AB5-90C7-6410DEC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FD5-356A-490D-AA2C-89C0287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BA19-08C9-46E8-B08D-2D56F38A98E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742-A955-483E-BBCF-1B2BF1CA77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8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ематическая сказ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706640" cy="5495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029200" y="4648320"/>
            <a:ext cx="990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0520" y="3657600"/>
            <a:ext cx="2030040" cy="1738440"/>
            <a:chOff x="380520" y="3657600"/>
            <a:chExt cx="2030040" cy="173844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 flipH="1">
              <a:off x="380520" y="36576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786960" y="37292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«Молчанка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96252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3733920"/>
            <a:ext cx="38088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240" y="1143000"/>
            <a:ext cx="2030040" cy="1738440"/>
            <a:chOff x="228240" y="1143000"/>
            <a:chExt cx="2030040" cy="173844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 flipH="1">
              <a:off x="228240" y="11430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34680" y="12146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62120" y="137160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1219320"/>
            <a:ext cx="38124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5640" y="2362320"/>
            <a:ext cx="2030040" cy="1738080"/>
            <a:chOff x="2285640" y="2362320"/>
            <a:chExt cx="2030040" cy="1738080"/>
          </a:xfrm>
        </p:grpSpPr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 flipH="1">
              <a:off x="2285640" y="2362320"/>
              <a:ext cx="203004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692080" y="2433600"/>
              <a:ext cx="649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819520" y="2666880"/>
            <a:ext cx="3808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2438280"/>
            <a:ext cx="381240" cy="60984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876920"/>
            <a:ext cx="175248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53341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53341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548640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486400"/>
            <a:ext cx="15264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5168880"/>
            <a:ext cx="38088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105520"/>
            <a:ext cx="431640" cy="24120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74840" y="5562720"/>
            <a:ext cx="330480" cy="44424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411200">
            <a:off x="3199680" y="6023520"/>
            <a:ext cx="30456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706640" cy="5495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5029200" y="4648320"/>
            <a:ext cx="990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520" y="3657600"/>
            <a:ext cx="2030040" cy="1738440"/>
            <a:chOff x="380520" y="3657600"/>
            <a:chExt cx="2030040" cy="173844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 flipH="1">
              <a:off x="380520" y="36576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86960" y="37292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«Молчанка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96252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3733920"/>
            <a:ext cx="38088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240" y="1143000"/>
            <a:ext cx="2030040" cy="1738440"/>
            <a:chOff x="228240" y="1143000"/>
            <a:chExt cx="2030040" cy="173844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 flipH="1">
              <a:off x="228240" y="1143000"/>
              <a:ext cx="20300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34680" y="1214640"/>
              <a:ext cx="649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62120" y="1371600"/>
            <a:ext cx="380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1219320"/>
            <a:ext cx="381240" cy="60948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5640" y="2362320"/>
            <a:ext cx="2030040" cy="1738080"/>
            <a:chOff x="2285640" y="2362320"/>
            <a:chExt cx="2030040" cy="173808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 flipH="1">
              <a:off x="2285640" y="2362320"/>
              <a:ext cx="203004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692080" y="2433600"/>
              <a:ext cx="649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819520" y="2666880"/>
            <a:ext cx="3808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2438280"/>
            <a:ext cx="381240" cy="609840"/>
          </a:xfrm>
          <a:prstGeom prst="rect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29400" y="304920"/>
            <a:ext cx="2057400" cy="1828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у что ж, отпускаю тебя, колоб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280" y="304920"/>
            <a:ext cx="1905120" cy="1981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57200"/>
            <a:ext cx="175284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29400" y="2133720"/>
            <a:ext cx="175248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477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Никуда не отпущу,</a:t>
            </a:r>
            <a:br>
              <a:rPr sz="4400"/>
            </a:b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ка задачу не решу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514600" cy="2666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9640" y="22294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3050280"/>
            <a:ext cx="58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464724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3839400"/>
            <a:ext cx="66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2286000"/>
            <a:ext cx="5329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ловие задач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3200400"/>
            <a:ext cx="5329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3962520"/>
            <a:ext cx="5329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ен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800600"/>
            <a:ext cx="5481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ве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228600"/>
            <a:ext cx="175284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68580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68580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838080"/>
            <a:ext cx="15264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83808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20560"/>
            <a:ext cx="38088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457200"/>
            <a:ext cx="432000" cy="24120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2880" y="914400"/>
            <a:ext cx="330120" cy="44460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411200">
            <a:off x="837360" y="1374840"/>
            <a:ext cx="30492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На поляне играли 7 лисят, 2 убежали домой. Сколько на поляне осталось лися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514600" cy="2666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11280" y="389952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228600"/>
            <a:ext cx="6933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Вот и сказке конец. Рады дед, баба и колобок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лучил он хороший урок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053480" cy="4767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1600200" cy="2914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410080" y="3657600"/>
            <a:ext cx="1600200" cy="293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76720" y="4419720"/>
            <a:ext cx="175248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48769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4876920"/>
            <a:ext cx="228600" cy="380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502920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5029200"/>
            <a:ext cx="15228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4711680"/>
            <a:ext cx="38124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4648320"/>
            <a:ext cx="431640" cy="24120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36960" y="5105520"/>
            <a:ext cx="330120" cy="44424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411200">
            <a:off x="3961440" y="5566320"/>
            <a:ext cx="30456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8"/>
          <p:cNvSpPr txBox="1"/>
          <p:nvPr/>
        </p:nvSpPr>
        <p:spPr>
          <a:xfrm rot="21095400">
            <a:off x="533160" y="2057040"/>
            <a:ext cx="766116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cc66ff"/>
                    </a:gs>
                  </a:gsLst>
                  <a:lin ang="19404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cc66ff"/>
                  </a:gs>
                </a:gsLst>
                <a:lin ang="19404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Жили-были дед да баба. Жили, тужили, о внуках мечтали. Решили смастерить себе внучка. Посмотрели в компьютере, поразмыслили: смешали цифры, буквы, знаки, свои знания добавили, мукой приправили, и в печь волшебную отправили. А сами стали имя внуку придумыва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05080" y="1862280"/>
            <a:ext cx="7053120" cy="4767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1600200" cy="291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160020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44792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724280"/>
            <a:ext cx="1067040" cy="137160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63">
                <a:moveTo>
                  <a:pt x="0" y="0"/>
                </a:moveTo>
                <a:lnTo>
                  <a:pt x="21600" y="0"/>
                </a:lnTo>
                <a:lnTo>
                  <a:pt x="21600" y="27763"/>
                </a:lnTo>
                <a:lnTo>
                  <a:pt x="0" y="27763"/>
                </a:lnTo>
                <a:close/>
              </a:path>
              <a:path fill="lightenLess" w="21600" h="27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3">
                <a:moveTo>
                  <a:pt x="21600" y="0"/>
                </a:moveTo>
                <a:lnTo>
                  <a:pt x="21600" y="27763"/>
                </a:lnTo>
                <a:lnTo>
                  <a:pt x="20200" y="26363"/>
                </a:lnTo>
                <a:lnTo>
                  <a:pt x="20200" y="1400"/>
                </a:lnTo>
                <a:close/>
              </a:path>
              <a:path fill="darkenLess" w="21600" h="27763">
                <a:moveTo>
                  <a:pt x="21600" y="27763"/>
                </a:moveTo>
                <a:lnTo>
                  <a:pt x="0" y="27763"/>
                </a:lnTo>
                <a:lnTo>
                  <a:pt x="1400" y="26363"/>
                </a:lnTo>
                <a:lnTo>
                  <a:pt x="20200" y="26363"/>
                </a:lnTo>
                <a:close/>
              </a:path>
              <a:path fill="lighten" w="21600" h="27763">
                <a:moveTo>
                  <a:pt x="0" y="27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3"/>
                </a:lnTo>
                <a:close/>
              </a:path>
              <a:path fill="darken" w="21600" h="27763">
                <a:moveTo>
                  <a:pt x="10800" y="1788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763">
                <a:moveTo>
                  <a:pt x="11905" y="17363"/>
                </a:moveTo>
                <a:lnTo>
                  <a:pt x="11905" y="15405"/>
                </a:lnTo>
                <a:cubicBezTo>
                  <a:pt x="11905" y="14578"/>
                  <a:pt x="12236" y="13882"/>
                  <a:pt x="12837" y="13882"/>
                </a:cubicBezTo>
                <a:cubicBezTo>
                  <a:pt x="13968" y="13882"/>
                  <a:pt x="14865" y="12515"/>
                  <a:pt x="14865" y="10931"/>
                </a:cubicBezTo>
                <a:cubicBezTo>
                  <a:pt x="14865" y="8616"/>
                  <a:pt x="13011" y="6875"/>
                  <a:pt x="10800" y="6875"/>
                </a:cubicBezTo>
                <a:cubicBezTo>
                  <a:pt x="8589" y="6875"/>
                  <a:pt x="6918" y="8616"/>
                  <a:pt x="6918" y="10931"/>
                </a:cubicBezTo>
                <a:lnTo>
                  <a:pt x="8772" y="10931"/>
                </a:lnTo>
                <a:cubicBezTo>
                  <a:pt x="8772" y="9791"/>
                  <a:pt x="9695" y="8903"/>
                  <a:pt x="10800" y="8903"/>
                </a:cubicBezTo>
                <a:cubicBezTo>
                  <a:pt x="11905" y="8903"/>
                  <a:pt x="12837" y="9791"/>
                  <a:pt x="12837" y="10931"/>
                </a:cubicBezTo>
                <a:cubicBezTo>
                  <a:pt x="12837" y="11671"/>
                  <a:pt x="12367" y="12402"/>
                  <a:pt x="11905" y="12402"/>
                </a:cubicBezTo>
                <a:cubicBezTo>
                  <a:pt x="10800" y="12402"/>
                  <a:pt x="9695" y="13882"/>
                  <a:pt x="9695" y="15405"/>
                </a:cubicBezTo>
                <a:lnTo>
                  <a:pt x="9695" y="1736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129528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44792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371600"/>
            <a:ext cx="1143000" cy="2743200"/>
          </a:xfrm>
          <a:prstGeom prst="ellipse">
            <a:avLst/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4495680"/>
            <a:ext cx="175248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4952880"/>
            <a:ext cx="228600" cy="3812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952880"/>
            <a:ext cx="228600" cy="3812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5105520"/>
            <a:ext cx="15228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105520"/>
            <a:ext cx="15264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788000"/>
            <a:ext cx="380880" cy="16488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104"/>
                </a:moveTo>
                <a:cubicBezTo>
                  <a:pt x="76" y="60"/>
                  <a:pt x="152" y="16"/>
                  <a:pt x="192" y="8"/>
                </a:cubicBezTo>
                <a:cubicBezTo>
                  <a:pt x="232" y="0"/>
                  <a:pt x="232" y="48"/>
                  <a:pt x="24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4724280"/>
            <a:ext cx="431640" cy="241560"/>
          </a:xfrm>
          <a:custGeom>
            <a:avLst/>
            <a:gdLst/>
            <a:ahLst/>
            <a:rect l="l" t="t" r="r" b="b"/>
            <a:pathLst>
              <a:path w="224" h="152">
                <a:moveTo>
                  <a:pt x="224" y="152"/>
                </a:moveTo>
                <a:cubicBezTo>
                  <a:pt x="144" y="84"/>
                  <a:pt x="64" y="16"/>
                  <a:pt x="32" y="8"/>
                </a:cubicBezTo>
                <a:cubicBezTo>
                  <a:pt x="0" y="0"/>
                  <a:pt x="32" y="88"/>
                  <a:pt x="3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46440" y="5181480"/>
            <a:ext cx="330480" cy="444600"/>
          </a:xfrm>
          <a:custGeom>
            <a:avLst/>
            <a:gdLst/>
            <a:ahLst/>
            <a:rect l="l" t="t" r="r" b="b"/>
            <a:pathLst>
              <a:path w="208" h="280">
                <a:moveTo>
                  <a:pt x="112" y="0"/>
                </a:moveTo>
                <a:cubicBezTo>
                  <a:pt x="56" y="100"/>
                  <a:pt x="0" y="200"/>
                  <a:pt x="16" y="240"/>
                </a:cubicBezTo>
                <a:cubicBezTo>
                  <a:pt x="32" y="280"/>
                  <a:pt x="120" y="260"/>
                  <a:pt x="20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411200">
            <a:off x="4571280" y="5641920"/>
            <a:ext cx="30492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066680" y="371520"/>
          <a:ext cx="7010640" cy="6121440"/>
        </p:xfrm>
        <a:graphic>
          <a:graphicData uri="http://schemas.openxmlformats.org/drawingml/2006/table">
            <a:tbl>
              <a:tblPr/>
              <a:tblGrid>
                <a:gridCol w="685800"/>
                <a:gridCol w="716040"/>
                <a:gridCol w="701640"/>
                <a:gridCol w="700200"/>
                <a:gridCol w="701640"/>
                <a:gridCol w="701640"/>
                <a:gridCol w="700200"/>
                <a:gridCol w="701640"/>
                <a:gridCol w="700200"/>
                <a:gridCol w="70164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0666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066680" y="371520"/>
          <a:ext cx="7010640" cy="6087960"/>
        </p:xfrm>
        <a:graphic>
          <a:graphicData uri="http://schemas.openxmlformats.org/drawingml/2006/table">
            <a:tbl>
              <a:tblPr/>
              <a:tblGrid>
                <a:gridCol w="685800"/>
                <a:gridCol w="716040"/>
                <a:gridCol w="701640"/>
                <a:gridCol w="700200"/>
                <a:gridCol w="701640"/>
                <a:gridCol w="701640"/>
                <a:gridCol w="700200"/>
                <a:gridCol w="701640"/>
                <a:gridCol w="700200"/>
                <a:gridCol w="70164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666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160020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16002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281952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альчиковая гимнас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7201080" cy="5116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380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149640" cy="3308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16720" y="3068640"/>
            <a:ext cx="2089080" cy="2924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249200" cy="1440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08360" y="260280"/>
            <a:ext cx="124956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4500720" y="2565360"/>
            <a:ext cx="1249200" cy="1440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476360" y="2421000"/>
            <a:ext cx="1249200" cy="143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1295280" y="4648320"/>
            <a:ext cx="1249560" cy="143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3708360" y="4797360"/>
            <a:ext cx="1249560" cy="144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684360" y="184464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3+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380360" y="5950080"/>
            <a:ext cx="531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67280" y="1773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3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83528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4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85928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7-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447920" y="601992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8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40360" y="630864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2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0.71927 0.38843 E">
                                      <p:cBhvr>
                                        <p:cTn id="4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54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55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2625 0.05254 E">
                                      <p:cBhvr>
                                        <p:cTn id="77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0.34914 -0.2625 E">
                                      <p:cBhvr>
                                        <p:cTn id="10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149640" cy="3308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516720" y="3068640"/>
            <a:ext cx="2089080" cy="2924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124956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476360" y="2421000"/>
            <a:ext cx="1249200" cy="143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066680" y="4419720"/>
            <a:ext cx="1249560" cy="1439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7380360" y="5950080"/>
            <a:ext cx="531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773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3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83528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4+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47920" y="601992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8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571280" y="533520"/>
            <a:ext cx="2133720" cy="1676160"/>
          </a:xfrm>
          <a:prstGeom prst="cloudCallout">
            <a:avLst>
              <a:gd name="adj1" fmla="val -54245"/>
              <a:gd name="adj2" fmla="val -148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адно , колобок, иди дальш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fffaf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11T16:33:0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