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9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gif" ContentType="image/gi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6541-D923-498C-AF1D-0568D282BE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1972-B166-4C8B-80D9-42B313C031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91F-1824-4ACA-9B2A-6D1E9F9B747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C6F-304C-40E3-BDC8-99D04F38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036-31D6-4F43-93A0-44ECCFF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F16-324C-4B8F-8167-CEF7826C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D74-6BB1-444D-A127-2D1C3715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3DB-C985-403C-970B-EC5904F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0E73-FDD1-4563-A767-A23C5F9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7F9-52E1-4094-9730-C5E21B7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E70-91E8-4CCE-9C08-12096A3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565-70D8-4AF3-8260-9A20EDF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B2AB-E842-4B24-9C6E-F75AE03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0E44-D402-44D2-89F2-5759725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DA6-0260-4AE3-A4EE-1464A08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B528-EBD8-4780-8388-5739729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4A03-52FA-4C1B-9195-A3150FE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326E-F996-4307-94CC-CD2DD984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587-F2C2-473A-BEC7-6273A8D2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74D8-F27D-403C-A1D5-89EA7272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AD7-D0C0-48BD-A20B-31A1EF4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ED4-72B0-4798-AEA7-C16C7DA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843-7106-441A-BD77-D4122E94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FB0-DC22-4DDC-A097-1DD589DD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375-D091-4B0D-9622-9FB5903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B8F-DB2B-4399-BDC1-F4C0645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F2C-FD32-4802-B28F-C4EC457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318-C248-45D6-996A-F59FF2620A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BBF8-ECB6-44D7-8C99-DB81D23FE59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8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ческая сказ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706640" cy="5495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2920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520" y="3657600"/>
            <a:ext cx="2030040" cy="1738440"/>
            <a:chOff x="380520" y="3657600"/>
            <a:chExt cx="2030040" cy="173844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 flipH="1">
              <a:off x="380520" y="36576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786960" y="37292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«Молчанк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96252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733920"/>
            <a:ext cx="38088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240" y="1143000"/>
            <a:ext cx="2030040" cy="1738440"/>
            <a:chOff x="228240" y="1143000"/>
            <a:chExt cx="2030040" cy="173844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 flipH="1">
              <a:off x="228240" y="11430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4680" y="12146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62120" y="137160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219320"/>
            <a:ext cx="38124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5640" y="2362320"/>
            <a:ext cx="2030040" cy="1738080"/>
            <a:chOff x="2285640" y="2362320"/>
            <a:chExt cx="2030040" cy="173808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 flipH="1">
              <a:off x="2285640" y="2362320"/>
              <a:ext cx="203004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692080" y="2433600"/>
              <a:ext cx="649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19520" y="2666880"/>
            <a:ext cx="3808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2438280"/>
            <a:ext cx="381240" cy="60984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87692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3341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53341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54864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486400"/>
            <a:ext cx="15264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5168880"/>
            <a:ext cx="38088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105520"/>
            <a:ext cx="43164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74840" y="5562720"/>
            <a:ext cx="330480" cy="44424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411200">
            <a:off x="3199680" y="6023520"/>
            <a:ext cx="304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706640" cy="5495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502920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520" y="3657600"/>
            <a:ext cx="2030040" cy="1738440"/>
            <a:chOff x="380520" y="3657600"/>
            <a:chExt cx="2030040" cy="173844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 flipH="1">
              <a:off x="380520" y="36576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86960" y="37292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«Молчанк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96252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3733920"/>
            <a:ext cx="38088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240" y="1143000"/>
            <a:ext cx="2030040" cy="1738440"/>
            <a:chOff x="228240" y="1143000"/>
            <a:chExt cx="2030040" cy="173844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 flipH="1">
              <a:off x="228240" y="11430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4680" y="12146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62120" y="137160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1219320"/>
            <a:ext cx="38124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5640" y="2362320"/>
            <a:ext cx="2030040" cy="1738080"/>
            <a:chOff x="2285640" y="2362320"/>
            <a:chExt cx="2030040" cy="173808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 flipH="1">
              <a:off x="2285640" y="2362320"/>
              <a:ext cx="203004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692080" y="2433600"/>
              <a:ext cx="649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819520" y="2666880"/>
            <a:ext cx="3808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438280"/>
            <a:ext cx="381240" cy="60984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29400" y="304920"/>
            <a:ext cx="205740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у что ж, отпускаю тебя, колоб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304920"/>
            <a:ext cx="1905120" cy="19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57200"/>
            <a:ext cx="175284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2133720"/>
            <a:ext cx="175248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77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икуда не отпущу,</a:t>
            </a:r>
            <a:br>
              <a:rPr sz="4400"/>
            </a:b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ка задачу не реш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9640" y="22294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3050280"/>
            <a:ext cx="58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464724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3839400"/>
            <a:ext cx="66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2286000"/>
            <a:ext cx="5329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ловие задач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3200400"/>
            <a:ext cx="532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3962520"/>
            <a:ext cx="532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800600"/>
            <a:ext cx="5481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ве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228600"/>
            <a:ext cx="175284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68580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68580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838080"/>
            <a:ext cx="15264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83808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20560"/>
            <a:ext cx="38088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57200"/>
            <a:ext cx="43200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2880" y="914400"/>
            <a:ext cx="330120" cy="44460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411200">
            <a:off x="837360" y="1374840"/>
            <a:ext cx="30492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а поляне играли 7 лисят, 2 убежали домой. Сколько на поляне осталось лися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11280" y="389952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228600"/>
            <a:ext cx="6933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от и сказке конец. Рады дед, баба и колобок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лучил он хороший урок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053480" cy="4767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1600200" cy="2914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410080" y="3657600"/>
            <a:ext cx="1600200" cy="293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76720" y="441972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8769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48769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50292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50292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711680"/>
            <a:ext cx="38124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4648320"/>
            <a:ext cx="43164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36960" y="5105520"/>
            <a:ext cx="330120" cy="44424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411200">
            <a:off x="3961440" y="5566320"/>
            <a:ext cx="304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8"/>
          <p:cNvSpPr txBox="1"/>
          <p:nvPr/>
        </p:nvSpPr>
        <p:spPr>
          <a:xfrm rot="21095400">
            <a:off x="533160" y="2057040"/>
            <a:ext cx="766116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cc66ff"/>
                    </a:gs>
                  </a:gsLst>
                  <a:lin ang="19404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cc66ff"/>
                  </a:gs>
                </a:gsLst>
                <a:lin ang="19404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Жили-были дед да баба. Жили, тужили, о внуках мечтали. Решили смастерить себе внучка. Посмотрели в компьютере, поразмыслили: смешали цифры, буквы, знаки, свои знания добавили, мукой приправили, и в печь волшебную отправили. А сами стали имя внуку придумыва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5080" y="1862280"/>
            <a:ext cx="7053120" cy="4767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1600200" cy="291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16002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44792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724280"/>
            <a:ext cx="1067040" cy="13716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63">
                <a:moveTo>
                  <a:pt x="0" y="0"/>
                </a:moveTo>
                <a:lnTo>
                  <a:pt x="21600" y="0"/>
                </a:lnTo>
                <a:lnTo>
                  <a:pt x="21600" y="27763"/>
                </a:lnTo>
                <a:lnTo>
                  <a:pt x="0" y="27763"/>
                </a:lnTo>
                <a:close/>
              </a:path>
              <a:path fill="lightenLess" w="21600" h="27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3">
                <a:moveTo>
                  <a:pt x="21600" y="0"/>
                </a:moveTo>
                <a:lnTo>
                  <a:pt x="21600" y="27763"/>
                </a:lnTo>
                <a:lnTo>
                  <a:pt x="20200" y="26363"/>
                </a:lnTo>
                <a:lnTo>
                  <a:pt x="20200" y="1400"/>
                </a:lnTo>
                <a:close/>
              </a:path>
              <a:path fill="darkenLess" w="21600" h="27763">
                <a:moveTo>
                  <a:pt x="21600" y="27763"/>
                </a:moveTo>
                <a:lnTo>
                  <a:pt x="0" y="27763"/>
                </a:lnTo>
                <a:lnTo>
                  <a:pt x="1400" y="26363"/>
                </a:lnTo>
                <a:lnTo>
                  <a:pt x="20200" y="26363"/>
                </a:lnTo>
                <a:close/>
              </a:path>
              <a:path fill="lighten" w="21600" h="27763">
                <a:moveTo>
                  <a:pt x="0" y="27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3"/>
                </a:lnTo>
                <a:close/>
              </a:path>
              <a:path fill="darken" w="21600" h="27763">
                <a:moveTo>
                  <a:pt x="10800" y="1788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763">
                <a:moveTo>
                  <a:pt x="11905" y="17363"/>
                </a:moveTo>
                <a:lnTo>
                  <a:pt x="11905" y="15405"/>
                </a:lnTo>
                <a:cubicBezTo>
                  <a:pt x="11905" y="14578"/>
                  <a:pt x="12236" y="13882"/>
                  <a:pt x="12837" y="13882"/>
                </a:cubicBezTo>
                <a:cubicBezTo>
                  <a:pt x="13968" y="13882"/>
                  <a:pt x="14865" y="12515"/>
                  <a:pt x="14865" y="10931"/>
                </a:cubicBezTo>
                <a:cubicBezTo>
                  <a:pt x="14865" y="8616"/>
                  <a:pt x="13011" y="6875"/>
                  <a:pt x="10800" y="6875"/>
                </a:cubicBezTo>
                <a:cubicBezTo>
                  <a:pt x="8589" y="6875"/>
                  <a:pt x="6918" y="8616"/>
                  <a:pt x="6918" y="10931"/>
                </a:cubicBezTo>
                <a:lnTo>
                  <a:pt x="8772" y="10931"/>
                </a:lnTo>
                <a:cubicBezTo>
                  <a:pt x="8772" y="9791"/>
                  <a:pt x="9695" y="8903"/>
                  <a:pt x="10800" y="8903"/>
                </a:cubicBezTo>
                <a:cubicBezTo>
                  <a:pt x="11905" y="8903"/>
                  <a:pt x="12837" y="9791"/>
                  <a:pt x="12837" y="10931"/>
                </a:cubicBezTo>
                <a:cubicBezTo>
                  <a:pt x="12837" y="11671"/>
                  <a:pt x="12367" y="12402"/>
                  <a:pt x="11905" y="12402"/>
                </a:cubicBezTo>
                <a:cubicBezTo>
                  <a:pt x="10800" y="12402"/>
                  <a:pt x="9695" y="13882"/>
                  <a:pt x="9695" y="15405"/>
                </a:cubicBezTo>
                <a:lnTo>
                  <a:pt x="9695" y="1736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44792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449568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952880"/>
            <a:ext cx="228600" cy="3812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952880"/>
            <a:ext cx="228600" cy="3812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5105520"/>
            <a:ext cx="15228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105520"/>
            <a:ext cx="15264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788000"/>
            <a:ext cx="380880" cy="16488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724280"/>
            <a:ext cx="431640" cy="24156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46440" y="5181480"/>
            <a:ext cx="330480" cy="44460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411200">
            <a:off x="4571280" y="5641920"/>
            <a:ext cx="30492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066680" y="371520"/>
          <a:ext cx="7010640" cy="6121440"/>
        </p:xfrm>
        <a:graphic>
          <a:graphicData uri="http://schemas.openxmlformats.org/drawingml/2006/table">
            <a:tbl>
              <a:tblPr/>
              <a:tblGrid>
                <a:gridCol w="685800"/>
                <a:gridCol w="716040"/>
                <a:gridCol w="701640"/>
                <a:gridCol w="700200"/>
                <a:gridCol w="701640"/>
                <a:gridCol w="701640"/>
                <a:gridCol w="700200"/>
                <a:gridCol w="701640"/>
                <a:gridCol w="700200"/>
                <a:gridCol w="70164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0666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66680" y="371520"/>
          <a:ext cx="7010640" cy="6087960"/>
        </p:xfrm>
        <a:graphic>
          <a:graphicData uri="http://schemas.openxmlformats.org/drawingml/2006/table">
            <a:tbl>
              <a:tblPr/>
              <a:tblGrid>
                <a:gridCol w="685800"/>
                <a:gridCol w="716040"/>
                <a:gridCol w="701640"/>
                <a:gridCol w="700200"/>
                <a:gridCol w="701640"/>
                <a:gridCol w="701640"/>
                <a:gridCol w="700200"/>
                <a:gridCol w="701640"/>
                <a:gridCol w="700200"/>
                <a:gridCol w="70164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7201080" cy="5116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380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149640" cy="3308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089080" cy="2924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249200" cy="1440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08360" y="260280"/>
            <a:ext cx="124956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500720" y="2565360"/>
            <a:ext cx="1249200" cy="1440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76360" y="2421000"/>
            <a:ext cx="1249200" cy="143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1295280" y="4648320"/>
            <a:ext cx="1249560" cy="143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708360" y="4797360"/>
            <a:ext cx="1249560" cy="144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84360" y="184464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380360" y="5950080"/>
            <a:ext cx="531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67280" y="1773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835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4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859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7-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47920" y="601992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8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40360" y="630864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2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71927 0.38843 E">
                                      <p:cBhvr>
                                        <p:cTn id="4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55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2625 0.05254 E">
                                      <p:cBhvr>
                                        <p:cTn id="7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0.34914 -0.2625 E">
                                      <p:cBhvr>
                                        <p:cTn id="10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149640" cy="3308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089080" cy="2924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124956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476360" y="2421000"/>
            <a:ext cx="1249200" cy="143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066680" y="4419720"/>
            <a:ext cx="1249560" cy="143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7380360" y="5950080"/>
            <a:ext cx="531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773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835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4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47920" y="601992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8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571280" y="533520"/>
            <a:ext cx="2133720" cy="1676160"/>
          </a:xfrm>
          <a:prstGeom prst="cloudCallout">
            <a:avLst>
              <a:gd name="adj1" fmla="val -54245"/>
              <a:gd name="adj2" fmla="val -148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адно , колобок, иди даль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11T16:33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