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3C21-4646-4FB5-B88A-C70FF07216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0BA-875F-4A9E-9168-F88C87F38A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FBBA-4A67-453D-9928-5C434281DF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07E8-32A1-403F-8A33-26F67A8A88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5638-5B6B-46F4-BB49-BC89EE1DD9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91DD-4958-4156-AA20-30D7608B64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EC61-5157-46E7-93A7-4FA6D6745A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C1B3-00A4-4E84-A451-E80FDB2B51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CE2-8D49-4861-9FD1-1BCC86EEBA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B1D4-62A5-48F4-A441-8517E77C54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068C-B1D7-49B5-82ED-0419C61BB6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FF1D-CC29-45DB-8943-D0D560953F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E68-495C-4781-B516-2980A38201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A46F-1994-42C1-AA47-2EEBFF665F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A820-F65F-4FA4-810D-6A75227B98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0022-62E7-43D6-B5DE-817F338F82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C21-882B-482D-B489-C869B41A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598-6262-4890-BC11-47052991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211-4B0A-47AB-A773-D9515368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92E-8B26-4794-8D17-783791D5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0AE7-832D-4271-8CC1-AFABDD33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6E4-1DF4-4690-93A6-A4E1AE76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646E-CB2E-490E-B784-0BFCD7A3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6015-81A0-43F3-86A3-D0B2E6A0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823F-B4E5-45A5-9149-624948F7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E728-5E58-4221-9E95-1BEAEBE1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5E13-F835-46E3-AD0C-A85679D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D3F-E59C-48F7-A387-AD41E5C4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5397-B9CC-47F1-A7D2-D7FA8BF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CBFE-F829-41EB-8BEF-67D5D5D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B202-E194-4D86-BA06-F4940598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FF63-D4F5-401A-8B6C-26286B8D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E475-F668-45C7-AB5E-B3BBFEE9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F1AE-3B48-4F1A-9738-3AC0D8CF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4239-BC3B-4942-9AA6-CB02A33C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76BC-36E1-43EF-ADF8-E4475850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EDD8-DAB1-4C6D-97F9-E4DEAC88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5496-46B7-4BA1-BEC1-35EB9BDA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70B-118B-43BB-90F3-EA44DD99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A859-55F6-4F52-9772-FA7B2BE8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EE8D-B780-496F-9034-99829C66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2468-4DD7-4A6F-B394-C47DEDA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6435-7687-4B57-9741-55B94DE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E5E7-F65F-4446-B3ED-AFADBB23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B6D1-47BA-4C60-B29D-EF688467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7A94-1B43-491A-B069-4BBD2DF1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DCF5-4CBF-48FA-B200-6E66C3B3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300B-3679-4DE1-8218-614FED3F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A0E10-D622-4502-B6ED-0837652E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D77-7507-42FB-BFE8-54922369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E5356-7E76-40A5-B71B-ACD1FA67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34937-8110-4856-BD53-E18C82BD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D734-A0CB-44C8-A84B-73D38017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7CB0-C434-4661-A997-18018D22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0C66-8487-437D-8ACA-35E2CC4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7321-DD1E-4D5D-81DD-62E344E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DD97-041F-4E49-9318-3A6BA514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99FA-BDE5-4DBE-8DBB-75E17E95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3A42-0054-41D7-B361-AA89BDE7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001E-C586-438C-A62E-C823EF53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263-504D-4EC5-AC48-BD267E52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5378-E931-4E1A-A518-56F73F82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819F-0DDF-486C-863F-E082D73A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CC300-68A5-4740-8F52-77AF7A02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1076-B0DF-4E26-80A0-8A740215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AF135-91CC-4630-99BA-DC90E316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FE9C-403D-4594-816C-2BB7DF7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B8D4A-A25E-4F77-8978-6EBD13FA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F1E5-CE4D-4CA5-88F9-EA14D388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94CB3-CB1E-43FF-9750-4EB3C3C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1F1DD-E7A6-424F-83FA-C91B91FE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CBC-1E30-4092-AA56-F4A76D39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68E7F-2965-4DA2-9065-5B966CD3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459-F665-4C7F-AD9A-D15E330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71F-6481-4A14-A2E7-85A874DD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302-D673-43E7-B769-DC23ADE2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5533-75CD-4024-8C7D-C5A875ED8280}" type="slidenum">
              <a:rPr b="0" lang="en-US" sz="1100" spc="-1" strike="noStrike">
                <a:solidFill>
                  <a:srgbClr val="b13f9a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ED02-A644-46C1-A00A-C4666CA27DE0}" type="slidenum">
              <a:rPr b="0" lang="en-US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0D4B-4FE1-4914-94C6-F23E902F4E60}" type="slidenum">
              <a:rPr b="0" lang="en-US" sz="1100" spc="-1" strike="noStrike">
                <a:solidFill>
                  <a:srgbClr val="b13f9a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E6BC-DE96-4C01-AB30-8FB4D98C452C}" type="slidenum">
              <a:rPr b="0" lang="en-US" sz="1100" spc="-1" strike="noStrike">
                <a:solidFill>
                  <a:srgbClr val="f4e7ed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8A2-1C39-4F2A-AE44-4F92A1C6B0BD}" type="slidenum">
              <a:rPr b="0" lang="en-US" sz="1100" spc="-1" strike="noStrike">
                <a:solidFill>
                  <a:srgbClr val="b13f9a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3219480" y="530280"/>
            <a:ext cx="553392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учитель истории Романова О.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МБОУ СОШ № 20 о.Муром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Содержимое 2" descr=""/>
          <p:cNvPicPr/>
          <p:nvPr/>
        </p:nvPicPr>
        <p:blipFill>
          <a:blip r:embed="rId1"/>
          <a:stretch/>
        </p:blipFill>
        <p:spPr>
          <a:xfrm>
            <a:off x="390600" y="1530360"/>
            <a:ext cx="7515000" cy="4930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Схема 1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7375320" cy="5046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Работа в группах: проанализируйте высказывания, объясните их смысл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Характер –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совокупность устойчивых индивидуальных особенностей лич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пишите свою программу сомовоспитания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До новых встреч!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Содержимое 2" descr=""/>
          <p:cNvPicPr/>
          <p:nvPr/>
        </p:nvPicPr>
        <p:blipFill>
          <a:blip r:embed="rId1"/>
          <a:stretch/>
        </p:blipFill>
        <p:spPr>
          <a:xfrm>
            <a:off x="347760" y="1554120"/>
            <a:ext cx="7461000" cy="490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182520" y="35388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0f17"/>
                </a:solidFill>
                <a:latin typeface="Cambria"/>
                <a:ea typeface="Calibri"/>
              </a:rPr>
              <a:t> </a:t>
            </a: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1) Показать, что способности человека позволяют ему самореализоватьс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 </a:t>
            </a: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2) Раскрыть понятия: талант, гениальность, вол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0f17"/>
                </a:solidFill>
                <a:latin typeface="Cambria"/>
                <a:ea typeface="Calibri"/>
              </a:rPr>
              <a:t>3)Охарактеризовать факторы, влияющие на формирование   характера человек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56760" y="1077480"/>
            <a:ext cx="7162920" cy="44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libri"/>
              </a:rPr>
              <a:t>1.Что такое способ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libri"/>
              </a:rPr>
              <a:t>2.Характеристика воли, таланта,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libri"/>
              </a:rPr>
              <a:t>гениаль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3.Характер в системе отношений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Я умею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Мне хочется научитьс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Способности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-индивидуально-психологические особенности личности, являющиеся условием успешного выполнения какой-либо деятель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Объясните, как вы понимаете выражения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«Всякий человек есть творец  своей судьбы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« Свои способности человек может узнать, только попытавшись приложить их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0f17"/>
                </a:solidFill>
                <a:latin typeface="Cambria"/>
              </a:rPr>
              <a:t>Запишите слова, которые у вас ассоциируются со словами: «мастерство», «талантливость», «гениальность»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Талант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– высшая степень способностей личности к определенной деятель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Гениальность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– высшая степень творческих проявлений лич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21:33:09Z</dcterms:created>
  <dc:creator>пользователь</dc:creator>
  <dc:description/>
  <dc:language>en-US</dc:language>
  <cp:lastModifiedBy>Оксана</cp:lastModifiedBy>
  <dcterms:modified xsi:type="dcterms:W3CDTF">2013-03-11T14:33:20Z</dcterms:modified>
  <cp:revision>14</cp:revision>
  <dc:subject/>
  <dc:title>Ваши способности – в вашей власти.</dc:title>
</cp:coreProperties>
</file>