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505C-4401-4D0C-A04C-F2B0924D4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635-C75D-4C2E-B6BE-DCD904D2F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B4AC-EBAB-4B0E-8D62-39D33DC8C4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41F-CA20-4266-A1A2-29737A917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2261-A33A-4B03-AA0E-F8C3353B6B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BAF-9211-4E29-9A03-950E50B631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71D-6766-42FC-ACF2-E6EBCCE47F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5A7-7939-407A-9E76-02C7C148C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BED8-9BB3-423D-85C7-75089AFD48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DF9-68B6-4571-9BC3-E0182548DB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3745-53DC-4B3E-BDE8-3857771515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F31-D5F2-4EE3-AAD1-ABB4AE7F1B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A110-39C3-42CA-8E97-DA4ADF817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9EC-A662-4F09-9AEE-3883FF122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4C69-17CB-46AF-9534-9D2491DF0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B34-FAE2-4520-84B8-1801748BA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8AC-6349-4AB5-AC0A-D2BDBD40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665-5D77-44C5-9BF3-419AA55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893-9B5A-45A8-82E8-BC296B1D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7F2-D809-4A8C-BDFF-51F1ABFE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9F6-4190-409A-9546-DB363DE9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AA9-32B1-4CF5-B2C4-F1E317E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1B6-069D-49D8-9611-0EDC3A1A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E1F1-AF91-4881-A1A1-27DB4284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4DCD-B1AE-404C-8E76-2BE708D7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306-560C-4ED4-B2F4-E053015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3B38-22B6-4D57-BBAC-1020C9D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ED3-4446-44C8-AD8C-257C66D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2FC-912D-4A1E-8EFC-E68014C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71D3-09F1-4E4D-8DA4-D5DE885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2D2F-1F03-42A7-9946-5F89759D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4786-7A04-4349-878D-7C92502C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237-F513-41A2-985A-0648ACA7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2978-8975-407B-ABAC-20DA9102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A14B-8B47-4639-A1D4-12B58BF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C86B-EBDE-440F-B4F3-FCD5EBC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A05B-F12D-47F8-81B7-078CFE73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4732-4230-41A6-8863-32EAAC7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1C8-0FD6-4A1E-84BE-29A606B0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55DF-967E-4554-A2E3-A07CE86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C18E-6E4D-4126-BEEC-BD8E20B5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1BD9-2BE0-4CBA-BD9E-CC871F1B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72FD-457F-49C5-800B-8BFCF21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A855-C6AB-41AD-8DE6-9A6A6376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071E-E412-415A-8317-01F6FD8C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212A-8D65-4379-9523-5A513C00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1375-6E9A-4BD9-BAA8-4AFCA9FF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F884-2FCF-4ABB-B501-670275A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D00D-EF70-4CF4-8645-FD9A3133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BF6-B33F-42CC-BBEB-2C95C13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89D6-DB7B-4922-A286-A550170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8775-60C8-4E09-BFE6-5B05C816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AD82-B840-4AD0-B8EA-8C1DFA1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4599-3237-4463-999D-1B8D7C2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2D40-FB0A-417D-890C-EC8DCE9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089F-8B57-4635-9755-9D0E538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3E62-0CE0-4BEC-A700-024022C4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91E5-0687-4E91-983F-2F869EBA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11EA-D47C-460B-A224-413F5040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FE2B-F0A1-4EEE-8A29-B16F8131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2F1-E262-4A8F-956D-F71A5D3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CF5AC-63CB-4112-A258-FD0DE7C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3240-5C92-4E3A-B17C-3017E93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8958-DF4A-4F84-A719-0ADEC769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D6AEB-1EE7-4C5E-9AF2-0626046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9266-2139-4C2D-B135-14E3274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0EB06-15C0-44B1-B0B2-35C8548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4901-A0C7-4EFB-9FE7-DE24021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3D43-E9BF-4BC0-A5E1-F5A4BA2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C7C0-60A2-4354-9A1F-9CFA8CB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FD82F-BDDA-4245-8E29-95601035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6E0-2F43-4C11-9CE3-EC7D359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457BD-2421-4090-948E-EAFA9912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9A8-8197-4677-9203-577F6A9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5E1-6AF2-41C1-ADC6-4B5E65F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C37-8554-464A-A122-9FBEF2F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A1F-76CD-4AFA-8A31-75109889CA42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B74F-C49F-4891-B969-A2121185A1DD}" type="slidenum">
              <a:rPr b="0" lang="en-US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7A5-CA75-4A36-9449-746F330B7BF0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0B68-A38A-4863-B49B-636A955BF191}" type="slidenum">
              <a:rPr b="0" lang="en-US" sz="1100" spc="-1" strike="noStrike">
                <a:solidFill>
                  <a:srgbClr val="f4e7ed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0A9-400D-45E5-9298-84A39F74AF9F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219480" y="530280"/>
            <a:ext cx="553392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читель истории Романова О.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БОУ СОШ № 20 о.Муром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Содержимое 2" descr=""/>
          <p:cNvPicPr/>
          <p:nvPr/>
        </p:nvPicPr>
        <p:blipFill>
          <a:blip r:embed="rId1"/>
          <a:stretch/>
        </p:blipFill>
        <p:spPr>
          <a:xfrm>
            <a:off x="390600" y="1530360"/>
            <a:ext cx="7515000" cy="493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хема 1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7375320" cy="5046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Работа в группах: проанализируйте высказывания, объясните их смыс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Характер –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совокупность устойчивых индивидуальных особенностей лич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пишите свою программу сомовоспитания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До новых встреч!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2" descr=""/>
          <p:cNvPicPr/>
          <p:nvPr/>
        </p:nvPicPr>
        <p:blipFill>
          <a:blip r:embed="rId1"/>
          <a:stretch/>
        </p:blipFill>
        <p:spPr>
          <a:xfrm>
            <a:off x="347760" y="1554120"/>
            <a:ext cx="7461000" cy="490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Cambria"/>
                <a:ea typeface="Calibri"/>
              </a:rPr>
              <a:t> </a:t>
            </a: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1) Показать, что способности человека позволяют ему самореализоватьс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 </a:t>
            </a: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2) Раскрыть понятия: талант, гениальность, вол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3)Охарактеризовать факторы, влияющие на формирование   характера челове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56760" y="1077480"/>
            <a:ext cx="716292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1.Что такое способ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2.Характеристика воли, таланта,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гениа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3.Характер в системе отношений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Я умею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Мне хочется научитьс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Способности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-индивидуально-психологические особенности личности, являющиеся условием успешного выполнения какой-либо деяте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Объясните, как вы понимаете выражения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«Всякий человек есть творец  своей судьбы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« Свои способности человек может узнать, только попытавшись приложить их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0f17"/>
                </a:solidFill>
                <a:latin typeface="Cambria"/>
              </a:rPr>
              <a:t>Запишите слова, которые у вас ассоциируются со словами: «мастерство», «талантливость», «гениальность»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Талант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– высшая степень способностей личности к определенной деяте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Гениальность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– высшая степень творческих проявлений лич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21:33:09Z</dcterms:created>
  <dc:creator>пользователь</dc:creator>
  <dc:description/>
  <dc:language>en-US</dc:language>
  <cp:lastModifiedBy>Оксана</cp:lastModifiedBy>
  <dcterms:modified xsi:type="dcterms:W3CDTF">2013-03-11T14:33:20Z</dcterms:modified>
  <cp:revision>14</cp:revision>
  <dc:subject/>
  <dc:title>Ваши способности – в вашей власти.</dc:title>
</cp:coreProperties>
</file>