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7B1-05B2-4D29-B82B-3FEDFEFA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1EE-CC38-4644-9E05-030EA0C4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F73-79A1-4BF0-852D-DD9ACAB1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CCC-057F-4A0F-AFFC-1443C5C4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81F3-BAF2-425E-848B-3FDC32B7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8C86-0029-4965-9E6F-DB5FFA80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3CFB-0F32-4DF3-86A7-C47DB7FB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BB87-F113-4C9E-8D2A-C752CD2A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D809-54C1-40F6-969C-DA6FF9A7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074B-439F-4315-A738-C27CEB70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650A-6725-450D-BD0B-9214EFD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E30-CD68-4BE2-A0A1-66180128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AAFE-9A97-4B2F-AC4A-0345BC3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4AA1-9E90-44B9-B744-284E019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9BA1-4088-4F7C-945C-609F2661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FD2D-A831-494B-ACBE-9F7AAFCB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0C32-0EFE-48DE-B8CA-11E7C011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4846-4DD1-4880-A1B4-52F72342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6AE8-651C-4B26-B613-97308853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C9AD-045E-4237-BF19-10A06983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75FE-EC93-4A43-9177-E6305FB5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D80F-53CC-4C06-B189-CB2E98B2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F6A-BFCB-439C-9C8F-E7860C7C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F1D6-F452-4B25-BDF2-5D6F1538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D7C8-FB1F-42E9-BD6C-1A50CB9D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33FA-17A1-4CB7-9396-B0A35EE9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B784-9CE6-4251-A0A1-C2761AFD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AB1D-DBC9-4F7A-ACDE-5455BB2C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CC08-5BF9-40F4-97DB-E261C143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5CDE4-6877-4D02-BA2B-840E1E24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C6953-D5AB-4C0C-9863-478530B5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3584A-3326-4927-95E7-CA82BAA0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A593-E98C-4C64-BD86-EFC633F0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2B7-A138-4A25-A72B-083674D7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97C6-5AFE-4029-BC71-DBA05215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846A-45CF-4E66-80C9-C504A0C8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63DFD-14CF-4666-B2BA-144D967A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602FF-8FFD-4D13-8040-6DAD722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B2A3-1BBF-4EC7-8CB9-DD66A2E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5E20-130E-4EC0-BA02-6320061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3F24C-7CB6-4ECE-B0BF-380B6B9D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BEF4-7BEE-40D1-A252-5323DE06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B4E9-1263-466E-BFC3-D0B6CBE7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088-651C-4DB2-85C8-83AFB335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7AF-8EEE-4CF4-A49C-9996DAC2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745-C997-4BC7-99F0-C360F25B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701-06DB-4F7D-903D-C857B96E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072-9E29-45D9-9BDE-0040F3E7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59F7-9B79-4225-A555-76E22D8FA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957D-2E52-43DA-BE51-350EFF6E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B692-EFB8-4D8C-9272-47C85899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AC1A-70F5-4EE0-99BD-90824CC17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6480" y="-360"/>
            <a:ext cx="753588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Виды штор и порть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15-1"/>
          <p:cNvPicPr/>
          <p:nvPr/>
        </p:nvPicPr>
        <p:blipFill>
          <a:blip r:embed="rId1"/>
          <a:stretch/>
        </p:blipFill>
        <p:spPr>
          <a:xfrm>
            <a:off x="1119240" y="898560"/>
            <a:ext cx="70214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1840" y="-360"/>
            <a:ext cx="7313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Итальян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ta1"/>
          <p:cNvPicPr/>
          <p:nvPr/>
        </p:nvPicPr>
        <p:blipFill>
          <a:blip r:embed="rId1"/>
          <a:stretch/>
        </p:blipFill>
        <p:spPr>
          <a:xfrm>
            <a:off x="165240" y="1041480"/>
            <a:ext cx="5089320" cy="4647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Ita3"/>
          <p:cNvPicPr/>
          <p:nvPr/>
        </p:nvPicPr>
        <p:blipFill>
          <a:blip r:embed="rId2"/>
          <a:stretch/>
        </p:blipFill>
        <p:spPr>
          <a:xfrm>
            <a:off x="4943520" y="1042920"/>
            <a:ext cx="4029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3137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Классиче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class01"/>
          <p:cNvPicPr/>
          <p:nvPr/>
        </p:nvPicPr>
        <p:blipFill>
          <a:blip r:embed="rId1"/>
          <a:stretch/>
        </p:blipFill>
        <p:spPr>
          <a:xfrm>
            <a:off x="3827520" y="1343160"/>
            <a:ext cx="5181480" cy="4782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49-11"/>
          <p:cNvPicPr/>
          <p:nvPr/>
        </p:nvPicPr>
        <p:blipFill>
          <a:blip r:embed="rId2"/>
          <a:stretch/>
        </p:blipFill>
        <p:spPr>
          <a:xfrm>
            <a:off x="150840" y="3002040"/>
            <a:ext cx="3753000" cy="3714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vidi_shtor_s_lambrikenom"/>
          <p:cNvPicPr/>
          <p:nvPr/>
        </p:nvPicPr>
        <p:blipFill>
          <a:blip r:embed="rId3"/>
          <a:stretch/>
        </p:blipFill>
        <p:spPr>
          <a:xfrm>
            <a:off x="152280" y="982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99920" y="-371520"/>
            <a:ext cx="7313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Ламбрек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219243617"/>
          <p:cNvPicPr/>
          <p:nvPr/>
        </p:nvPicPr>
        <p:blipFill>
          <a:blip r:embed="rId1"/>
          <a:stretch/>
        </p:blipFill>
        <p:spPr>
          <a:xfrm>
            <a:off x="128520" y="1122480"/>
            <a:ext cx="4205520" cy="560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wndows-of-the-difficult-form_1_20100226_1336154192"/>
          <p:cNvPicPr/>
          <p:nvPr/>
        </p:nvPicPr>
        <p:blipFill>
          <a:blip r:embed="rId2"/>
          <a:stretch/>
        </p:blipFill>
        <p:spPr>
          <a:xfrm>
            <a:off x="4786200" y="111744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560" y="-344880"/>
            <a:ext cx="73137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Длина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d_836_1226928598076577"/>
          <p:cNvPicPr/>
          <p:nvPr/>
        </p:nvPicPr>
        <p:blipFill>
          <a:blip r:embed="rId1"/>
          <a:stretch/>
        </p:blipFill>
        <p:spPr>
          <a:xfrm>
            <a:off x="189000" y="1335240"/>
            <a:ext cx="2852640" cy="3052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id_837_1226928660174762"/>
          <p:cNvPicPr/>
          <p:nvPr/>
        </p:nvPicPr>
        <p:blipFill>
          <a:blip r:embed="rId2"/>
          <a:stretch/>
        </p:blipFill>
        <p:spPr>
          <a:xfrm>
            <a:off x="3311640" y="1333440"/>
            <a:ext cx="2813040" cy="299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id_838_1226928752774470"/>
          <p:cNvPicPr/>
          <p:nvPr/>
        </p:nvPicPr>
        <p:blipFill>
          <a:blip r:embed="rId3"/>
          <a:stretch/>
        </p:blipFill>
        <p:spPr>
          <a:xfrm>
            <a:off x="6461280" y="1305000"/>
            <a:ext cx="2458800" cy="3381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239760" y="4429080"/>
            <a:ext cx="29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1. до подоконника — нижний край занавески находится на 1 см выше подоконника, так что может беспрепятственно двиг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470400" y="4405320"/>
            <a:ext cx="253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2. ниже подоконника — занавески смотрятся аккуратнее, если свисают на 10-15 см ниже подокон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289560" y="4773600"/>
            <a:ext cx="271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3. до пола — занавески заканчиваются на 1 см выше уровня пола, чтобы они меньше изнаши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4480" y="-217800"/>
            <a:ext cx="73137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Ширина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id_830_1226928317824849"/>
          <p:cNvPicPr/>
          <p:nvPr/>
        </p:nvPicPr>
        <p:blipFill>
          <a:blip r:embed="rId1"/>
          <a:stretch/>
        </p:blipFill>
        <p:spPr>
          <a:xfrm>
            <a:off x="287280" y="177624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id_831_1226928362764524"/>
          <p:cNvPicPr/>
          <p:nvPr/>
        </p:nvPicPr>
        <p:blipFill>
          <a:blip r:embed="rId2"/>
          <a:stretch/>
        </p:blipFill>
        <p:spPr>
          <a:xfrm>
            <a:off x="3030480" y="1762200"/>
            <a:ext cx="2376720" cy="1508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id_832_1226928392032132"/>
          <p:cNvPicPr/>
          <p:nvPr/>
        </p:nvPicPr>
        <p:blipFill>
          <a:blip r:embed="rId3"/>
          <a:stretch/>
        </p:blipFill>
        <p:spPr>
          <a:xfrm>
            <a:off x="6000840" y="1801800"/>
            <a:ext cx="2286000" cy="1463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d_833_1226928479131254"/>
          <p:cNvPicPr/>
          <p:nvPr/>
        </p:nvPicPr>
        <p:blipFill>
          <a:blip r:embed="rId4"/>
          <a:stretch/>
        </p:blipFill>
        <p:spPr>
          <a:xfrm>
            <a:off x="324000" y="426708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id_834_1226928515571563"/>
          <p:cNvPicPr/>
          <p:nvPr/>
        </p:nvPicPr>
        <p:blipFill>
          <a:blip r:embed="rId5"/>
          <a:stretch/>
        </p:blipFill>
        <p:spPr>
          <a:xfrm>
            <a:off x="3220920" y="425592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d_835_1226928573981292"/>
          <p:cNvPicPr/>
          <p:nvPr/>
        </p:nvPicPr>
        <p:blipFill>
          <a:blip r:embed="rId6"/>
          <a:stretch/>
        </p:blipFill>
        <p:spPr>
          <a:xfrm>
            <a:off x="6099120" y="4226040"/>
            <a:ext cx="2286000" cy="1485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6"/>
          <p:cNvSpPr/>
          <p:nvPr/>
        </p:nvSpPr>
        <p:spPr>
          <a:xfrm>
            <a:off x="368280" y="356076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тли 1,5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281760" y="354168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Люверсы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5621400" y="332568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андар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инная лент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77920" y="5851440"/>
            <a:ext cx="23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рандаш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кладки 2 -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392640" y="582444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р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кладки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470280" y="5896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уфы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2680" y="0"/>
            <a:ext cx="822636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асчет тк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170240" y="1352520"/>
            <a:ext cx="474984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ю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ысота полотна = высота шторы + подгиб низа + подгиб верха = 2,6 м + 0,15 м + 0,10м = 2,85 м ширина полотна = длина карниза Х коэффициент  сборки = 2 м Х 2 = 4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рть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ысота полотна = высота шторы + подгиб низа + подгиб верха =2,6 м +0,15 м+0,10 м = 2,85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ширина полотна для одного полотна = (Длина карниза Х коэффициент сборки) : на количество полотен = (2 м Х 2) : 2 = 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ag4"/>
          <p:cNvPicPr/>
          <p:nvPr/>
        </p:nvPicPr>
        <p:blipFill>
          <a:blip r:embed="rId1"/>
          <a:stretch/>
        </p:blipFill>
        <p:spPr>
          <a:xfrm>
            <a:off x="162000" y="1371600"/>
            <a:ext cx="4019400" cy="3355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0"/>
          <p:cNvSpPr/>
          <p:nvPr/>
        </p:nvSpPr>
        <p:spPr>
          <a:xfrm>
            <a:off x="169920" y="4654440"/>
            <a:ext cx="37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лина карниза 2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ысота окна 2,6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эффициент сборки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исунок и расход тк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24345_1_23266_2_OriginalImage"/>
          <p:cNvPicPr/>
          <p:nvPr/>
        </p:nvPicPr>
        <p:blipFill>
          <a:blip r:embed="rId1"/>
          <a:stretch/>
        </p:blipFill>
        <p:spPr>
          <a:xfrm>
            <a:off x="139680" y="1231920"/>
            <a:ext cx="4589640" cy="3871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24346_1_23267_2_OriginalImage"/>
          <p:cNvPicPr/>
          <p:nvPr/>
        </p:nvPicPr>
        <p:blipFill>
          <a:blip r:embed="rId2"/>
          <a:stretch/>
        </p:blipFill>
        <p:spPr>
          <a:xfrm>
            <a:off x="4284720" y="2684520"/>
            <a:ext cx="46497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26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исунок и расход тк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24347_1_23268_2_OriginalImage"/>
          <p:cNvPicPr/>
          <p:nvPr/>
        </p:nvPicPr>
        <p:blipFill>
          <a:blip r:embed="rId1"/>
          <a:stretch/>
        </p:blipFill>
        <p:spPr>
          <a:xfrm>
            <a:off x="157320" y="1292400"/>
            <a:ext cx="4641840" cy="391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24348_1_23269_2_OriginalImage"/>
          <p:cNvPicPr/>
          <p:nvPr/>
        </p:nvPicPr>
        <p:blipFill>
          <a:blip r:embed="rId2"/>
          <a:stretch/>
        </p:blipFill>
        <p:spPr>
          <a:xfrm>
            <a:off x="3887640" y="2417760"/>
            <a:ext cx="50403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1 (1)"/>
          <p:cNvPicPr/>
          <p:nvPr/>
        </p:nvPicPr>
        <p:blipFill>
          <a:blip r:embed="rId1"/>
          <a:stretch/>
        </p:blipFill>
        <p:spPr>
          <a:xfrm>
            <a:off x="1498680" y="1428840"/>
            <a:ext cx="58928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gorizontal"/>
          <p:cNvPicPr/>
          <p:nvPr/>
        </p:nvPicPr>
        <p:blipFill>
          <a:blip r:embed="rId1"/>
          <a:stretch/>
        </p:blipFill>
        <p:spPr>
          <a:xfrm>
            <a:off x="4352760" y="3198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rimskie3"/>
          <p:cNvPicPr/>
          <p:nvPr/>
        </p:nvPicPr>
        <p:blipFill>
          <a:blip r:embed="rId2"/>
          <a:stretch/>
        </p:blipFill>
        <p:spPr>
          <a:xfrm>
            <a:off x="2733840" y="210960"/>
            <a:ext cx="5221080" cy="391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avstrijsk"/>
          <p:cNvPicPr/>
          <p:nvPr/>
        </p:nvPicPr>
        <p:blipFill>
          <a:blip r:embed="rId3"/>
          <a:stretch/>
        </p:blipFill>
        <p:spPr>
          <a:xfrm>
            <a:off x="0" y="762120"/>
            <a:ext cx="48196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69520" y="-36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Составляющие ш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00488410_1_"/>
          <p:cNvPicPr/>
          <p:nvPr/>
        </p:nvPicPr>
        <p:blipFill>
          <a:blip r:embed="rId1"/>
          <a:stretch/>
        </p:blipFill>
        <p:spPr>
          <a:xfrm>
            <a:off x="1114560" y="1127160"/>
            <a:ext cx="68580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Француз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238573453"/>
          <p:cNvPicPr/>
          <p:nvPr/>
        </p:nvPicPr>
        <p:blipFill>
          <a:blip r:embed="rId1"/>
          <a:stretch/>
        </p:blipFill>
        <p:spPr>
          <a:xfrm>
            <a:off x="281160" y="1138320"/>
            <a:ext cx="4133520" cy="5511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information_items_835"/>
          <p:cNvPicPr/>
          <p:nvPr/>
        </p:nvPicPr>
        <p:blipFill>
          <a:blip r:embed="rId2"/>
          <a:stretch/>
        </p:blipFill>
        <p:spPr>
          <a:xfrm>
            <a:off x="4782960" y="1131840"/>
            <a:ext cx="4151520" cy="5533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vidi_shtor_france"/>
          <p:cNvPicPr/>
          <p:nvPr/>
        </p:nvPicPr>
        <p:blipFill>
          <a:blip r:embed="rId3"/>
          <a:stretch/>
        </p:blipFill>
        <p:spPr>
          <a:xfrm>
            <a:off x="3693960" y="11318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9640" y="-360"/>
            <a:ext cx="731376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Австрий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avstrijsk2"/>
          <p:cNvPicPr/>
          <p:nvPr/>
        </p:nvPicPr>
        <p:blipFill>
          <a:blip r:embed="rId1"/>
          <a:stretch/>
        </p:blipFill>
        <p:spPr>
          <a:xfrm>
            <a:off x="154080" y="1082520"/>
            <a:ext cx="4763880" cy="423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austrian_blinds1"/>
          <p:cNvPicPr/>
          <p:nvPr/>
        </p:nvPicPr>
        <p:blipFill>
          <a:blip r:embed="rId2"/>
          <a:stretch/>
        </p:blipFill>
        <p:spPr>
          <a:xfrm>
            <a:off x="4824360" y="11350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avstr31"/>
          <p:cNvPicPr/>
          <p:nvPr/>
        </p:nvPicPr>
        <p:blipFill>
          <a:blip r:embed="rId3"/>
          <a:stretch/>
        </p:blipFill>
        <p:spPr>
          <a:xfrm>
            <a:off x="3865680" y="4013280"/>
            <a:ext cx="1908000" cy="26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vidi_shtor_avstriyskie"/>
          <p:cNvPicPr/>
          <p:nvPr/>
        </p:nvPicPr>
        <p:blipFill>
          <a:blip r:embed="rId4"/>
          <a:stretch/>
        </p:blipFill>
        <p:spPr>
          <a:xfrm>
            <a:off x="3664080" y="11192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82480" y="0"/>
            <a:ext cx="731376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им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vidi_shtor_rimskaya"/>
          <p:cNvPicPr/>
          <p:nvPr/>
        </p:nvPicPr>
        <p:blipFill>
          <a:blip r:embed="rId1"/>
          <a:stretch/>
        </p:blipFill>
        <p:spPr>
          <a:xfrm>
            <a:off x="3265560" y="1163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1-shtory-na-kuhniu-foto"/>
          <p:cNvPicPr/>
          <p:nvPr/>
        </p:nvPicPr>
        <p:blipFill>
          <a:blip r:embed="rId2"/>
          <a:stretch/>
        </p:blipFill>
        <p:spPr>
          <a:xfrm>
            <a:off x="139680" y="1106640"/>
            <a:ext cx="5715000" cy="4971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aedc18a9a2b1"/>
          <p:cNvPicPr/>
          <p:nvPr/>
        </p:nvPicPr>
        <p:blipFill>
          <a:blip r:embed="rId3"/>
          <a:stretch/>
        </p:blipFill>
        <p:spPr>
          <a:xfrm>
            <a:off x="5353200" y="1106640"/>
            <a:ext cx="3612960" cy="4975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vidi_shtor_rimskaya"/>
          <p:cNvPicPr/>
          <p:nvPr/>
        </p:nvPicPr>
        <p:blipFill>
          <a:blip r:embed="rId4"/>
          <a:stretch/>
        </p:blipFill>
        <p:spPr>
          <a:xfrm>
            <a:off x="3718080" y="4395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3134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оликовы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catalog2"/>
          <p:cNvPicPr/>
          <p:nvPr/>
        </p:nvPicPr>
        <p:blipFill>
          <a:blip r:embed="rId1"/>
          <a:stretch/>
        </p:blipFill>
        <p:spPr>
          <a:xfrm>
            <a:off x="4405320" y="1085760"/>
            <a:ext cx="4572000" cy="5497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roll_with_cat"/>
          <p:cNvPicPr/>
          <p:nvPr/>
        </p:nvPicPr>
        <p:blipFill>
          <a:blip r:embed="rId2"/>
          <a:stretch/>
        </p:blipFill>
        <p:spPr>
          <a:xfrm>
            <a:off x="131760" y="1087560"/>
            <a:ext cx="4192560" cy="5589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vidi_shtor_rulonki"/>
          <p:cNvPicPr/>
          <p:nvPr/>
        </p:nvPicPr>
        <p:blipFill>
          <a:blip r:embed="rId3"/>
          <a:stretch/>
        </p:blipFill>
        <p:spPr>
          <a:xfrm>
            <a:off x="3321000" y="108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3480" y="-360"/>
            <a:ext cx="731376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Япон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03"/>
          <p:cNvPicPr/>
          <p:nvPr/>
        </p:nvPicPr>
        <p:blipFill>
          <a:blip r:embed="rId1"/>
          <a:stretch/>
        </p:blipFill>
        <p:spPr>
          <a:xfrm>
            <a:off x="3898800" y="1616040"/>
            <a:ext cx="5245200" cy="394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japan"/>
          <p:cNvPicPr/>
          <p:nvPr/>
        </p:nvPicPr>
        <p:blipFill>
          <a:blip r:embed="rId2"/>
          <a:stretch/>
        </p:blipFill>
        <p:spPr>
          <a:xfrm>
            <a:off x="331920" y="3559320"/>
            <a:ext cx="3825720" cy="318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japan-004"/>
          <p:cNvPicPr/>
          <p:nvPr/>
        </p:nvPicPr>
        <p:blipFill>
          <a:blip r:embed="rId3"/>
          <a:stretch/>
        </p:blipFill>
        <p:spPr>
          <a:xfrm>
            <a:off x="306360" y="1082520"/>
            <a:ext cx="29005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5920" y="0"/>
            <a:ext cx="7313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Скрещенны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061"/>
          <p:cNvPicPr/>
          <p:nvPr/>
        </p:nvPicPr>
        <p:blipFill>
          <a:blip r:embed="rId1"/>
          <a:stretch/>
        </p:blipFill>
        <p:spPr>
          <a:xfrm>
            <a:off x="187200" y="1057320"/>
            <a:ext cx="4224600" cy="5635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sh_ckr_1"/>
          <p:cNvPicPr/>
          <p:nvPr/>
        </p:nvPicPr>
        <p:blipFill>
          <a:blip r:embed="rId2"/>
          <a:stretch/>
        </p:blipFill>
        <p:spPr>
          <a:xfrm>
            <a:off x="4427640" y="1041480"/>
            <a:ext cx="4562280" cy="456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vidi_shtor_skreshennie"/>
          <p:cNvPicPr/>
          <p:nvPr/>
        </p:nvPicPr>
        <p:blipFill>
          <a:blip r:embed="rId3"/>
          <a:stretch/>
        </p:blipFill>
        <p:spPr>
          <a:xfrm>
            <a:off x="31114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2:18:15Z</dcterms:created>
  <dc:creator>Ирина</dc:creator>
  <dc:description/>
  <dc:language>en-US</dc:language>
  <cp:lastModifiedBy>серега</cp:lastModifiedBy>
  <dcterms:modified xsi:type="dcterms:W3CDTF">2013-03-11T17:41:50Z</dcterms:modified>
  <cp:revision>11</cp:revision>
  <dc:subject/>
  <dc:title>Виды штор и портьер</dc:title>
</cp:coreProperties>
</file>