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713-C771-4E16-8AEC-F29DFACB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A85-767E-403B-A423-552F6366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6ED-604F-4781-AB0C-AEFF2AD2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815-2CFD-4357-898A-31250FF8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24D2-8F28-458F-9B8A-8AFEFDE1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DB63-45F8-4CBE-A031-3F7CE0B0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8D89-CCC4-4F39-8B53-6177A7E2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608B-5832-40FF-84BD-B654B874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C577-460C-40F2-935E-375C3B18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2A0F-8C4A-4BA5-8D3C-591A61C4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38E5-36DA-4724-8882-C0D25274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8EC-F26D-4CD9-B15B-AD779D66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7784-9B4B-40E8-A90B-442ADB8F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CDC4-61BC-421B-B94E-2D4D4873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1F9C-2B0F-4B69-A7A9-544FC2F9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5DC6-0931-4DC6-9965-305718EB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3F9E-79DC-4295-A4B2-19557D08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B5740-CAFB-4DCA-A7D1-E264B830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60A2A-4CD1-4BEA-9428-F2A75B18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631A0-67D0-4BF0-A234-F0636F25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7215-9B85-488F-AF1D-EDB5E98D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0884F-C44A-484E-84DD-45A715A2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15A-EA3B-442F-BD92-DCAA806B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5303-76AA-4811-90D5-2BF98F9A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50F75-C8E9-4612-B1E4-CFBB9765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D70F-8CDA-4F9A-B537-11D9D64F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5E30E-AEEA-4A4A-8ED4-595297F8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EDFF-2E4C-4213-95A0-639E7010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91095-66C2-4472-865F-243EFC93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2C756-79B1-48C3-97D9-605E1445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3CE6C-A828-4A4D-8BD9-98B09949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05CE4-14BC-45E4-A691-DD192A70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CDE1D-699B-400C-A83C-916D3E1D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4B5B-4828-42B0-BA57-1BD3925D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1F1A1-18D5-451E-8C00-DC926F43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49DD4-BD19-46FD-A8EB-7E4B7FBF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C8022-2B18-4C63-BECA-9D0C02A4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EA794-48FF-4FAD-BB3A-7D2F626D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AD83-B994-4DD3-9248-CBF5772C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6C733-A9EF-44F7-A75D-247477F9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6101D-6A83-4F3F-8D3D-E16B5656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4DA86-BE6C-4993-97CF-2234F99F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BA7CD-5E5D-4C1A-9715-4C7FF299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C1C-89F4-4501-A6E9-07FCE072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DE8-8A19-4918-9791-56C1F47D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032-9DDE-492C-B0BC-69CEA369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791-8C83-41CC-BB22-0C0E2FC8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DD5-2B32-4A1F-BD98-7374BB20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6670-97E4-4CDD-ABD9-73C5A49B5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FBCD-D1E4-41AB-8853-DAFACB0ED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E9F4-A567-42B3-A82E-1A8D673EB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97F5-2365-47A9-ACB8-900231B4B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6480" y="-360"/>
            <a:ext cx="7535880" cy="9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Виды штор и порть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15-1"/>
          <p:cNvPicPr/>
          <p:nvPr/>
        </p:nvPicPr>
        <p:blipFill>
          <a:blip r:embed="rId1"/>
          <a:stretch/>
        </p:blipFill>
        <p:spPr>
          <a:xfrm>
            <a:off x="1119240" y="898560"/>
            <a:ext cx="70214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91840" y="-360"/>
            <a:ext cx="7313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Итальян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ta1"/>
          <p:cNvPicPr/>
          <p:nvPr/>
        </p:nvPicPr>
        <p:blipFill>
          <a:blip r:embed="rId1"/>
          <a:stretch/>
        </p:blipFill>
        <p:spPr>
          <a:xfrm>
            <a:off x="165240" y="1041480"/>
            <a:ext cx="5089320" cy="4647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Ita3"/>
          <p:cNvPicPr/>
          <p:nvPr/>
        </p:nvPicPr>
        <p:blipFill>
          <a:blip r:embed="rId2"/>
          <a:stretch/>
        </p:blipFill>
        <p:spPr>
          <a:xfrm>
            <a:off x="4943520" y="1042920"/>
            <a:ext cx="40291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31376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Классиче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class01"/>
          <p:cNvPicPr/>
          <p:nvPr/>
        </p:nvPicPr>
        <p:blipFill>
          <a:blip r:embed="rId1"/>
          <a:stretch/>
        </p:blipFill>
        <p:spPr>
          <a:xfrm>
            <a:off x="3827520" y="1343160"/>
            <a:ext cx="5181480" cy="4782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49-11"/>
          <p:cNvPicPr/>
          <p:nvPr/>
        </p:nvPicPr>
        <p:blipFill>
          <a:blip r:embed="rId2"/>
          <a:stretch/>
        </p:blipFill>
        <p:spPr>
          <a:xfrm>
            <a:off x="150840" y="3002040"/>
            <a:ext cx="3753000" cy="3714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vidi_shtor_s_lambrikenom"/>
          <p:cNvPicPr/>
          <p:nvPr/>
        </p:nvPicPr>
        <p:blipFill>
          <a:blip r:embed="rId3"/>
          <a:stretch/>
        </p:blipFill>
        <p:spPr>
          <a:xfrm>
            <a:off x="152280" y="982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99920" y="-371520"/>
            <a:ext cx="7313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Ламбреке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219243617"/>
          <p:cNvPicPr/>
          <p:nvPr/>
        </p:nvPicPr>
        <p:blipFill>
          <a:blip r:embed="rId1"/>
          <a:stretch/>
        </p:blipFill>
        <p:spPr>
          <a:xfrm>
            <a:off x="128520" y="1122480"/>
            <a:ext cx="4205520" cy="560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wndows-of-the-difficult-form_1_20100226_1336154192"/>
          <p:cNvPicPr/>
          <p:nvPr/>
        </p:nvPicPr>
        <p:blipFill>
          <a:blip r:embed="rId2"/>
          <a:stretch/>
        </p:blipFill>
        <p:spPr>
          <a:xfrm>
            <a:off x="4786200" y="1117440"/>
            <a:ext cx="41911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6560" y="-344880"/>
            <a:ext cx="73137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Длина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id_836_1226928598076577"/>
          <p:cNvPicPr/>
          <p:nvPr/>
        </p:nvPicPr>
        <p:blipFill>
          <a:blip r:embed="rId1"/>
          <a:stretch/>
        </p:blipFill>
        <p:spPr>
          <a:xfrm>
            <a:off x="189000" y="1335240"/>
            <a:ext cx="2852640" cy="3052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id_837_1226928660174762"/>
          <p:cNvPicPr/>
          <p:nvPr/>
        </p:nvPicPr>
        <p:blipFill>
          <a:blip r:embed="rId2"/>
          <a:stretch/>
        </p:blipFill>
        <p:spPr>
          <a:xfrm>
            <a:off x="3311640" y="1333440"/>
            <a:ext cx="2813040" cy="2997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id_838_1226928752774470"/>
          <p:cNvPicPr/>
          <p:nvPr/>
        </p:nvPicPr>
        <p:blipFill>
          <a:blip r:embed="rId3"/>
          <a:stretch/>
        </p:blipFill>
        <p:spPr>
          <a:xfrm>
            <a:off x="6461280" y="1305000"/>
            <a:ext cx="2458800" cy="33814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239760" y="4429080"/>
            <a:ext cx="294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1. до подоконника — нижний край занавески находится на 1 см выше подоконника, так что может беспрепятственно двиг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3470400" y="4405320"/>
            <a:ext cx="253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2. ниже подоконника — занавески смотрятся аккуратнее, если свисают на 10-15 см ниже подокон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6289560" y="4773600"/>
            <a:ext cx="271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3. до пола — занавески заканчиваются на 1 см выше уровня пола, чтобы они меньше изнашива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44480" y="-217800"/>
            <a:ext cx="73137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Ширина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id_830_1226928317824849"/>
          <p:cNvPicPr/>
          <p:nvPr/>
        </p:nvPicPr>
        <p:blipFill>
          <a:blip r:embed="rId1"/>
          <a:stretch/>
        </p:blipFill>
        <p:spPr>
          <a:xfrm>
            <a:off x="287280" y="177624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id_831_1226928362764524"/>
          <p:cNvPicPr/>
          <p:nvPr/>
        </p:nvPicPr>
        <p:blipFill>
          <a:blip r:embed="rId2"/>
          <a:stretch/>
        </p:blipFill>
        <p:spPr>
          <a:xfrm>
            <a:off x="3030480" y="1762200"/>
            <a:ext cx="2376720" cy="1508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id_832_1226928392032132"/>
          <p:cNvPicPr/>
          <p:nvPr/>
        </p:nvPicPr>
        <p:blipFill>
          <a:blip r:embed="rId3"/>
          <a:stretch/>
        </p:blipFill>
        <p:spPr>
          <a:xfrm>
            <a:off x="6000840" y="1801800"/>
            <a:ext cx="2286000" cy="1463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id_833_1226928479131254"/>
          <p:cNvPicPr/>
          <p:nvPr/>
        </p:nvPicPr>
        <p:blipFill>
          <a:blip r:embed="rId4"/>
          <a:stretch/>
        </p:blipFill>
        <p:spPr>
          <a:xfrm>
            <a:off x="324000" y="426708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id_834_1226928515571563"/>
          <p:cNvPicPr/>
          <p:nvPr/>
        </p:nvPicPr>
        <p:blipFill>
          <a:blip r:embed="rId5"/>
          <a:stretch/>
        </p:blipFill>
        <p:spPr>
          <a:xfrm>
            <a:off x="3220920" y="425592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id_835_1226928573981292"/>
          <p:cNvPicPr/>
          <p:nvPr/>
        </p:nvPicPr>
        <p:blipFill>
          <a:blip r:embed="rId6"/>
          <a:stretch/>
        </p:blipFill>
        <p:spPr>
          <a:xfrm>
            <a:off x="6099120" y="4226040"/>
            <a:ext cx="2286000" cy="14857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6"/>
          <p:cNvSpPr/>
          <p:nvPr/>
        </p:nvSpPr>
        <p:spPr>
          <a:xfrm>
            <a:off x="368280" y="3560760"/>
            <a:ext cx="20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етли 1,5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281760" y="354168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Люверсы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5621400" y="3325680"/>
            <a:ext cx="296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тандар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ардинная лент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277920" y="5851440"/>
            <a:ext cx="23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рандаш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кладки 2 -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392640" y="582444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р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кладки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470280" y="58960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Буфы 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72680" y="0"/>
            <a:ext cx="822636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Расчет тка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170240" y="1352520"/>
            <a:ext cx="474984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Тю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ысота полотна = высота шторы + подгиб низа + подгиб верха = 2,6 м + 0,15 м + 0,10м = 2,85 м ширина полотна = длина карниза Х коэффициент  сборки = 2 м Х 2 = 4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орть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ысота полотна = высота шторы + подгиб низа + подгиб верха =2,6 м +0,15 м+0,10 м = 2,85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ширина полотна для одного полотна = (Длина карниза Х коэффициент сборки) : на количество полотен = (2 м Х 2) : 2 = 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ag4"/>
          <p:cNvPicPr/>
          <p:nvPr/>
        </p:nvPicPr>
        <p:blipFill>
          <a:blip r:embed="rId1"/>
          <a:stretch/>
        </p:blipFill>
        <p:spPr>
          <a:xfrm>
            <a:off x="162000" y="1371600"/>
            <a:ext cx="4019400" cy="3355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0"/>
          <p:cNvSpPr/>
          <p:nvPr/>
        </p:nvSpPr>
        <p:spPr>
          <a:xfrm>
            <a:off x="169920" y="4654440"/>
            <a:ext cx="37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лина карниза 2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ысота окна 2,6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оэффициент сборки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Рисунок и расход тка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24345_1_23266_2_OriginalImage"/>
          <p:cNvPicPr/>
          <p:nvPr/>
        </p:nvPicPr>
        <p:blipFill>
          <a:blip r:embed="rId1"/>
          <a:stretch/>
        </p:blipFill>
        <p:spPr>
          <a:xfrm>
            <a:off x="139680" y="1231920"/>
            <a:ext cx="4589640" cy="3871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24346_1_23267_2_OriginalImage"/>
          <p:cNvPicPr/>
          <p:nvPr/>
        </p:nvPicPr>
        <p:blipFill>
          <a:blip r:embed="rId2"/>
          <a:stretch/>
        </p:blipFill>
        <p:spPr>
          <a:xfrm>
            <a:off x="4284720" y="2684520"/>
            <a:ext cx="464976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726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Рисунок и расход тка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24347_1_23268_2_OriginalImage"/>
          <p:cNvPicPr/>
          <p:nvPr/>
        </p:nvPicPr>
        <p:blipFill>
          <a:blip r:embed="rId1"/>
          <a:stretch/>
        </p:blipFill>
        <p:spPr>
          <a:xfrm>
            <a:off x="157320" y="1292400"/>
            <a:ext cx="4641840" cy="3914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24348_1_23269_2_OriginalImage"/>
          <p:cNvPicPr/>
          <p:nvPr/>
        </p:nvPicPr>
        <p:blipFill>
          <a:blip r:embed="rId2"/>
          <a:stretch/>
        </p:blipFill>
        <p:spPr>
          <a:xfrm>
            <a:off x="3887640" y="2417760"/>
            <a:ext cx="50403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1 (1)"/>
          <p:cNvPicPr/>
          <p:nvPr/>
        </p:nvPicPr>
        <p:blipFill>
          <a:blip r:embed="rId1"/>
          <a:stretch/>
        </p:blipFill>
        <p:spPr>
          <a:xfrm>
            <a:off x="1498680" y="1428840"/>
            <a:ext cx="58928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gorizontal"/>
          <p:cNvPicPr/>
          <p:nvPr/>
        </p:nvPicPr>
        <p:blipFill>
          <a:blip r:embed="rId1"/>
          <a:stretch/>
        </p:blipFill>
        <p:spPr>
          <a:xfrm>
            <a:off x="4352760" y="31989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rimskie3"/>
          <p:cNvPicPr/>
          <p:nvPr/>
        </p:nvPicPr>
        <p:blipFill>
          <a:blip r:embed="rId2"/>
          <a:stretch/>
        </p:blipFill>
        <p:spPr>
          <a:xfrm>
            <a:off x="2733840" y="210960"/>
            <a:ext cx="5221080" cy="3919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avstrijsk"/>
          <p:cNvPicPr/>
          <p:nvPr/>
        </p:nvPicPr>
        <p:blipFill>
          <a:blip r:embed="rId3"/>
          <a:stretch/>
        </p:blipFill>
        <p:spPr>
          <a:xfrm>
            <a:off x="0" y="762120"/>
            <a:ext cx="481968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69520" y="-36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Составляющие ш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00488410_1_"/>
          <p:cNvPicPr/>
          <p:nvPr/>
        </p:nvPicPr>
        <p:blipFill>
          <a:blip r:embed="rId1"/>
          <a:stretch/>
        </p:blipFill>
        <p:spPr>
          <a:xfrm>
            <a:off x="1114560" y="1127160"/>
            <a:ext cx="68580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Француз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238573453"/>
          <p:cNvPicPr/>
          <p:nvPr/>
        </p:nvPicPr>
        <p:blipFill>
          <a:blip r:embed="rId1"/>
          <a:stretch/>
        </p:blipFill>
        <p:spPr>
          <a:xfrm>
            <a:off x="281160" y="1138320"/>
            <a:ext cx="4133520" cy="5511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information_items_835"/>
          <p:cNvPicPr/>
          <p:nvPr/>
        </p:nvPicPr>
        <p:blipFill>
          <a:blip r:embed="rId2"/>
          <a:stretch/>
        </p:blipFill>
        <p:spPr>
          <a:xfrm>
            <a:off x="4782960" y="1131840"/>
            <a:ext cx="4151520" cy="5533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vidi_shtor_france"/>
          <p:cNvPicPr/>
          <p:nvPr/>
        </p:nvPicPr>
        <p:blipFill>
          <a:blip r:embed="rId3"/>
          <a:stretch/>
        </p:blipFill>
        <p:spPr>
          <a:xfrm>
            <a:off x="3693960" y="11318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9640" y="-360"/>
            <a:ext cx="731376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Австрий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avstrijsk2"/>
          <p:cNvPicPr/>
          <p:nvPr/>
        </p:nvPicPr>
        <p:blipFill>
          <a:blip r:embed="rId1"/>
          <a:stretch/>
        </p:blipFill>
        <p:spPr>
          <a:xfrm>
            <a:off x="154080" y="1082520"/>
            <a:ext cx="4763880" cy="4237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austrian_blinds1"/>
          <p:cNvPicPr/>
          <p:nvPr/>
        </p:nvPicPr>
        <p:blipFill>
          <a:blip r:embed="rId2"/>
          <a:stretch/>
        </p:blipFill>
        <p:spPr>
          <a:xfrm>
            <a:off x="4824360" y="113508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avstr31"/>
          <p:cNvPicPr/>
          <p:nvPr/>
        </p:nvPicPr>
        <p:blipFill>
          <a:blip r:embed="rId3"/>
          <a:stretch/>
        </p:blipFill>
        <p:spPr>
          <a:xfrm>
            <a:off x="3865680" y="4013280"/>
            <a:ext cx="1908000" cy="2685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vidi_shtor_avstriyskie"/>
          <p:cNvPicPr/>
          <p:nvPr/>
        </p:nvPicPr>
        <p:blipFill>
          <a:blip r:embed="rId4"/>
          <a:stretch/>
        </p:blipFill>
        <p:spPr>
          <a:xfrm>
            <a:off x="3664080" y="11192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82480" y="0"/>
            <a:ext cx="731376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Рим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vidi_shtor_rimskaya"/>
          <p:cNvPicPr/>
          <p:nvPr/>
        </p:nvPicPr>
        <p:blipFill>
          <a:blip r:embed="rId1"/>
          <a:stretch/>
        </p:blipFill>
        <p:spPr>
          <a:xfrm>
            <a:off x="3265560" y="1163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1-shtory-na-kuhniu-foto"/>
          <p:cNvPicPr/>
          <p:nvPr/>
        </p:nvPicPr>
        <p:blipFill>
          <a:blip r:embed="rId2"/>
          <a:stretch/>
        </p:blipFill>
        <p:spPr>
          <a:xfrm>
            <a:off x="139680" y="1106640"/>
            <a:ext cx="5715000" cy="4971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aedc18a9a2b1"/>
          <p:cNvPicPr/>
          <p:nvPr/>
        </p:nvPicPr>
        <p:blipFill>
          <a:blip r:embed="rId3"/>
          <a:stretch/>
        </p:blipFill>
        <p:spPr>
          <a:xfrm>
            <a:off x="5353200" y="1106640"/>
            <a:ext cx="3612960" cy="4975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vidi_shtor_rimskaya"/>
          <p:cNvPicPr/>
          <p:nvPr/>
        </p:nvPicPr>
        <p:blipFill>
          <a:blip r:embed="rId4"/>
          <a:stretch/>
        </p:blipFill>
        <p:spPr>
          <a:xfrm>
            <a:off x="3718080" y="43959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3134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Роликовы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catalog2"/>
          <p:cNvPicPr/>
          <p:nvPr/>
        </p:nvPicPr>
        <p:blipFill>
          <a:blip r:embed="rId1"/>
          <a:stretch/>
        </p:blipFill>
        <p:spPr>
          <a:xfrm>
            <a:off x="4405320" y="1085760"/>
            <a:ext cx="4572000" cy="5497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roll_with_cat"/>
          <p:cNvPicPr/>
          <p:nvPr/>
        </p:nvPicPr>
        <p:blipFill>
          <a:blip r:embed="rId2"/>
          <a:stretch/>
        </p:blipFill>
        <p:spPr>
          <a:xfrm>
            <a:off x="131760" y="1087560"/>
            <a:ext cx="4192560" cy="5589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vidi_shtor_rulonki"/>
          <p:cNvPicPr/>
          <p:nvPr/>
        </p:nvPicPr>
        <p:blipFill>
          <a:blip r:embed="rId3"/>
          <a:stretch/>
        </p:blipFill>
        <p:spPr>
          <a:xfrm>
            <a:off x="3321000" y="1082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63480" y="-360"/>
            <a:ext cx="731376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Японски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03"/>
          <p:cNvPicPr/>
          <p:nvPr/>
        </p:nvPicPr>
        <p:blipFill>
          <a:blip r:embed="rId1"/>
          <a:stretch/>
        </p:blipFill>
        <p:spPr>
          <a:xfrm>
            <a:off x="3898800" y="1616040"/>
            <a:ext cx="5245200" cy="3946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japan"/>
          <p:cNvPicPr/>
          <p:nvPr/>
        </p:nvPicPr>
        <p:blipFill>
          <a:blip r:embed="rId2"/>
          <a:stretch/>
        </p:blipFill>
        <p:spPr>
          <a:xfrm>
            <a:off x="331920" y="3559320"/>
            <a:ext cx="3825720" cy="3181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japan-004"/>
          <p:cNvPicPr/>
          <p:nvPr/>
        </p:nvPicPr>
        <p:blipFill>
          <a:blip r:embed="rId3"/>
          <a:stretch/>
        </p:blipFill>
        <p:spPr>
          <a:xfrm>
            <a:off x="306360" y="1082520"/>
            <a:ext cx="29005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5920" y="0"/>
            <a:ext cx="73134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Скрещенные ш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061"/>
          <p:cNvPicPr/>
          <p:nvPr/>
        </p:nvPicPr>
        <p:blipFill>
          <a:blip r:embed="rId1"/>
          <a:stretch/>
        </p:blipFill>
        <p:spPr>
          <a:xfrm>
            <a:off x="187200" y="1057320"/>
            <a:ext cx="4224600" cy="5635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sh_ckr_1"/>
          <p:cNvPicPr/>
          <p:nvPr/>
        </p:nvPicPr>
        <p:blipFill>
          <a:blip r:embed="rId2"/>
          <a:stretch/>
        </p:blipFill>
        <p:spPr>
          <a:xfrm>
            <a:off x="4427640" y="1041480"/>
            <a:ext cx="4562280" cy="4562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vidi_shtor_skreshennie"/>
          <p:cNvPicPr/>
          <p:nvPr/>
        </p:nvPicPr>
        <p:blipFill>
          <a:blip r:embed="rId3"/>
          <a:stretch/>
        </p:blipFill>
        <p:spPr>
          <a:xfrm>
            <a:off x="31114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2:18:15Z</dcterms:created>
  <dc:creator>Ирина</dc:creator>
  <dc:description/>
  <dc:language>en-US</dc:language>
  <cp:lastModifiedBy>серега</cp:lastModifiedBy>
  <dcterms:modified xsi:type="dcterms:W3CDTF">2013-03-11T17:41:50Z</dcterms:modified>
  <cp:revision>11</cp:revision>
  <dc:subject/>
  <dc:title>Виды штор и портьер</dc:title>
</cp:coreProperties>
</file>