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4.gif" ContentType="image/gif"/>
  <Override PartName="/ppt/media/image7.png" ContentType="image/png"/>
  <Override PartName="/ppt/media/image1.jpeg" ContentType="image/jpeg"/>
  <Override PartName="/ppt/media/image8.png" ContentType="image/png"/>
  <Override PartName="/ppt/media/image30.gif" ContentType="image/gif"/>
  <Override PartName="/ppt/media/image6.png" ContentType="image/png"/>
  <Override PartName="/ppt/media/image11.png" ContentType="image/png"/>
  <Override PartName="/ppt/media/image9.png" ContentType="image/png"/>
  <Override PartName="/ppt/media/image10.gif" ContentType="image/gif"/>
  <Override PartName="/ppt/media/image5.jpeg" ContentType="image/jpeg"/>
  <Override PartName="/ppt/media/image15.png" ContentType="image/png"/>
  <Override PartName="/ppt/media/image12.gif" ContentType="image/gif"/>
  <Override PartName="/ppt/media/image13.gif" ContentType="image/gif"/>
  <Override PartName="/ppt/media/image29.png" ContentType="image/png"/>
  <Override PartName="/ppt/media/image2.wmf" ContentType="image/x-wmf"/>
  <Override PartName="/ppt/media/image32.gif" ContentType="image/gif"/>
  <Override PartName="/ppt/media/image25.png" ContentType="image/png"/>
  <Override PartName="/ppt/media/image31.jpeg" ContentType="image/jpeg"/>
  <Override PartName="/ppt/media/image14.gif" ContentType="image/gif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16.png" ContentType="image/png"/>
  <Override PartName="/ppt/media/image23.gif" ContentType="image/gif"/>
  <Override PartName="/ppt/media/image3.gif" ContentType="image/gif"/>
  <Override PartName="/ppt/media/image26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BB3B-5A1E-4C43-923B-370D6F6856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5BC5-BC0B-4B83-AAF2-6AC2C1BF53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2B05-D3F0-4F49-98F4-0EC580DF9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8E0A-A3C0-4B81-8BB5-84AB4251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3CCC-4110-4F1C-9C3E-48BD7D28A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192B-7D9F-46AA-867B-1D91F050B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9D9A-0658-4EA1-B5B9-7D1EF9C6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584F-A09A-4295-972A-4E6E3E00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E5E4-77E1-486D-A203-D9E7CF4E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7B18-444B-486F-ACD0-54694FA9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B282-9E20-4B4D-A925-19D84A0C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3AFE-CA75-4077-BCF0-25730B31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F776-4252-4F08-8228-DC11FD96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D9EF-0A7A-4C05-9DBF-7A6FFF73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32D2-E218-44D6-8F3F-A471927A0D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gi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gif"/><Relationship Id="rId5" Type="http://schemas.openxmlformats.org/officeDocument/2006/relationships/image" Target="../media/image11.png"/><Relationship Id="rId6" Type="http://schemas.openxmlformats.org/officeDocument/2006/relationships/image" Target="../media/image12.gif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Users\Svetlana\Pictures\tran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684360" y="0"/>
            <a:ext cx="64594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2d700"/>
                </a:solidFill>
                <a:latin typeface="Arial"/>
              </a:rPr>
              <a:t>ГЕОМЕТР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2d700"/>
              </a:solidFill>
              <a:latin typeface="Arial"/>
              <a:ea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2"/>
          <a:stretch/>
        </p:blipFill>
        <p:spPr>
          <a:xfrm>
            <a:off x="1857240" y="2143080"/>
            <a:ext cx="3071880" cy="2468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кар1"/>
          <p:cNvPicPr/>
          <p:nvPr/>
        </p:nvPicPr>
        <p:blipFill>
          <a:blip r:embed="rId3"/>
          <a:stretch/>
        </p:blipFill>
        <p:spPr>
          <a:xfrm flipH="1">
            <a:off x="928800" y="2428920"/>
            <a:ext cx="1428480" cy="2071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263"/>
          <p:cNvPicPr/>
          <p:nvPr/>
        </p:nvPicPr>
        <p:blipFill>
          <a:blip r:embed="rId4"/>
          <a:stretch/>
        </p:blipFill>
        <p:spPr>
          <a:xfrm>
            <a:off x="7072200" y="2643120"/>
            <a:ext cx="1214640" cy="121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E:\мама\Мои рисунки\Фон\Изображение 01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5"/>
          <p:cNvSpPr/>
          <p:nvPr/>
        </p:nvSpPr>
        <p:spPr>
          <a:xfrm>
            <a:off x="1030320" y="1428840"/>
            <a:ext cx="742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Calibri"/>
              </a:rPr>
              <a:t>- Как называются   углы  у фигур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8"/>
          <p:cNvSpPr/>
          <p:nvPr/>
        </p:nvSpPr>
        <p:spPr>
          <a:xfrm flipV="1">
            <a:off x="3408480" y="2693880"/>
            <a:ext cx="684000" cy="898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ая соединительная линия 10"/>
          <p:cNvSpPr/>
          <p:nvPr/>
        </p:nvSpPr>
        <p:spPr>
          <a:xfrm>
            <a:off x="4142520" y="2643120"/>
            <a:ext cx="1057320" cy="227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ая соединительная линия 11"/>
          <p:cNvSpPr/>
          <p:nvPr/>
        </p:nvSpPr>
        <p:spPr>
          <a:xfrm flipH="1">
            <a:off x="3355560" y="3714840"/>
            <a:ext cx="1800" cy="117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12"/>
          <p:cNvSpPr/>
          <p:nvPr/>
        </p:nvSpPr>
        <p:spPr>
          <a:xfrm>
            <a:off x="3357720" y="4929120"/>
            <a:ext cx="18572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5"/>
          <p:cNvSpPr/>
          <p:nvPr/>
        </p:nvSpPr>
        <p:spPr>
          <a:xfrm>
            <a:off x="2789640" y="342900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Блок-схема: узел 27"/>
          <p:cNvSpPr/>
          <p:nvPr/>
        </p:nvSpPr>
        <p:spPr>
          <a:xfrm>
            <a:off x="5143680" y="4857840"/>
            <a:ext cx="142560" cy="142920"/>
          </a:xfrm>
          <a:prstGeom prst="flowChartConnector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Блок-схема: узел 28"/>
          <p:cNvSpPr/>
          <p:nvPr/>
        </p:nvSpPr>
        <p:spPr>
          <a:xfrm>
            <a:off x="3286080" y="4857840"/>
            <a:ext cx="142920" cy="142920"/>
          </a:xfrm>
          <a:prstGeom prst="flowChartConnector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Блок-схема: узел 29"/>
          <p:cNvSpPr/>
          <p:nvPr/>
        </p:nvSpPr>
        <p:spPr>
          <a:xfrm>
            <a:off x="4071960" y="2571840"/>
            <a:ext cx="142920" cy="142920"/>
          </a:xfrm>
          <a:prstGeom prst="flowChartConnector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Блок-схема: узел 30"/>
          <p:cNvSpPr/>
          <p:nvPr/>
        </p:nvSpPr>
        <p:spPr>
          <a:xfrm>
            <a:off x="3286080" y="3571920"/>
            <a:ext cx="142920" cy="142920"/>
          </a:xfrm>
          <a:prstGeom prst="flowChartConnector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32"/>
          <p:cNvSpPr/>
          <p:nvPr/>
        </p:nvSpPr>
        <p:spPr>
          <a:xfrm>
            <a:off x="3932640" y="207180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33"/>
          <p:cNvSpPr/>
          <p:nvPr/>
        </p:nvSpPr>
        <p:spPr>
          <a:xfrm>
            <a:off x="5289840" y="4572000"/>
            <a:ext cx="4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34"/>
          <p:cNvSpPr/>
          <p:nvPr/>
        </p:nvSpPr>
        <p:spPr>
          <a:xfrm>
            <a:off x="2790360" y="4500720"/>
            <a:ext cx="57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E:\мама\Мои рисунки\Фон\Изображение 02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cxnSp>
        <p:nvCxnSpPr>
          <p:cNvPr id="239" name="Соединительная линия уступом 3"/>
          <p:cNvCxnSpPr/>
          <p:nvPr/>
        </p:nvCxnSpPr>
        <p:spPr>
          <a:xfrm>
            <a:off x="785880" y="1214280"/>
            <a:ext cx="7144560" cy="2144160"/>
          </a:xfrm>
          <a:prstGeom prst="bentConnector3">
            <a:avLst>
              <a:gd name="adj1" fmla="val 52270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40" name="Соединительная линия уступом 4"/>
          <p:cNvCxnSpPr/>
          <p:nvPr/>
        </p:nvCxnSpPr>
        <p:spPr>
          <a:xfrm flipH="1">
            <a:off x="2214360" y="3356640"/>
            <a:ext cx="5644080" cy="2500920"/>
          </a:xfrm>
          <a:prstGeom prst="bentConnector3">
            <a:avLst>
              <a:gd name="adj1" fmla="val -1218"/>
            </a:avLst>
          </a:prstGeom>
          <a:ln w="38160">
            <a:solidFill>
              <a:srgbClr val="000000"/>
            </a:solidFill>
            <a:miter/>
          </a:ln>
        </p:spPr>
      </p:cxnSp>
      <p:pic>
        <p:nvPicPr>
          <p:cNvPr id="241" name="Picture 2" descr="E:\мама\Мои рисунки\анимации\colec171.gif"/>
          <p:cNvPicPr/>
          <p:nvPr/>
        </p:nvPicPr>
        <p:blipFill>
          <a:blip r:embed="rId2"/>
          <a:stretch/>
        </p:blipFill>
        <p:spPr>
          <a:xfrm>
            <a:off x="7858080" y="492912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E:\мама\Мои рисунки\анимации\colec171.gif"/>
          <p:cNvPicPr/>
          <p:nvPr/>
        </p:nvPicPr>
        <p:blipFill>
          <a:blip r:embed="rId3"/>
          <a:stretch/>
        </p:blipFill>
        <p:spPr>
          <a:xfrm flipH="1">
            <a:off x="356760" y="285840"/>
            <a:ext cx="9572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38778E-017 L 0.44097 -0.00093 E">
                                      <p:cBhvr>
                                        <p:cTn id="383" dur="3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097 -0.00093 L 0.4401 0.32454 E">
                                      <p:cBhvr>
                                        <p:cTn id="386" dur="3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01 0.32454 L 0.81024 0.32454 E">
                                      <p:cBhvr>
                                        <p:cTn id="389" dur="3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9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1024 0.32454 L 0.81024 0.71296 E">
                                      <p:cBhvr>
                                        <p:cTn id="392" dur="3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1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94 0.03588 L -0.6724 0.02546 E">
                                      <p:cBhvr>
                                        <p:cTn id="411" dur="3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1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724 0.02546 L -0.6724 -0.30787 E">
                                      <p:cBhvr>
                                        <p:cTn id="414" dur="5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1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724 -0.30787 L -0.6724 0.02546 E">
                                      <p:cBhvr>
                                        <p:cTn id="417" dur="5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1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724 0.02546 L -0.6724 -0.30787 E">
                                      <p:cBhvr>
                                        <p:cTn id="420" dur="5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42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724 -0.30787 L -0.6724 0.02547 E">
                                      <p:cBhvr>
                                        <p:cTn id="423" dur="1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42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7239 0.02547 L -1.00312 0.0044 E">
                                      <p:cBhvr>
                                        <p:cTn id="426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E:\мама\Мои рисунки\Фон\Изображение 01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4" name="Прямоугольник 1" descr=""/>
          <p:cNvPicPr/>
          <p:nvPr/>
        </p:nvPicPr>
        <p:blipFill>
          <a:blip r:embed="rId2"/>
          <a:stretch/>
        </p:blipFill>
        <p:spPr>
          <a:xfrm>
            <a:off x="573120" y="2816280"/>
            <a:ext cx="821052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Блок-схема: извлечение 3"/>
          <p:cNvSpPr/>
          <p:nvPr/>
        </p:nvSpPr>
        <p:spPr>
          <a:xfrm>
            <a:off x="5214960" y="3071880"/>
            <a:ext cx="2928960" cy="2214360"/>
          </a:xfrm>
          <a:prstGeom prst="flowChartExtract">
            <a:avLst/>
          </a:prstGeom>
          <a:solidFill>
            <a:srgbClr val="00cc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ый треугольник 5"/>
          <p:cNvSpPr/>
          <p:nvPr/>
        </p:nvSpPr>
        <p:spPr>
          <a:xfrm>
            <a:off x="2928960" y="714240"/>
            <a:ext cx="3857760" cy="2000520"/>
          </a:xfrm>
          <a:prstGeom prst="rtTriangle">
            <a:avLst/>
          </a:prstGeom>
          <a:solidFill>
            <a:srgbClr val="fc0a0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Равнобедренный треугольник 6"/>
          <p:cNvSpPr/>
          <p:nvPr/>
        </p:nvSpPr>
        <p:spPr>
          <a:xfrm>
            <a:off x="785880" y="1643040"/>
            <a:ext cx="2143080" cy="3643200"/>
          </a:xfrm>
          <a:prstGeom prst="triangle">
            <a:avLst>
              <a:gd name="adj" fmla="val 48625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7"/>
          <p:cNvSpPr/>
          <p:nvPr/>
        </p:nvSpPr>
        <p:spPr>
          <a:xfrm>
            <a:off x="2799720" y="142920"/>
            <a:ext cx="533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рямоугольный тре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8"/>
          <p:cNvSpPr/>
          <p:nvPr/>
        </p:nvSpPr>
        <p:spPr>
          <a:xfrm>
            <a:off x="5228640" y="5500800"/>
            <a:ext cx="331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равносторонни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тре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9"/>
          <p:cNvSpPr/>
          <p:nvPr/>
        </p:nvSpPr>
        <p:spPr>
          <a:xfrm>
            <a:off x="441720" y="5572080"/>
            <a:ext cx="328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равнобедр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тре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E:\мама\Мои рисунки\Фон\Изображение 01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Блок-схема: процесс 7"/>
          <p:cNvSpPr/>
          <p:nvPr/>
        </p:nvSpPr>
        <p:spPr>
          <a:xfrm>
            <a:off x="4714920" y="2857680"/>
            <a:ext cx="1714320" cy="1714320"/>
          </a:xfrm>
          <a:prstGeom prst="flowChart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6"/>
          <p:cNvSpPr/>
          <p:nvPr/>
        </p:nvSpPr>
        <p:spPr>
          <a:xfrm>
            <a:off x="1799280" y="785880"/>
            <a:ext cx="538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Сколько всего прямоугольник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Блок-схема: процесс 29"/>
          <p:cNvSpPr/>
          <p:nvPr/>
        </p:nvSpPr>
        <p:spPr>
          <a:xfrm>
            <a:off x="857160" y="2000160"/>
            <a:ext cx="1571760" cy="928800"/>
          </a:xfrm>
          <a:prstGeom prst="flowChartProcess">
            <a:avLst/>
          </a:prstGeom>
          <a:solidFill>
            <a:srgbClr val="ff339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кар1"/>
          <p:cNvPicPr/>
          <p:nvPr/>
        </p:nvPicPr>
        <p:blipFill>
          <a:blip r:embed="rId2"/>
          <a:stretch/>
        </p:blipFill>
        <p:spPr>
          <a:xfrm>
            <a:off x="6715080" y="1285920"/>
            <a:ext cx="1571760" cy="1949400"/>
          </a:xfrm>
          <a:prstGeom prst="rect">
            <a:avLst/>
          </a:prstGeom>
          <a:ln w="0">
            <a:noFill/>
          </a:ln>
        </p:spPr>
      </p:pic>
      <p:sp>
        <p:nvSpPr>
          <p:cNvPr id="256" name="Блок-схема: процесс 40"/>
          <p:cNvSpPr/>
          <p:nvPr/>
        </p:nvSpPr>
        <p:spPr>
          <a:xfrm>
            <a:off x="4714920" y="4572000"/>
            <a:ext cx="1714320" cy="1714680"/>
          </a:xfrm>
          <a:prstGeom prst="flowChart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Блок-схема: процесс 41"/>
          <p:cNvSpPr/>
          <p:nvPr/>
        </p:nvSpPr>
        <p:spPr>
          <a:xfrm>
            <a:off x="3000240" y="4572000"/>
            <a:ext cx="1714680" cy="1714680"/>
          </a:xfrm>
          <a:prstGeom prst="flowChart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Блок-схема: процесс 42"/>
          <p:cNvSpPr/>
          <p:nvPr/>
        </p:nvSpPr>
        <p:spPr>
          <a:xfrm>
            <a:off x="3000240" y="2857680"/>
            <a:ext cx="1714680" cy="1714320"/>
          </a:xfrm>
          <a:prstGeom prst="flowChart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Блок-схема: процесс 43"/>
          <p:cNvSpPr/>
          <p:nvPr/>
        </p:nvSpPr>
        <p:spPr>
          <a:xfrm>
            <a:off x="3000240" y="2857680"/>
            <a:ext cx="1714680" cy="1714320"/>
          </a:xfrm>
          <a:prstGeom prst="flowChartProcess">
            <a:avLst/>
          </a:prstGeom>
          <a:solidFill>
            <a:srgbClr val="66ff6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Блок-схема: процесс 44"/>
          <p:cNvSpPr/>
          <p:nvPr/>
        </p:nvSpPr>
        <p:spPr>
          <a:xfrm>
            <a:off x="4714920" y="4572000"/>
            <a:ext cx="1714320" cy="1714680"/>
          </a:xfrm>
          <a:prstGeom prst="flowChartProcess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Блок-схема: процесс 45"/>
          <p:cNvSpPr/>
          <p:nvPr/>
        </p:nvSpPr>
        <p:spPr>
          <a:xfrm>
            <a:off x="4714920" y="2857680"/>
            <a:ext cx="1714320" cy="1714320"/>
          </a:xfrm>
          <a:prstGeom prst="flowChartProcess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Блок-схема: процесс 46"/>
          <p:cNvSpPr/>
          <p:nvPr/>
        </p:nvSpPr>
        <p:spPr>
          <a:xfrm>
            <a:off x="3000240" y="4572000"/>
            <a:ext cx="1714680" cy="1714680"/>
          </a:xfrm>
          <a:prstGeom prst="flowChartProcess">
            <a:avLst/>
          </a:prstGeom>
          <a:solidFill>
            <a:srgbClr val="0000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Блок-схема: процесс 47"/>
          <p:cNvSpPr/>
          <p:nvPr/>
        </p:nvSpPr>
        <p:spPr>
          <a:xfrm>
            <a:off x="3000240" y="2857680"/>
            <a:ext cx="3429000" cy="1714320"/>
          </a:xfrm>
          <a:prstGeom prst="flowChartProcess">
            <a:avLst/>
          </a:prstGeom>
          <a:solidFill>
            <a:srgbClr val="99009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Блок-схема: процесс 49"/>
          <p:cNvSpPr/>
          <p:nvPr/>
        </p:nvSpPr>
        <p:spPr>
          <a:xfrm>
            <a:off x="3000240" y="4572000"/>
            <a:ext cx="3429000" cy="1714680"/>
          </a:xfrm>
          <a:prstGeom prst="flowChartProcess">
            <a:avLst/>
          </a:prstGeom>
          <a:solidFill>
            <a:srgbClr val="00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Блок-схема: процесс 50"/>
          <p:cNvSpPr/>
          <p:nvPr/>
        </p:nvSpPr>
        <p:spPr>
          <a:xfrm rot="5400000">
            <a:off x="2142360" y="3714840"/>
            <a:ext cx="3429000" cy="1714680"/>
          </a:xfrm>
          <a:prstGeom prst="flowChartProcess">
            <a:avLst/>
          </a:prstGeom>
          <a:solidFill>
            <a:srgbClr val="00cc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Блок-схема: процесс 48"/>
          <p:cNvSpPr/>
          <p:nvPr/>
        </p:nvSpPr>
        <p:spPr>
          <a:xfrm rot="5400000">
            <a:off x="3857400" y="3714840"/>
            <a:ext cx="3429000" cy="1714320"/>
          </a:xfrm>
          <a:prstGeom prst="flowChartProcess">
            <a:avLst/>
          </a:prstGeom>
          <a:solidFill>
            <a:srgbClr val="ff66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17"/>
          <p:cNvSpPr/>
          <p:nvPr/>
        </p:nvSpPr>
        <p:spPr>
          <a:xfrm>
            <a:off x="3000240" y="2857680"/>
            <a:ext cx="3429000" cy="3429000"/>
          </a:xfrm>
          <a:prstGeom prst="rect">
            <a:avLst/>
          </a:prstGeom>
          <a:solidFill>
            <a:srgbClr val="9966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6" dur="2000" fill="hold"/>
                                        <p:tgtEl>
                                          <p:spTgt spid="2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9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E:\мама\Мои рисунки\Фон\Изображение 01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Прямоугольник 4"/>
          <p:cNvSpPr/>
          <p:nvPr/>
        </p:nvSpPr>
        <p:spPr>
          <a:xfrm>
            <a:off x="642960" y="1285920"/>
            <a:ext cx="621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Дорисуй    каждую  из этих фигур так, чтобы превратить её в тот или иной предм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Овал 9"/>
          <p:cNvSpPr/>
          <p:nvPr/>
        </p:nvSpPr>
        <p:spPr>
          <a:xfrm>
            <a:off x="4643280" y="3357720"/>
            <a:ext cx="1285920" cy="1285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Равнобедренный треугольник 10"/>
          <p:cNvSpPr/>
          <p:nvPr/>
        </p:nvSpPr>
        <p:spPr>
          <a:xfrm>
            <a:off x="6000840" y="4286160"/>
            <a:ext cx="1571400" cy="1857600"/>
          </a:xfrm>
          <a:prstGeom prst="triangle">
            <a:avLst>
              <a:gd name="adj" fmla="val 50000"/>
            </a:avLst>
          </a:prstGeom>
          <a:solidFill>
            <a:srgbClr val="0099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11"/>
          <p:cNvSpPr/>
          <p:nvPr/>
        </p:nvSpPr>
        <p:spPr>
          <a:xfrm>
            <a:off x="785880" y="3214800"/>
            <a:ext cx="2786040" cy="1071360"/>
          </a:xfrm>
          <a:prstGeom prst="rect">
            <a:avLst/>
          </a:prstGeom>
          <a:solidFill>
            <a:srgbClr val="fc0a0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Хорда 12"/>
          <p:cNvSpPr/>
          <p:nvPr/>
        </p:nvSpPr>
        <p:spPr>
          <a:xfrm rot="7555200">
            <a:off x="1544760" y="5021640"/>
            <a:ext cx="2313000" cy="2352600"/>
          </a:xfrm>
          <a:custGeom>
            <a:avLst/>
            <a:gdLst/>
            <a:ahLst/>
            <a:rect l="l" t="t" r="r" b="b"/>
            <a:pathLst>
              <a:path w="2312988" h="2352675">
                <a:moveTo>
                  <a:pt x="1802800" y="2151838"/>
                </a:moveTo>
                <a:cubicBezTo>
                  <a:pt x="1285282" y="2506581"/>
                  <a:pt x="584399" y="2379703"/>
                  <a:pt x="218986" y="1865126"/>
                </a:cubicBezTo>
                <a:cubicBezTo>
                  <a:pt x="-137945" y="1362493"/>
                  <a:pt x="-50034" y="664355"/>
                  <a:pt x="419917" y="269449"/>
                </a:cubicBezTo>
                <a:lnTo>
                  <a:pt x="1802800" y="2151838"/>
                </a:lnTo>
                <a:close/>
              </a:path>
            </a:pathLst>
          </a:custGeom>
          <a:solidFill>
            <a:srgbClr val="cc00ff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кар1"/>
          <p:cNvPicPr/>
          <p:nvPr/>
        </p:nvPicPr>
        <p:blipFill>
          <a:blip r:embed="rId2"/>
          <a:stretch/>
        </p:blipFill>
        <p:spPr>
          <a:xfrm>
            <a:off x="6572160" y="1428840"/>
            <a:ext cx="2244960" cy="2786040"/>
          </a:xfrm>
          <a:prstGeom prst="rect">
            <a:avLst/>
          </a:prstGeom>
          <a:ln w="0">
            <a:noFill/>
          </a:ln>
        </p:spPr>
      </p:pic>
      <p:pic>
        <p:nvPicPr>
          <p:cNvPr id="275" name="Прямоугольник 7" descr=""/>
          <p:cNvPicPr/>
          <p:nvPr/>
        </p:nvPicPr>
        <p:blipFill>
          <a:blip r:embed="rId3"/>
          <a:stretch/>
        </p:blipFill>
        <p:spPr>
          <a:xfrm>
            <a:off x="1566720" y="426960"/>
            <a:ext cx="6364440" cy="1000080"/>
          </a:xfrm>
          <a:prstGeom prst="rect">
            <a:avLst/>
          </a:prstGeom>
          <a:ln w="0">
            <a:noFill/>
          </a:ln>
        </p:spPr>
      </p:pic>
      <p:sp>
        <p:nvSpPr>
          <p:cNvPr id="276" name="Прямоугольник 13"/>
          <p:cNvSpPr/>
          <p:nvPr/>
        </p:nvSpPr>
        <p:spPr>
          <a:xfrm>
            <a:off x="785880" y="3214800"/>
            <a:ext cx="2786040" cy="1071360"/>
          </a:xfrm>
          <a:prstGeom prst="rect">
            <a:avLst/>
          </a:prstGeom>
          <a:solidFill>
            <a:srgbClr val="fc0a0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E:\мама\Мои рисунки\Фон\Изображение 02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1"/>
          <p:cNvSpPr/>
          <p:nvPr/>
        </p:nvSpPr>
        <p:spPr>
          <a:xfrm>
            <a:off x="571680" y="1500120"/>
            <a:ext cx="3214440" cy="1500120"/>
          </a:xfrm>
          <a:prstGeom prst="rect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Равнобедренный треугольник 3"/>
          <p:cNvSpPr/>
          <p:nvPr/>
        </p:nvSpPr>
        <p:spPr>
          <a:xfrm>
            <a:off x="5786280" y="1143000"/>
            <a:ext cx="2571840" cy="21430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Блок-схема: процесс 4"/>
          <p:cNvSpPr/>
          <p:nvPr/>
        </p:nvSpPr>
        <p:spPr>
          <a:xfrm>
            <a:off x="3429000" y="4357800"/>
            <a:ext cx="1928880" cy="1928880"/>
          </a:xfrm>
          <a:prstGeom prst="flowChartProcess">
            <a:avLst/>
          </a:prstGeom>
          <a:solidFill>
            <a:srgbClr val="00cc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1860840" y="0"/>
            <a:ext cx="513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«Страна Геометр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Равнобедренный треугольник 6"/>
          <p:cNvSpPr/>
          <p:nvPr/>
        </p:nvSpPr>
        <p:spPr>
          <a:xfrm>
            <a:off x="2286000" y="2286000"/>
            <a:ext cx="571680" cy="5716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6-конечная звезда 8"/>
          <p:cNvSpPr/>
          <p:nvPr/>
        </p:nvSpPr>
        <p:spPr>
          <a:xfrm>
            <a:off x="2357280" y="1857240"/>
            <a:ext cx="500400" cy="571680"/>
          </a:xfrm>
          <a:custGeom>
            <a:avLst/>
            <a:gdLst/>
            <a:ahLst/>
            <a:rect l="l" t="t" r="r" b="b"/>
            <a:pathLst>
              <a:path w="500062" h="571500">
                <a:moveTo>
                  <a:pt x="0" y="142875"/>
                </a:moveTo>
                <a:lnTo>
                  <a:pt x="166686" y="142873"/>
                </a:lnTo>
                <a:lnTo>
                  <a:pt x="250031" y="0"/>
                </a:lnTo>
                <a:lnTo>
                  <a:pt x="333376" y="142873"/>
                </a:lnTo>
                <a:lnTo>
                  <a:pt x="500062" y="142875"/>
                </a:lnTo>
                <a:lnTo>
                  <a:pt x="416721" y="285750"/>
                </a:lnTo>
                <a:lnTo>
                  <a:pt x="500062" y="428625"/>
                </a:lnTo>
                <a:lnTo>
                  <a:pt x="333376" y="428627"/>
                </a:lnTo>
                <a:lnTo>
                  <a:pt x="250031" y="571500"/>
                </a:lnTo>
                <a:lnTo>
                  <a:pt x="166686" y="428627"/>
                </a:lnTo>
                <a:lnTo>
                  <a:pt x="0" y="428625"/>
                </a:lnTo>
                <a:lnTo>
                  <a:pt x="83341" y="285750"/>
                </a:lnTo>
                <a:lnTo>
                  <a:pt x="0" y="142875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Равнобедренный треугольник 9"/>
          <p:cNvSpPr/>
          <p:nvPr/>
        </p:nvSpPr>
        <p:spPr>
          <a:xfrm>
            <a:off x="4143240" y="5143680"/>
            <a:ext cx="571680" cy="57132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Равнобедренный треугольник 10"/>
          <p:cNvSpPr/>
          <p:nvPr/>
        </p:nvSpPr>
        <p:spPr>
          <a:xfrm>
            <a:off x="6786720" y="2428920"/>
            <a:ext cx="571320" cy="57132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4-конечная звезда 15"/>
          <p:cNvSpPr/>
          <p:nvPr/>
        </p:nvSpPr>
        <p:spPr>
          <a:xfrm>
            <a:off x="6786720" y="1928880"/>
            <a:ext cx="571320" cy="642960"/>
          </a:xfrm>
          <a:custGeom>
            <a:avLst/>
            <a:gdLst>
              <a:gd name="textAreaLeft" fmla="*/ 174960 w 571320"/>
              <a:gd name="textAreaRight" fmla="*/ 396360 w 571320"/>
              <a:gd name="textAreaTop" fmla="*/ 196920 h 642960"/>
              <a:gd name="textAreaBottom" fmla="*/ 446040 h 642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616" y="6616"/>
                </a:lnTo>
                <a:lnTo>
                  <a:pt x="10800" y="0"/>
                </a:lnTo>
                <a:lnTo>
                  <a:pt x="14984" y="6616"/>
                </a:lnTo>
                <a:lnTo>
                  <a:pt x="21600" y="10800"/>
                </a:lnTo>
                <a:lnTo>
                  <a:pt x="14984" y="14984"/>
                </a:lnTo>
                <a:lnTo>
                  <a:pt x="10800" y="21600"/>
                </a:lnTo>
                <a:lnTo>
                  <a:pt x="6616" y="14984"/>
                </a:lnTo>
                <a:lnTo>
                  <a:pt x="0" y="108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7-конечная звезда 16"/>
          <p:cNvSpPr/>
          <p:nvPr/>
        </p:nvSpPr>
        <p:spPr>
          <a:xfrm>
            <a:off x="4143240" y="4643280"/>
            <a:ext cx="642960" cy="571680"/>
          </a:xfrm>
          <a:custGeom>
            <a:avLst/>
            <a:gdLst/>
            <a:ahLst/>
            <a:rect l="l" t="t" r="r" b="b"/>
            <a:pathLst>
              <a:path w="642938" h="571500">
                <a:moveTo>
                  <a:pt x="-2" y="367535"/>
                </a:moveTo>
                <a:lnTo>
                  <a:pt x="99005" y="254343"/>
                </a:lnTo>
                <a:lnTo>
                  <a:pt x="63671" y="113193"/>
                </a:lnTo>
                <a:lnTo>
                  <a:pt x="222464" y="113193"/>
                </a:lnTo>
                <a:lnTo>
                  <a:pt x="321469" y="0"/>
                </a:lnTo>
                <a:lnTo>
                  <a:pt x="420474" y="113193"/>
                </a:lnTo>
                <a:lnTo>
                  <a:pt x="579267" y="113193"/>
                </a:lnTo>
                <a:lnTo>
                  <a:pt x="543933" y="254343"/>
                </a:lnTo>
                <a:lnTo>
                  <a:pt x="642940" y="367535"/>
                </a:lnTo>
                <a:lnTo>
                  <a:pt x="499871" y="430353"/>
                </a:lnTo>
                <a:lnTo>
                  <a:pt x="464535" y="571503"/>
                </a:lnTo>
                <a:lnTo>
                  <a:pt x="321469" y="508685"/>
                </a:lnTo>
                <a:lnTo>
                  <a:pt x="178403" y="571503"/>
                </a:lnTo>
                <a:lnTo>
                  <a:pt x="143067" y="430353"/>
                </a:lnTo>
                <a:lnTo>
                  <a:pt x="-2" y="367535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ая соединительная линия 22"/>
          <p:cNvSpPr/>
          <p:nvPr/>
        </p:nvSpPr>
        <p:spPr>
          <a:xfrm>
            <a:off x="2143080" y="2571840"/>
            <a:ext cx="857160" cy="71280"/>
          </a:xfrm>
          <a:prstGeom prst="line">
            <a:avLst/>
          </a:prstGeom>
          <a:ln w="57240">
            <a:solidFill>
              <a:srgbClr val="0a6d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ая соединительная линия 23"/>
          <p:cNvSpPr/>
          <p:nvPr/>
        </p:nvSpPr>
        <p:spPr>
          <a:xfrm>
            <a:off x="4071960" y="5286240"/>
            <a:ext cx="857160" cy="71640"/>
          </a:xfrm>
          <a:prstGeom prst="line">
            <a:avLst/>
          </a:prstGeom>
          <a:ln w="57240">
            <a:solidFill>
              <a:srgbClr val="0a6d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ая соединительная линия 24"/>
          <p:cNvSpPr/>
          <p:nvPr/>
        </p:nvSpPr>
        <p:spPr>
          <a:xfrm>
            <a:off x="6643800" y="2714760"/>
            <a:ext cx="857160" cy="71280"/>
          </a:xfrm>
          <a:prstGeom prst="line">
            <a:avLst/>
          </a:prstGeom>
          <a:ln w="57240">
            <a:solidFill>
              <a:srgbClr val="0a6d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25"/>
          <p:cNvSpPr/>
          <p:nvPr/>
        </p:nvSpPr>
        <p:spPr>
          <a:xfrm>
            <a:off x="311760" y="571680"/>
            <a:ext cx="847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alibri"/>
              </a:rPr>
              <a:t>У какого королевства самая длинная грани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26"/>
          <p:cNvSpPr/>
          <p:nvPr/>
        </p:nvSpPr>
        <p:spPr>
          <a:xfrm rot="3044400">
            <a:off x="7858800" y="1643040"/>
            <a:ext cx="4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27"/>
          <p:cNvSpPr/>
          <p:nvPr/>
        </p:nvSpPr>
        <p:spPr>
          <a:xfrm rot="18170400">
            <a:off x="5501160" y="182412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28"/>
          <p:cNvSpPr/>
          <p:nvPr/>
        </p:nvSpPr>
        <p:spPr>
          <a:xfrm>
            <a:off x="6798960" y="3510000"/>
            <a:ext cx="4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29"/>
          <p:cNvSpPr/>
          <p:nvPr/>
        </p:nvSpPr>
        <p:spPr>
          <a:xfrm>
            <a:off x="4146120" y="3714840"/>
            <a:ext cx="4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30"/>
          <p:cNvSpPr/>
          <p:nvPr/>
        </p:nvSpPr>
        <p:spPr>
          <a:xfrm>
            <a:off x="5432040" y="4929120"/>
            <a:ext cx="4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31"/>
          <p:cNvSpPr/>
          <p:nvPr/>
        </p:nvSpPr>
        <p:spPr>
          <a:xfrm>
            <a:off x="2788920" y="5000760"/>
            <a:ext cx="4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32"/>
          <p:cNvSpPr/>
          <p:nvPr/>
        </p:nvSpPr>
        <p:spPr>
          <a:xfrm>
            <a:off x="4071960" y="6215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33"/>
          <p:cNvSpPr/>
          <p:nvPr/>
        </p:nvSpPr>
        <p:spPr>
          <a:xfrm>
            <a:off x="1859760" y="307188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34"/>
          <p:cNvSpPr/>
          <p:nvPr/>
        </p:nvSpPr>
        <p:spPr>
          <a:xfrm>
            <a:off x="1716840" y="100008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35"/>
          <p:cNvSpPr/>
          <p:nvPr/>
        </p:nvSpPr>
        <p:spPr>
          <a:xfrm>
            <a:off x="3931560" y="200016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36"/>
          <p:cNvSpPr/>
          <p:nvPr/>
        </p:nvSpPr>
        <p:spPr>
          <a:xfrm>
            <a:off x="216720" y="200016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0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5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429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Найдите площадь закрашенной фигу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28760" y="1428480"/>
            <a:ext cx="82152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7см                                                      3см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                                                                                            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7                     4см      4см              6см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6с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Прямоугольник 3"/>
          <p:cNvSpPr/>
          <p:nvPr/>
        </p:nvSpPr>
        <p:spPr>
          <a:xfrm>
            <a:off x="500040" y="2357280"/>
            <a:ext cx="3143160" cy="1643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4"/>
          <p:cNvSpPr/>
          <p:nvPr/>
        </p:nvSpPr>
        <p:spPr>
          <a:xfrm>
            <a:off x="2571840" y="2928960"/>
            <a:ext cx="107136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3см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5"/>
          <p:cNvSpPr/>
          <p:nvPr/>
        </p:nvSpPr>
        <p:spPr>
          <a:xfrm>
            <a:off x="6429240" y="2071800"/>
            <a:ext cx="1643040" cy="3429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6"/>
          <p:cNvSpPr/>
          <p:nvPr/>
        </p:nvSpPr>
        <p:spPr>
          <a:xfrm>
            <a:off x="6786720" y="3214800"/>
            <a:ext cx="928440" cy="1428480"/>
          </a:xfrm>
          <a:prstGeom prst="rect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7"/>
          <p:cNvSpPr/>
          <p:nvPr/>
        </p:nvSpPr>
        <p:spPr>
          <a:xfrm>
            <a:off x="1143000" y="4357800"/>
            <a:ext cx="2286000" cy="2143080"/>
          </a:xfrm>
          <a:prstGeom prst="rect">
            <a:avLst/>
          </a:prstGeom>
          <a:solidFill>
            <a:srgbClr val="7cca6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Прямоугольник 8" descr=""/>
          <p:cNvPicPr/>
          <p:nvPr/>
        </p:nvPicPr>
        <p:blipFill>
          <a:blip r:embed="rId1"/>
          <a:stretch/>
        </p:blipFill>
        <p:spPr>
          <a:xfrm>
            <a:off x="1090440" y="5419800"/>
            <a:ext cx="119556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" descr="C:\Users\Svetlana\Pictures\master11_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5000760"/>
            <a:ext cx="7115040" cy="142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Цилиндр, шестиугольник, шар, конус, квадрат, пирамида, прямоугольник,  круг, четырехугольник, ку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6840" y="1714680"/>
            <a:ext cx="404028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ГЕОМЕТРИЧЕСКИЕ  ФИГУ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РОСТРАНСТВЕН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4720" y="1714680"/>
            <a:ext cx="40417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ГЕОМЕТРИЧЕСКИЕ  ФИГУРЫ  ПЛОС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Прямоугольник 7" descr=""/>
          <p:cNvPicPr/>
          <p:nvPr/>
        </p:nvPicPr>
        <p:blipFill>
          <a:blip r:embed="rId2"/>
          <a:stretch/>
        </p:blipFill>
        <p:spPr>
          <a:xfrm>
            <a:off x="-237960" y="-171360"/>
            <a:ext cx="9820080" cy="228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C:\Users\Svetlana\Pictures\master11_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ГЕОМЕТРИЧЕСКИЕ  ФИГУ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РОСТРАНСТВЕН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Цилинд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ша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Кону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Пирами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ку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ЕОМЕТРИЧЕСКИЕ  ФИГУРЫ  ПЛОСК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Восьмиуголь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Квадра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Прямоуголь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Кру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четырехуголь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Прямоугольник 5" descr=""/>
          <p:cNvPicPr/>
          <p:nvPr/>
        </p:nvPicPr>
        <p:blipFill>
          <a:blip r:embed="rId2"/>
          <a:stretch/>
        </p:blipFill>
        <p:spPr>
          <a:xfrm>
            <a:off x="712800" y="133200"/>
            <a:ext cx="7613640" cy="10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7" descr="C:\Users\Svetlana\Pictures\master11_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6868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5" name="Line 4"/>
          <p:cNvSpPr/>
          <p:nvPr/>
        </p:nvSpPr>
        <p:spPr>
          <a:xfrm flipV="1">
            <a:off x="539640" y="2276640"/>
            <a:ext cx="1368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928880" y="2286000"/>
            <a:ext cx="9288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 flipH="1">
            <a:off x="2556000" y="2349360"/>
            <a:ext cx="287280" cy="324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 flipH="1">
            <a:off x="1187280" y="558972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 flipV="1">
            <a:off x="118728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1187280" y="4869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1"/>
          <p:cNvSpPr/>
          <p:nvPr/>
        </p:nvSpPr>
        <p:spPr>
          <a:xfrm flipH="1">
            <a:off x="3059280" y="4869000"/>
            <a:ext cx="504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2"/>
          <p:cNvSpPr/>
          <p:nvPr/>
        </p:nvSpPr>
        <p:spPr>
          <a:xfrm flipV="1">
            <a:off x="3059280" y="4581000"/>
            <a:ext cx="136836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3"/>
          <p:cNvSpPr/>
          <p:nvPr/>
        </p:nvSpPr>
        <p:spPr>
          <a:xfrm flipH="1" flipV="1">
            <a:off x="3708360" y="2636640"/>
            <a:ext cx="719280" cy="19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3708360" y="2637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5219640" y="2637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6"/>
          <p:cNvSpPr/>
          <p:nvPr/>
        </p:nvSpPr>
        <p:spPr>
          <a:xfrm flipH="1">
            <a:off x="3563640" y="4005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7"/>
          <p:cNvSpPr/>
          <p:nvPr/>
        </p:nvSpPr>
        <p:spPr>
          <a:xfrm>
            <a:off x="3564000" y="4005360"/>
            <a:ext cx="2448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8"/>
          <p:cNvSpPr/>
          <p:nvPr/>
        </p:nvSpPr>
        <p:spPr>
          <a:xfrm flipV="1">
            <a:off x="6012000" y="357300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9"/>
          <p:cNvSpPr/>
          <p:nvPr/>
        </p:nvSpPr>
        <p:spPr>
          <a:xfrm>
            <a:off x="6012000" y="35733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0"/>
          <p:cNvSpPr/>
          <p:nvPr/>
        </p:nvSpPr>
        <p:spPr>
          <a:xfrm flipV="1">
            <a:off x="6877080" y="2000160"/>
            <a:ext cx="480960" cy="157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1"/>
          <p:cNvSpPr/>
          <p:nvPr/>
        </p:nvSpPr>
        <p:spPr>
          <a:xfrm>
            <a:off x="7358040" y="20001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2"/>
          <p:cNvSpPr/>
          <p:nvPr/>
        </p:nvSpPr>
        <p:spPr>
          <a:xfrm>
            <a:off x="8215200" y="2000160"/>
            <a:ext cx="71640" cy="13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3"/>
          <p:cNvSpPr/>
          <p:nvPr/>
        </p:nvSpPr>
        <p:spPr>
          <a:xfrm flipH="1" flipV="1">
            <a:off x="6357960" y="2571480"/>
            <a:ext cx="2214720" cy="18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4"/>
          <p:cNvSpPr/>
          <p:nvPr/>
        </p:nvSpPr>
        <p:spPr>
          <a:xfrm>
            <a:off x="6429240" y="2643120"/>
            <a:ext cx="1857600" cy="78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5"/>
          <p:cNvSpPr/>
          <p:nvPr/>
        </p:nvSpPr>
        <p:spPr>
          <a:xfrm flipH="1" flipV="1">
            <a:off x="7019640" y="4365720"/>
            <a:ext cx="162396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6"/>
          <p:cNvSpPr/>
          <p:nvPr/>
        </p:nvSpPr>
        <p:spPr>
          <a:xfrm flipH="1">
            <a:off x="6786720" y="4365720"/>
            <a:ext cx="233280" cy="9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357120" y="2714760"/>
            <a:ext cx="72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8"/>
          <p:cNvSpPr/>
          <p:nvPr/>
        </p:nvSpPr>
        <p:spPr>
          <a:xfrm>
            <a:off x="1865160" y="2116080"/>
            <a:ext cx="54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0"/>
          <p:cNvSpPr/>
          <p:nvPr/>
        </p:nvSpPr>
        <p:spPr>
          <a:xfrm>
            <a:off x="2705040" y="206064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3"/>
          <p:cNvSpPr/>
          <p:nvPr/>
        </p:nvSpPr>
        <p:spPr>
          <a:xfrm>
            <a:off x="2411280" y="52149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4"/>
          <p:cNvSpPr/>
          <p:nvPr/>
        </p:nvSpPr>
        <p:spPr>
          <a:xfrm>
            <a:off x="1000080" y="52862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5"/>
          <p:cNvSpPr/>
          <p:nvPr/>
        </p:nvSpPr>
        <p:spPr>
          <a:xfrm>
            <a:off x="1076400" y="4653000"/>
            <a:ext cx="44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6"/>
          <p:cNvSpPr/>
          <p:nvPr/>
        </p:nvSpPr>
        <p:spPr>
          <a:xfrm>
            <a:off x="3357720" y="4572000"/>
            <a:ext cx="56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7"/>
          <p:cNvSpPr/>
          <p:nvPr/>
        </p:nvSpPr>
        <p:spPr>
          <a:xfrm>
            <a:off x="2916360" y="53737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8"/>
          <p:cNvSpPr/>
          <p:nvPr/>
        </p:nvSpPr>
        <p:spPr>
          <a:xfrm>
            <a:off x="4284720" y="4365720"/>
            <a:ext cx="5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9"/>
          <p:cNvSpPr/>
          <p:nvPr/>
        </p:nvSpPr>
        <p:spPr>
          <a:xfrm>
            <a:off x="3564000" y="2492280"/>
            <a:ext cx="51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0"/>
          <p:cNvSpPr/>
          <p:nvPr/>
        </p:nvSpPr>
        <p:spPr>
          <a:xfrm>
            <a:off x="5076720" y="2349360"/>
            <a:ext cx="4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1"/>
          <p:cNvSpPr/>
          <p:nvPr/>
        </p:nvSpPr>
        <p:spPr>
          <a:xfrm>
            <a:off x="5076720" y="3716280"/>
            <a:ext cx="44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2"/>
          <p:cNvSpPr/>
          <p:nvPr/>
        </p:nvSpPr>
        <p:spPr>
          <a:xfrm>
            <a:off x="3348000" y="3789360"/>
            <a:ext cx="5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3"/>
          <p:cNvSpPr/>
          <p:nvPr/>
        </p:nvSpPr>
        <p:spPr>
          <a:xfrm>
            <a:off x="5940360" y="4581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4"/>
          <p:cNvSpPr/>
          <p:nvPr/>
        </p:nvSpPr>
        <p:spPr>
          <a:xfrm>
            <a:off x="5796000" y="33577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5"/>
          <p:cNvSpPr/>
          <p:nvPr/>
        </p:nvSpPr>
        <p:spPr>
          <a:xfrm>
            <a:off x="6732720" y="32148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6"/>
          <p:cNvSpPr/>
          <p:nvPr/>
        </p:nvSpPr>
        <p:spPr>
          <a:xfrm>
            <a:off x="7164360" y="16430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7"/>
          <p:cNvSpPr/>
          <p:nvPr/>
        </p:nvSpPr>
        <p:spPr>
          <a:xfrm>
            <a:off x="8101080" y="1643040"/>
            <a:ext cx="49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8"/>
          <p:cNvSpPr/>
          <p:nvPr/>
        </p:nvSpPr>
        <p:spPr>
          <a:xfrm>
            <a:off x="8172360" y="3213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9"/>
          <p:cNvSpPr/>
          <p:nvPr/>
        </p:nvSpPr>
        <p:spPr>
          <a:xfrm>
            <a:off x="8501040" y="414972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0"/>
          <p:cNvSpPr/>
          <p:nvPr/>
        </p:nvSpPr>
        <p:spPr>
          <a:xfrm>
            <a:off x="6877080" y="414972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1"/>
          <p:cNvSpPr/>
          <p:nvPr/>
        </p:nvSpPr>
        <p:spPr>
          <a:xfrm>
            <a:off x="6072120" y="514368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52"/>
          <p:cNvSpPr txBox="1"/>
          <p:nvPr/>
        </p:nvSpPr>
        <p:spPr>
          <a:xfrm>
            <a:off x="785880" y="285840"/>
            <a:ext cx="781668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2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4480">
                  <a:solidFill>
                    <a:srgbClr val="00aaff"/>
                  </a:solidFill>
                  <a:miter/>
                </a:ln>
                <a:gradFill rotWithShape="0">
                  <a:gsLst>
                    <a:gs pos="0">
                      <a:srgbClr val="f1f7fe"/>
                    </a:gs>
                    <a:gs pos="100000">
                      <a:srgbClr val="76c1fc"/>
                    </a:gs>
                  </a:gsLst>
                  <a:lin ang="5400000"/>
                </a:gradFill>
                <a:effectLst>
                  <a:outerShdw dist="37996" dir="7023035" blurRad="0" rotWithShape="0">
                    <a:srgbClr val="000000">
                      <a:alpha val="35000"/>
                    </a:srgbClr>
                  </a:outerShdw>
                </a:effectLst>
                <a:latin typeface="Impact"/>
              </a:rPr>
              <a:t>                     </a:t>
            </a:r>
            <a:endParaRPr b="1" lang="en-US" sz="1800" spc="1" strike="noStrike">
              <a:ln w="24480">
                <a:solidFill>
                  <a:srgbClr val="00aaff"/>
                </a:solidFill>
                <a:miter/>
              </a:ln>
              <a:gradFill rotWithShape="0">
                <a:gsLst>
                  <a:gs pos="0">
                    <a:srgbClr val="f1f7fe"/>
                  </a:gs>
                  <a:gs pos="100000">
                    <a:srgbClr val="76c1fc"/>
                  </a:gs>
                </a:gsLst>
                <a:lin ang="5400000"/>
              </a:gradFill>
              <a:effectLst>
                <a:outerShdw dist="37996" dir="7023035" blurRad="0" rotWithShape="0">
                  <a:srgbClr val="000000">
                    <a:alpha val="3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Rectangle 53"/>
          <p:cNvSpPr/>
          <p:nvPr/>
        </p:nvSpPr>
        <p:spPr>
          <a:xfrm>
            <a:off x="6227640" y="2349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4"/>
          <p:cNvSpPr/>
          <p:nvPr/>
        </p:nvSpPr>
        <p:spPr>
          <a:xfrm>
            <a:off x="6786720" y="53578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5"/>
          <p:cNvSpPr/>
          <p:nvPr/>
        </p:nvSpPr>
        <p:spPr>
          <a:xfrm>
            <a:off x="7786800" y="5000760"/>
            <a:ext cx="73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E:\мама\Мои рисунки\Фон\Изображение 02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2" name="Равнобедренный треугольник 3"/>
          <p:cNvSpPr/>
          <p:nvPr/>
        </p:nvSpPr>
        <p:spPr>
          <a:xfrm>
            <a:off x="5286240" y="2286000"/>
            <a:ext cx="2071800" cy="1571760"/>
          </a:xfrm>
          <a:prstGeom prst="triangle">
            <a:avLst>
              <a:gd name="adj" fmla="val 50000"/>
            </a:avLst>
          </a:prstGeom>
          <a:solidFill>
            <a:srgbClr val="fc0a0a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"/>
          <p:cNvSpPr/>
          <p:nvPr/>
        </p:nvSpPr>
        <p:spPr>
          <a:xfrm>
            <a:off x="1071720" y="-138240"/>
            <a:ext cx="60721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Arial"/>
                <a:ea typeface="Times New Roman"/>
              </a:rPr>
              <a:t>Треугольник и Квадра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Блок-схема: процесс 12"/>
          <p:cNvSpPr/>
          <p:nvPr/>
        </p:nvSpPr>
        <p:spPr>
          <a:xfrm>
            <a:off x="1428840" y="1928880"/>
            <a:ext cx="2357280" cy="2214360"/>
          </a:xfrm>
          <a:prstGeom prst="flowChartProcess">
            <a:avLst/>
          </a:prstGeom>
          <a:solidFill>
            <a:srgbClr val="cc00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E:\мама\Мои рисунки\Фон\Изображение 02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6" name="Равнобедренный треугольник 3"/>
          <p:cNvSpPr/>
          <p:nvPr/>
        </p:nvSpPr>
        <p:spPr>
          <a:xfrm>
            <a:off x="500040" y="2286000"/>
            <a:ext cx="3000240" cy="2286000"/>
          </a:xfrm>
          <a:prstGeom prst="triangle">
            <a:avLst>
              <a:gd name="adj" fmla="val 50000"/>
            </a:avLst>
          </a:prstGeom>
          <a:solidFill>
            <a:srgbClr val="fc0a0a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Шестиугольник 7"/>
          <p:cNvSpPr/>
          <p:nvPr/>
        </p:nvSpPr>
        <p:spPr>
          <a:xfrm>
            <a:off x="4929120" y="714240"/>
            <a:ext cx="3286080" cy="2928960"/>
          </a:xfrm>
          <a:prstGeom prst="hexagon">
            <a:avLst>
              <a:gd name="adj" fmla="val 24999"/>
              <a:gd name="vf" fmla="val 115470"/>
            </a:avLst>
          </a:prstGeom>
          <a:solidFill>
            <a:srgbClr val="cc00ff"/>
          </a:solidFill>
          <a:ln w="255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ый треугольник 8"/>
          <p:cNvSpPr/>
          <p:nvPr/>
        </p:nvSpPr>
        <p:spPr>
          <a:xfrm>
            <a:off x="4929120" y="2214720"/>
            <a:ext cx="914400" cy="1428480"/>
          </a:xfrm>
          <a:prstGeom prst="rtTriangle">
            <a:avLst/>
          </a:prstGeom>
          <a:solidFill>
            <a:srgbClr val="cc00ff"/>
          </a:solidFill>
          <a:ln w="255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ый треугольник 9"/>
          <p:cNvSpPr/>
          <p:nvPr/>
        </p:nvSpPr>
        <p:spPr>
          <a:xfrm rot="10800000">
            <a:off x="7286400" y="713880"/>
            <a:ext cx="928440" cy="1428840"/>
          </a:xfrm>
          <a:prstGeom prst="rtTriangle">
            <a:avLst/>
          </a:prstGeom>
          <a:solidFill>
            <a:srgbClr val="cc00ff"/>
          </a:solidFill>
          <a:ln w="255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ый треугольник 10"/>
          <p:cNvSpPr/>
          <p:nvPr/>
        </p:nvSpPr>
        <p:spPr>
          <a:xfrm flipH="1">
            <a:off x="7286040" y="2214720"/>
            <a:ext cx="933480" cy="1428480"/>
          </a:xfrm>
          <a:prstGeom prst="rtTriangle">
            <a:avLst/>
          </a:prstGeom>
          <a:solidFill>
            <a:srgbClr val="cc00ff"/>
          </a:solidFill>
          <a:ln w="255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ый треугольник 11"/>
          <p:cNvSpPr/>
          <p:nvPr/>
        </p:nvSpPr>
        <p:spPr>
          <a:xfrm flipH="1" rot="10800000">
            <a:off x="4928040" y="713880"/>
            <a:ext cx="862200" cy="1428840"/>
          </a:xfrm>
          <a:prstGeom prst="rtTriangle">
            <a:avLst/>
          </a:prstGeom>
          <a:solidFill>
            <a:srgbClr val="cc00ff"/>
          </a:solidFill>
          <a:ln w="255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2" descr="C:\Documents and Settings\a\Мои документы\карточки\картинки разные\картинки- анимации\office38.gif"/>
          <p:cNvPicPr/>
          <p:nvPr/>
        </p:nvPicPr>
        <p:blipFill>
          <a:blip r:embed="rId2"/>
          <a:stretch/>
        </p:blipFill>
        <p:spPr>
          <a:xfrm>
            <a:off x="3714840" y="1500120"/>
            <a:ext cx="8031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7.40741E-007 L 0.22309 -0.22755 E">
                                      <p:cBhvr>
                                        <p:cTn id="576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8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9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3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715 -0.17037 L 0.33125 0.09213 E">
                                      <p:cBhvr>
                                        <p:cTn id="584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6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7" dur="1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1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1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268 0.32292 L 0.45938 0.02454 E">
                                      <p:cBhvr>
                                        <p:cTn id="592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94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5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99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85185E-006 L 0.21268 0.32291 E">
                                      <p:cBhvr>
                                        <p:cTn id="600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2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E:\мама\Мои рисунки\Фон\Изображение 02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sp>
        <p:nvSpPr>
          <p:cNvPr id="334" name="Равнобедренный треугольник 3"/>
          <p:cNvSpPr/>
          <p:nvPr/>
        </p:nvSpPr>
        <p:spPr>
          <a:xfrm>
            <a:off x="1214280" y="1714680"/>
            <a:ext cx="2786400" cy="2000160"/>
          </a:xfrm>
          <a:prstGeom prst="triangle">
            <a:avLst>
              <a:gd name="adj" fmla="val 50000"/>
            </a:avLst>
          </a:prstGeom>
          <a:solidFill>
            <a:srgbClr val="fc0a0a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Шестиугольник 16"/>
          <p:cNvSpPr/>
          <p:nvPr/>
        </p:nvSpPr>
        <p:spPr>
          <a:xfrm>
            <a:off x="5143680" y="3071880"/>
            <a:ext cx="3286080" cy="2928960"/>
          </a:xfrm>
          <a:prstGeom prst="hexagon">
            <a:avLst>
              <a:gd name="adj" fmla="val 24999"/>
              <a:gd name="vf" fmla="val 115470"/>
            </a:avLst>
          </a:prstGeom>
          <a:solidFill>
            <a:srgbClr val="cc00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6" descr="ric5"/>
          <p:cNvPicPr/>
          <p:nvPr/>
        </p:nvPicPr>
        <p:blipFill>
          <a:blip r:embed="rId1"/>
          <a:stretch/>
        </p:blipFill>
        <p:spPr>
          <a:xfrm>
            <a:off x="2050920" y="2617920"/>
            <a:ext cx="5113440" cy="34430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9" descr="cpacibo"/>
          <p:cNvPicPr/>
          <p:nvPr/>
        </p:nvPicPr>
        <p:blipFill>
          <a:blip r:embed="rId2"/>
          <a:stretch/>
        </p:blipFill>
        <p:spPr>
          <a:xfrm>
            <a:off x="428760" y="428760"/>
            <a:ext cx="53989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C:\Users\Svetlana\Pictures\master11_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WordArt 4" descr=""/>
          <p:cNvPicPr/>
          <p:nvPr/>
        </p:nvPicPr>
        <p:blipFill>
          <a:blip r:embed="rId2"/>
          <a:stretch/>
        </p:blipFill>
        <p:spPr>
          <a:xfrm>
            <a:off x="785880" y="554040"/>
            <a:ext cx="7035840" cy="919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aa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38"/>
          <p:cNvGrpSpPr/>
          <p:nvPr/>
        </p:nvGrpSpPr>
        <p:grpSpPr>
          <a:xfrm>
            <a:off x="645840" y="50400"/>
            <a:ext cx="1369800" cy="1356120"/>
            <a:chOff x="645840" y="50400"/>
            <a:chExt cx="1369800" cy="1356120"/>
          </a:xfrm>
        </p:grpSpPr>
        <p:sp>
          <p:nvSpPr>
            <p:cNvPr id="106" name="AutoShape 28"/>
            <p:cNvSpPr/>
            <p:nvPr/>
          </p:nvSpPr>
          <p:spPr>
            <a:xfrm>
              <a:off x="82692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32"/>
            <p:cNvSpPr/>
            <p:nvPr/>
          </p:nvSpPr>
          <p:spPr>
            <a:xfrm rot="2241600">
              <a:off x="82656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42"/>
          <p:cNvGrpSpPr/>
          <p:nvPr/>
        </p:nvGrpSpPr>
        <p:grpSpPr>
          <a:xfrm>
            <a:off x="6983280" y="3363480"/>
            <a:ext cx="1369800" cy="1356120"/>
            <a:chOff x="6983280" y="3363480"/>
            <a:chExt cx="1369800" cy="1356120"/>
          </a:xfrm>
        </p:grpSpPr>
        <p:sp>
          <p:nvSpPr>
            <p:cNvPr id="109" name="AutoShape 43"/>
            <p:cNvSpPr/>
            <p:nvPr/>
          </p:nvSpPr>
          <p:spPr>
            <a:xfrm>
              <a:off x="7164360" y="3573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44"/>
            <p:cNvSpPr/>
            <p:nvPr/>
          </p:nvSpPr>
          <p:spPr>
            <a:xfrm rot="2241600">
              <a:off x="7164000" y="3573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8"/>
          <p:cNvGrpSpPr/>
          <p:nvPr/>
        </p:nvGrpSpPr>
        <p:grpSpPr>
          <a:xfrm>
            <a:off x="4678200" y="2858760"/>
            <a:ext cx="1369800" cy="1356120"/>
            <a:chOff x="4678200" y="2858760"/>
            <a:chExt cx="1369800" cy="1356120"/>
          </a:xfrm>
        </p:grpSpPr>
        <p:sp>
          <p:nvSpPr>
            <p:cNvPr id="112" name="AutoShape 49"/>
            <p:cNvSpPr/>
            <p:nvPr/>
          </p:nvSpPr>
          <p:spPr>
            <a:xfrm>
              <a:off x="4859280" y="3068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50"/>
            <p:cNvSpPr/>
            <p:nvPr/>
          </p:nvSpPr>
          <p:spPr>
            <a:xfrm rot="2241600">
              <a:off x="4858920" y="3068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51"/>
          <p:cNvGrpSpPr/>
          <p:nvPr/>
        </p:nvGrpSpPr>
        <p:grpSpPr>
          <a:xfrm>
            <a:off x="1869840" y="2282400"/>
            <a:ext cx="1369800" cy="1356120"/>
            <a:chOff x="1869840" y="2282400"/>
            <a:chExt cx="1369800" cy="1356120"/>
          </a:xfrm>
        </p:grpSpPr>
        <p:sp>
          <p:nvSpPr>
            <p:cNvPr id="115" name="AutoShape 52"/>
            <p:cNvSpPr/>
            <p:nvPr/>
          </p:nvSpPr>
          <p:spPr>
            <a:xfrm>
              <a:off x="2050920" y="2492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53"/>
            <p:cNvSpPr/>
            <p:nvPr/>
          </p:nvSpPr>
          <p:spPr>
            <a:xfrm rot="2241600">
              <a:off x="2050560" y="2491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57"/>
          <p:cNvGrpSpPr/>
          <p:nvPr/>
        </p:nvGrpSpPr>
        <p:grpSpPr>
          <a:xfrm>
            <a:off x="718920" y="5235120"/>
            <a:ext cx="1369800" cy="1356120"/>
            <a:chOff x="718920" y="5235120"/>
            <a:chExt cx="1369800" cy="1356120"/>
          </a:xfrm>
        </p:grpSpPr>
        <p:sp>
          <p:nvSpPr>
            <p:cNvPr id="118" name="AutoShape 58"/>
            <p:cNvSpPr/>
            <p:nvPr/>
          </p:nvSpPr>
          <p:spPr>
            <a:xfrm>
              <a:off x="857160" y="54291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59"/>
            <p:cNvSpPr/>
            <p:nvPr/>
          </p:nvSpPr>
          <p:spPr>
            <a:xfrm rot="2241600">
              <a:off x="899640" y="5444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60"/>
          <p:cNvGrpSpPr/>
          <p:nvPr/>
        </p:nvGrpSpPr>
        <p:grpSpPr>
          <a:xfrm>
            <a:off x="4174920" y="4731840"/>
            <a:ext cx="1369800" cy="1356120"/>
            <a:chOff x="4174920" y="4731840"/>
            <a:chExt cx="1369800" cy="1356120"/>
          </a:xfrm>
        </p:grpSpPr>
        <p:sp>
          <p:nvSpPr>
            <p:cNvPr id="121" name="AutoShape 61"/>
            <p:cNvSpPr/>
            <p:nvPr/>
          </p:nvSpPr>
          <p:spPr>
            <a:xfrm>
              <a:off x="4356000" y="49417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62"/>
            <p:cNvSpPr/>
            <p:nvPr/>
          </p:nvSpPr>
          <p:spPr>
            <a:xfrm rot="2241600">
              <a:off x="4355640" y="494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63"/>
          <p:cNvGrpSpPr/>
          <p:nvPr/>
        </p:nvGrpSpPr>
        <p:grpSpPr>
          <a:xfrm>
            <a:off x="5111640" y="1131480"/>
            <a:ext cx="1369800" cy="1356120"/>
            <a:chOff x="5111640" y="1131480"/>
            <a:chExt cx="1369800" cy="1356120"/>
          </a:xfrm>
        </p:grpSpPr>
        <p:sp>
          <p:nvSpPr>
            <p:cNvPr id="124" name="AutoShape 64"/>
            <p:cNvSpPr/>
            <p:nvPr/>
          </p:nvSpPr>
          <p:spPr>
            <a:xfrm>
              <a:off x="5292720" y="134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65"/>
            <p:cNvSpPr/>
            <p:nvPr/>
          </p:nvSpPr>
          <p:spPr>
            <a:xfrm rot="2241600">
              <a:off x="5292360" y="134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66"/>
          <p:cNvGrpSpPr/>
          <p:nvPr/>
        </p:nvGrpSpPr>
        <p:grpSpPr>
          <a:xfrm>
            <a:off x="3743280" y="50400"/>
            <a:ext cx="1369800" cy="1356120"/>
            <a:chOff x="3743280" y="50400"/>
            <a:chExt cx="1369800" cy="1356120"/>
          </a:xfrm>
        </p:grpSpPr>
        <p:sp>
          <p:nvSpPr>
            <p:cNvPr id="127" name="AutoShape 67"/>
            <p:cNvSpPr/>
            <p:nvPr/>
          </p:nvSpPr>
          <p:spPr>
            <a:xfrm>
              <a:off x="392436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68"/>
            <p:cNvSpPr/>
            <p:nvPr/>
          </p:nvSpPr>
          <p:spPr>
            <a:xfrm rot="2241600">
              <a:off x="392400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72"/>
          <p:cNvGrpSpPr/>
          <p:nvPr/>
        </p:nvGrpSpPr>
        <p:grpSpPr>
          <a:xfrm>
            <a:off x="7270560" y="50400"/>
            <a:ext cx="1369800" cy="1356120"/>
            <a:chOff x="7270560" y="50400"/>
            <a:chExt cx="1369800" cy="1356120"/>
          </a:xfrm>
        </p:grpSpPr>
        <p:sp>
          <p:nvSpPr>
            <p:cNvPr id="130" name="AutoShape 73"/>
            <p:cNvSpPr/>
            <p:nvPr/>
          </p:nvSpPr>
          <p:spPr>
            <a:xfrm>
              <a:off x="745164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74"/>
            <p:cNvSpPr/>
            <p:nvPr/>
          </p:nvSpPr>
          <p:spPr>
            <a:xfrm rot="2241600">
              <a:off x="745128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75"/>
          <p:cNvGrpSpPr/>
          <p:nvPr/>
        </p:nvGrpSpPr>
        <p:grpSpPr>
          <a:xfrm>
            <a:off x="3743280" y="2211120"/>
            <a:ext cx="1369800" cy="1356120"/>
            <a:chOff x="3743280" y="2211120"/>
            <a:chExt cx="1369800" cy="1356120"/>
          </a:xfrm>
        </p:grpSpPr>
        <p:sp>
          <p:nvSpPr>
            <p:cNvPr id="133" name="AutoShape 76"/>
            <p:cNvSpPr/>
            <p:nvPr/>
          </p:nvSpPr>
          <p:spPr>
            <a:xfrm>
              <a:off x="3924360" y="242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77"/>
            <p:cNvSpPr/>
            <p:nvPr/>
          </p:nvSpPr>
          <p:spPr>
            <a:xfrm rot="2241600">
              <a:off x="3924000" y="2420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88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28856 C 0.15521 -0.28856 0.2757 -0.14936 0.2757 0.02196 C 0.2757 0.19306 0.15521 0.33295 0.00764 0.33295 C -0.1401 0.33295 -0.25989 0.19306 -0.25989 0.02196 C -0.25989 -0.14936 -0.1401 -0.28856 0.00764 -0.28856 Z">
                                      <p:cBhvr>
                                        <p:cTn id="189" dur="3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91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28865 C 0.15434 -0.28865 0.27414 -0.14745 0.27414 0.02593 C 0.27414 0.19954 0.15434 0.34051 0.00764 0.34051 C -0.13888 0.34051 -0.25763 0.19954 -0.25763 0.02593 C -0.25763 -0.14745 -0.13888 -0.28865 0.00764 -0.28865 Z">
                                      <p:cBhvr>
                                        <p:cTn id="192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8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11022E-016 L 0.33073 -0.64815 E">
                                      <p:cBhvr>
                                        <p:cTn id="199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0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837 -0.72963 L 0.71667 -0.00533 E">
                                      <p:cBhvr>
                                        <p:cTn id="202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0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667 -0.00533 L 0.00781 0.00509 E">
                                      <p:cBhvr>
                                        <p:cTn id="205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0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21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2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22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07407E-006 L -0.40174 -4.07407E-006 E">
                                      <p:cBhvr>
                                        <p:cTn id="221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22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41 0.02639 L -0.39375 0.80324 E">
                                      <p:cBhvr>
                                        <p:cTn id="224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22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576 0.80324 L 0.42535 0.80324 E">
                                      <p:cBhvr>
                                        <p:cTn id="227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22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2535 0.80324 L 0.42535 -0.00532 E">
                                      <p:cBhvr>
                                        <p:cTn id="230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23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2535 -0.00532 L -0.39375 -0.00532 E">
                                      <p:cBhvr>
                                        <p:cTn id="23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2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23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2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f3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Равнобедренный треугольник 3"/>
          <p:cNvSpPr/>
          <p:nvPr/>
        </p:nvSpPr>
        <p:spPr>
          <a:xfrm>
            <a:off x="5143680" y="1643040"/>
            <a:ext cx="3286080" cy="1928880"/>
          </a:xfrm>
          <a:prstGeom prst="triangle">
            <a:avLst>
              <a:gd name="adj" fmla="val 50000"/>
            </a:avLst>
          </a:prstGeom>
          <a:solidFill>
            <a:srgbClr val="92d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48"/>
          <p:cNvSpPr/>
          <p:nvPr/>
        </p:nvSpPr>
        <p:spPr>
          <a:xfrm flipH="1">
            <a:off x="2499840" y="4786200"/>
            <a:ext cx="71640" cy="2071800"/>
          </a:xfrm>
          <a:prstGeom prst="line">
            <a:avLst/>
          </a:prstGeom>
          <a:ln w="38160">
            <a:solidFill>
              <a:srgbClr val="0bd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олилиния 33"/>
          <p:cNvSpPr/>
          <p:nvPr/>
        </p:nvSpPr>
        <p:spPr>
          <a:xfrm>
            <a:off x="8001000" y="1571760"/>
            <a:ext cx="981000" cy="914400"/>
          </a:xfrm>
          <a:custGeom>
            <a:avLst/>
            <a:gdLst/>
            <a:ahLst/>
            <a:rect l="l" t="t" r="r" b="b"/>
            <a:pathLst>
              <a:path w="981363" h="914400">
                <a:moveTo>
                  <a:pt x="0" y="914400"/>
                </a:moveTo>
                <a:cubicBezTo>
                  <a:pt x="214745" y="867064"/>
                  <a:pt x="429490" y="819728"/>
                  <a:pt x="471054" y="720437"/>
                </a:cubicBezTo>
                <a:cubicBezTo>
                  <a:pt x="512618" y="621146"/>
                  <a:pt x="196273" y="408710"/>
                  <a:pt x="249382" y="318655"/>
                </a:cubicBezTo>
                <a:cubicBezTo>
                  <a:pt x="302491" y="228600"/>
                  <a:pt x="697346" y="131618"/>
                  <a:pt x="789709" y="180109"/>
                </a:cubicBezTo>
                <a:cubicBezTo>
                  <a:pt x="882072" y="228600"/>
                  <a:pt x="775854" y="558800"/>
                  <a:pt x="803563" y="609600"/>
                </a:cubicBezTo>
                <a:cubicBezTo>
                  <a:pt x="831272" y="660400"/>
                  <a:pt x="930563" y="586509"/>
                  <a:pt x="955963" y="484909"/>
                </a:cubicBezTo>
                <a:cubicBezTo>
                  <a:pt x="981363" y="383309"/>
                  <a:pt x="955963" y="0"/>
                  <a:pt x="955963" y="0"/>
                </a:cubicBezTo>
                <a:lnTo>
                  <a:pt x="955963" y="96982"/>
                </a:lnTo>
                <a:lnTo>
                  <a:pt x="955963" y="969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174240" y="0"/>
            <a:ext cx="89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ие геометрические фигуры нарисовал карандаш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4"/>
          <p:cNvSpPr/>
          <p:nvPr/>
        </p:nvSpPr>
        <p:spPr>
          <a:xfrm>
            <a:off x="5214960" y="3571920"/>
            <a:ext cx="3143160" cy="1714320"/>
          </a:xfrm>
          <a:prstGeom prst="rect">
            <a:avLst/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5"/>
          <p:cNvSpPr/>
          <p:nvPr/>
        </p:nvSpPr>
        <p:spPr>
          <a:xfrm>
            <a:off x="2786040" y="1285920"/>
            <a:ext cx="1643040" cy="8571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7"/>
          <p:cNvSpPr/>
          <p:nvPr/>
        </p:nvSpPr>
        <p:spPr>
          <a:xfrm flipV="1">
            <a:off x="4572000" y="1285560"/>
            <a:ext cx="1214280" cy="21420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10"/>
          <p:cNvSpPr/>
          <p:nvPr/>
        </p:nvSpPr>
        <p:spPr>
          <a:xfrm flipV="1">
            <a:off x="4071960" y="785520"/>
            <a:ext cx="571320" cy="50004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ая соединительная линия 11"/>
          <p:cNvSpPr/>
          <p:nvPr/>
        </p:nvSpPr>
        <p:spPr>
          <a:xfrm flipV="1">
            <a:off x="2286000" y="2143080"/>
            <a:ext cx="928800" cy="92880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ая соединительная линия 12"/>
          <p:cNvSpPr/>
          <p:nvPr/>
        </p:nvSpPr>
        <p:spPr>
          <a:xfrm flipV="1">
            <a:off x="3571200" y="2214720"/>
            <a:ext cx="142920" cy="107136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13"/>
          <p:cNvSpPr/>
          <p:nvPr/>
        </p:nvSpPr>
        <p:spPr>
          <a:xfrm flipV="1">
            <a:off x="1571760" y="1999800"/>
            <a:ext cx="1143000" cy="42876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15"/>
          <p:cNvSpPr/>
          <p:nvPr/>
        </p:nvSpPr>
        <p:spPr>
          <a:xfrm>
            <a:off x="4643280" y="1857240"/>
            <a:ext cx="1285920" cy="14292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16"/>
          <p:cNvSpPr/>
          <p:nvPr/>
        </p:nvSpPr>
        <p:spPr>
          <a:xfrm>
            <a:off x="4071960" y="2143080"/>
            <a:ext cx="714240" cy="85716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21"/>
          <p:cNvSpPr/>
          <p:nvPr/>
        </p:nvSpPr>
        <p:spPr>
          <a:xfrm>
            <a:off x="2857680" y="642960"/>
            <a:ext cx="428400" cy="57132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22"/>
          <p:cNvSpPr/>
          <p:nvPr/>
        </p:nvSpPr>
        <p:spPr>
          <a:xfrm>
            <a:off x="1500120" y="1285920"/>
            <a:ext cx="1285920" cy="14292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25"/>
          <p:cNvSpPr/>
          <p:nvPr/>
        </p:nvSpPr>
        <p:spPr>
          <a:xfrm flipH="1">
            <a:off x="3642840" y="714240"/>
            <a:ext cx="71640" cy="42876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Соединительная линия уступом 29"/>
          <p:cNvCxnSpPr/>
          <p:nvPr/>
        </p:nvCxnSpPr>
        <p:spPr>
          <a:xfrm flipV="1" rot="10800000">
            <a:off x="3142440" y="5357520"/>
            <a:ext cx="3358440" cy="1000800"/>
          </a:xfrm>
          <a:prstGeom prst="bentConnector3">
            <a:avLst>
              <a:gd name="adj1" fmla="val 50000"/>
            </a:avLst>
          </a:prstGeom>
          <a:ln w="38160">
            <a:solidFill>
              <a:srgbClr val="10cf9b"/>
            </a:solidFill>
            <a:miter/>
          </a:ln>
        </p:spPr>
      </p:cxnSp>
      <p:sp>
        <p:nvSpPr>
          <p:cNvPr id="152" name="Полилиния 30"/>
          <p:cNvSpPr/>
          <p:nvPr/>
        </p:nvSpPr>
        <p:spPr>
          <a:xfrm>
            <a:off x="5429160" y="5384880"/>
            <a:ext cx="3353040" cy="1473120"/>
          </a:xfrm>
          <a:custGeom>
            <a:avLst/>
            <a:gdLst/>
            <a:ahLst/>
            <a:rect l="l" t="t" r="r" b="b"/>
            <a:pathLst>
              <a:path w="3352800" h="1473201">
                <a:moveTo>
                  <a:pt x="0" y="600364"/>
                </a:moveTo>
                <a:cubicBezTo>
                  <a:pt x="1055254" y="300182"/>
                  <a:pt x="2110509" y="0"/>
                  <a:pt x="2382982" y="115455"/>
                </a:cubicBezTo>
                <a:cubicBezTo>
                  <a:pt x="2655455" y="230910"/>
                  <a:pt x="1519382" y="1112983"/>
                  <a:pt x="1634836" y="1293092"/>
                </a:cubicBezTo>
                <a:cubicBezTo>
                  <a:pt x="1750291" y="1473201"/>
                  <a:pt x="2798618" y="1221510"/>
                  <a:pt x="3075709" y="1196110"/>
                </a:cubicBezTo>
                <a:cubicBezTo>
                  <a:pt x="3352800" y="1170710"/>
                  <a:pt x="3260437" y="1143001"/>
                  <a:pt x="3297382" y="1140692"/>
                </a:cubicBezTo>
                <a:cubicBezTo>
                  <a:pt x="3334327" y="1138383"/>
                  <a:pt x="3315854" y="1160319"/>
                  <a:pt x="3297382" y="1182255"/>
                </a:cubicBezTo>
              </a:path>
            </a:pathLst>
          </a:custGeom>
          <a:noFill/>
          <a:ln w="38160">
            <a:solidFill>
              <a:srgbClr val="0bd0d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34"/>
          <p:cNvSpPr/>
          <p:nvPr/>
        </p:nvSpPr>
        <p:spPr>
          <a:xfrm rot="19783800">
            <a:off x="7593120" y="1185840"/>
            <a:ext cx="981000" cy="914400"/>
          </a:xfrm>
          <a:custGeom>
            <a:avLst/>
            <a:gdLst/>
            <a:ahLst/>
            <a:rect l="l" t="t" r="r" b="b"/>
            <a:pathLst>
              <a:path w="981363" h="914400">
                <a:moveTo>
                  <a:pt x="0" y="914400"/>
                </a:moveTo>
                <a:cubicBezTo>
                  <a:pt x="214745" y="867064"/>
                  <a:pt x="429490" y="819728"/>
                  <a:pt x="471054" y="720437"/>
                </a:cubicBezTo>
                <a:cubicBezTo>
                  <a:pt x="512618" y="621146"/>
                  <a:pt x="196273" y="408710"/>
                  <a:pt x="249382" y="318655"/>
                </a:cubicBezTo>
                <a:cubicBezTo>
                  <a:pt x="302491" y="228600"/>
                  <a:pt x="697346" y="131618"/>
                  <a:pt x="789709" y="180109"/>
                </a:cubicBezTo>
                <a:cubicBezTo>
                  <a:pt x="882072" y="228600"/>
                  <a:pt x="775854" y="558800"/>
                  <a:pt x="803563" y="609600"/>
                </a:cubicBezTo>
                <a:cubicBezTo>
                  <a:pt x="831272" y="660400"/>
                  <a:pt x="930563" y="586509"/>
                  <a:pt x="955963" y="484909"/>
                </a:cubicBezTo>
                <a:cubicBezTo>
                  <a:pt x="981363" y="383309"/>
                  <a:pt x="955963" y="0"/>
                  <a:pt x="955963" y="0"/>
                </a:cubicBezTo>
                <a:lnTo>
                  <a:pt x="955963" y="96982"/>
                </a:lnTo>
                <a:lnTo>
                  <a:pt x="955963" y="96982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блако 35"/>
          <p:cNvSpPr/>
          <p:nvPr/>
        </p:nvSpPr>
        <p:spPr>
          <a:xfrm>
            <a:off x="214200" y="642960"/>
            <a:ext cx="1071720" cy="7142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00ffff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блако 37"/>
          <p:cNvSpPr/>
          <p:nvPr/>
        </p:nvSpPr>
        <p:spPr>
          <a:xfrm>
            <a:off x="5072040" y="500040"/>
            <a:ext cx="1214640" cy="7142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00ffff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блако 38"/>
          <p:cNvSpPr/>
          <p:nvPr/>
        </p:nvSpPr>
        <p:spPr>
          <a:xfrm>
            <a:off x="1714680" y="714240"/>
            <a:ext cx="1000080" cy="500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00ffff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40"/>
          <p:cNvSpPr/>
          <p:nvPr/>
        </p:nvSpPr>
        <p:spPr>
          <a:xfrm>
            <a:off x="1928880" y="4000680"/>
            <a:ext cx="642960" cy="6426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41"/>
          <p:cNvSpPr/>
          <p:nvPr/>
        </p:nvSpPr>
        <p:spPr>
          <a:xfrm>
            <a:off x="1428840" y="3571920"/>
            <a:ext cx="642960" cy="6429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42"/>
          <p:cNvSpPr/>
          <p:nvPr/>
        </p:nvSpPr>
        <p:spPr>
          <a:xfrm>
            <a:off x="2214720" y="3429000"/>
            <a:ext cx="642960" cy="6429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43"/>
          <p:cNvSpPr/>
          <p:nvPr/>
        </p:nvSpPr>
        <p:spPr>
          <a:xfrm>
            <a:off x="2571840" y="4071960"/>
            <a:ext cx="642960" cy="6429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44"/>
          <p:cNvSpPr/>
          <p:nvPr/>
        </p:nvSpPr>
        <p:spPr>
          <a:xfrm>
            <a:off x="1357200" y="4286160"/>
            <a:ext cx="642960" cy="6429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45"/>
          <p:cNvSpPr/>
          <p:nvPr/>
        </p:nvSpPr>
        <p:spPr>
          <a:xfrm flipV="1">
            <a:off x="2071800" y="4643280"/>
            <a:ext cx="642960" cy="633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ый треугольник 49"/>
          <p:cNvSpPr/>
          <p:nvPr/>
        </p:nvSpPr>
        <p:spPr>
          <a:xfrm rot="17848800">
            <a:off x="1844280" y="5511600"/>
            <a:ext cx="1454400" cy="638280"/>
          </a:xfrm>
          <a:prstGeom prst="rtTriangle">
            <a:avLst/>
          </a:prstGeom>
          <a:solidFill>
            <a:srgbClr val="92d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51"/>
          <p:cNvSpPr/>
          <p:nvPr/>
        </p:nvSpPr>
        <p:spPr>
          <a:xfrm>
            <a:off x="5715000" y="4286160"/>
            <a:ext cx="928800" cy="10000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52"/>
          <p:cNvSpPr/>
          <p:nvPr/>
        </p:nvSpPr>
        <p:spPr>
          <a:xfrm>
            <a:off x="7286760" y="3929040"/>
            <a:ext cx="571320" cy="857160"/>
          </a:xfrm>
          <a:prstGeom prst="rect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53"/>
          <p:cNvSpPr/>
          <p:nvPr/>
        </p:nvSpPr>
        <p:spPr>
          <a:xfrm>
            <a:off x="6500880" y="2714760"/>
            <a:ext cx="500040" cy="5713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36"/>
          <p:cNvSpPr/>
          <p:nvPr/>
        </p:nvSpPr>
        <p:spPr>
          <a:xfrm>
            <a:off x="4786200" y="5286240"/>
            <a:ext cx="142920" cy="142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вал 39"/>
          <p:cNvSpPr/>
          <p:nvPr/>
        </p:nvSpPr>
        <p:spPr>
          <a:xfrm>
            <a:off x="4714920" y="6286680"/>
            <a:ext cx="142920" cy="1425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Овал 46"/>
          <p:cNvSpPr/>
          <p:nvPr/>
        </p:nvSpPr>
        <p:spPr>
          <a:xfrm flipV="1">
            <a:off x="3143160" y="6286680"/>
            <a:ext cx="142920" cy="1425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Овал 47"/>
          <p:cNvSpPr/>
          <p:nvPr/>
        </p:nvSpPr>
        <p:spPr>
          <a:xfrm flipV="1">
            <a:off x="6357960" y="5285520"/>
            <a:ext cx="142920" cy="142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Овал 50"/>
          <p:cNvSpPr/>
          <p:nvPr/>
        </p:nvSpPr>
        <p:spPr>
          <a:xfrm>
            <a:off x="2643120" y="1928880"/>
            <a:ext cx="142920" cy="142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Овал 54"/>
          <p:cNvSpPr/>
          <p:nvPr/>
        </p:nvSpPr>
        <p:spPr>
          <a:xfrm>
            <a:off x="642960" y="6500880"/>
            <a:ext cx="142920" cy="142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55"/>
          <p:cNvSpPr/>
          <p:nvPr/>
        </p:nvSpPr>
        <p:spPr>
          <a:xfrm>
            <a:off x="4572000" y="1785960"/>
            <a:ext cx="142920" cy="142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56"/>
          <p:cNvSpPr/>
          <p:nvPr/>
        </p:nvSpPr>
        <p:spPr>
          <a:xfrm>
            <a:off x="1714680" y="6500880"/>
            <a:ext cx="142560" cy="142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57"/>
          <p:cNvSpPr/>
          <p:nvPr/>
        </p:nvSpPr>
        <p:spPr>
          <a:xfrm>
            <a:off x="1143000" y="6500880"/>
            <a:ext cx="142920" cy="142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ятиугольник 31"/>
          <p:cNvSpPr/>
          <p:nvPr/>
        </p:nvSpPr>
        <p:spPr>
          <a:xfrm rot="19229400">
            <a:off x="7507440" y="2169720"/>
            <a:ext cx="712800" cy="500040"/>
          </a:xfrm>
          <a:custGeom>
            <a:avLst/>
            <a:gdLst>
              <a:gd name="textAreaLeft" fmla="*/ 0 w 712800"/>
              <a:gd name="textAreaRight" fmla="*/ 713160 w 71280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023" y="0"/>
                </a:lnTo>
                <a:lnTo>
                  <a:pt x="21600" y="10800"/>
                </a:lnTo>
                <a:lnTo>
                  <a:pt x="1402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d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блако 61"/>
          <p:cNvSpPr/>
          <p:nvPr/>
        </p:nvSpPr>
        <p:spPr>
          <a:xfrm>
            <a:off x="6929280" y="571680"/>
            <a:ext cx="1000440" cy="57132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00ffff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2"/>
          <p:cNvSpPr/>
          <p:nvPr/>
        </p:nvSpPr>
        <p:spPr>
          <a:xfrm>
            <a:off x="1143000" y="2500200"/>
            <a:ext cx="107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b050"/>
                </a:solidFill>
                <a:latin typeface="Calibri"/>
              </a:rPr>
              <a:t>V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714240" y="28584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Какие из данных фигур являются ломанными линия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4"/>
          <p:cNvSpPr/>
          <p:nvPr/>
        </p:nvSpPr>
        <p:spPr>
          <a:xfrm>
            <a:off x="4714920" y="2357280"/>
            <a:ext cx="1214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4617b"/>
                </a:solidFill>
                <a:latin typeface="Calibri"/>
              </a:rPr>
              <a:t>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5"/>
          <p:cNvSpPr/>
          <p:nvPr/>
        </p:nvSpPr>
        <p:spPr>
          <a:xfrm>
            <a:off x="2934720" y="2714760"/>
            <a:ext cx="91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6"/>
          <p:cNvSpPr/>
          <p:nvPr/>
        </p:nvSpPr>
        <p:spPr>
          <a:xfrm>
            <a:off x="6575760" y="2714760"/>
            <a:ext cx="69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7"/>
          <p:cNvSpPr/>
          <p:nvPr/>
        </p:nvSpPr>
        <p:spPr>
          <a:xfrm>
            <a:off x="2000160" y="4572000"/>
            <a:ext cx="857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76a3"/>
                </a:solidFill>
                <a:latin typeface="Calibri"/>
              </a:rPr>
              <a:t>Z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8"/>
          <p:cNvSpPr/>
          <p:nvPr/>
        </p:nvSpPr>
        <p:spPr>
          <a:xfrm>
            <a:off x="4362480" y="4357800"/>
            <a:ext cx="776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0c9f8"/>
                </a:solidFill>
                <a:latin typeface="Calibri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9"/>
          <p:cNvSpPr/>
          <p:nvPr/>
        </p:nvSpPr>
        <p:spPr>
          <a:xfrm rot="10800000">
            <a:off x="6465960" y="4545000"/>
            <a:ext cx="1174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c9b74"/>
                </a:solidFill>
                <a:latin typeface="Calibri"/>
              </a:rPr>
              <a:t>W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2000" fill="hold"/>
                                        <p:tgtEl>
                                          <p:spTgt spid="1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6" dur="2000" fill="hold"/>
                                        <p:tgtEl>
                                          <p:spTgt spid="1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9" dur="2000" fill="hold"/>
                                        <p:tgtEl>
                                          <p:spTgt spid="1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2" dur="2000" fill="hold"/>
                                        <p:tgtEl>
                                          <p:spTgt spid="1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C:\Users\Svetlana\Pictures\tran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WordArt 5"/>
          <p:cNvSpPr txBox="1"/>
          <p:nvPr/>
        </p:nvSpPr>
        <p:spPr>
          <a:xfrm>
            <a:off x="684360" y="0"/>
            <a:ext cx="64594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2d700"/>
                </a:solidFill>
                <a:latin typeface="Arial"/>
              </a:rPr>
              <a:t>ГЕОМЕТР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2d700"/>
              </a:solidFill>
              <a:latin typeface="Arial"/>
              <a:ea typeface="Arial"/>
            </a:endParaRPr>
          </a:p>
        </p:txBody>
      </p:sp>
      <p:pic>
        <p:nvPicPr>
          <p:cNvPr id="188" name="Picture 1" descr=""/>
          <p:cNvPicPr/>
          <p:nvPr/>
        </p:nvPicPr>
        <p:blipFill>
          <a:blip r:embed="rId2"/>
          <a:stretch/>
        </p:blipFill>
        <p:spPr>
          <a:xfrm>
            <a:off x="1857240" y="2143080"/>
            <a:ext cx="3071880" cy="2468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кар1"/>
          <p:cNvPicPr/>
          <p:nvPr/>
        </p:nvPicPr>
        <p:blipFill>
          <a:blip r:embed="rId3"/>
          <a:stretch/>
        </p:blipFill>
        <p:spPr>
          <a:xfrm flipH="1">
            <a:off x="928800" y="2428920"/>
            <a:ext cx="1428480" cy="20718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263"/>
          <p:cNvPicPr/>
          <p:nvPr/>
        </p:nvPicPr>
        <p:blipFill>
          <a:blip r:embed="rId4"/>
          <a:stretch/>
        </p:blipFill>
        <p:spPr>
          <a:xfrm>
            <a:off x="7072200" y="2643120"/>
            <a:ext cx="1214640" cy="121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E:\мама\Мои рисунки\Фон\Изображение 02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19"/>
          <p:cNvSpPr/>
          <p:nvPr/>
        </p:nvSpPr>
        <p:spPr>
          <a:xfrm>
            <a:off x="500040" y="500040"/>
            <a:ext cx="7643880" cy="5000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Прямоугольник 2" descr=""/>
          <p:cNvPicPr/>
          <p:nvPr/>
        </p:nvPicPr>
        <p:blipFill>
          <a:blip r:embed="rId2"/>
          <a:stretch/>
        </p:blipFill>
        <p:spPr>
          <a:xfrm>
            <a:off x="8004240" y="2925720"/>
            <a:ext cx="341280" cy="927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C:\Users\санек\Documents\мама\Мои рисунки\анимации\left.gif"/>
          <p:cNvPicPr/>
          <p:nvPr/>
        </p:nvPicPr>
        <p:blipFill>
          <a:blip r:embed="rId3"/>
          <a:stretch/>
        </p:blipFill>
        <p:spPr>
          <a:xfrm>
            <a:off x="6643800" y="500040"/>
            <a:ext cx="1447560" cy="1924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2" descr="свинья, анимашка"/>
          <p:cNvPicPr/>
          <p:nvPr/>
        </p:nvPicPr>
        <p:blipFill>
          <a:blip r:embed="rId4"/>
          <a:stretch/>
        </p:blipFill>
        <p:spPr>
          <a:xfrm>
            <a:off x="6786720" y="1571760"/>
            <a:ext cx="1071360" cy="782640"/>
          </a:xfrm>
          <a:prstGeom prst="rect">
            <a:avLst/>
          </a:prstGeom>
          <a:ln w="0">
            <a:noFill/>
          </a:ln>
        </p:spPr>
      </p:pic>
      <p:sp>
        <p:nvSpPr>
          <p:cNvPr id="196" name="TextBox 21"/>
          <p:cNvSpPr/>
          <p:nvPr/>
        </p:nvSpPr>
        <p:spPr>
          <a:xfrm>
            <a:off x="441360" y="2928960"/>
            <a:ext cx="21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ф-на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2"/>
          <p:cNvSpPr/>
          <p:nvPr/>
        </p:nvSpPr>
        <p:spPr>
          <a:xfrm>
            <a:off x="4299480" y="714240"/>
            <a:ext cx="218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иф-ни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3"/>
          <p:cNvSpPr/>
          <p:nvPr/>
        </p:nvSpPr>
        <p:spPr>
          <a:xfrm>
            <a:off x="3236400" y="4857840"/>
            <a:ext cx="21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уф-ну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C:\Users\санек\Documents\мама\Мои рисунки\анимации\2_copy.gif"/>
          <p:cNvPicPr/>
          <p:nvPr/>
        </p:nvPicPr>
        <p:blipFill>
          <a:blip r:embed="rId5"/>
          <a:stretch/>
        </p:blipFill>
        <p:spPr>
          <a:xfrm>
            <a:off x="4000680" y="2786040"/>
            <a:ext cx="880920" cy="1136520"/>
          </a:xfrm>
          <a:prstGeom prst="rect">
            <a:avLst/>
          </a:prstGeom>
          <a:ln w="0">
            <a:noFill/>
          </a:ln>
        </p:spPr>
      </p:pic>
      <p:sp>
        <p:nvSpPr>
          <p:cNvPr id="200" name="Стрелка вправо 25"/>
          <p:cNvSpPr/>
          <p:nvPr/>
        </p:nvSpPr>
        <p:spPr>
          <a:xfrm rot="2934000">
            <a:off x="1783440" y="3280320"/>
            <a:ext cx="2781360" cy="30960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Стрелка вправо 26"/>
          <p:cNvSpPr/>
          <p:nvPr/>
        </p:nvSpPr>
        <p:spPr>
          <a:xfrm flipV="1" rot="20686200">
            <a:off x="2361960" y="4575960"/>
            <a:ext cx="1708200" cy="26820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Стрелка вправо 27"/>
          <p:cNvSpPr/>
          <p:nvPr/>
        </p:nvSpPr>
        <p:spPr>
          <a:xfrm rot="8431200">
            <a:off x="3679200" y="3227400"/>
            <a:ext cx="3498840" cy="247680"/>
          </a:xfrm>
          <a:prstGeom prst="rightArrow">
            <a:avLst>
              <a:gd name="adj1" fmla="val 50000"/>
              <a:gd name="adj2" fmla="val 4996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C:\Users\санек\Documents\мама\Мои рисунки\анимации\sw80.gif"/>
          <p:cNvPicPr/>
          <p:nvPr/>
        </p:nvPicPr>
        <p:blipFill>
          <a:blip r:embed="rId6"/>
          <a:stretch/>
        </p:blipFill>
        <p:spPr>
          <a:xfrm>
            <a:off x="500040" y="214200"/>
            <a:ext cx="2079720" cy="2428920"/>
          </a:xfrm>
          <a:prstGeom prst="rect">
            <a:avLst/>
          </a:prstGeom>
          <a:ln w="0">
            <a:noFill/>
          </a:ln>
        </p:spPr>
      </p:pic>
      <p:sp>
        <p:nvSpPr>
          <p:cNvPr id="204" name="TextBox 29"/>
          <p:cNvSpPr/>
          <p:nvPr/>
        </p:nvSpPr>
        <p:spPr>
          <a:xfrm>
            <a:off x="2214720" y="5572080"/>
            <a:ext cx="578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Под какими углами пересек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тропинки возле сов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0" descr="танцующая свинья, анимашка"/>
          <p:cNvPicPr/>
          <p:nvPr/>
        </p:nvPicPr>
        <p:blipFill>
          <a:blip r:embed="rId7"/>
          <a:stretch/>
        </p:blipFill>
        <p:spPr>
          <a:xfrm>
            <a:off x="571680" y="1928880"/>
            <a:ext cx="1002960" cy="1285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8" descr="свинья у корыта, анимашка"/>
          <p:cNvPicPr/>
          <p:nvPr/>
        </p:nvPicPr>
        <p:blipFill>
          <a:blip r:embed="rId8"/>
          <a:stretch/>
        </p:blipFill>
        <p:spPr>
          <a:xfrm>
            <a:off x="500040" y="4143240"/>
            <a:ext cx="23367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32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reeform 3"/>
          <p:cNvSpPr/>
          <p:nvPr/>
        </p:nvSpPr>
        <p:spPr>
          <a:xfrm>
            <a:off x="2374920" y="2489040"/>
            <a:ext cx="5626080" cy="2374920"/>
          </a:xfrm>
          <a:custGeom>
            <a:avLst/>
            <a:gdLst>
              <a:gd name="textAreaLeft" fmla="*/ 0 w 5626080"/>
              <a:gd name="textAreaRight" fmla="*/ 5626440 w 5626080"/>
              <a:gd name="textAreaTop" fmla="*/ 0 h 2374920"/>
              <a:gd name="textAreaBottom" fmla="*/ 2375280 h 2374920"/>
            </a:gdLst>
            <a:ahLst/>
            <a:rect l="textAreaLeft" t="textAreaTop" r="textAreaRight" b="textAreaBottom"/>
            <a:pathLst>
              <a:path w="3544" h="1496">
                <a:moveTo>
                  <a:pt x="3544" y="1488"/>
                </a:moveTo>
                <a:lnTo>
                  <a:pt x="1392" y="1496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4213440" y="486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7669440" y="49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900000" y="260280"/>
            <a:ext cx="8101080" cy="1944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н неразвёрнутый угол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ВС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 Провед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учи с началом в точке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так, что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разовалось шесть углов, один и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торых был бы развёрнут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вер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6014160" y="22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1"/>
          <p:cNvSpPr/>
          <p:nvPr/>
        </p:nvSpPr>
        <p:spPr>
          <a:xfrm>
            <a:off x="613080" y="486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3" descr="&amp;Kcy;&amp;acy;&amp;rcy;&amp;tcy;&amp;icy;&amp;ncy;&amp;kcy;&amp;acy; 125 &amp;icy;&amp;zcy; 65344"/>
          <p:cNvPicPr/>
          <p:nvPr/>
        </p:nvPicPr>
        <p:blipFill>
          <a:blip r:embed="rId3"/>
          <a:stretch/>
        </p:blipFill>
        <p:spPr>
          <a:xfrm>
            <a:off x="7500960" y="2357280"/>
            <a:ext cx="1297080" cy="1231920"/>
          </a:xfrm>
          <a:prstGeom prst="rect">
            <a:avLst/>
          </a:prstGeom>
          <a:ln w="0">
            <a:noFill/>
          </a:ln>
        </p:spPr>
      </p:pic>
      <p:sp>
        <p:nvSpPr>
          <p:cNvPr id="215" name="Freeform 28"/>
          <p:cNvSpPr/>
          <p:nvPr/>
        </p:nvSpPr>
        <p:spPr>
          <a:xfrm>
            <a:off x="914400" y="4851360"/>
            <a:ext cx="4381560" cy="12600"/>
          </a:xfrm>
          <a:custGeom>
            <a:avLst/>
            <a:gdLst>
              <a:gd name="textAreaLeft" fmla="*/ 0 w 4381560"/>
              <a:gd name="textAreaRight" fmla="*/ 4381920 w 438156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2760" h="8">
                <a:moveTo>
                  <a:pt x="0" y="0"/>
                </a:moveTo>
                <a:lnTo>
                  <a:pt x="2760" y="8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29"/>
          <p:cNvSpPr/>
          <p:nvPr/>
        </p:nvSpPr>
        <p:spPr>
          <a:xfrm>
            <a:off x="4559400" y="2438280"/>
            <a:ext cx="1447560" cy="241308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2413080"/>
              <a:gd name="textAreaBottom" fmla="*/ 2413440 h 2413080"/>
            </a:gdLst>
            <a:ahLst/>
            <a:rect l="textAreaLeft" t="textAreaTop" r="textAreaRight" b="textAreaBottom"/>
            <a:pathLst>
              <a:path w="912" h="1520">
                <a:moveTo>
                  <a:pt x="912" y="0"/>
                </a:moveTo>
                <a:lnTo>
                  <a:pt x="0" y="152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30"/>
          <p:cNvSpPr/>
          <p:nvPr/>
        </p:nvSpPr>
        <p:spPr>
          <a:xfrm>
            <a:off x="900000" y="2637000"/>
            <a:ext cx="3594240" cy="2171520"/>
          </a:xfrm>
          <a:custGeom>
            <a:avLst/>
            <a:gdLst>
              <a:gd name="textAreaLeft" fmla="*/ 0 w 3594240"/>
              <a:gd name="textAreaRight" fmla="*/ 3594600 w 3594240"/>
              <a:gd name="textAreaTop" fmla="*/ 0 h 2171520"/>
              <a:gd name="textAreaBottom" fmla="*/ 2171880 h 2171520"/>
            </a:gdLst>
            <a:ahLst/>
            <a:rect l="textAreaLeft" t="textAreaTop" r="textAreaRight" b="textAreaBottom"/>
            <a:pathLst>
              <a:path w="2264" h="1368">
                <a:moveTo>
                  <a:pt x="0" y="1352"/>
                </a:moveTo>
                <a:lnTo>
                  <a:pt x="2264" y="1368"/>
                </a:lnTo>
                <a:lnTo>
                  <a:pt x="976" y="0"/>
                </a:ln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1"/>
          <p:cNvSpPr/>
          <p:nvPr/>
        </p:nvSpPr>
        <p:spPr>
          <a:xfrm>
            <a:off x="2052720" y="256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32"/>
          <p:cNvSpPr/>
          <p:nvPr/>
        </p:nvSpPr>
        <p:spPr>
          <a:xfrm>
            <a:off x="2489040" y="2540160"/>
            <a:ext cx="3403800" cy="2247840"/>
          </a:xfrm>
          <a:custGeom>
            <a:avLst/>
            <a:gdLst>
              <a:gd name="textAreaLeft" fmla="*/ 0 w 3403800"/>
              <a:gd name="textAreaRight" fmla="*/ 3404160 w 3403800"/>
              <a:gd name="textAreaTop" fmla="*/ 0 h 2247840"/>
              <a:gd name="textAreaBottom" fmla="*/ 2248200 h 2247840"/>
            </a:gdLst>
            <a:ahLst/>
            <a:rect l="textAreaLeft" t="textAreaTop" r="textAreaRight" b="textAreaBottom"/>
            <a:pathLst>
              <a:path w="2144" h="1416">
                <a:moveTo>
                  <a:pt x="0" y="0"/>
                </a:moveTo>
                <a:lnTo>
                  <a:pt x="1304" y="1416"/>
                </a:lnTo>
                <a:lnTo>
                  <a:pt x="2144" y="0"/>
                </a:lnTo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33"/>
          <p:cNvSpPr/>
          <p:nvPr/>
        </p:nvSpPr>
        <p:spPr>
          <a:xfrm>
            <a:off x="4597560" y="2565360"/>
            <a:ext cx="3213000" cy="2260800"/>
          </a:xfrm>
          <a:custGeom>
            <a:avLst/>
            <a:gdLst>
              <a:gd name="textAreaLeft" fmla="*/ 0 w 3213000"/>
              <a:gd name="textAreaRight" fmla="*/ 3213360 w 3213000"/>
              <a:gd name="textAreaTop" fmla="*/ 0 h 2260800"/>
              <a:gd name="textAreaBottom" fmla="*/ 2261160 h 2260800"/>
            </a:gdLst>
            <a:ahLst/>
            <a:rect l="textAreaLeft" t="textAreaTop" r="textAreaRight" b="textAreaBottom"/>
            <a:pathLst>
              <a:path w="2024" h="1424">
                <a:moveTo>
                  <a:pt x="880" y="0"/>
                </a:moveTo>
                <a:lnTo>
                  <a:pt x="0" y="1424"/>
                </a:lnTo>
                <a:lnTo>
                  <a:pt x="2024" y="1408"/>
                </a:lnTo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4"/>
          <p:cNvSpPr/>
          <p:nvPr/>
        </p:nvSpPr>
        <p:spPr>
          <a:xfrm>
            <a:off x="971640" y="2421000"/>
            <a:ext cx="5003640" cy="2405160"/>
          </a:xfrm>
          <a:custGeom>
            <a:avLst/>
            <a:gdLst>
              <a:gd name="textAreaLeft" fmla="*/ 0 w 5003640"/>
              <a:gd name="textAreaRight" fmla="*/ 5004000 w 5003640"/>
              <a:gd name="textAreaTop" fmla="*/ 0 h 2405160"/>
              <a:gd name="textAreaBottom" fmla="*/ 2405520 h 2405160"/>
            </a:gdLst>
            <a:ahLst/>
            <a:rect l="textAreaLeft" t="textAreaTop" r="textAreaRight" b="textAreaBottom"/>
            <a:pathLst>
              <a:path w="3152" h="1515">
                <a:moveTo>
                  <a:pt x="0" y="1504"/>
                </a:moveTo>
                <a:lnTo>
                  <a:pt x="2260" y="1515"/>
                </a:lnTo>
                <a:lnTo>
                  <a:pt x="3152" y="0"/>
                </a:lnTo>
                <a:lnTo>
                  <a:pt x="888" y="40"/>
                </a:lnTo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35"/>
          <p:cNvSpPr/>
          <p:nvPr/>
        </p:nvSpPr>
        <p:spPr>
          <a:xfrm>
            <a:off x="2484360" y="2421000"/>
            <a:ext cx="5461200" cy="2425680"/>
          </a:xfrm>
          <a:custGeom>
            <a:avLst/>
            <a:gdLst>
              <a:gd name="textAreaLeft" fmla="*/ 0 w 5461200"/>
              <a:gd name="textAreaRight" fmla="*/ 5461560 w 5461200"/>
              <a:gd name="textAreaTop" fmla="*/ 0 h 2425680"/>
              <a:gd name="textAreaBottom" fmla="*/ 2426040 h 2425680"/>
            </a:gdLst>
            <a:ahLst/>
            <a:rect l="textAreaLeft" t="textAreaTop" r="textAreaRight" b="textAreaBottom"/>
            <a:pathLst>
              <a:path w="3440" h="1528">
                <a:moveTo>
                  <a:pt x="1336" y="1528"/>
                </a:moveTo>
                <a:lnTo>
                  <a:pt x="3440" y="1512"/>
                </a:lnTo>
                <a:lnTo>
                  <a:pt x="2240" y="0"/>
                </a:lnTo>
                <a:lnTo>
                  <a:pt x="0" y="16"/>
                </a:lnTo>
              </a:path>
            </a:pathLst>
          </a:cu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36"/>
          <p:cNvSpPr/>
          <p:nvPr/>
        </p:nvSpPr>
        <p:spPr>
          <a:xfrm>
            <a:off x="3348000" y="4076640"/>
            <a:ext cx="2305080" cy="1633680"/>
          </a:xfrm>
          <a:custGeom>
            <a:avLst/>
            <a:gdLst>
              <a:gd name="textAreaLeft" fmla="*/ 41400 w 2305080"/>
              <a:gd name="textAreaRight" fmla="*/ 2263680 w 2305080"/>
              <a:gd name="textAreaTop" fmla="*/ 0 h 1633680"/>
              <a:gd name="textAreaBottom" fmla="*/ 989640 h 1633680"/>
            </a:gdLst>
            <a:ahLst/>
            <a:rect l="textAreaLeft" t="textAreaTop" r="textAreaRight" b="textAreaBottom"/>
            <a:pathLst>
              <a:path w="21600" h="21600">
                <a:moveTo>
                  <a:pt x="2231" y="10643"/>
                </a:moveTo>
                <a:cubicBezTo>
                  <a:pt x="2317" y="5971"/>
                  <a:pt x="6128" y="2229"/>
                  <a:pt x="10800" y="2230"/>
                </a:cubicBezTo>
                <a:cubicBezTo>
                  <a:pt x="15471" y="2230"/>
                  <a:pt x="19282" y="5971"/>
                  <a:pt x="19368" y="10643"/>
                </a:cubicBezTo>
                <a:lnTo>
                  <a:pt x="21598" y="10602"/>
                </a:lnTo>
                <a:cubicBezTo>
                  <a:pt x="21490" y="4715"/>
                  <a:pt x="16687" y="-1"/>
                  <a:pt x="10799" y="0"/>
                </a:cubicBezTo>
                <a:cubicBezTo>
                  <a:pt x="4912" y="0"/>
                  <a:pt x="109" y="4715"/>
                  <a:pt x="1" y="10602"/>
                </a:cubicBezTo>
                <a:lnTo>
                  <a:pt x="2231" y="10643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302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34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42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0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358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6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06:43:46Z</dcterms:created>
  <dc:creator>Шуринберг</dc:creator>
  <dc:description/>
  <dc:language>en-US</dc:language>
  <cp:lastModifiedBy>ц</cp:lastModifiedBy>
  <dcterms:modified xsi:type="dcterms:W3CDTF">2013-02-21T14:31:07Z</dcterms:modified>
  <cp:revision>149</cp:revision>
  <dc:subject/>
  <dc:title>Слайд 1</dc:title>
</cp:coreProperties>
</file>