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EC0-5075-45E1-823C-B79266E4C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BC9-34D7-4B46-A56F-DACBB7ABA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E17-0EAC-4D5A-9251-EDFCA51A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108-1487-49BA-AD02-DCF96EA0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5B2-C54D-4FC5-ACD3-4371F6F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804-C613-4BE1-B69E-7161447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A87-CC2A-4C72-B273-7E03B90D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E7F-4B51-4BA8-B263-5C408B2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C31F-F871-4273-A153-E1DB8CD6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015-8DEB-4B81-B001-4EF4A38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5A4-7189-406B-86FC-DB19959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8A65-6976-42D2-BB63-29F7F3F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F6A2-78BD-4AE4-BFF2-66D1157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986-2695-48EB-82F6-93C7822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2B76-3A02-4C31-8491-9969613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F67F-551A-4790-A43D-5982D85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092-D527-4D6B-B821-5A2C48E2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B24-5492-4326-94B5-E9F03F2E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D3A-4C44-40AD-9324-2C40DB19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F0C1-4389-4267-AE62-35D5706A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1A68-01CB-42BF-8B6D-6B1AF21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B7CD-18CA-4D0C-9190-191E8E5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84FB-5C6C-47EE-9E2E-78EB702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62C7-0764-4FC6-9B17-A3861DF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9CD-1E40-43EF-A7AE-36DAA29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687E3-E39A-4CBB-8D6B-F6869B68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FF20-3F58-46A2-953E-CB3A376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876E-3354-4A55-A470-22D262E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4E06-EDF7-4541-9A78-ED0A69C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AC9D-E87B-459B-AF52-C24AC56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06A9-9A0D-490C-A5B7-CEDD2E8B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1A4C-E389-4086-8AE2-EF80E692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0A35-27A3-4538-AA10-8974BCAD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642F-7CDF-469A-B15C-848E84F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5ECF-5171-447E-B2AC-ACC1405E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9A8-1D19-44B9-A16D-4EC4537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A862-FBAC-4B24-B114-DE089FA5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B964-D52C-4513-B75C-C8EA6788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01F9-0E5B-4180-A9AF-84E80D3C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E22E-E016-473E-8042-DAEE47E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6DA8-484F-4AEF-96DD-F7C9D56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3BE26-EF50-4BC8-83B0-A7E4002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1DA9-552A-4263-8565-5E0D9F1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C6E4-DB25-412E-A0F0-B04ACEC0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CF5A-13B8-416B-842C-C096A720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1A1-46D8-4453-9AC5-2C50A70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576-A42A-40D3-841A-0AFDF81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F5C-A266-4F62-90F4-3F4F99D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36D-1C90-418E-ADBF-85F8689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B65-6A4A-499F-9A6E-C075056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6E8-452B-4E82-BD55-D9B2AF9F3AD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9C2-8332-4FAD-8F1C-39F008F9486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094-6C94-4D83-9C79-AA54C4BC54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CB8-A8B3-4048-BB65-D472ACA883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a/Clothes_button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828720" y="1676520"/>
            <a:ext cx="7175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0000" y="691920"/>
            <a:ext cx="482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иколай I ввел в обиход ведомственные пуговиц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дальнейшем обозначающая роль пуговиц весьма развилась - и в царские, и в советские, и в наши времена форменные пуговицы профессиональных, военных, образовательных, юридических и других  учреждений рассказывают о принадлежности нос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чти все должностные лица империи – от сторожа до государственного канцлера – носили мундиры с пуговицами определенного тип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5" descr="http://www.artem.chulpanov.ru/img/button08.jpg"/>
          <p:cNvPicPr/>
          <p:nvPr/>
        </p:nvPicPr>
        <p:blipFill>
          <a:blip r:embed="rId1"/>
          <a:stretch/>
        </p:blipFill>
        <p:spPr>
          <a:xfrm>
            <a:off x="468360" y="836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788000" y="476280"/>
            <a:ext cx="3970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фицерские пуговицы отличались от солдатских тем, что должны были быть золотыми или серебряными, но чаще делались позолоченными и посеребренным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лдатские изготовлялись из меди, бронзы, олова и латуни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гвардии и у генералитета пуговицы были гербовыми, с орлом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оме того, в тех полках, где шефами являлись члены императорской фамилии, на пуговицах присутствовало изображение императорской коро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Рисунок 4" descr="http://hearth.narod.ru/home/000304.jpg"/>
          <p:cNvPicPr/>
          <p:nvPr/>
        </p:nvPicPr>
        <p:blipFill>
          <a:blip r:embed="rId1"/>
          <a:stretch/>
        </p:blipFill>
        <p:spPr>
          <a:xfrm>
            <a:off x="324000" y="380880"/>
            <a:ext cx="2209680" cy="26672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2" descr="Декоративные пуговицы 1930-х"/>
          <p:cNvPicPr/>
          <p:nvPr/>
        </p:nvPicPr>
        <p:blipFill>
          <a:blip r:embed="rId2"/>
          <a:stretch/>
        </p:blipFill>
        <p:spPr>
          <a:xfrm>
            <a:off x="395280" y="3789360"/>
            <a:ext cx="2881440" cy="26082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1" descr="Кожаная пуговица"/>
          <p:cNvPicPr/>
          <p:nvPr/>
        </p:nvPicPr>
        <p:blipFill>
          <a:blip r:embed="rId3"/>
          <a:stretch/>
        </p:blipFill>
        <p:spPr>
          <a:xfrm>
            <a:off x="2428920" y="1484280"/>
            <a:ext cx="25034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731520"/>
            <a:ext cx="79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В наше время пуговица – это и застёжка на одежде, и декоративный элемент, и украшение, подчёркивающее её стиль, придающее наряду некий шарм и элегантность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Рисунок 3" descr="http://hearth.narod.ru/home/000303.jpg"/>
          <p:cNvPicPr/>
          <p:nvPr/>
        </p:nvPicPr>
        <p:blipFill>
          <a:blip r:embed="rId1"/>
          <a:stretch/>
        </p:blipFill>
        <p:spPr>
          <a:xfrm>
            <a:off x="3419640" y="4005360"/>
            <a:ext cx="2705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История маленьких приспособлений для скрепления деталей костюма - это занимательный рассказ о выдумке, мастерстве, фантазии портных и прочих мастеров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9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В самой природе пуговиц есть какая-то искорка, вызов, способность организовать костюм, подчиняя его единому стилю, создавая настроение и праздник на каждый день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33440" y="517680"/>
            <a:ext cx="8418600" cy="32432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2" descr="Декоративные пуговицы 1930-х"/>
          <p:cNvPicPr/>
          <p:nvPr/>
        </p:nvPicPr>
        <p:blipFill>
          <a:blip r:embed="rId2"/>
          <a:stretch/>
        </p:blipFill>
        <p:spPr>
          <a:xfrm rot="21172200">
            <a:off x="394920" y="3789360"/>
            <a:ext cx="2881440" cy="26082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9" descr="Пуговицы"/>
          <p:cNvPicPr/>
          <p:nvPr/>
        </p:nvPicPr>
        <p:blipFill>
          <a:blip r:embed="rId3"/>
          <a:stretch/>
        </p:blipFill>
        <p:spPr>
          <a:xfrm rot="20790600">
            <a:off x="1871640" y="203148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8" descr="О магической роли пуговиц. История русской пуговицы"/>
          <p:cNvPicPr/>
          <p:nvPr/>
        </p:nvPicPr>
        <p:blipFill>
          <a:blip r:embed="rId4"/>
          <a:stretch/>
        </p:blipFill>
        <p:spPr>
          <a:xfrm rot="245400">
            <a:off x="4021200" y="2636640"/>
            <a:ext cx="2512800" cy="34416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http://www.artem.chulpanov.ru/img/button08.jpg"/>
          <p:cNvPicPr/>
          <p:nvPr/>
        </p:nvPicPr>
        <p:blipFill>
          <a:blip r:embed="rId5"/>
          <a:stretch/>
        </p:blipFill>
        <p:spPr>
          <a:xfrm rot="477000">
            <a:off x="6372000" y="31698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В каком времени берёт начало этот элемент одежды – пуговица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Какая история скрывается за её нарядным блеском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42480" algn="ctr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Кто автор этого изобретения?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000" y="731880"/>
            <a:ext cx="7848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Что такое пуговица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уговиц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— застёжка на одежде, предназначенная для соединения её частей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стейшая пуговица представляет из себя диск, с двумя сквозными отверстиями в середине, однако встречаются пуговицы других видов и форм (например, квадратные, треугольные, цилиндрические или шарообразные). Количество отверстий также может варьировать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1" descr="Файл:Clothes button.jpg"/>
          <p:cNvPicPr/>
          <p:nvPr/>
        </p:nvPicPr>
        <p:blipFill>
          <a:blip r:embed="rId1"/>
          <a:stretch/>
        </p:blipFill>
        <p:spPr>
          <a:xfrm>
            <a:off x="3419640" y="4653000"/>
            <a:ext cx="2160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780000" y="739440"/>
            <a:ext cx="490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Древние люди вместо пуговиц соединяли куски своей одежды шипами от растений, косточками животных и палками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В Древнем Египте уже использовались пряжки или один кусок одежды продевался в отверстие, сделанное в другом, или концы просто связывалис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Самые древние пуговицы и предметы, похожие на пуговицы, используемые в качестве украшения, а не для застёгивания, были обнаружены в Индии. Подобные предметы эпохи бронзового века найдены в Китае (ок. 2000—1500 до н.э.), а также на территориях бывшего Древнего Рима и Древней Греци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89720" indent="-15120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Функциональные пуговицы, сделанные из камня, были найдены на юго-востоке Турции, они датируются 1500 г. до н.э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1" descr="Файл:Clothes b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581200"/>
            <a:ext cx="1752840" cy="1571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О магической роли пуговиц. История русской пуговицы"/>
          <p:cNvPicPr/>
          <p:nvPr/>
        </p:nvPicPr>
        <p:blipFill>
          <a:blip r:embed="rId3"/>
          <a:stretch/>
        </p:blipFill>
        <p:spPr>
          <a:xfrm>
            <a:off x="468360" y="714240"/>
            <a:ext cx="3076560" cy="1866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9" descr="Пуговицы"/>
          <p:cNvPicPr/>
          <p:nvPr/>
        </p:nvPicPr>
        <p:blipFill>
          <a:blip r:embed="rId4"/>
          <a:stretch/>
        </p:blipFill>
        <p:spPr>
          <a:xfrm>
            <a:off x="468360" y="3929040"/>
            <a:ext cx="2857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76600" y="333360"/>
            <a:ext cx="5114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В прошлом, пуговица часто была одним из важных магических амулетов, призванных отпугивать враждебные человеку сил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 Руси именно эта функция пуговицы долгое время оставалась основн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лово "пуговица" попало на Русь с Востока, пришло оно из древнеиндийского языка и буквально означает "ком, куча, масса". До русских модников пуговица, которую тогда называли "пугвицой", "докатилась" в конце XV ве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о знаменитой петровской реформы костюма и приказа носить иностранное платье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усские бояре и боярыни не скупясь платили золотых дел мастерам и иностранным купцам большие деньги за пуговицы из драгоценных металлов со вставками из бирюзы, жемчуга, кораллов, эмалей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Очень модными были круглые, похожие на шарики пуговицы с петелькой для пришивания - их называли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кляпышами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Рисунок 4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500040" y="852480"/>
            <a:ext cx="3076560" cy="18669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573120" y="292428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ревнерусские пуговицы-гирь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6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500040" y="3457440"/>
            <a:ext cx="2841480" cy="25210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108000" y="6012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говицы на кафтанах. Примерно Х 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8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324000" y="620640"/>
            <a:ext cx="2781000" cy="3810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1714680" y="2349360"/>
            <a:ext cx="256212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Прямоугольник 5"/>
          <p:cNvSpPr/>
          <p:nvPr/>
        </p:nvSpPr>
        <p:spPr>
          <a:xfrm>
            <a:off x="4427640" y="62064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пуговицы на одежде были своеобразной «визитной карточкой» владе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количество, форма, имевшиеся на них узоры и знаки могли поведать о положении человека, его заслугах, близости к власти, поэтому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ские бояре и боярыни не скупясь платили золотых дел мастерам большие деньги за пуговицы из драгоценных мет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253080" y="17604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говицы. Серебро, эмаль. XVI-XVII в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181080" y="624348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говицы со столовых царских кафт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211280" y="456840"/>
            <a:ext cx="46861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 каждому виду платья полагалось строго определённое число пуговиц: к кафтану пришивали по 3, 8, 10, 11, 12, 13 или 19 пуговиц; к шубе — по 8, 11, 13, 14, 15, 16. Самое большое количество пуговиц полагалось иметь на тигилее (стёганый кафтан с коротким рукавом, который носили ратники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ем больше пуговиц на одежде, тем богаче её хозяин, тем выше его положение в обществе, тем ниже кланялись ему окружающ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9720" y="90360"/>
            <a:ext cx="235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арский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фтан, женская ш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5" descr="О магической роли пуговиц. История русской пуговицы"/>
          <p:cNvPicPr/>
          <p:nvPr/>
        </p:nvPicPr>
        <p:blipFill>
          <a:blip r:embed="rId1"/>
          <a:stretch/>
        </p:blipFill>
        <p:spPr>
          <a:xfrm>
            <a:off x="0" y="45720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3" descr="О магической роли пуговиц. История русской пуговицы"/>
          <p:cNvPicPr/>
          <p:nvPr/>
        </p:nvPicPr>
        <p:blipFill>
          <a:blip r:embed="rId2"/>
          <a:stretch/>
        </p:blipFill>
        <p:spPr>
          <a:xfrm>
            <a:off x="2549520" y="907920"/>
            <a:ext cx="1512720" cy="45482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4" descr="О магической роли пуговиц. История русской пуговицы"/>
          <p:cNvPicPr/>
          <p:nvPr/>
        </p:nvPicPr>
        <p:blipFill>
          <a:blip r:embed="rId3"/>
          <a:stretch/>
        </p:blipFill>
        <p:spPr>
          <a:xfrm>
            <a:off x="1042920" y="2963880"/>
            <a:ext cx="19875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" descr="http://hearth.narod.ru/home/000302.jpg"/>
          <p:cNvPicPr/>
          <p:nvPr/>
        </p:nvPicPr>
        <p:blipFill>
          <a:blip r:embed="rId1"/>
          <a:stretch/>
        </p:blipFill>
        <p:spPr>
          <a:xfrm>
            <a:off x="684360" y="1122480"/>
            <a:ext cx="2808000" cy="40640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3924360" y="476280"/>
            <a:ext cx="44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VIII столетии состоялся парадный выход пугов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ни мануфактур и отдельных мастеров во многих странах шили, монтировали, вытачивали, штамповали, гранили и вырезали пугов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великолепными образцами из золота, серебра и драгоценных камней начали появляться обтяжные пуговицы, которым предстояло стать преобладающими в следующем столе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изготовляли в тон одежде, обтягивая деревянную или костяную пуговицу на ножке. Пуговицы со сквозными отверстиями вошли в моду много поз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058920" y="333360"/>
            <a:ext cx="57718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лгое время пуговицы были привилегией мужчин. Пуговицы не только выполняли функцию застёжек, но и были композиционной частью мужского костюм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велиры  изготавливали для парадных мужских туалетов пуговицы очень высокой стоимости, используя дорогие камни и сложные техник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Рисунок 3" descr="http://hearth.narod.ru/home/000303.jpg"/>
          <p:cNvPicPr/>
          <p:nvPr/>
        </p:nvPicPr>
        <p:blipFill>
          <a:blip r:embed="rId1"/>
          <a:stretch/>
        </p:blipFill>
        <p:spPr>
          <a:xfrm>
            <a:off x="225360" y="2840040"/>
            <a:ext cx="2705040" cy="21715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3203640" y="316548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женскую моду пуговицы входили значительно медл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чины коренились  в общественной нравственности, которая отвергала застежки спер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вплоть до начала 1920-х годов застежки и шнуровки в женской одежде, в большинстве своем, были сз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19" descr="Пуговицы"/>
          <p:cNvPicPr/>
          <p:nvPr/>
        </p:nvPicPr>
        <p:blipFill>
          <a:blip r:embed="rId2"/>
          <a:stretch/>
        </p:blipFill>
        <p:spPr>
          <a:xfrm>
            <a:off x="328680" y="189000"/>
            <a:ext cx="2500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59:25Z</dcterms:created>
  <dc:creator>Салионов</dc:creator>
  <dc:description/>
  <dc:language>en-US</dc:language>
  <cp:lastModifiedBy>Admin</cp:lastModifiedBy>
  <dcterms:modified xsi:type="dcterms:W3CDTF">2012-11-24T19:08:31Z</dcterms:modified>
  <cp:revision>22</cp:revision>
  <dc:subject/>
  <dc:title>История пуговицы</dc:title>
</cp:coreProperties>
</file>