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6C3F-CC43-4369-B3E0-33D093C48E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E7D8-97A2-44CC-B4BA-9F091AA3AB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5EF-7717-4D2D-9E82-3565AB53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101-BF9F-420F-988B-2CDFEB8C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C62-4FE0-4450-9E25-2988A792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1BB-A4A9-40E1-B708-68867B08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5441-06A4-48E1-9BB9-5076FDBB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2846-C8E2-492D-8CA5-84C3300D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11DC-B518-415E-A190-D89D378F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F012-1FB6-4771-BD89-208D49EA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04CB-A5EE-4B60-A4DF-0506905C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E508-EC14-4724-84B6-324F02EC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5092-6E0E-44F4-9F4C-3C7E85E9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EAC-E9FD-4B5C-9940-DB200B4C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3767-6396-4CE7-A754-A5C7D91F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E225-96FB-491D-ADE7-3E5848DC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C9AB-A1B4-4522-B2C8-68064F44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2FC7-6135-4569-869B-F85B330C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A14E-9081-40E3-A847-B59545B8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05738-0936-417C-B669-341964C4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F70E-CF08-4A1A-8AEC-22F336B1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4745B-C0DE-41B9-A25E-3FF5C923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B113-9964-459B-BD24-29C7B230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51DD8-F558-42E0-81BB-BE29AED9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B05-1D6B-4900-B821-08AC5AA4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8AF4-15B6-4571-BBA6-19C2D417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B6861-962D-4D43-9210-556B95A7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DC167-9AE8-4BD3-8C59-E75F04E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F6499-2E48-456F-A783-FE83B87A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7170B-770F-4661-9A15-F662AB62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8C6C-05DA-4462-8983-1DED50E7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06FC0-5F34-43F1-98BE-D27AFB65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D76BE-C867-42BE-A435-230C9375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C897C-33DB-4C3E-B473-834BEE92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7B972-F9A6-4669-8AF8-9C6AEFEF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2D2-6EEA-438A-8671-EB353A75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F064-3B3A-43B3-A4EC-FA002478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AD824-EB6E-4AFF-A80D-4B59B21A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F3F64-D808-4D37-B694-A41CFEB2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86AA6-2FBE-43A7-847B-8EE878F9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D22BA-CB2D-47DC-955A-D4DB4ED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0702A-39D1-489E-AB5F-F4617ADC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9006-1286-406B-B414-FF4A57EB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CF3E1-B0F9-417A-B9D9-B2CC9524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73F2B-4F18-45BA-91A2-0D1802CF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4FE-2804-4159-A950-8D083314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7D0-3C5C-452C-A182-98ABA9CA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53E-250B-435F-954E-FC78F68B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5B7-191F-460A-832E-986FE4F0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63B6-5A5D-4A78-9E19-511B83B0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293F-B212-4B2A-BDDC-29593C1295E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596E-2F64-4004-9DFE-73FB59489E2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A4AA-734A-43D7-A47B-066D765E07F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352E-6149-49E9-BFC3-EA8ACC48FE3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jpeg"/><Relationship Id="rId3" Type="http://schemas.openxmlformats.org/officeDocument/2006/relationships/image" Target="../media/image13.jpeg"/><Relationship Id="rId4" Type="http://schemas.openxmlformats.org/officeDocument/2006/relationships/image" Target="../media/image15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a/Clothes_button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828720" y="1676520"/>
            <a:ext cx="71755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140000" y="691920"/>
            <a:ext cx="4824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иколай I ввел в обиход ведомственные пуговиц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дальнейшем обозначающая роль пуговиц весьма развилась - и в царские, и в советские, и в наши времена форменные пуговицы профессиональных, военных, образовательных, юридических и других  учреждений рассказывают о принадлежности носител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чти все должностные лица империи – от сторожа до государственного канцлера – носили мундиры с пуговицами определенного типа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5" descr="http://www.artem.chulpanov.ru/img/button08.jpg"/>
          <p:cNvPicPr/>
          <p:nvPr/>
        </p:nvPicPr>
        <p:blipFill>
          <a:blip r:embed="rId1"/>
          <a:stretch/>
        </p:blipFill>
        <p:spPr>
          <a:xfrm>
            <a:off x="468360" y="836640"/>
            <a:ext cx="3527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788000" y="476280"/>
            <a:ext cx="3970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фицерские пуговицы отличались от солдатских тем, что должны были быть золотыми или серебряными, но чаще делались позолоченными и посеребренным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олдатские изготовлялись из меди, бронзы, олова и латуни.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гвардии и у генералитета пуговицы были гербовыми, с орлом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оме того, в тех полках, где шефами являлись члены императорской фамилии, на пуговицах присутствовало изображение императорской корон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3" name="Рисунок 4" descr="http://hearth.narod.ru/home/000304.jpg"/>
          <p:cNvPicPr/>
          <p:nvPr/>
        </p:nvPicPr>
        <p:blipFill>
          <a:blip r:embed="rId1"/>
          <a:stretch/>
        </p:blipFill>
        <p:spPr>
          <a:xfrm>
            <a:off x="324000" y="380880"/>
            <a:ext cx="2209680" cy="26672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2" descr="Декоративные пуговицы 1930-х"/>
          <p:cNvPicPr/>
          <p:nvPr/>
        </p:nvPicPr>
        <p:blipFill>
          <a:blip r:embed="rId2"/>
          <a:stretch/>
        </p:blipFill>
        <p:spPr>
          <a:xfrm>
            <a:off x="395280" y="3789360"/>
            <a:ext cx="2881440" cy="26082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1" descr="Кожаная пуговица"/>
          <p:cNvPicPr/>
          <p:nvPr/>
        </p:nvPicPr>
        <p:blipFill>
          <a:blip r:embed="rId3"/>
          <a:stretch/>
        </p:blipFill>
        <p:spPr>
          <a:xfrm>
            <a:off x="2428920" y="1484280"/>
            <a:ext cx="25034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731520"/>
            <a:ext cx="7920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В наше время пуговица – это и застёжка на одежде, и декоративный элемент, и украшение, подчёркивающее её стиль, придающее наряду некий шарм и элегантность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Рисунок 3" descr="http://hearth.narod.ru/home/000303.jpg"/>
          <p:cNvPicPr/>
          <p:nvPr/>
        </p:nvPicPr>
        <p:blipFill>
          <a:blip r:embed="rId1"/>
          <a:stretch/>
        </p:blipFill>
        <p:spPr>
          <a:xfrm>
            <a:off x="3419640" y="4005360"/>
            <a:ext cx="27050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928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>
              <a:lnSpc>
                <a:spcPct val="9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3400" spc="-1" strike="noStrike">
                <a:solidFill>
                  <a:srgbClr val="404040"/>
                </a:solidFill>
                <a:latin typeface="Trebuchet MS"/>
              </a:rPr>
              <a:t>История маленьких приспособлений для скрепления деталей костюма - это занимательный рассказ о выдумке, мастерстве, фантазии портных и прочих мастеров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9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9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Trebuchet MS"/>
              </a:rPr>
              <a:t>В самой природе пуговиц есть какая-то искорка, вызов, способность организовать костюм, подчиняя его единому стилю, создавая настроение и праздник на каждый день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433440" y="517680"/>
            <a:ext cx="8418600" cy="324324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2" descr="Декоративные пуговицы 1930-х"/>
          <p:cNvPicPr/>
          <p:nvPr/>
        </p:nvPicPr>
        <p:blipFill>
          <a:blip r:embed="rId2"/>
          <a:stretch/>
        </p:blipFill>
        <p:spPr>
          <a:xfrm rot="21172200">
            <a:off x="394920" y="3789360"/>
            <a:ext cx="2881440" cy="26082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19" descr="Пуговицы"/>
          <p:cNvPicPr/>
          <p:nvPr/>
        </p:nvPicPr>
        <p:blipFill>
          <a:blip r:embed="rId3"/>
          <a:stretch/>
        </p:blipFill>
        <p:spPr>
          <a:xfrm rot="20790600">
            <a:off x="1871640" y="2031480"/>
            <a:ext cx="2500200" cy="235764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8" descr="О магической роли пуговиц. История русской пуговицы"/>
          <p:cNvPicPr/>
          <p:nvPr/>
        </p:nvPicPr>
        <p:blipFill>
          <a:blip r:embed="rId4"/>
          <a:stretch/>
        </p:blipFill>
        <p:spPr>
          <a:xfrm rot="245400">
            <a:off x="4021200" y="2636640"/>
            <a:ext cx="2512800" cy="34416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" descr="http://www.artem.chulpanov.ru/img/button08.jpg"/>
          <p:cNvPicPr/>
          <p:nvPr/>
        </p:nvPicPr>
        <p:blipFill>
          <a:blip r:embed="rId5"/>
          <a:stretch/>
        </p:blipFill>
        <p:spPr>
          <a:xfrm rot="477000">
            <a:off x="6372000" y="316980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280" y="731520"/>
            <a:ext cx="8209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" algn="ctr">
              <a:lnSpc>
                <a:spcPct val="80000"/>
              </a:lnSpc>
              <a:spcBef>
                <a:spcPts val="10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В каком времени берёт начало этот элемент одежды – пуговица?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42480" algn="ctr">
              <a:lnSpc>
                <a:spcPct val="80000"/>
              </a:lnSpc>
              <a:spcBef>
                <a:spcPts val="10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Какая история скрывается за её нарядным блеском?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42480" algn="ctr">
              <a:lnSpc>
                <a:spcPct val="80000"/>
              </a:lnSpc>
              <a:spcBef>
                <a:spcPts val="10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Кто автор этого изобретения?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4000" y="731880"/>
            <a:ext cx="78483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Что такое пуговица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уговица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 — застёжка на одежде, предназначенная для соединения её частей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стейшая пуговица представляет из себя диск, с двумя сквозными отверстиями в середине, однако встречаются пуговицы других видов и форм (например, квадратные, треугольные, цилиндрические или шарообразные). Количество отверстий также может варьироватьс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Рисунок 1" descr="Файл:Clothes button.jpg"/>
          <p:cNvPicPr/>
          <p:nvPr/>
        </p:nvPicPr>
        <p:blipFill>
          <a:blip r:embed="rId1"/>
          <a:stretch/>
        </p:blipFill>
        <p:spPr>
          <a:xfrm>
            <a:off x="3419640" y="4653000"/>
            <a:ext cx="21603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780000" y="739440"/>
            <a:ext cx="49003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89720" indent="-15120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Древние люди вместо пуговиц соединяли куски своей одежды шипами от растений, косточками животных и палками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89720" indent="-15120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В Древнем Египте уже использовались пряжки или один кусок одежды продевался в отверстие, сделанное в другом, или концы просто связывалис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89720" indent="-15120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89720" indent="-15120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Самые древние пуговицы и предметы, похожие на пуговицы, используемые в качестве украшения, а не для застёгивания, были обнаружены в Индии. Подобные предметы эпохи бронзового века найдены в Китае (ок. 2000—1500 до н.э.), а также на территориях бывшего Древнего Рима и Древней Греци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89720" indent="-15120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89720" indent="-15120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Функциональные пуговицы, сделанные из камня, были найдены на юго-востоке Турции, они датируются 1500 г. до н.э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Рисунок 1" descr="Файл:Clothes butt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581200"/>
            <a:ext cx="1752840" cy="15717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О магической роли пуговиц. История русской пуговицы"/>
          <p:cNvPicPr/>
          <p:nvPr/>
        </p:nvPicPr>
        <p:blipFill>
          <a:blip r:embed="rId3"/>
          <a:stretch/>
        </p:blipFill>
        <p:spPr>
          <a:xfrm>
            <a:off x="468360" y="714240"/>
            <a:ext cx="3076560" cy="1866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9" descr="Пуговицы"/>
          <p:cNvPicPr/>
          <p:nvPr/>
        </p:nvPicPr>
        <p:blipFill>
          <a:blip r:embed="rId4"/>
          <a:stretch/>
        </p:blipFill>
        <p:spPr>
          <a:xfrm>
            <a:off x="468360" y="3929040"/>
            <a:ext cx="28573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76600" y="333360"/>
            <a:ext cx="5114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80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В прошлом, пуговица часто была одним из важных магических амулетов, призванных отпугивать враждебные человеку сил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На Руси именно эта функция пуговицы долгое время оставалась основно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лово "пуговица" попало на Русь с Востока, пришло оно из древнеиндийского языка и буквально означает "ком, куча, масса". До русских модников пуговица, которую тогда называли "пугвицой", "докатилась" в конце XV ве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о знаменитой петровской реформы костюма и приказа носить иностранное платье </a:t>
            </a: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русские бояре и боярыни не скупясь платили золотых дел мастерам и иностранным купцам большие деньги за пуговицы из драгоценных металлов со вставками из бирюзы, жемчуга, кораллов, эмалей.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Очень модными были круглые, похожие на шарики пуговицы с петелькой для пришивания - их называли </a:t>
            </a: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кляпышами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Рисунок 4" descr="О магической роли пуговиц. История русской пуговицы"/>
          <p:cNvPicPr/>
          <p:nvPr/>
        </p:nvPicPr>
        <p:blipFill>
          <a:blip r:embed="rId1"/>
          <a:stretch/>
        </p:blipFill>
        <p:spPr>
          <a:xfrm>
            <a:off x="500040" y="852480"/>
            <a:ext cx="3076560" cy="186696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5"/>
          <p:cNvSpPr/>
          <p:nvPr/>
        </p:nvSpPr>
        <p:spPr>
          <a:xfrm>
            <a:off x="573120" y="292428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ревнерусские пуговицы-гирь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6" descr="О магической роли пуговиц. История русской пуговицы"/>
          <p:cNvPicPr/>
          <p:nvPr/>
        </p:nvPicPr>
        <p:blipFill>
          <a:blip r:embed="rId2"/>
          <a:stretch/>
        </p:blipFill>
        <p:spPr>
          <a:xfrm>
            <a:off x="500040" y="3457440"/>
            <a:ext cx="2841480" cy="25210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108000" y="6012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уговицы на кафтанах. Примерно Х 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8" descr="О магической роли пуговиц. История русской пуговицы"/>
          <p:cNvPicPr/>
          <p:nvPr/>
        </p:nvPicPr>
        <p:blipFill>
          <a:blip r:embed="rId1"/>
          <a:stretch/>
        </p:blipFill>
        <p:spPr>
          <a:xfrm>
            <a:off x="324000" y="620640"/>
            <a:ext cx="2781000" cy="38102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0" descr="О магической роли пуговиц. История русской пуговицы"/>
          <p:cNvPicPr/>
          <p:nvPr/>
        </p:nvPicPr>
        <p:blipFill>
          <a:blip r:embed="rId2"/>
          <a:stretch/>
        </p:blipFill>
        <p:spPr>
          <a:xfrm>
            <a:off x="1714680" y="2349360"/>
            <a:ext cx="256212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6" name="Прямоугольник 5"/>
          <p:cNvSpPr/>
          <p:nvPr/>
        </p:nvSpPr>
        <p:spPr>
          <a:xfrm>
            <a:off x="4427640" y="620640"/>
            <a:ext cx="4071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ссии пуговицы на одежде были своеобразной «визитной карточкой» владель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х количество, форма, имевшиеся на них узоры и знаки могли поведать о положении человека, его заслугах, близости к власти, поэтому 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ские бояре и боярыни не скупясь платили золотых дел мастерам большие деньги за пуговицы из драгоценных метал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253080" y="17604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уговицы. Серебро, эмаль. XVI-XVII в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181080" y="624348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уговицы со столовых царских кафта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211280" y="456840"/>
            <a:ext cx="46861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 каждому виду платья полагалось строго определённое число пуговиц: к кафтану пришивали по 3, 8, 10, 11, 12, 13 или 19 пуговиц; к шубе — по 8, 11, 13, 14, 15, 16. Самое большое количество пуговиц полагалось иметь на тигилее (стёганый кафтан с коротким рукавом, который носили ратники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ем больше пуговиц на одежде, тем богаче её хозяин, тем выше его положение в обществе, тем ниже кланялись ему окружающ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9720" y="90360"/>
            <a:ext cx="235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50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арский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фтан, женская шу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25" descr="О магической роли пуговиц. История русской пуговицы"/>
          <p:cNvPicPr/>
          <p:nvPr/>
        </p:nvPicPr>
        <p:blipFill>
          <a:blip r:embed="rId1"/>
          <a:stretch/>
        </p:blipFill>
        <p:spPr>
          <a:xfrm>
            <a:off x="0" y="457200"/>
            <a:ext cx="2695680" cy="38098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23" descr="О магической роли пуговиц. История русской пуговицы"/>
          <p:cNvPicPr/>
          <p:nvPr/>
        </p:nvPicPr>
        <p:blipFill>
          <a:blip r:embed="rId2"/>
          <a:stretch/>
        </p:blipFill>
        <p:spPr>
          <a:xfrm>
            <a:off x="2549520" y="907920"/>
            <a:ext cx="1512720" cy="45482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4" descr="О магической роли пуговиц. История русской пуговицы"/>
          <p:cNvPicPr/>
          <p:nvPr/>
        </p:nvPicPr>
        <p:blipFill>
          <a:blip r:embed="rId3"/>
          <a:stretch/>
        </p:blipFill>
        <p:spPr>
          <a:xfrm>
            <a:off x="1042920" y="2963880"/>
            <a:ext cx="198756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2" descr="http://hearth.narod.ru/home/000302.jpg"/>
          <p:cNvPicPr/>
          <p:nvPr/>
        </p:nvPicPr>
        <p:blipFill>
          <a:blip r:embed="rId1"/>
          <a:stretch/>
        </p:blipFill>
        <p:spPr>
          <a:xfrm>
            <a:off x="684360" y="1122480"/>
            <a:ext cx="2808000" cy="40640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3924360" y="476280"/>
            <a:ext cx="442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XVIII столетии состоялся парадный выход пугов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ни мануфактур и отдельных мастеров во многих странах шили, монтировали, вытачивали, штамповали, гранили и вырезали пугов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яду с великолепными образцами из золота, серебра и драгоценных камней начали появляться обтяжные пуговицы, которым предстояло стать преобладающими в следующем столет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изготовляли в тон одежде, обтягивая деревянную или костяную пуговицу на ножке. Пуговицы со сквозными отверстиями вошли в моду много поз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058920" y="333360"/>
            <a:ext cx="577188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лгое время пуговицы были привилегией мужчин. Пуговицы не только выполняли функцию застёжек, но и были композиционной частью мужского костюм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велиры  изготавливали для парадных мужских туалетов пуговицы очень высокой стоимости, используя дорогие камни и сложные техник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Рисунок 3" descr="http://hearth.narod.ru/home/000303.jpg"/>
          <p:cNvPicPr/>
          <p:nvPr/>
        </p:nvPicPr>
        <p:blipFill>
          <a:blip r:embed="rId1"/>
          <a:stretch/>
        </p:blipFill>
        <p:spPr>
          <a:xfrm>
            <a:off x="225360" y="2840040"/>
            <a:ext cx="2705040" cy="217152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4"/>
          <p:cNvSpPr/>
          <p:nvPr/>
        </p:nvSpPr>
        <p:spPr>
          <a:xfrm>
            <a:off x="3203640" y="316548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женскую моду пуговицы входили значительно медлен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чины коренились  в общественной нравственности, которая отвергала застежки спере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 вплоть до начала 1920-х годов застежки и шнуровки в женской одежде, в большинстве своем, были сз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19" descr="Пуговицы"/>
          <p:cNvPicPr/>
          <p:nvPr/>
        </p:nvPicPr>
        <p:blipFill>
          <a:blip r:embed="rId2"/>
          <a:stretch/>
        </p:blipFill>
        <p:spPr>
          <a:xfrm>
            <a:off x="328680" y="189000"/>
            <a:ext cx="2500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6:59:25Z</dcterms:created>
  <dc:creator>Салионов</dc:creator>
  <dc:description/>
  <dc:language>en-US</dc:language>
  <cp:lastModifiedBy>Admin</cp:lastModifiedBy>
  <dcterms:modified xsi:type="dcterms:W3CDTF">2012-11-24T19:08:31Z</dcterms:modified>
  <cp:revision>22</cp:revision>
  <dc:subject/>
  <dc:title>История пуговицы</dc:title>
</cp:coreProperties>
</file>