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wmf" ContentType="image/x-wmf"/>
  <Override PartName="/ppt/media/image27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9D0-6FC2-4BD5-BCB3-D06A5BF3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651-C296-424B-BBD5-FDE47B44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C107E-D7EA-4198-A0A3-B6CACD61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122FF-0A02-4E07-8F90-42C3F87B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46C1C-806F-4433-9D3A-C2866DD4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E89B5-5B00-4EF7-88B5-EAC20CBF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8F350-4C44-4CD6-AAF7-923E1BB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F1CF4-E607-41E3-A5FC-F0C6BB2C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ED43B-A394-4BD8-BBD3-073A2224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8494A-AD94-489F-84C8-E9CB7B8E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80D68-ABEB-4DBC-BCD8-C8EE5DD4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AD1C1C-E138-44C5-8B83-3C4096A3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00B-FE2B-40F6-8AD4-C7F2FCC4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89784-833A-46C9-B1D5-FA5F889E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F8172F-A4F8-47F4-8176-744D6CFC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D5CE83-5E6B-44A5-93D6-079FD9E1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A99186-5D1E-4563-98F6-B4282135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703039-3AEC-4A5D-B7EF-9C42BA26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1689E0-EC77-4865-AB7E-8480164A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E8E160-3DFF-406F-BEF4-F81AE11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45514A-CF03-4F40-A7D3-33E51844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9171A4-05D0-4779-A288-ADC5768E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D267B6-A275-415C-ADEE-11509C82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BF2-F24A-4F24-9B6C-612EA8E9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F73338-E694-4F29-9FD7-9A454F31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FB0C8-7305-448A-A189-6F73007A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CA15A-C82C-46A0-82A9-683110BD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3FE00-52CF-4EA0-B418-DA4CADCE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69823-0635-44F4-83C4-FB90E537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AF0A7-D877-42CD-BE3B-F1B779CF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88C87-95A0-4539-B69B-7E2E36E0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FC113-F1E8-45A4-8FCD-0F0CC010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74200-C148-4697-9D68-EDC99CF9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C6911-CB19-4D51-AA7C-6C75DC1E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7F2D-C78D-4F81-B7EC-32E988D2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1E390-4C13-44E8-A57A-DB794A25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94FAC-951D-4B77-9256-072D0ACF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77990-B670-458E-975A-BED4BBAC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E530F-8EEA-466E-A47F-6064A39C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7BC13-F5E5-4020-8CC0-B6CA5D47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ACE93-66BD-4E11-9C5C-019C94B9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55AEA-DFDA-4548-80F6-CB131FB2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4978E-7ABF-4921-A4F0-79938A86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D2D9F-2452-4623-A1E8-A336FCE8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5B562-A62C-40E2-BFC4-F37C34AD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5087-48FF-478F-81B7-2A0416BC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2B224-4DD0-4B0C-A2A3-A19A9991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AD6FF-DCAD-4FF8-8E1A-11759FB9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947BC-5370-4B46-A389-93946273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1B8C0-E65E-4D8D-939B-A25FBB3F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B56CE-06D2-4DF5-AF55-10A4128D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7B3B7-87BC-44AE-A114-9B2FAFDB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2B7D1-9F2D-462F-A241-60EC8D87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28172-C817-4AE3-B92F-6CAB7780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3CF3F-CE41-444E-8698-674D7E76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C7D74-F20B-4DE8-BDC0-95F06A66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1D4E-92AF-4C6D-AA4D-E6223B4B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40D9B-9F72-4A5A-A462-840C02AD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1786B-D182-48D6-872A-FC341359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E34A9-314E-450D-B9B0-C770509B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11B5F-2CF5-4E68-B8A0-2B981E48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9099F-9FAB-4128-86A0-780147A3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6F66F-38A7-4928-A97D-D9D70AFD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2281E-B43B-4C91-916B-39393DC6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AF458-B56B-43C7-B81E-BF2F229D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4797E-2F81-4607-B8FB-5AC750A0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2FD9B-58C9-4B34-AEAA-13943BA9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E55F-2774-4687-B724-9F3ADF60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C86FA-1FDB-4D9B-8E56-214B4D41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3CCB6-1FF0-42E1-84FC-E38843CF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B2D73-2352-4388-91EA-15A3B204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097FA-256D-415C-99B0-85369A19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DCE3C-519F-47AE-8B88-9F410ACD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4DA84-9F1E-41B2-AF17-BEFE3C70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E0754-0DE4-4D70-8262-9683C099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75139-A587-4B1A-BE22-8E771AA8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C9473-A107-4933-9A23-F9206AA5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4E371B-264D-491A-8385-954C134A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BD7D-7CEF-420A-852F-EEC83563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71C861-412D-489A-8CFC-FF00A517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1841F0-30F7-4153-9DF2-C0432CD5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B17BC4-26CF-45EC-9726-07357202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DE74DD-218A-4AD9-85BB-FD7CE603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F323EA-DCE6-40D4-A818-BDF40E25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378A14-6949-44EA-8E3F-64B5EEA2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54C4A3-149C-4A2E-BB84-8261DEBB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A331EE-69E2-4033-BE88-AA632502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EB83B2-6138-46C5-8310-A2CA9123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3A4910-55AB-4D51-9EB0-74938E41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6C02-8EE6-4C35-9C28-303CE896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CA17D6-FFBF-4BCA-9B55-FC6B4C64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635A8-5C1E-4D23-8950-7C2CCE26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8B0581-1F1F-4421-8412-30671CED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C67722-9C17-4018-BAAC-DB14856B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0FBC7-E79B-49C4-BF4B-B82842BA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9E924-9EE1-4BA3-B4F9-61D0BA71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88E13-2EB3-4946-A470-75BC7B2B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61833-284B-4722-BCAB-FEAF145A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BC431-2061-4337-A5D7-36A1474B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09106-A773-4C55-9E59-C0283AD6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A012-A0DE-49EA-B65C-BC5D54B9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99ADD-5EBA-40CC-AF35-B274A945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C7F42C-39DE-479C-AAFA-812AB50E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12D6F-B3A7-46E2-99E0-2E3366E5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C37-F753-4CA8-B0A3-5F18AF38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9976-A55A-46FC-8CDC-1613E867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925F-05E0-49E3-91F7-40DCE73D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4EB2-5367-496F-8968-47BD099F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9383-0D84-43A0-A65B-2E713F66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8A43-98CA-4BE4-A451-A4814A5A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F38E-73A1-4E86-8663-D30EAB32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C9BB-D528-4B72-8DDC-0887B28D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4DBA-9E3F-4524-9343-B6BBE883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ED6D-0742-4B8B-8073-13449533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73911-30EB-49C8-8104-8CA3F8DD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EBB-9DD2-43DE-AC46-C030E268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419D7-5348-4D25-95F0-AFE35461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B9D6-95EA-47A7-885D-4A5256CF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329A5-AA80-4668-8794-5DE5042E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EA0D0-8C61-4EB2-92E7-206D0E1B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6D188-1568-4492-B09F-52312902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8421-5DDC-4F49-994B-1EDB3328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45C5-F49A-467B-95C9-2AD35DEF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03A0B-CDDC-4D1E-84BF-5B46E005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041CD-1645-435C-BDD6-78B68653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0914-9D17-4703-BD10-BEBA69D8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FD6-AFD4-42BB-A9DE-8E1F3E27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A2208-54E0-41F2-9E4A-37A8DAB9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1C778-8DB9-4717-B553-7E6A8CC2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44B1-0C29-4DF1-9FF9-FC7EBB9A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418FC-D90F-4D83-9A25-2642D23D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EB1D5-CAD0-43C0-81BB-ED979D9A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AAFB8-994C-41D0-9437-42D9BAF4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9EB89-E527-4DA1-9F25-1A444C0B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E53CF-B08F-4460-A401-B54673A7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62C2D-3667-4F81-B00D-9A83115B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BBEC9-D2EA-42F3-A4D0-66094871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C82-9062-4371-9AFC-0263FC19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531A3-A9E9-4105-A24C-56BD0100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29F41-88CF-46E5-9D5A-AA25834E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8C5D3-B9A4-446C-BE71-3B912305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0094-6C36-44A9-A98D-4931AB2C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9E42D-AA09-4CCB-9889-759826E0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A4DF0-975E-402E-97BD-DB317C42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06068-2C47-443D-9494-22AD221E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90F95-A24F-4FF2-BC2F-874B8CB5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F1F5F-E2BD-41C6-A80D-ECF74F51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98561-FA1F-43DD-8919-097266AF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689-E685-4611-A557-58BF9DDB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35370-0D0F-4F2A-A417-5EB7174D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67C8E-3407-467C-BFF8-3315462D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10C47-D746-4C50-BC94-C4DFFDE2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02E6C-6793-4C7B-AE69-351E1158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B8890-D995-4D4A-9F1A-56739EB2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9920-73AC-4682-A052-E311AD51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052F0-62CE-43ED-A33A-EF53B7F2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DFB43-B83E-43C6-8F4B-F6910A38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FD132-DADE-4383-8EDF-216CF2D1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81E21-1E54-45E2-9437-6221D9F2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305-02D2-49A1-858F-94BCC656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29281-E508-4ABB-9A5E-166A200F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49D4E-68EF-4D85-80A5-FF3B2963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C309F-715F-493F-A853-5ECBE730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AFCCB-3EAB-4C4A-BE05-5F70717A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94CBE-DBB7-4EC1-8D66-5DDE238B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32819-D109-4C4F-B7B9-C3570CBC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8CBC3-19CE-4DD5-ABEF-1F06660D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8F126-1458-4D90-BF7E-76119284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FA86B-26D9-4EEF-A506-DAA3B288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CFF3A-6288-46FD-8375-57B1BFE4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615-8CC8-45D8-BB56-00493FF1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FD9EA-A23B-4F8A-AEF4-CB7420BF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B4389-AB51-4E69-8099-33E2EE38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7B389-66F6-4BBD-B573-17215FDA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BFEF4-32DD-4002-BD1B-6C4EBB09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AC173-DAE0-4233-88A8-FD4F489A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16AFA-DE5A-4B2B-9C31-0BDF7CAA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695B3-0764-486A-9F3C-CFB50186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41E7F-8DB0-45A3-B16A-86D1C5C3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931B0-96A6-4A6A-970F-6BC06E7B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D8E84-C66B-40B6-ACC3-33B56B18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E33-D5D9-49B7-8B0A-C7841B17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593DF-7E94-4A25-9626-D91E878B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CEEE7-BB52-4287-A47E-8FCAA79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55C97-72B9-4688-86A5-CFE50BB0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7CD3F-43D0-49BC-8CB4-B0D39FF1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A8935-291F-4422-A829-49033289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27193-755F-4AD2-AA8E-D40CD52D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8E891-AA50-49B8-8488-52756DD0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270B4-50FA-4944-9159-032CEF2C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D1524-EA8B-4C4F-98AC-6EEE87B1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909EE-7678-4868-83B4-5707FFAA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6091-46A6-4D47-A753-2418387F25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1F31-87AE-4486-84A7-596A068FE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691E-1ED7-4B28-9DCE-B832EE725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DA65-A23A-43B3-8D9E-BD2BC35BF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0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079E-2A23-4661-AC9A-BF7D89060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5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AD66-146E-4C5D-AF5A-767B1AEDC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BA6E-20B4-4833-B9B7-4E4A8032D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0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5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9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1B3C-0149-43DF-ACD4-702C9282B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93A5-703C-4E44-9443-F67922674A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1874-E88A-44D6-94CE-2AEF9A391E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7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9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D93D-072D-4D17-BD63-64A97C85BD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56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58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972E-8723-4A5B-9FE4-31B830C051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03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05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09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4912-59DC-4D78-BD0F-B73D6731AC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5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9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8D93-7E3E-4EE5-8791-F58F447330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4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7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9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AFC5-AE22-4B89-8967-D204FA6C3A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43D2-5202-4CAC-8CF4-BBEA40659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87631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КВАДРАТИЧНАЯ ФУНКЦИЯ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матема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«Кульгешская ОО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. Н.А.Афанасьев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ександрова Надежда  Ксенофонт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4360" y="33336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а) (-5:4)  б)(-2;0)  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(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)(4;-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0;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~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3. не принадлеж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4. а) не име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имеет х = -2  и х =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имеет х = -2  и х = 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а) 1 и 2 в координатных четвер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3 и 4 в координатных четвер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1,2,3,4 в координатных четвер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вторение алгоритма построения графика квадратичной функ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найти координаты вершины параболы ;х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/2a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; ỵ = ах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.²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 +вх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+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построить в системе координат полученную точку и провести  оси вспомогательной системы координат  (прямые  и х=х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 у=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по коэффициенту 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 определить направление ветвей параб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построить  несколько точек принадлежащие этому граф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провести плавную линию через указанные точки. График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325800" y="260280"/>
            <a:ext cx="6168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дайте уравнением каждую функ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6732720" y="692280"/>
                <a:ext cx="21891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6875640" y="2709720"/>
                <a:ext cx="13255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7040520" y="3759120"/>
                <a:ext cx="2103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6" name=""/>
          <p:cNvSpPr/>
          <p:nvPr/>
        </p:nvSpPr>
        <p:spPr>
          <a:xfrm>
            <a:off x="6381720" y="909720"/>
            <a:ext cx="217440" cy="217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365880" y="1787400"/>
            <a:ext cx="217440" cy="217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516720" y="3933720"/>
            <a:ext cx="217440" cy="217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443640" y="2852640"/>
            <a:ext cx="217440" cy="2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0" y="947880"/>
            <a:ext cx="6299280" cy="548640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6012000" y="170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 = -0,5(х + 4)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95280" y="260280"/>
            <a:ext cx="638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дайте уравнением каждую функ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6456240" y="722160"/>
                <a:ext cx="216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6369120" y="3170160"/>
                <a:ext cx="20448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6396120" y="4537080"/>
                <a:ext cx="1814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8734320" y="909720"/>
            <a:ext cx="217440" cy="217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926560" y="2146320"/>
            <a:ext cx="217440" cy="217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8632800" y="3314880"/>
            <a:ext cx="217440" cy="217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313840" y="4683240"/>
            <a:ext cx="217440" cy="2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09800" y="44280"/>
            <a:ext cx="415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Установите соответствие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0" y="781200"/>
            <a:ext cx="6426360" cy="538452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6443640" y="198900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 = 3х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²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+ 24х +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323640" y="260280"/>
            <a:ext cx="3548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тветьте на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298440" y="888840"/>
            <a:ext cx="6337440" cy="568980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6300720" y="304920"/>
            <a:ext cx="3384720" cy="597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колько графиков квадратичных функций изображе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ершина зеленой параб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Какая из парабол имеет наибольшее знач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сь синей параб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йте уравнением каждую из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84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8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36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8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880200" y="274680"/>
            <a:ext cx="63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троить графики функ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116000" y="1773360"/>
                <a:ext cx="34034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00000" y="3645000"/>
                <a:ext cx="38354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580000" y="1844640"/>
                <a:ext cx="2162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5219640" y="3573360"/>
                <a:ext cx="33498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-196920" y="0"/>
            <a:ext cx="93409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5424480" y="2727360"/>
                <a:ext cx="34034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073480" y="4383000"/>
                <a:ext cx="38354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6770520" y="2725560"/>
                <a:ext cx="216252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0" y="-347760"/>
            <a:ext cx="9144000" cy="720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09680" y="293760"/>
                <a:ext cx="33494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63520" y="-360"/>
            <a:ext cx="7386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ь алгоритм построения графика квадратичной функ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ь построение графиков квадратичной функ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ть умение по графику квадратичной функции определять наибольшее (наименьшее) значение функции, промежутки возрастания убы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1531800" y="1765440"/>
            <a:ext cx="6134400" cy="509256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2484360" y="-316080"/>
            <a:ext cx="4381560" cy="190512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3"/>
          <a:stretch/>
        </p:blipFill>
        <p:spPr>
          <a:xfrm>
            <a:off x="1533600" y="1746360"/>
            <a:ext cx="6108480" cy="5054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378400" y="5284800"/>
                <a:ext cx="3765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,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433840" y="5234040"/>
                <a:ext cx="37101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4" name=""/>
          <p:cNvSpPr txBox="1"/>
          <p:nvPr/>
        </p:nvSpPr>
        <p:spPr>
          <a:xfrm>
            <a:off x="585720" y="698400"/>
            <a:ext cx="78231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рафик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ичной функц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стовы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7724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1/  Какая из следующих парабол отсутствует на рис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1349280" y="2421000"/>
            <a:ext cx="4807080" cy="338436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>
            <a:off x="-330840" y="5949000"/>
            <a:ext cx="100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А.у = 4 – х2        Б.у = 4 + х2       В.у = (х – 4)2 – 4       Г.у = ( х + 4)2 –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14400" y="259920"/>
            <a:ext cx="77724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.   Дана функция у = а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+ вх + с. На каком рисунке изображён график этой функции, если известно, что а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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 и квадратный трёхчлен   а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+ вх + с имеет два положительных кор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4314960" cy="3813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3/ На рисунке изображены графики функций вида у = а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+ с. Установите соответствие между графиками и знаками коэффициентов а и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а) а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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, с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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           б) а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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, с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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            в)  а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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, с 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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472360" cy="360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14400" y="0"/>
            <a:ext cx="77724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4..На рисунке изображён график функции у =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(х). Используя график, сравните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( -1,5) и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(1,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887640" cy="352728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637200" y="4743360"/>
            <a:ext cx="789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А.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( -1,5)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(1,5)                 Б.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( -1,5)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(1,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В.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( -1,5)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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(1,5)                  Г. Сравни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5. На рисунке изображён график функции у = 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+ 2х. Используя этот график, решите неравенство х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+ 2х. ≤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3384360" cy="2870280"/>
          </a:xfrm>
          <a:prstGeom prst="rect">
            <a:avLst/>
          </a:prstGeom>
          <a:ln w="0">
            <a:noFill/>
          </a:ln>
        </p:spPr>
      </p:pic>
      <p:sp>
        <p:nvSpPr>
          <p:cNvPr id="1002" name=""/>
          <p:cNvSpPr/>
          <p:nvPr/>
        </p:nvSpPr>
        <p:spPr>
          <a:xfrm>
            <a:off x="202680" y="4716720"/>
            <a:ext cx="1145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А. (-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; -2)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 (0; +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)         Б. ( -2; 0)      В. (-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; -2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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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0; +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)        Г.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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 -2; 0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4360" y="0"/>
            <a:ext cx="77724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6. На рисунке изображён график функции у = -2х2 + 4х +6. Вычислите координаты точки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395280" y="5288040"/>
            <a:ext cx="8748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А.  (-1;0)                Б. (3;0)            В. (1;0)              Г. (-3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82692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7. На каком рисунке изображён график функци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 =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(х), обладающей свойствами: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(0) = 2 и функция убывает на промежутке (-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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; 1</a:t>
            </a:r>
            <a:r>
              <a:rPr b="1" i="1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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4508640" cy="389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Ответы на тес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.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. 1) в      2) б     3)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.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.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6.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.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ИТОГ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-685800" y="2226240"/>
            <a:ext cx="10539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Понравилось ли сегодня вам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Чем мы сегодня занимались на уро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Что понравилось? Что не понравилос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Узнали ли вы что-то ново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Понравилась ли собственная работа на уроке или нет, почему?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493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ть у школьников мыслительные операции сравнения, аналогии, анализа, обобщ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ть математическую интуицию, внимательнос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ть над формированием математической речи учащих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ть интерес школьников к математи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Девиз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ahoma"/>
              </a:rPr>
              <a:t>Математика – это стр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ahoma"/>
              </a:rPr>
              <a:t>До конца вся никем не открыта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ahoma"/>
              </a:rPr>
              <a:t>Тайн, чудес и загадок пол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ahoma"/>
              </a:rPr>
              <a:t>Заключается в ней сила великая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В.П.Заха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13842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2133720"/>
            <a:ext cx="27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652760" y="4983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589" y="13841"/>
                </a:moveTo>
                <a:lnTo>
                  <a:pt x="4589" y="1384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214800" y="339840"/>
            <a:ext cx="17280" cy="1440"/>
          </a:xfrm>
          <a:custGeom>
            <a:avLst/>
            <a:gdLst/>
            <a:ahLst/>
            <a:rect l="l" t="t" r="r" b="b"/>
            <a:pathLst>
              <a:path w="50" h="1">
                <a:moveTo>
                  <a:pt x="8979" y="943"/>
                </a:moveTo>
                <a:cubicBezTo>
                  <a:pt x="8954" y="943"/>
                  <a:pt x="8946" y="943"/>
                  <a:pt x="8930" y="943"/>
                </a:cubicBezTo>
              </a:path>
              <a:path w="50" h="1">
                <a:moveTo>
                  <a:pt x="8930" y="943"/>
                </a:moveTo>
                <a:lnTo>
                  <a:pt x="8930" y="943"/>
                </a:lnTo>
              </a:path>
              <a:path w="50" h="1">
                <a:moveTo>
                  <a:pt x="8930" y="943"/>
                </a:moveTo>
                <a:lnTo>
                  <a:pt x="8930" y="9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-1152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Фронтальная работа с клас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aramond"/>
              </a:rPr>
              <a:t>1. Что является графиком квадратичной функции y=ax</a:t>
            </a:r>
            <a:r>
              <a:rPr b="1" i="1" lang="en-US" sz="2400" spc="-1" strike="noStrike">
                <a:solidFill>
                  <a:srgbClr val="ff3300"/>
                </a:solidFill>
                <a:latin typeface="Garamond"/>
              </a:rPr>
              <a:t>²</a:t>
            </a:r>
            <a:r>
              <a:rPr b="1" i="1" lang="ru-RU" sz="2400" spc="-1" strike="noStrike">
                <a:solidFill>
                  <a:srgbClr val="ff3300"/>
                </a:solidFill>
                <a:latin typeface="Garamond"/>
              </a:rPr>
              <a:t>+bx+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aramond"/>
              </a:rPr>
              <a:t>2. Как мы определяем направление ветвей  параб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aramond"/>
              </a:rPr>
              <a:t>3. Как определить координаты вершины парабол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aramond"/>
              </a:rPr>
              <a:t>4. По графику назовите наибольшее (наименьшее) значения квадратичной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762800" cy="386064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2787480" y="3429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432040" y="3641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014360" y="5715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Сделайте вывод, при каком условии функция y=ax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²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+bx+c принимает наибольшее (наименьшее) знач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е производя построение графика, определите, наибольшее или наименьшее значение  принимает квадратичная функ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)y = 25x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²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-30x+8,     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) y = 2-5x-3x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²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,   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)y = x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²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+4x+11,       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) y =-4x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²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+3x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Математический диктан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Определите вершину параболы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)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= 2(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+5 )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+4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)у = -(х+2)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)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(x-3)²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)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=  (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-4)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- 8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39640" y="475920"/>
            <a:ext cx="8229600" cy="5329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Укажите промежуток убывания функци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y=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-2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x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3. Принадлежит ли точка А(3; -2) графику функции у = х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- 4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"/>
          <p:cNvSpPr/>
          <p:nvPr/>
        </p:nvSpPr>
        <p:spPr>
          <a:xfrm>
            <a:off x="3537000" y="6253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823" y="1736"/>
                </a:moveTo>
                <a:lnTo>
                  <a:pt x="9823" y="173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1692360" y="33336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Garamond"/>
              </a:rPr>
              <a:t>4. Какие из данных функций имеют ну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990880" y="1751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310" y="4862"/>
                </a:moveTo>
                <a:lnTo>
                  <a:pt x="8310" y="486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232080" y="3027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979" y="8409"/>
                </a:moveTo>
                <a:lnTo>
                  <a:pt x="8979" y="84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24000" y="836640"/>
            <a:ext cx="88200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901800" indent="-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а)у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 = 2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х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+8        б) у 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=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 -2х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 +8      в)у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 =2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х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Garamond"/>
              </a:rPr>
              <a:t>5.В каких координатных четвертях расположен график функции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а) у =0,4х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+1   б) у = -0,1х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-2     в)у =2х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²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7:05:35Z</dcterms:created>
  <dc:creator>FuckYouBill</dc:creator>
  <dc:description/>
  <dc:language>en-US</dc:language>
  <cp:lastModifiedBy>Вера Петровна</cp:lastModifiedBy>
  <dcterms:modified xsi:type="dcterms:W3CDTF">2011-02-26T16:53:20Z</dcterms:modified>
  <cp:revision>19</cp:revision>
  <dc:subject/>
  <dc:title>Слайд 1</dc:title>
</cp:coreProperties>
</file>