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wmf" ContentType="image/x-wmf"/>
  <Override PartName="/ppt/media/image27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B56-6833-4413-8490-F4EBB717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1D3-9BC5-4BB1-A1CB-1470BD0E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6A6AF-4547-4F5C-9DCE-AEEC0D93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A3C93-9398-4296-AC86-0E1D8937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7FADE-EC85-49F8-AA57-F88AD073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305A3-0070-42DD-8BEE-831DC090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A5D27-5C73-44C4-87E7-891C037B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69FBF-9D47-474E-BA84-EACF0173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6AF5A-695C-4F94-96C4-2C552ED2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E1BF2-F409-4F7B-A200-4E6688AE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371B5-6854-4421-A315-9EA8ED6F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B1C9D8-386F-44BC-B2EB-9F295158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EBC-1AE9-451F-BF24-B0E4A573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4B1C19-7CD2-4043-8606-F3497A59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9E1D7C-A8CB-4308-9964-DEED9294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5E7CBF-89D2-45F8-8C55-60B970BD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7225E9-E019-4EAA-9A34-452C7B9F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F6F32-E25F-4156-9B36-84998DF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8584BA-DB50-4011-AE8D-FB83502F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604D19-92C0-40F7-9DE0-864F7B5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138D55-4118-45D4-9F4B-309318AD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AFBAA7-3C7D-4D66-872F-23A13C8B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59EADA-E4AE-49F4-BD37-1869A165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369-58DF-42DE-90E5-C6C6805E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954C27-83A4-4DAC-94F3-C5D58C9D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B5C60-5666-4E5B-8C05-C7EA6C70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37BC5-AD1B-4841-A834-B66C4578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2F9B6-70CB-4A2A-BA88-50F09143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DBAF0-5699-4DDA-AB57-00719FAD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0DF24-DE27-4C5D-811B-004C398B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ADF54-330D-433D-9632-EDCB9045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E8A97-9A1F-41D9-BCFA-69D01987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5F74E-19FC-4E6B-AC1A-8F71A17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D559E-68B8-4F9E-9002-7FA4197B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9839-0392-4C68-BB22-B92D0604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625E4-1F86-433E-9240-C1B86512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4FF26-E77E-4EA9-997F-9E562EFD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101E2-9664-431F-9DFD-C3AF3AB1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91157-FC63-46CB-9F5B-3D7F6D37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D1C28-AC6F-4946-883D-CA2D026B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5A56D-B782-4B43-9994-C47DCA4E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BF58E-FF55-4948-935A-BCA98AF2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B9A72-4B40-4DF4-A5C2-A9AFC59A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B4CD0-F65C-42B0-AB52-4BB42130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6EE70-BCED-4F47-924E-A1B53EA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01EC-B7E1-43C1-B20F-98B2B54F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4A0F4-64E5-4A11-9F30-80F9A517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FA011-7EFA-4D47-9F58-45080ED1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04C9F-37B4-4294-A1C4-1C36E9D1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07BD8-FA56-447A-B69F-D9265D3B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ADB9D-D64B-410E-A2AF-DB43328A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B8CE4-08CC-4939-A82F-4E33529D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2D76E-C07B-497B-B414-29DBCEBF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4C443-3E2E-4335-8BD7-AF5AA949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63049-6CED-4571-92AB-59234055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D4044-537F-4D73-A1D3-1AF2123A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804C-A362-4185-B5F6-24E6197B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AD2DC-F4FF-49A7-AA93-5E18C375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DA473-8D1E-48D6-8B22-4DB666F0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04462-C808-4033-B94A-E62BBFD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1DDA7-70BE-4CC5-A8D7-3B69F8F5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D4647-8AE3-457E-B9AC-FD1384A8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1CA15-881D-47C8-A843-5E6F0BB3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D0977-9D0C-49E5-940F-F27A443F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B39A1-B68C-4D53-A86D-7F71ED0C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F9D10-D0F0-499B-B30A-5E7A1E73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FCA27-D5C2-4F53-BC67-C5A4BE64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FD02-88D0-44C7-AA51-FA7A74C4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9065F-9B45-488B-8B84-87E59FDE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4AAF7-AD3C-4D04-AF33-1E587E03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9C1F6-0BC3-4C41-A079-5014848C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D9BFB-0E43-4EBA-96B3-D0DEEB8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698C2-BF40-4677-BCE9-71D437A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082F4-D319-4B3F-B178-C01D64E5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E1C40-5018-425A-9B02-274817D5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DA371-A95E-4580-A424-C74A477B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FDE4B-FC47-4A80-B24C-E2B53B1C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511DE8-CE74-4509-80D5-152631CF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5A57-208C-4287-8B13-05A44EF7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F74D15-200A-4CFA-A3BD-451C938D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4D6A77-5797-42FA-BA99-9AF367B3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6E5FEA-14E2-48B1-A312-AB3F0BC9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0677F2-008E-4572-8A71-8EC84364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FBF5B0-0138-40CB-8150-B50F8787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27BB21-7A13-4B61-9B41-2FBDAF5D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094392-63AC-4591-BB24-AE0BBDA3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6F6E62-6338-4068-8BBD-146E0AB6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BF1786-F896-494C-90BE-69ED3177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9D2A4E-56CC-47D9-8F00-A00AB5F6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B64F-C037-47A3-A050-9628729A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804D1D-90B5-4CDC-9EAE-E2A10CB7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82B45-335D-46E3-9741-CEF52137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121D0-EB87-47FA-99E6-32E22669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D4001-4E9B-4C76-A24C-4C8FBA70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AF69D-5A77-4A64-B591-323A7E52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4F1FA-E3CE-45A5-B5B2-9FF09AB0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AAC32-50F1-4C03-8877-43BCC284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A1143-79C8-4FB8-AB54-F7F85BE6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5066C-1E55-4256-B4DD-8DC4E712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F11F5-4E65-4CC6-99BC-787366DB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9FBC-8ADD-4AC9-8A66-67BC67C5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78957-A73B-443C-BE5F-BECB9134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2B6047-AB86-4E4B-A832-0EFDD646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7D454-0812-4738-B177-98654EB4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BB3-3CB6-499B-8A9C-06E91E80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B2E2-98DD-495C-A34F-FF05D06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4D07-B335-4CAA-9F34-4AB3F2E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20C2-9E86-47E0-A936-E31B3CEF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DF43-0604-46D3-9C95-18CF1F2B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8271-8E5A-4BBC-86B0-5E9FE537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3DB5-9832-4365-8D38-5417BB7A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063C-B7F3-4DEE-9821-FA219EBB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4F5B3-63DB-4A9F-A138-038B3FC8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6FBD-E8F4-47CD-ACDF-E3BB4ECB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D0C0-86AC-4258-800B-8C9C7491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A92-6CD4-47F7-B7A1-5F692EC1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8344-2CDC-4B01-8EE3-AD624695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B504-F9CC-4F27-A50C-A8074FAD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0F8C-0165-4DB9-9046-9C301AED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9F28-638F-4724-9767-316C1DE6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ED32-D673-4DF7-8B78-03AFD31B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FC2B-6444-4443-B0C8-AF77AA88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E09B-5D40-4393-90B4-31F901CE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44536-BEEA-48C1-A519-58DA06E5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1BBE-90D3-4B95-94E3-816F4F75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661F-78CF-4A20-9399-B80FBCAD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D55-B69A-4EF7-9CFC-A6CC7D32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395AE-19C1-4217-AA22-4D7BFD9C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6BFC-6DE8-4A94-98CC-7BE1309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58B0-3462-426E-A1C1-CC582C51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F30A-BA79-4C21-B67E-48601AE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7F13-5636-4CB0-8988-AAE16DBA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565C-FA56-4A53-9CA2-4AEFCB1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3F45-3639-49FC-9685-D82C2A7A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3E563-96E5-42C2-AF5B-A9BDEEF9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C0C1-D35F-44E9-96B4-1E36ED57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625E-9D64-4C3D-9991-3C6BE186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E64-0512-482D-AE7E-C49EAD07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BF970-0049-408F-8792-4A5F81BD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A7E42-104C-40AC-94EF-6F1148A1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583D3-DECC-430B-9450-44BCC358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F8A2F-B499-4F00-8B2D-BD1D7B52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9DE5E-706D-43E0-A829-7ECE744D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460F0-A5F9-48EF-810D-DF962D78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97653-750C-4983-9AFD-E2ADA652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E29A-C07B-42FA-8EB3-07BFDCE8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2FE1-02C9-43A7-9CFC-E0CA0E49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1DAD-9146-42A8-9CB8-917F081D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2F9-6257-470F-AB3E-E0625DCE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BE043-1EE8-42F2-9385-2038ECC7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5F26-D82E-49C9-B24E-57EDD021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2F603-DB3D-4BE4-9852-B6D8EF0D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F05FB-7B41-4873-B3AA-5419D618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81457-1308-48EF-B59F-A3E4EB9E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FCE8A-A882-45E2-B124-6813826C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CA6E2-A7CB-4A2D-ABE2-36BDD76D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85EC2-7596-4E1C-87C7-1738E89C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A0C8-1160-4362-8C1A-4B6D76E6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9A8C6-9D52-42B2-82A4-30EF2268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37D-7C27-4EF0-8A5E-2A64310F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9E749-08A6-433D-93EE-66103FBA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93FAE-32EA-473E-870D-AEEEF7C2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7AFD4-5052-452D-8E39-448B5C41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88BCA-1FBB-4D79-ABCB-690B240D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4C9CD-91C6-44FA-B55F-946C1575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A7D28-1F4B-499F-9CDC-B9780325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4119-E67C-4765-8879-0ECE6BD3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F27D1-995D-4C09-ADD3-FF7D7B38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8A7E-2607-4AD9-B57C-61852F80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31CF1-B7D4-4EB6-BEFF-DC864EF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827-8B50-4051-B286-76EFCCFE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3876F-0F8A-4BE8-8A98-D6AB4E64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F14E4-6440-45B3-85E0-FFEDFE91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81839-FBA9-46FB-AFC9-BA87A6EA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48D8C-22B0-43FF-BE9B-4DFBCB78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E0BD2-7E90-4647-B0AB-0F2F22D3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AD868-19A5-45EF-8B1C-7B709A60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FF816-6DFF-496B-8FBC-652F34A3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80273-980B-43DF-BAE5-B224018E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714E8-3EEB-48A0-857C-853A1BF1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63862-64EF-49FB-8BD5-8563E705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F34-1B19-4CF3-90A6-A27A5909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03C73-8640-4D7E-9903-6E59165C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A72C7-8E42-423B-8EE2-34E56E7E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F727D-D92A-4561-B1A5-F215C4A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DBFFB-ADF6-4406-A7C6-C2BCB85A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252DA-106C-498A-8D2F-D13A971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B1C26-9309-4E6C-A2E5-A7A2EE25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8A658-6C0B-4BF1-AD3C-91E656D2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A7D96-99F5-4E3A-BE2D-55062912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4C542-29F6-4FA4-887E-7193E820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63002-DF66-4546-8508-11D2A849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C2F9-468D-4617-B8A7-880E422AFF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BA99-EFE0-4B0A-B9F2-89D7224C2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F0BF-13FE-45E6-AF83-7E600D7EC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0CA6-1AE1-47BA-972F-73641087C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0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54D4-2F7B-4901-B19B-4E903F5D3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5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B04E-0001-425C-B101-371556000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CE3C-A326-4E99-BAAF-82C2E5DAC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0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9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D7CA-F1D1-459D-9203-54A93DBA2F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A346-3E6D-4644-9F9B-6271B5C3AC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084C-D05F-46DB-8E5E-669F76C3EE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7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9B5D-712E-4B14-BED6-D4E1299A5B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5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5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3D47-E98C-4246-A030-4C1364777F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0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0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0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72A2-7F6E-4235-9964-856E2C38AE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5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C4CB-6AFA-4216-B7AB-DCE7AB2473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4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7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9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AEAF-B332-497F-95AC-36159475A5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7A1A-CB75-49CF-A831-5A3456F5E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8763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КВАДРАТИЧНАЯ ФУНКЦИЯ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«Кульгешская ОО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. Н.А.Афанасьев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ександрова Надежда  Ксенофонт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4360" y="33336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а) (-5:4)  б)(-2;0)  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(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)(4;-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0;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~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3. не принадлеж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4. а) не име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имеет х = -2  и х =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имеет х = -2  и х = 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а) 1 и 2 в координатных четвер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3 и 4 в координатных четвер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1,2,3,4 в координатных четвер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вторение алгоритма построения графика квадратичной функ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найти координаты вершины параболы ;х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/2a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; ỵ = ах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.²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 +вх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+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остроить в системе координат полученную точку и провести  оси вспомогательной системы координат  (прямые  и х=х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 у=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о коэффициенту 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 определить направление ветвей параб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остроить  несколько точек принадлежащие этому граф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ровести плавную линию через указанные точки. График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325800" y="260280"/>
            <a:ext cx="6168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дайте уравнением каждую функ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6732720" y="692280"/>
                <a:ext cx="21891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6875640" y="2709720"/>
                <a:ext cx="13255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7040520" y="3759120"/>
                <a:ext cx="2103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6" name=""/>
          <p:cNvSpPr/>
          <p:nvPr/>
        </p:nvSpPr>
        <p:spPr>
          <a:xfrm>
            <a:off x="6381720" y="909720"/>
            <a:ext cx="217440" cy="217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365880" y="1787400"/>
            <a:ext cx="217440" cy="217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516720" y="3933720"/>
            <a:ext cx="217440" cy="217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443640" y="2852640"/>
            <a:ext cx="21744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0" y="947880"/>
            <a:ext cx="6299280" cy="548640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6012000" y="170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 = -0,5(х + 4)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95280" y="260280"/>
            <a:ext cx="638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дайте уравнением каждую функ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6456240" y="722160"/>
                <a:ext cx="216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6369120" y="3170160"/>
                <a:ext cx="20448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6396120" y="4537080"/>
                <a:ext cx="1814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8734320" y="909720"/>
            <a:ext cx="217440" cy="217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926560" y="2146320"/>
            <a:ext cx="217440" cy="217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8632800" y="3314880"/>
            <a:ext cx="217440" cy="217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313840" y="4683240"/>
            <a:ext cx="21744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09800" y="44280"/>
            <a:ext cx="415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Установите соответствие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6426360" cy="53845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6443640" y="198900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 = 3х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²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+ 24х +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323640" y="260280"/>
            <a:ext cx="3548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тветьте на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298440" y="888840"/>
            <a:ext cx="6337440" cy="568980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6300720" y="304920"/>
            <a:ext cx="3384720" cy="59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колько графиков квадратичных функций изображ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ершина зеленой параб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акая из парабол имеет наибольшее знач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сь синей параб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йте уравнением каждую из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84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8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36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8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880200" y="274680"/>
            <a:ext cx="63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троить графики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116000" y="1773360"/>
                <a:ext cx="34034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00000" y="3645000"/>
                <a:ext cx="38354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580000" y="1844640"/>
                <a:ext cx="2162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5219640" y="3573360"/>
                <a:ext cx="33498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-196920" y="0"/>
            <a:ext cx="93409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5424480" y="2727360"/>
                <a:ext cx="34034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073480" y="4383000"/>
                <a:ext cx="38354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6770520" y="2725560"/>
                <a:ext cx="216252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0" y="-347760"/>
            <a:ext cx="9144000" cy="720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09680" y="293760"/>
                <a:ext cx="33494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63520" y="-360"/>
            <a:ext cx="7386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 алгоритм построения графика квадратичной функ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 построение графиков квадратичной функ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ть умение по графику квадратичной функции определять наибольшее (наименьшее) значение функции, промежутки возрастания убы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1531800" y="1765440"/>
            <a:ext cx="6134400" cy="509256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2484360" y="-316080"/>
            <a:ext cx="4381560" cy="190512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3"/>
          <a:stretch/>
        </p:blipFill>
        <p:spPr>
          <a:xfrm>
            <a:off x="1533600" y="1746360"/>
            <a:ext cx="6108480" cy="5054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378400" y="5284800"/>
                <a:ext cx="3765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433840" y="5234040"/>
                <a:ext cx="37101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4" name=""/>
          <p:cNvSpPr txBox="1"/>
          <p:nvPr/>
        </p:nvSpPr>
        <p:spPr>
          <a:xfrm>
            <a:off x="585720" y="698400"/>
            <a:ext cx="78231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рафик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ичной функц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стовы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7724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1/  Какая из следующих парабол отсутствует на рис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1349280" y="2421000"/>
            <a:ext cx="4807080" cy="338436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-330840" y="5949000"/>
            <a:ext cx="100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А.у = 4 – х2        Б.у = 4 + х2       В.у = (х – 4)2 – 4       Г.у = ( х + 4)2 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259920"/>
            <a:ext cx="77724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.   Дана функция у = а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+ вх + с. На каком рисунке изображён график этой функции, если известно, что а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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 и квадратный трёхчлен   а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+ вх + с имеет два положительных кор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314960" cy="3813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3/ На рисунке изображены графики функций вида у = а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+ с. Установите соответствие между графиками и знаками коэффициентов а и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а) а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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, с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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           б) а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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, с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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            в)  а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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, с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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472360" cy="360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14400" y="0"/>
            <a:ext cx="77724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4..На рисунке изображён график функции у =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(х). Используя график, сравните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( -1,5) и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(1,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887640" cy="352728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637200" y="4743360"/>
            <a:ext cx="789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А.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 -1,5)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1,5)                 Б.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 -1,5)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1,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В.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 -1,5)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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1,5)                  Г. Сравни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5. На рисунке изображён график функции у = 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+ 2х. Используя этот график, решите неравенство 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+ 2х. ≤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3384360" cy="287028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202680" y="4716720"/>
            <a:ext cx="1145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А. (-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; -2)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 (0; +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)         Б. ( -2; 0)      В. (-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; -2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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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0; +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)        Г.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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 -2; 0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4360" y="0"/>
            <a:ext cx="77724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6. На рисунке изображён график функции у = -2х2 + 4х +6. Вычислите координаты точки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395280" y="5288040"/>
            <a:ext cx="874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А.  (-1;0)                Б. (3;0)            В. (1;0)              Г. (-3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2692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7. На каком рисунке изображён график функци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 =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(х), обладающей свойствами: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(0) = 2 и функция убывает на промежутке (-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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; 1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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508640" cy="389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Ответы на тес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.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. 1) в      2) б     3)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.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.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6.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.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ИТОГ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-685800" y="2226240"/>
            <a:ext cx="10539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Понравилось ли сегодня вам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Чем мы сегодня занимались на уро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Что понравилось? Что не понравилос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Узнали ли вы что-то ново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Понравилась ли собственная работа на уроке или нет, почему?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493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ть у школьников мыслительные операции сравнения, аналогии, анализа, обобщ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ть математическую интуицию, внимательно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ть над формированием математической речи учащих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ть интерес школьников к математи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Девиз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ahoma"/>
              </a:rPr>
              <a:t>Математика – это стр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ahoma"/>
              </a:rPr>
              <a:t>До конца вся никем не открыта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ahoma"/>
              </a:rPr>
              <a:t>Тайн, чудес и загадок пол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ahoma"/>
              </a:rPr>
              <a:t>Заключается в ней сила великая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В.П.Заха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13842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2133720"/>
            <a:ext cx="27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652760" y="4983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589" y="13841"/>
                </a:moveTo>
                <a:lnTo>
                  <a:pt x="4589" y="1384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214800" y="339840"/>
            <a:ext cx="17280" cy="1440"/>
          </a:xfrm>
          <a:custGeom>
            <a:avLst/>
            <a:gdLst/>
            <a:ahLst/>
            <a:rect l="l" t="t" r="r" b="b"/>
            <a:pathLst>
              <a:path w="50" h="1">
                <a:moveTo>
                  <a:pt x="8979" y="943"/>
                </a:moveTo>
                <a:cubicBezTo>
                  <a:pt x="8954" y="943"/>
                  <a:pt x="8946" y="943"/>
                  <a:pt x="8930" y="943"/>
                </a:cubicBezTo>
              </a:path>
              <a:path w="50" h="1">
                <a:moveTo>
                  <a:pt x="8930" y="943"/>
                </a:moveTo>
                <a:lnTo>
                  <a:pt x="8930" y="943"/>
                </a:lnTo>
              </a:path>
              <a:path w="50" h="1">
                <a:moveTo>
                  <a:pt x="8930" y="943"/>
                </a:moveTo>
                <a:lnTo>
                  <a:pt x="8930" y="9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-1152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Фронтальная работа с клас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aramond"/>
              </a:rPr>
              <a:t>1. Что является графиком квадратичной функции y=ax</a:t>
            </a:r>
            <a:r>
              <a:rPr b="1" i="1" lang="en-US" sz="2400" spc="-1" strike="noStrike">
                <a:solidFill>
                  <a:srgbClr val="ff3300"/>
                </a:solidFill>
                <a:latin typeface="Garamond"/>
              </a:rPr>
              <a:t>²</a:t>
            </a:r>
            <a:r>
              <a:rPr b="1" i="1" lang="ru-RU" sz="2400" spc="-1" strike="noStrike">
                <a:solidFill>
                  <a:srgbClr val="ff3300"/>
                </a:solidFill>
                <a:latin typeface="Garamond"/>
              </a:rPr>
              <a:t>+bx+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aramond"/>
              </a:rPr>
              <a:t>2. Как мы определяем направление ветвей  параб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aramond"/>
              </a:rPr>
              <a:t>3. Как определить координаты вершины парабол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aramond"/>
              </a:rPr>
              <a:t>4. По графику назовите наибольшее (наименьшее) значения квадратичной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762800" cy="386064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2787480" y="3429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432040" y="3641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014360" y="5715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делайте вывод, при каком условии функция y=ax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+bx+c принимает наибольшее (наименьшее) знач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е производя построение графика, определите, наибольшее или наименьшее значение  принимает квадратичная функ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)y = 25x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²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-30x+8,     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) y = 2-5x-3x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²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,  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)y = x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²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+4x+11,       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) y =-4x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²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+3x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Математический диктан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Определите вершину парабол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)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= 2(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+5 )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+4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)у = -(х+2)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)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x-3)²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)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=  (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-4)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- 8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39640" y="475920"/>
            <a:ext cx="8229600" cy="5329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Укажите промежуток убывания функци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y=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-2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x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3. Принадлежит ли точка А(3; -2) графику функции у = х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- 4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"/>
          <p:cNvSpPr/>
          <p:nvPr/>
        </p:nvSpPr>
        <p:spPr>
          <a:xfrm>
            <a:off x="3537000" y="6253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823" y="1736"/>
                </a:moveTo>
                <a:lnTo>
                  <a:pt x="9823" y="17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1692360" y="33336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Garamond"/>
              </a:rPr>
              <a:t>4. Какие из данных функций имеют ну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990880" y="1751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10" y="4862"/>
                </a:moveTo>
                <a:lnTo>
                  <a:pt x="8310" y="48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232080" y="3027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979" y="8409"/>
                </a:moveTo>
                <a:lnTo>
                  <a:pt x="8979" y="84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24000" y="836640"/>
            <a:ext cx="88200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90180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а)у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= 2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+8        б) у 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=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 -2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 +8      в)у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=2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Garamond"/>
              </a:rPr>
              <a:t>5.В каких координатных четвертях расположен график функции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а) у =0,4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+1   б) у = -0,1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-2     в)у =2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7:05:35Z</dcterms:created>
  <dc:creator>FuckYouBill</dc:creator>
  <dc:description/>
  <dc:language>en-US</dc:language>
  <cp:lastModifiedBy>Вера Петровна</cp:lastModifiedBy>
  <dcterms:modified xsi:type="dcterms:W3CDTF">2011-02-26T16:53:20Z</dcterms:modified>
  <cp:revision>19</cp:revision>
  <dc:subject/>
  <dc:title>Слайд 1</dc:title>
</cp:coreProperties>
</file>