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6805-99F4-4030-B5D6-0DB299AE2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046F-8A80-476C-847C-92FE7534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8933-4D7E-4C51-BA57-61704701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4977-979B-49F7-8AAA-8B70DF35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DA0F-130D-4B32-A452-8CF9CD04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DF2F-AB9A-49EB-A3CE-3FEA3B36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0CEF-94B5-4D61-B2B6-1EA474D1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B413-625B-4195-852A-6E9495A4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E730-BD76-4C5B-B2C1-CF39C08B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32DA-0A14-405A-918F-B62719E9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35B9-F6CE-4844-BB7D-1E2DB75CD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8AEF-1EAE-42E6-8AA1-19503A3BC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1EF3-705B-4DC0-9ACB-25F205AFA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FC2A-4C2C-4BBA-916F-07F2B97F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561E-F6A1-4952-A6EF-4D323C65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ADBA-61ED-40DB-955F-91EBE3D9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CF74-7F56-4195-947C-1351376C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5D10-7068-4C90-856C-64435120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772C-3976-4FD0-A485-F5BE97D0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F757-EE44-4269-B34C-26834939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CAC8-2499-4066-9253-F8273486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D2FA-14EA-4876-9465-EB53035C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47D1A-252F-4E6C-AEB7-5DFBE656A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543B-E7D3-454E-A183-C9A55F8BA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FC8DC-8951-4F12-9CA1-120838EE3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66B61-90FE-458B-8E64-AA0992A5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90856-81A3-4A9F-976D-2C18B903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181C7-85B0-4F1B-A8B4-0FC79336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132B6-0EB6-4365-9FF2-D6D361F6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80E96-CFDD-41F2-8187-C654C56F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CD482-988A-4C97-9485-2A479687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E47E4-1396-4365-B14A-A5A1C7DB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CC37E-D66A-4032-96E9-E7E6E9FF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17EED-3010-44A7-AD0C-00815B80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C9B6D-EED0-435E-94AB-1893D12C1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3363C-5F30-4778-91E0-3567583BC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9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0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ционный центр «МЦФЭР Ресурсы образова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6" descr="C:\Documents and Settings\AArcishevskaia.HQ\Мои документы\Наша реклама\#ЛОГОТИПЫ и ОБЛОЖКИ\Лого МЦФЭР Ресурсы образования\logo_mcfr_resuri_obraz_white copy.jpg"/>
          <p:cNvPicPr/>
          <p:nvPr/>
        </p:nvPicPr>
        <p:blipFill>
          <a:blip r:embed="rId2"/>
          <a:stretch/>
        </p:blipFill>
        <p:spPr>
          <a:xfrm>
            <a:off x="7667640" y="6357960"/>
            <a:ext cx="1476360" cy="5000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9" descr="C:\Documents and Settings\AArcishevskaia.HQ\Рабочий стол\111.jpg"/>
          <p:cNvPicPr/>
          <p:nvPr/>
        </p:nvPicPr>
        <p:blipFill>
          <a:blip r:embed="rId3"/>
          <a:stretch/>
        </p:blipFill>
        <p:spPr>
          <a:xfrm>
            <a:off x="-6480" y="1841400"/>
            <a:ext cx="9156960" cy="315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8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000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9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0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ционный центр «МЦФЭР Ресурсы образова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C:\Documents and Settings\AArcishevskaia.HQ\Мои документы\Наша реклама\#ЛОГОТИПЫ и ОБЛОЖКИ\Лого МЦФЭР Ресурсы образования\logo_mcfr_resuri_obraz_white copy.jpg"/>
          <p:cNvPicPr/>
          <p:nvPr/>
        </p:nvPicPr>
        <p:blipFill>
          <a:blip r:embed="rId2"/>
          <a:stretch/>
        </p:blipFill>
        <p:spPr>
          <a:xfrm>
            <a:off x="7667640" y="6357960"/>
            <a:ext cx="1476360" cy="500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C:\Documents and Settings\AArcishevskaia.HQ\Рабочий стол\111.jpg"/>
          <p:cNvPicPr/>
          <p:nvPr/>
        </p:nvPicPr>
        <p:blipFill>
          <a:blip r:embed="rId3"/>
          <a:stretch/>
        </p:blipFill>
        <p:spPr>
          <a:xfrm>
            <a:off x="-6480" y="1481040"/>
            <a:ext cx="9156960" cy="315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8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0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ционный центр «МЦФЭР Ресурсы образова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C:\Documents and Settings\AArcishevskaia.HQ\Мои документы\Наша реклама\#ЛОГОТИПЫ и ОБЛОЖКИ\Лого МЦФЭР Ресурсы образования\logo_mcfr_resuri_obraz_white copy.jpg"/>
          <p:cNvPicPr/>
          <p:nvPr/>
        </p:nvPicPr>
        <p:blipFill>
          <a:blip r:embed="rId2"/>
          <a:stretch/>
        </p:blipFill>
        <p:spPr>
          <a:xfrm>
            <a:off x="7667640" y="6357960"/>
            <a:ext cx="1476360" cy="500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C:\Documents and Settings\AArcishevskaia.HQ\Рабочий стол\111.jpg"/>
          <p:cNvPicPr/>
          <p:nvPr/>
        </p:nvPicPr>
        <p:blipFill>
          <a:blip r:embed="rId3"/>
          <a:stretch/>
        </p:blipFill>
        <p:spPr>
          <a:xfrm>
            <a:off x="-6480" y="1841400"/>
            <a:ext cx="9156960" cy="3151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5B5B-755B-44BB-A2E4-D3160F36A6CD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8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000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0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ционный центр «МЦФЭР Ресурсы образова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C:\Documents and Settings\AArcishevskaia.HQ\Мои документы\Наша реклама\#ЛОГОТИПЫ и ОБЛОЖКИ\Лого МЦФЭР Ресурсы образования\logo_mcfr_resuri_obraz_white copy.jpg"/>
          <p:cNvPicPr/>
          <p:nvPr/>
        </p:nvPicPr>
        <p:blipFill>
          <a:blip r:embed="rId2"/>
          <a:stretch/>
        </p:blipFill>
        <p:spPr>
          <a:xfrm>
            <a:off x="7667640" y="6357960"/>
            <a:ext cx="1476360" cy="50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C:\Documents and Settings\AArcishevskaia.HQ\Рабочий стол\111.jpg"/>
          <p:cNvPicPr/>
          <p:nvPr/>
        </p:nvPicPr>
        <p:blipFill>
          <a:blip r:embed="rId3"/>
          <a:stretch/>
        </p:blipFill>
        <p:spPr>
          <a:xfrm>
            <a:off x="-6480" y="1481040"/>
            <a:ext cx="9156960" cy="31514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dt" idx="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ftr" idx="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FB57-9640-4799-9519-844347545852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8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000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0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ционный центр «МЦФЭР Ресурсы образова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C:\Documents and Settings\AArcishevskaia.HQ\Мои документы\Наша реклама\#ЛОГОТИПЫ и ОБЛОЖКИ\Лого МЦФЭР Ресурсы образования\logo_mcfr_resuri_obraz_white copy.jpg"/>
          <p:cNvPicPr/>
          <p:nvPr/>
        </p:nvPicPr>
        <p:blipFill>
          <a:blip r:embed="rId2"/>
          <a:stretch/>
        </p:blipFill>
        <p:spPr>
          <a:xfrm>
            <a:off x="7667640" y="6357960"/>
            <a:ext cx="1476360" cy="5000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C:\Documents and Settings\AArcishevskaia.HQ\Рабочий стол\111.jpg"/>
          <p:cNvPicPr/>
          <p:nvPr/>
        </p:nvPicPr>
        <p:blipFill>
          <a:blip r:embed="rId3"/>
          <a:stretch/>
        </p:blipFill>
        <p:spPr>
          <a:xfrm>
            <a:off x="-6480" y="1481040"/>
            <a:ext cx="9156960" cy="31514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7D93-3F10-4B8A-883E-F59DDD341A52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4920" y="907920"/>
            <a:ext cx="834876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Организация и планирование образовательного процесса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в соответствии с ФГТ</a:t>
            </a:r>
            <a:br>
              <a:rPr sz="2400"/>
            </a:br>
            <a:br>
              <a:rPr sz="1000"/>
            </a:br>
            <a:r>
              <a:rPr b="1" i="1" lang="ru-RU" sz="1700" spc="-1" strike="noStrike">
                <a:solidFill>
                  <a:srgbClr val="002060"/>
                </a:solidFill>
                <a:latin typeface="Arial"/>
              </a:rPr>
              <a:t>Для конструирования оптимальной модели образовательного процесса в соответствии с ФГТ необходимо вспомнить, какие основные образовательные модели существуют  в ДОУ в настоящее время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10920" y="4365360"/>
            <a:ext cx="80643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Лектор: </a:t>
            </a:r>
            <a:r>
              <a:rPr b="0" lang="ru-RU" sz="7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БЕЛАЯ КСЕНИЯ ЮРЬЕВНА</a:t>
            </a: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, профессор кафедры педагогики и методики дошкольного образования Московского института открытого образования, заслуженный учитель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зможные темообразующие  фа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0" y="105228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Первый фактор 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— реальные события, происходящие в окружающем мире и вызывающие интерес детей (яркие природные явления и общественные события, праздники.)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Второй фактор 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— воображаемые события, описываемые в художественном произведении, которое воспитатель читает детям. Это  мощный темообразующий фактор, как и реальные событ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Третий фактор 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— события, специально «смоделированные» воспитателем (исходя из развивающих задач). Это внесение в группу предметов, ранее неизвестных детям, с необычным эффектом или назначением, вызывающих неподдельный интерес и исследовательскую активность (Что это такое? Что с этим делать? Как это действует?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Четвертый фактор 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— события, происходящие в жизни возрастной группы, «заражающие» детей и приводящие к удерживающимся какое-то время интересам, корни которых лежат, как правило, в средствах массовой коммуникации и игрушечной индустрии (например увлечение динозаврами,  и т. п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222268"/>
                </a:solidFill>
                <a:latin typeface="Arial"/>
              </a:rPr>
              <a:t>Все  эти факторы, могут использоваться воспитателем для гибкого проектирования целостного образовательного процесса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щий объем образовательной нагруз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как непосредственно образовательной деятельности, так и образовательной деятельности, осуществляемой в ходе режимных момент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78920" y="1125360"/>
            <a:ext cx="8713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Определяется дошкольным образовательным учреждением самостоятельно с учет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действующих санитарно-эпидемиологических правил и нормативов (СанПиН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федеральных государственных требований в сфере дошкольного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типа и вида учреждения, реализующего основную общеобразовательную программу дошкольного образования, наличия приоритетных направлений образователь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рекомендаций примерной основной общеобразовательной программы дошкольного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специфики условий (климатических, демографических, национально-культурных и др.) осуществления образовательно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посредственно образовательн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24000" y="1484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Реализуется через организацию различных видов детской деятельности или их интеграцию с использованием разнообразных форм и методов работы, выбор которых осуществляется педагогами самостоятельно в зависимости от контингента детей, уровня освоения Программы и решения конкретных образовательных задач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В соответствии с возрастом детей, наличием приоритетных направлений образовательной деятельности и спецификой осуществления образовательного процесса рекомендуется учитывать следующие парамет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посредственно образовательн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0" y="105264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общий объем непосредственной образовательной деятельности в неделю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продолжительность периодов непрерывной непосредственно образовательн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количество периодов непрерывной непосредственно образовательной деятельности в течение дн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распределение периодов непрерывной непосредственно образовательной деятельности в течение дня (в первую и во вторую половину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перерывы между периодами непрерывной непосредственно образовательн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основные виды деятельности детей в конкретные периоды непрерывной непосредственно образовательной деятельности в течение дня, недели и  их чередова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образовательные области, задачи которых решаются в каждый из конкретных периодов непрерывной непосредственно образовательн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формы работы, в которых осуществляется непосредственно образовательная де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ормы непосредственно образовате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50920" y="1197000"/>
          <a:ext cx="8642160" cy="4824360"/>
        </p:xfrm>
        <a:graphic>
          <a:graphicData uri="http://schemas.openxmlformats.org/drawingml/2006/table">
            <a:tbl>
              <a:tblPr/>
              <a:tblGrid>
                <a:gridCol w="2643120"/>
                <a:gridCol w="5999040"/>
              </a:tblGrid>
              <a:tr h="71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етская дея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римеры форм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33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вигатель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одвижные игры с правилами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одвижные дидактические игры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гровые упражнения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оревн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1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гров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южетные игры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гры с правил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2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родуктив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астерская по изготовлению продуктов детского творчества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реализация проект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2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Чтение художественной литерату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Чтение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обсуждение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разучи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ормы непосредственно образовате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324000" y="1268280"/>
          <a:ext cx="8569080" cy="4910400"/>
        </p:xfrm>
        <a:graphic>
          <a:graphicData uri="http://schemas.openxmlformats.org/drawingml/2006/table">
            <a:tbl>
              <a:tblPr/>
              <a:tblGrid>
                <a:gridCol w="2952720"/>
                <a:gridCol w="5616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етская дея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римеры форм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ознавательно-исследовательс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аблюд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Экскур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Решение проблемных ситуац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Экспериментир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Коллекционир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оделир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Реализация проек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гры (сюжетные, с правилам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67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Коммуникатив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Бесе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итуативный разгов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Речевая ситу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оставление и отгадывание загад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гры (сюжетные, с правилам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Режим д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50560" y="1125360"/>
            <a:ext cx="8497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Устанавливается дошкольным образовательным учреждением самостоятельно с учетом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ремени пребывания детей в групп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действующих санитарно-эпидемиологических правил и нормативов (СанПиН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федеральных государственных требований в сфере дошкольного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рекомендаций примерной основной общеобразовательной программы дошкольного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специфики условий (климатических, демографических, национально-культурных и др.) осуществления образовательного процес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ремени года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арианты планирования работы воспитателя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ан работы на месяц. Автор - Н.А. Корот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0" y="981000"/>
          <a:ext cx="9144000" cy="5403960"/>
        </p:xfrm>
        <a:graphic>
          <a:graphicData uri="http://schemas.openxmlformats.org/drawingml/2006/table">
            <a:tbl>
              <a:tblPr/>
              <a:tblGrid>
                <a:gridCol w="971640"/>
                <a:gridCol w="1274760"/>
                <a:gridCol w="1965240"/>
                <a:gridCol w="1728720"/>
                <a:gridCol w="1603440"/>
                <a:gridCol w="1600200"/>
              </a:tblGrid>
              <a:tr h="172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еделя меся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обытия в окружаю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щ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ознавательно-исследователь-ская деятельность (Что это такое? Как? Почему?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редметный материал («смоделирован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ые» событ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родуктивная деятельность (Не сделать ли нам?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Как это сделать?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Художествен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ые тексты (воображаемые событ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37268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етские увлечен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арианты планирования работы воспитателя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ДОУ № 69 г. Санкт-Петер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0" y="981000"/>
          <a:ext cx="9144000" cy="5313600"/>
        </p:xfrm>
        <a:graphic>
          <a:graphicData uri="http://schemas.openxmlformats.org/drawingml/2006/table">
            <a:tbl>
              <a:tblPr/>
              <a:tblGrid>
                <a:gridCol w="826920"/>
                <a:gridCol w="1152720"/>
                <a:gridCol w="1440000"/>
                <a:gridCol w="1081080"/>
                <a:gridCol w="1150920"/>
                <a:gridCol w="1800000"/>
                <a:gridCol w="1692360"/>
              </a:tblGrid>
              <a:tr h="733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ень недели/д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Образова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те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обл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овместная деятельность взрослого и детей с учетом интеграции образовательных обла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Организ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развивающ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реды д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амостоятельн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етей (цен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активности, вс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омещ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групп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заимодействие с родителями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оциальными партне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(театрами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портивны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 художествен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ыми школами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общеобразова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тельны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учреждениям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епосредственно образователь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Образова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те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еятель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ость 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режим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омент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Группова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одгруппов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ндиви-дуа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ная форма планирования непосредственно образовательной деятельности (для детей 3-4 лет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50920" y="1341360"/>
          <a:ext cx="8569080" cy="4535640"/>
        </p:xfrm>
        <a:graphic>
          <a:graphicData uri="http://schemas.openxmlformats.org/drawingml/2006/table">
            <a:tbl>
              <a:tblPr/>
              <a:tblGrid>
                <a:gridCol w="1152360"/>
                <a:gridCol w="936720"/>
                <a:gridCol w="2232000"/>
                <a:gridCol w="2303640"/>
                <a:gridCol w="1944360"/>
              </a:tblGrid>
              <a:tr h="944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ата (день недел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Основные виды деятельности де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нтеграция образовательных облас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Формы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6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оне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.00-9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вигате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ФК, коммуникация, социализаци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безопас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гровая беседа с элементами движений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гровое упражнение, подвижная иг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22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.25-9.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Чтение худ. ли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Чтение, коммуникация, социал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итуативный разговор с детьми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чт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 модели организации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разовательного процесс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Д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0" y="112500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500" spc="-1" strike="noStrike">
                <a:solidFill>
                  <a:srgbClr val="222268"/>
                </a:solidFill>
                <a:latin typeface="Arial"/>
              </a:rPr>
              <a:t>1. Учебная модел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В последние годы она активно используется в ДОУ. Организация образовательного процесса в дошкольном учреждении строится  по принципу разделенных учебных методик, каждая из которых имеют свою логику построения. В этой модели позиция взрослого -  учительская: ему всецело принадлежит инициатива и направление деятельности. Модель рассчитана на заблаговременное жесткое программирование образовательной среды в виде методик. Образовательный процесс осуществляется в дисциплинарной школьно-урочной форме. Предметная среда обслуживает занятие - методику и приобретает вид  “учебных пособий”. Привлекательность  учебной модели для практиков определяется ее высокой технологичностью, доступностью профессионально обученному педагогу. В помощь педагогу издается  множество конспектов – разработок по отдельным методикам, содержание которых не связано между соб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0" y="25653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119664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500" spc="-1" strike="noStrike">
                <a:solidFill>
                  <a:srgbClr val="222268"/>
                </a:solidFill>
                <a:latin typeface="Arial"/>
              </a:rPr>
              <a:t>2. Комплексно-тематическая  модель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222268"/>
                </a:solidFill>
                <a:latin typeface="Arial"/>
              </a:rPr>
              <a:t>В основу организации образовательных содержаний ставится тема, которая выступает как сообщаемое знание и представляется в эмоционально-образной форме. Реализация темы в разных видах детской деятельности (“проживание” ее ребенком) вынуждает взрослого к выбору более свободной позиции, приближая ее к партнерско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222268"/>
                </a:solidFill>
                <a:latin typeface="Arial"/>
              </a:rPr>
              <a:t>Организация предметной среды в этой модели становится менее жесткой, включается творчество педагог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22268"/>
                </a:solidFill>
                <a:latin typeface="Arial"/>
              </a:rPr>
              <a:t>     </a:t>
            </a:r>
            <a:r>
              <a:rPr b="0" lang="ru-RU" sz="1900" spc="-1" strike="noStrike">
                <a:solidFill>
                  <a:srgbClr val="222268"/>
                </a:solidFill>
                <a:latin typeface="Arial"/>
              </a:rPr>
              <a:t>Набор тем определяет воспитатель и это придает систематичность всему образовательному процессу. Однако в целом образовательный процесс направлен скорее, на расширение представлений ребенка об окружающем мире, чем на его развитие. Эту модель чаще используют учителя - логопед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22268"/>
                </a:solidFill>
                <a:latin typeface="Arial"/>
              </a:rPr>
              <a:t>      </a:t>
            </a:r>
            <a:r>
              <a:rPr b="0" lang="ru-RU" sz="1900" spc="-1" strike="noStrike">
                <a:solidFill>
                  <a:srgbClr val="222268"/>
                </a:solidFill>
                <a:latin typeface="Arial"/>
              </a:rPr>
              <a:t>Модель предъявляет довольно высокие требования к общей культуре и творческому и педагогическому потенциалу воспитателя, так как отбор тем является сложным процессом.                                                                                           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Заголовок 1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 модели организации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разовательного процесс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Д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 модели организации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разовательного процесс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Д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0" y="1125360"/>
            <a:ext cx="9144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500" spc="-1" strike="noStrike">
                <a:solidFill>
                  <a:srgbClr val="222268"/>
                </a:solidFill>
                <a:latin typeface="Arial"/>
              </a:rPr>
              <a:t>3. Предметно-средовая модель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Содержание образования проецируется непосредственно на предметную среду. Взрослый –  организатор предметных сред, подбирает автодидактический, развивающий материал, провоцирует пробы и фиксирует ошибки ребенка. Классический вариант этой модели – система М. Монтессор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Ограничение образовательной среды только предметным материалом и ставка на саморазвитие ребенка в этой модели приводит к утрате систематичности образовательного процесса и резко сужает культурные горизонты дошкольника. При этом, как и учебная, данная модель технологична и не требует творческих усилий от взросл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	</a:t>
            </a:r>
            <a:br>
              <a:rPr sz="1800"/>
            </a:b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Вывод: 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особенности этих моделей–прототипов необходимо иметь в виду при конструировании оптимальной  модели образовательного процесса для детей дошкольного возраста. Возможно использование положительных сторон </a:t>
            </a: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комплексно-тематической и предметно- средовой модел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ненавязчивая позиция взрослого, разнообразие детской активности, свободный выбор предметного материа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иболее распространенная модель организации образовательного процесса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до введения  в действие  ФГ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24000" y="1700280"/>
          <a:ext cx="8424720" cy="3824280"/>
        </p:xfrm>
        <a:graphic>
          <a:graphicData uri="http://schemas.openxmlformats.org/drawingml/2006/table">
            <a:tbl>
              <a:tblPr/>
              <a:tblGrid>
                <a:gridCol w="2232000"/>
                <a:gridCol w="3384360"/>
                <a:gridCol w="2808360"/>
              </a:tblGrid>
              <a:tr h="115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Учебный бл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Блок совместной деятельности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зрослого и де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амостоятельная деятельность де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67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Основная форма – занятие (в соответствии с сеткой заняти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Режимные моменты, в ходе которых осуществляется решение образовательных задач (утренний прием, прогулка, подготовка ко сну, питание и др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редметно-развивающую и игровую среду создает педагог (уголки, зоны и др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соответствии с ФГТ предлагается следующая модель организации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68360" y="1628640"/>
          <a:ext cx="8136000" cy="3816360"/>
        </p:xfrm>
        <a:graphic>
          <a:graphicData uri="http://schemas.openxmlformats.org/drawingml/2006/table">
            <a:tbl>
              <a:tblPr/>
              <a:tblGrid>
                <a:gridCol w="5327640"/>
                <a:gridCol w="2808360"/>
              </a:tblGrid>
              <a:tr h="119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Совместная деятельность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взрослого и де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Самостоятельная деятельность де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6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ahoma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Непосредственно образовательная дея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     </a:t>
                      </a: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Основные формы: игра, наблюдение, экспериментирование, разговор, решение проблемных ситуаций, проектная деятельность и д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ahoma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Решение образовательных задач в ходе режимных момент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Разнообразная, гибко меняющаяся предметно-развивающая  и игровая сре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нципиальные отличия модели организации образовательного процесса в соответствии с ФГТ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 «старой» мод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50560" y="1267920"/>
            <a:ext cx="8497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Исключение учебного блока (но не процесса обучения!); </a:t>
            </a:r>
            <a:br>
              <a:rPr sz="2000"/>
            </a:b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Увеличение объема блока совместной деятельности взрослого и детей, в который, входит уже не только образовательная деятельность, осуществляемая в ходе режимных моментов, но и непосредственно образовательная деятельность;</a:t>
            </a:r>
            <a:br>
              <a:rPr sz="2000"/>
            </a:b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Изменение содержания понятия “совместная деятельность взрослого и детей” с учетом ее сущностных (а не формальных) признаков;</a:t>
            </a:r>
            <a:br>
              <a:rPr sz="2000"/>
            </a:b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Изменение объема и содержания понятия “непосредственно образовательная деятельность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руктура  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95280" y="1125360"/>
            <a:ext cx="856944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В образовательном процессе  включено два основных составляющих бло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совместная партнерская деятельность взрослого с деть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свободная самостоятельная деятельность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Такая структура образовательного процесса должна быть принята как каркасная для всего дошкольного возраста (3 – 7 лет) и как единственно возможная для младшего дошкольного возраста (3 – 5 ле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Специфика дошкольного образования заключается в том, что обучение является по сути процессом “усвоения” содержания в видах деятельности (Д.Б. Эльконин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Схема развития любого вида деятельности в соответствии с концепцией Л.С. Выготского такова: сначала она осуществляется в совместной деятельности со взрослыми, затем – в совместной деятельности со сверстниками и, наконец, становится самостоятельной деятельностью ребен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тезисы организации партнерской деятельности взрослого с детьми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А. Коротко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0" y="1196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1. Включенность воспитателя в деятельность наравне с деть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2. Добровольное присоединение детей к деятельности (без психического и    дисциплинарного принуждения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3. Свободное общение и перемещение детей во время деятельности (при соответствии организации рабочего пространства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4.  Открытый временной конец занятия (каждый работает в своем темпе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Коснемся еще одного важного момента, к которому должны стремиться сегодня практ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мы должны заменить привычное для современной дошкольной педагогики разделение 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“игра — учебные занятия”,</a:t>
            </a: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 приводящее к разрыву целостности образовательного процесса, на более психологичную и соответствующую возрасту структуру: 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игра и родственные ей виды деятельности</a:t>
            </a: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1:55:59Z</dcterms:created>
  <dc:creator>panyakin</dc:creator>
  <dc:description/>
  <dc:language>en-US</dc:language>
  <cp:lastModifiedBy>AArcishevskaia</cp:lastModifiedBy>
  <dcterms:modified xsi:type="dcterms:W3CDTF">2011-04-08T12:17:52Z</dcterms:modified>
  <cp:revision>672</cp:revision>
  <dc:subject/>
  <dc:title>Слайд 1</dc:title>
</cp:coreProperties>
</file>