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043-3745-49B1-87B3-65F49B12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F0D-5FFB-479C-A977-009AE942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1F4-7BEE-4E19-8D9B-044D0BA4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3FA-75E6-48E8-A592-D3B128D7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F10-28FF-45E9-8F4F-99EF2E19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5DE-6D4B-49B6-B622-14BA16F2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97F-C5CA-4658-B2F5-1787D130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D72-4C30-475F-885D-BF3531B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E20-90A2-46CF-9173-5CA3D661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8B3-8DC7-45AC-9091-95F4EAE3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266-4B1B-4861-B8EF-8482B79C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DDA-F3F4-404E-9013-9EF91E7A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9E78-B6FB-4D1B-9D4C-96FF5BA0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00EC-503B-4140-AC5B-F2B21D6C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9001-81EA-400A-AA0C-A7881FDC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C60A-6097-4E09-81BC-23BEE68D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F7BB-E0FF-4D70-B18E-9F9B2E1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B6AB-3345-4F3D-ABDC-33241235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8960-34E8-4A20-9907-932AC64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486F-B7AE-4903-9883-CE7BEC2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3E87-77B4-4708-A4D0-31CD01CE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1CAA-2CF2-4ABC-B6EE-9C2AB32B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7043-E400-4031-855F-2D9E13BE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27A5-D3C9-43D4-B84F-66884A0D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9205-04A9-471D-B652-58D629A8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4369-6891-4C02-B0F6-D2D9C906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0EDC0-BBEA-4D63-90A9-5174DFAD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B24A-D20E-41A9-B53D-16C8EE13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C92E2-A14C-498D-92B1-AF4D3559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A4C9-72E2-46F3-B621-C39B7ED3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6330-8C58-47ED-BC55-51B1A1AB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85C7-B480-488E-A5F7-6654EF55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46E2-2180-42CC-B259-AD999606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AF53-7893-4E50-A2FA-D15DD0ED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D87E5-CFCA-4F90-A866-258B17A5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D8EF-5552-445B-9C6F-ADE5EEBF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841400"/>
            <a:ext cx="9156960" cy="315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84140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1DB6-6CEE-486B-AB3C-6FFEFF2F913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96B2-29EC-4837-87A1-D726273E1BE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9176-61DC-4DEF-8CE8-299A314858B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3487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зация и планирование образовательного процесса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 соответствии с ФГТ</a:t>
            </a:r>
            <a:br>
              <a:rPr sz="2400"/>
            </a:br>
            <a:br>
              <a:rPr sz="1000"/>
            </a:b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ля конструирования оптимальной модели образовательного процесса в соответствии с ФГТ необходимо вспомнить, какие основные образовательные модели существуют  в ДОУ в настоящее время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10920" y="4365360"/>
            <a:ext cx="8064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Лектор: </a:t>
            </a:r>
            <a:r>
              <a:rPr b="0" lang="ru-RU" sz="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БЕЛАЯ КСЕНИЯ ЮРЬЕВНА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, профессор кафедры педагогики и методики дошкольного образования Московского института открытого образования, заслуженный учитель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можные темообразующие 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05228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ервы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реальные события, происходящие в окружающем мире и вызывающие интерес детей (яркие природные явления и общественные события, праздники.)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Второ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воображаемые события, описываемые в художественном произведении, которое воспитатель читает детям. Это  мощный темообразующий фактор, как и реальные собы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Трети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события, специально «смоделированные» воспитателем (исходя из развивающих задач). Это внесение в группу предметов, ранее неизвестных детям, с необычным эффектом или назначением, вызывающих неподдельный интерес и исследовательскую активность (Что это такое? Что с этим делать? Как это действует?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Четверты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события, происходящие в жизни возрастной группы, «заражающие» детей и приводящие к удерживающимся какое-то время интересам, корни которых лежат, как правило, в средствах массовой коммуникации и игрушечной индустрии (например увлечение динозаврами,  и т. 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Все  эти факторы, могут использоваться воспитателем для гибкого проектирования целостного образовательного процесса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ий объем образовательной нагруз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ак непосредственно образовательной деятельности, так и образовательной деятельности, осуществляемой в ходе режимных мом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8920" y="112536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Определяется дошкольным образовательным учреждением самостоятельно с уче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действующих санитарно-эпидемиологических правил и нормативов (СанПи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федеральных государственных требований в сфере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типа и вида учреждения, реализующего основную общеобразовательную программу дошкольного образования, наличия приоритетных направлений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рекомендаций примерной основной общеобразовательной программы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пецифики условий (климатических, демографических, национально-культурных и др.) осуществлен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средственно образо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484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Реализуется через организацию различных видов детской деятельности или их интеграцию с использованием разнообразных форм и методов работы, выбор которых осуществляется педагогами самостоятельно в зависимости от контингента детей, уровня освоения Программы и решения конкретных образовательн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В соответствии с возрастом детей, наличием приоритетных направлений образовательной деятельности и спецификой осуществления образовательного процесса рекомендуется учитывать следующие параме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средственно образо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05264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бщий объем непосредственной образовательной деятельности в недел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родолжительность периодов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количество периодов непрерывной непосредственно образовательной деятельности в течение д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распределение периодов непрерывной непосредственно образовательной деятельности в течение дня (в первую и во вторую половин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ерерывы между периодами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сновные виды деятельности детей в конкретные периоды непрерывной непосредственно образовательной деятельности в течение дня, недели и  их черед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бразовательные области, задачи которых решаются в каждый из конкретных периодов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формы работы, в которых осуществляется непосредственно образовательн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непосредственно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50920" y="1197000"/>
          <a:ext cx="8642160" cy="4824360"/>
        </p:xfrm>
        <a:graphic>
          <a:graphicData uri="http://schemas.openxmlformats.org/drawingml/2006/table">
            <a:tbl>
              <a:tblPr/>
              <a:tblGrid>
                <a:gridCol w="2643120"/>
                <a:gridCol w="5999040"/>
              </a:tblGrid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меры фор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вига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вижные игры с правилам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вижные дидактические игр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ые упражнен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ревн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южетные игр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с прав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дук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астерская по изготовлению продуктов детского творчеств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ализация проек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 художественной лит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сужде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уч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непосредственно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268280"/>
          <a:ext cx="8569080" cy="4910400"/>
        </p:xfrm>
        <a:graphic>
          <a:graphicData uri="http://schemas.openxmlformats.org/drawingml/2006/table">
            <a:tbl>
              <a:tblPr/>
              <a:tblGrid>
                <a:gridCol w="2952720"/>
                <a:gridCol w="5616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меры фор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знавательно-исследова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блю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кскур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шение проблемных ситу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ксперимен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ллекцион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ализация проек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(сюжетные, с правил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ммуника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с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туативный раз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чевая ситу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ставление и отгадывание зага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(сюжетные, с правил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560" y="112536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станавливается дошкольным образовательным учреждением самостоятельно с учето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ремени пребывания детей в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ействующих санитарно-эпидемиологических правил и нормативов (СанПи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федеральных государственных требований в сфере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екомендаций примерной основной общеобразовательной программы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пецифики условий (климатических, демографических, национально-культурных и др.) осуществлен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ремени год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планирования работы воспитател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работы на месяц. Автор - Н.А. Корот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981000"/>
          <a:ext cx="9144000" cy="5403960"/>
        </p:xfrm>
        <a:graphic>
          <a:graphicData uri="http://schemas.openxmlformats.org/drawingml/2006/table">
            <a:tbl>
              <a:tblPr/>
              <a:tblGrid>
                <a:gridCol w="971640"/>
                <a:gridCol w="1274760"/>
                <a:gridCol w="1965240"/>
                <a:gridCol w="1728720"/>
                <a:gridCol w="1603440"/>
                <a:gridCol w="1600200"/>
              </a:tblGrid>
              <a:tr h="17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деля меся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бытия в окружаю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щ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знавательно-исследователь-ская деятельность (Что это такое? Как? Почему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метный материал («смоделирова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е» собы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дуктивная деятельность (Не сделать ли нам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к это сделать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удожеств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е тексты (воображаемые собы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726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ие увлеч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планирования работы воспитател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ОУ № 69 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981000"/>
          <a:ext cx="9144000" cy="5313600"/>
        </p:xfrm>
        <a:graphic>
          <a:graphicData uri="http://schemas.openxmlformats.org/drawingml/2006/table">
            <a:tbl>
              <a:tblPr/>
              <a:tblGrid>
                <a:gridCol w="826920"/>
                <a:gridCol w="1152720"/>
                <a:gridCol w="1440000"/>
                <a:gridCol w="1081080"/>
                <a:gridCol w="1150920"/>
                <a:gridCol w="1800000"/>
                <a:gridCol w="1692360"/>
              </a:tblGrid>
              <a:tr h="733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нь недели/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местная деятельность взрослого и детей с учетом интеграции образовательных обла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рга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виваю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реды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тоятель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ей (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ктивности, в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ме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рупп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заимодействие с родителями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циальными партне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театрам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портив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 художеств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ми школам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ще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реждения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ятель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ость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жим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мен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руппов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групп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диви-ду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ная форма планирования непосредственно образовательной деятельности (для детей 3-4 ле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50920" y="1341360"/>
          <a:ext cx="8569080" cy="4535640"/>
        </p:xfrm>
        <a:graphic>
          <a:graphicData uri="http://schemas.openxmlformats.org/drawingml/2006/table">
            <a:tbl>
              <a:tblPr/>
              <a:tblGrid>
                <a:gridCol w="1152360"/>
                <a:gridCol w="936720"/>
                <a:gridCol w="2232000"/>
                <a:gridCol w="2303640"/>
                <a:gridCol w="194436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ата (день нед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новные виды деятельност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00-9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виг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К, коммуникация, социализа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ая беседа с элементами движен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ое упражнение, подвижная иг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25-9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 худ. л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, коммуникация, соци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туативный разговор с детьм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125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1. Учебная модел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В последние годы она активно используется в ДОУ. Организация образовательного процесса в дошкольном учреждении строится  по принципу разделенных учебных методик, каждая из которых имеют свою логику построения. В этой модели позиция взрослого -  учительская: ему всецело принадлежит инициатива и направление деятельности. Модель рассчитана на заблаговременное жесткое программирование образовательной среды в виде методик. Образовательный процесс осуществляется в дисциплинарной школьно-урочной форме. Предметная среда обслуживает занятие - методику и приобретает вид  “учебных пособий”. Привлекательность  учебной модели для практиков определяется ее высокой технологичностью, доступностью профессионально обученному педагогу. В помощь педагогу издается  множество конспектов – разработок по отдельным методикам, содержание которых не связано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0" y="2565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6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2. Комплексно-тематическая  модел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В основу организации образовательных содержаний ставится тема, которая выступает как сообщаемое знание и представляется в эмоционально-образной форме. Реализация темы в разных видах детской деятельности (“проживание” ее ребенком) вынуждает взрослого к выбору более свободной позиции, приближая ее к партнерс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Организация предметной среды в этой модели становится менее жесткой, включается творчество педаго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Набор тем определяет воспитатель и это придает систематичность всему образовательному процессу. Однако в целом образовательный процесс направлен скорее, на расширение представлений ребенка об окружающем мире, чем на его развитие. Эту модель чаще используют учителя - логопе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Модель предъявляет довольно высокие требования к общей культуре и творческому и педагогическому потенциалу воспитателя, так как отбор тем является сложным процессом.                                                               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3. Предметно-средовая модел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одержание образования проецируется непосредственно на предметную среду. Взрослый –  организатор предметных сред, подбирает автодидактический, развивающий материал, провоцирует пробы и фиксирует ошибки ребенка. Классический вариант этой модели – система М. Монтессо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граничение образовательной среды только предметным материалом и ставка на саморазвитие ребенка в этой модели приводит к утрате систематичности образовательного процесса и резко сужает культурные горизонты дошкольника. При этом, как и учебная, данная модель технологична и не требует творческих усилий от взрос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собенности этих моделей–прототипов необходимо иметь в виду при конструировании оптимальной  модели образовательного процесса для детей дошкольного возраста. Возможно использование положительных сторон 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комплексно-тематической и предметно- средовой мод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ненавязчивая позиция взрослого, разнообразие детской активности, свободный выбор предметного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ая модель организации образовательного процесс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до введения  в действие  ФГ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700280"/>
          <a:ext cx="8424720" cy="3824280"/>
        </p:xfrm>
        <a:graphic>
          <a:graphicData uri="http://schemas.openxmlformats.org/drawingml/2006/table">
            <a:tbl>
              <a:tblPr/>
              <a:tblGrid>
                <a:gridCol w="2232000"/>
                <a:gridCol w="3384360"/>
                <a:gridCol w="280836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ебный б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лок совместной деятельност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зрослого 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7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новная форма – занятие (в соответствии с сеткой занят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жимные моменты, в ходе которых осуществляется решение образовательных задач (утренний прием, прогулка, подготовка ко сну, питание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метно-развивающую и игровую среду создает педагог (уголки, зон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оответствии с ФГТ предлагается следующая модель организаци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8360" y="1628640"/>
          <a:ext cx="8136000" cy="3816360"/>
        </p:xfrm>
        <a:graphic>
          <a:graphicData uri="http://schemas.openxmlformats.org/drawingml/2006/table">
            <a:tbl>
              <a:tblPr/>
              <a:tblGrid>
                <a:gridCol w="5327640"/>
                <a:gridCol w="2808360"/>
              </a:tblGrid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Совместная деятельност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зрослого 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Самостоятельная 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ahoma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Непосредственно образовате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Основные формы: игра, наблюдение, экспериментирование, разговор, решение проблемных ситуаций, проектная деятельность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ahoma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ешение образовательных задач в ходе режимных момен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азнообразная, гибко меняющаяся предметно-развивающая  и игровая 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иальные отличия модели организации образовательного процесса в соответствии с ФГ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старой»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0560" y="1267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сключение учебного блока (но не процесса обучения!); 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Увеличение объема блока совместной деятельности взрослого и детей, в который, входит уже не только образовательная деятельность, осуществляемая в ходе режимных моментов, но и непосредственно образовательная деятельность;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зменение содержания понятия “совместная деятельность взрослого и детей” с учетом ее сущностных (а не формальных) признаков;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зменение объема и содержания понятия “непосредственно образовательная деятельность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уктура 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5280" y="1125360"/>
            <a:ext cx="8569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В образовательном процессе  включено два основных составляющих бл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овместная партнерская деятельность взрослого с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вободная самостоятельн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Такая структура образовательного процесса должна быть принята как каркасная для всего дошкольного возраста (3 – 7 лет) и как единственно возможная для младшего дошкольного возраста (3 – 5 л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пецифика дошкольного образования заключается в том, что обучение является по сути процессом “усвоения” содержания в видах деятельности (Д.Б. Элькони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хема развития любого вида деятельности в соответствии с концепцией Л.С. Выготского такова: сначала она осуществляется в совместной деятельности со взрослыми, затем – в совместной деятельности со сверстниками и, наконец, становится самостоятельной деятельностью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тезисы организации партнерской деятельности взрослого с детьм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А. Коротк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1. Включенность воспитателя в деятельность наравне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2. Добровольное присоединение детей к деятельности (без психического и    дисциплинарного принуждени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3. Свободное общение и перемещение детей во время деятельности (при соответствии организации рабочего пространств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4.  Открытый временной конец занятия (каждый работает в своем темп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Коснемся еще одного важного момента, к которому должны стремиться сегодня прак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мы должны заменить привычное для современной дошкольной педагогики разделение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“игра — учебные занятия”,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приводящее к разрыву целостности образовательного процесса, на более психологичную и соответствующую возрасту структуру: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гра и родственные ей виды деятельности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1:55:59Z</dcterms:created>
  <dc:creator>panyakin</dc:creator>
  <dc:description/>
  <dc:language>en-US</dc:language>
  <cp:lastModifiedBy>AArcishevskaia</cp:lastModifiedBy>
  <dcterms:modified xsi:type="dcterms:W3CDTF">2011-04-08T12:17:52Z</dcterms:modified>
  <cp:revision>672</cp:revision>
  <dc:subject/>
  <dc:title>Слайд 1</dc:title>
</cp:coreProperties>
</file>