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5E0-7309-4691-ACF9-4B698D55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1DA-18B8-4F21-97FD-34BD3634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300-D5C2-4E47-B44D-22870183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E59-FCD1-41D8-A93E-22813F83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291-3360-42E8-8E0E-57ECA038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071-F467-46CF-9D47-9050E194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5E1-9CC5-4329-A2BD-6BBC3315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CC38-1534-4742-9F22-46E6BEDE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1D15-A8B3-4C98-8CCA-BC361016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CA7C-1661-4E3E-A066-08F98433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EF1A-E8F6-4060-9991-F3025A43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A97-3DED-46F1-AC28-C98DE698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E8D7-A431-4944-914E-CBBC1955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6E5A-445E-4184-BEEB-82E1AA37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DAD8-9F89-434C-A47A-F056AC09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8F27-0CDA-4960-8D6B-6156323F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D391-7EDC-4AFB-B361-12212B6A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8E66-879A-4110-8F9D-D7497FCB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C68D-7BD9-4404-A70D-2F8F2114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CDD2-6C1E-4D11-AA69-DFF08D2B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7375-19F2-41A4-8C57-49989948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64E3-D2BE-4FBB-B39F-2041CAD5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B1A3-E675-4E40-96ED-F635815F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74D7-EDDD-4367-8B53-1237CABE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D96A5-7C65-437A-896F-3BC7C840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270AD-54A2-40EA-9CEA-9326E039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51455-8D13-4A52-929D-FF964FAA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DFD4C-0C40-482B-9F20-A25BBF44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86B29-AFE1-4620-9766-354930DA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31143-65D7-4E8C-B2E3-D2899BB6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13D83-584A-464D-8EFA-48EE6E72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16FDB-134A-4B4A-9BE2-8324D41E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73F85-58D7-4F75-919B-D480A8AB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6D10E-776B-4210-A4D3-406F1D3C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5DBEF-5DB0-4620-A970-50129C3C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CA521-86AA-4A41-9155-F2706570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й центр «МЦФЭР Ресурсы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C:\Documents and Settings\AArcishevskaia.HQ\Мои документы\Наша реклама\#ЛОГОТИПЫ и ОБЛОЖКИ\Лого МЦФЭР Ресурсы образования\logo_mcfr_resuri_obraz_white copy.jpg"/>
          <p:cNvPicPr/>
          <p:nvPr/>
        </p:nvPicPr>
        <p:blipFill>
          <a:blip r:embed="rId2"/>
          <a:stretch/>
        </p:blipFill>
        <p:spPr>
          <a:xfrm>
            <a:off x="7667640" y="6357960"/>
            <a:ext cx="1476360" cy="500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C:\Documents and Settings\AArcishevskaia.HQ\Рабочий стол\111.jpg"/>
          <p:cNvPicPr/>
          <p:nvPr/>
        </p:nvPicPr>
        <p:blipFill>
          <a:blip r:embed="rId3"/>
          <a:stretch/>
        </p:blipFill>
        <p:spPr>
          <a:xfrm>
            <a:off x="-6480" y="1841400"/>
            <a:ext cx="9156960" cy="315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9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й центр «МЦФЭР Ресурсы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:\Documents and Settings\AArcishevskaia.HQ\Мои документы\Наша реклама\#ЛОГОТИПЫ и ОБЛОЖКИ\Лого МЦФЭР Ресурсы образования\logo_mcfr_resuri_obraz_white copy.jpg"/>
          <p:cNvPicPr/>
          <p:nvPr/>
        </p:nvPicPr>
        <p:blipFill>
          <a:blip r:embed="rId2"/>
          <a:stretch/>
        </p:blipFill>
        <p:spPr>
          <a:xfrm>
            <a:off x="7667640" y="6357960"/>
            <a:ext cx="1476360" cy="5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C:\Documents and Settings\AArcishevskaia.HQ\Рабочий стол\111.jpg"/>
          <p:cNvPicPr/>
          <p:nvPr/>
        </p:nvPicPr>
        <p:blipFill>
          <a:blip r:embed="rId3"/>
          <a:stretch/>
        </p:blipFill>
        <p:spPr>
          <a:xfrm>
            <a:off x="-6480" y="1481040"/>
            <a:ext cx="9156960" cy="315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й центр «МЦФЭР Ресурсы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C:\Documents and Settings\AArcishevskaia.HQ\Мои документы\Наша реклама\#ЛОГОТИПЫ и ОБЛОЖКИ\Лого МЦФЭР Ресурсы образования\logo_mcfr_resuri_obraz_white copy.jpg"/>
          <p:cNvPicPr/>
          <p:nvPr/>
        </p:nvPicPr>
        <p:blipFill>
          <a:blip r:embed="rId2"/>
          <a:stretch/>
        </p:blipFill>
        <p:spPr>
          <a:xfrm>
            <a:off x="7667640" y="6357960"/>
            <a:ext cx="1476360" cy="500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C:\Documents and Settings\AArcishevskaia.HQ\Рабочий стол\111.jpg"/>
          <p:cNvPicPr/>
          <p:nvPr/>
        </p:nvPicPr>
        <p:blipFill>
          <a:blip r:embed="rId3"/>
          <a:stretch/>
        </p:blipFill>
        <p:spPr>
          <a:xfrm>
            <a:off x="-6480" y="1841400"/>
            <a:ext cx="9156960" cy="3151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1ABC-BE3B-4B3D-8E83-16DFEE71A95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й центр «МЦФЭР Ресурсы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C:\Documents and Settings\AArcishevskaia.HQ\Мои документы\Наша реклама\#ЛОГОТИПЫ и ОБЛОЖКИ\Лого МЦФЭР Ресурсы образования\logo_mcfr_resuri_obraz_white copy.jpg"/>
          <p:cNvPicPr/>
          <p:nvPr/>
        </p:nvPicPr>
        <p:blipFill>
          <a:blip r:embed="rId2"/>
          <a:stretch/>
        </p:blipFill>
        <p:spPr>
          <a:xfrm>
            <a:off x="7667640" y="6357960"/>
            <a:ext cx="1476360" cy="50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C:\Documents and Settings\AArcishevskaia.HQ\Рабочий стол\111.jpg"/>
          <p:cNvPicPr/>
          <p:nvPr/>
        </p:nvPicPr>
        <p:blipFill>
          <a:blip r:embed="rId3"/>
          <a:stretch/>
        </p:blipFill>
        <p:spPr>
          <a:xfrm>
            <a:off x="-6480" y="1481040"/>
            <a:ext cx="9156960" cy="3151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434A-6EBA-41AE-9328-43FCC5AEC95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й центр «МЦФЭР Ресурсы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:\Documents and Settings\AArcishevskaia.HQ\Мои документы\Наша реклама\#ЛОГОТИПЫ и ОБЛОЖКИ\Лого МЦФЭР Ресурсы образования\logo_mcfr_resuri_obraz_white copy.jpg"/>
          <p:cNvPicPr/>
          <p:nvPr/>
        </p:nvPicPr>
        <p:blipFill>
          <a:blip r:embed="rId2"/>
          <a:stretch/>
        </p:blipFill>
        <p:spPr>
          <a:xfrm>
            <a:off x="7667640" y="6357960"/>
            <a:ext cx="1476360" cy="500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C:\Documents and Settings\AArcishevskaia.HQ\Рабочий стол\111.jpg"/>
          <p:cNvPicPr/>
          <p:nvPr/>
        </p:nvPicPr>
        <p:blipFill>
          <a:blip r:embed="rId3"/>
          <a:stretch/>
        </p:blipFill>
        <p:spPr>
          <a:xfrm>
            <a:off x="-6480" y="1481040"/>
            <a:ext cx="9156960" cy="31514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E406-F840-4B8A-9B67-64D26933AC8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83487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рганизация и планирование образовательного процесса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 соответствии с ФГТ</a:t>
            </a:r>
            <a:br>
              <a:rPr sz="2400"/>
            </a:br>
            <a:br>
              <a:rPr sz="1000"/>
            </a:br>
            <a:r>
              <a:rPr b="1" i="1" lang="ru-RU" sz="1700" spc="-1" strike="noStrike">
                <a:solidFill>
                  <a:srgbClr val="002060"/>
                </a:solidFill>
                <a:latin typeface="Arial"/>
              </a:rPr>
              <a:t>Для конструирования оптимальной модели образовательного процесса в соответствии с ФГТ необходимо вспомнить, какие основные образовательные модели существуют  в ДОУ в настоящее время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10920" y="4365360"/>
            <a:ext cx="8064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Лектор: </a:t>
            </a:r>
            <a:r>
              <a:rPr b="0" lang="ru-RU" sz="7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БЕЛАЯ КСЕНИЯ ЮРЬЕВНА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, профессор кафедры педагогики и методики дошкольного образования Московского института открытого образования, заслуженный учитель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зможные темообразующие 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105228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Первый фактор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— реальные события, происходящие в окружающем мире и вызывающие интерес детей (яркие природные явления и общественные события, праздники.)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Второй фактор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— воображаемые события, описываемые в художественном произведении, которое воспитатель читает детям. Это  мощный темообразующий фактор, как и реальные собы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Третий фактор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— события, специально «смоделированные» воспитателем (исходя из развивающих задач). Это внесение в группу предметов, ранее неизвестных детям, с необычным эффектом или назначением, вызывающих неподдельный интерес и исследовательскую активность (Что это такое? Что с этим делать? Как это действует?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Четвертый фактор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— события, происходящие в жизни возрастной группы, «заражающие» детей и приводящие к удерживающимся какое-то время интересам, корни которых лежат, как правило, в средствах массовой коммуникации и игрушечной индустрии (например увлечение динозаврами,  и т. 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222268"/>
                </a:solidFill>
                <a:latin typeface="Arial"/>
              </a:rPr>
              <a:t>Все  эти факторы, могут использоваться воспитателем для гибкого проектирования целостного образовательного процесса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ий объем образовательной нагруз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ак непосредственно образовательной деятельности, так и образовательной деятельности, осуществляемой в ходе режимных момен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8920" y="112536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Определяется дошкольным образовательным учреждением самостоятельно с учет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действующих санитарно-эпидемиологических правил и нормативов (СанПи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федеральных государственных требований в сфере дошко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типа и вида учреждения, реализующего основную общеобразовательную программу дошкольного образования, наличия приоритетных направлений образов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рекомендаций примерной основной общеобразовательной программы дошко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специфики условий (климатических, демографических, национально-культурных и др.) осуществления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посредственно образователь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1484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Реализуется через организацию различных видов детской деятельности или их интеграцию с использованием разнообразных форм и методов работы, выбор которых осуществляется педагогами самостоятельно в зависимости от контингента детей, уровня освоения Программы и решения конкретных образовательных зада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В соответствии с возрастом детей, наличием приоритетных направлений образовательной деятельности и спецификой осуществления образовательного процесса рекомендуется учитывать следующие парамет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посредственно образователь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105264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общий объем непосредственной образовательной деятельности в недел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продолжительность периодов непрерывной непосредственно образо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количество периодов непрерывной непосредственно образовательной деятельности в течение д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распределение периодов непрерывной непосредственно образовательной деятельности в течение дня (в первую и во вторую половин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перерывы между периодами непрерывной непосредственно образо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основные виды деятельности детей в конкретные периоды непрерывной непосредственно образовательной деятельности в течение дня, недели и  их черед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образовательные области, задачи которых решаются в каждый из конкретных периодов непрерывной непосредственно образо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формы работы, в которых осуществляется непосредственно образовательная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ы непосредственно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50920" y="1197000"/>
          <a:ext cx="8642160" cy="4824360"/>
        </p:xfrm>
        <a:graphic>
          <a:graphicData uri="http://schemas.openxmlformats.org/drawingml/2006/table">
            <a:tbl>
              <a:tblPr/>
              <a:tblGrid>
                <a:gridCol w="2643120"/>
                <a:gridCol w="5999040"/>
              </a:tblGrid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тск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имеры фор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3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вига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движные игры с правилами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движные дидактические игры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овые упражнени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ревн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южетные игры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ы с правил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одуктив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астерская по изготовлению продуктов детского творчеств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ализация проек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тение художественной лит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тени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бсуждени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азуч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ы непосредственно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24000" y="1268280"/>
          <a:ext cx="8569080" cy="4910400"/>
        </p:xfrm>
        <a:graphic>
          <a:graphicData uri="http://schemas.openxmlformats.org/drawingml/2006/table">
            <a:tbl>
              <a:tblPr/>
              <a:tblGrid>
                <a:gridCol w="2952720"/>
                <a:gridCol w="5616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тск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имеры фор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знавательно-исследователь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аблюд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Экскур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шение проблемных ситу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Эксперимент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ллекцион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одел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ализация проек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ы (сюжетные, с правил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6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ммуникатив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ес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итуативный разго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чевая ситу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ставление и отгадывание загад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ы (сюжетные, с правил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560" y="1125360"/>
            <a:ext cx="8497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станавливается дошкольным образовательным учреждением самостоятельно с учетом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ремени пребывания детей в групп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действующих санитарно-эпидемиологических правил и нормативов (СанПи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федеральных государственных требований в сфере дошко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екомендаций примерной основной общеобразовательной программы дошко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пецифики условий (климатических, демографических, национально-культурных и др.) осуществления образовательного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ремени год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нты планирования работы воспитател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 работы на месяц. Автор - Н.А. Корот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981000"/>
          <a:ext cx="9144000" cy="5403960"/>
        </p:xfrm>
        <a:graphic>
          <a:graphicData uri="http://schemas.openxmlformats.org/drawingml/2006/table">
            <a:tbl>
              <a:tblPr/>
              <a:tblGrid>
                <a:gridCol w="971640"/>
                <a:gridCol w="1274760"/>
                <a:gridCol w="1965240"/>
                <a:gridCol w="1728720"/>
                <a:gridCol w="1603440"/>
                <a:gridCol w="1600200"/>
              </a:tblGrid>
              <a:tr h="172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еделя меся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бытия в окружаю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щ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знавательно-исследователь-ская деятельность (Что это такое? Как? Почему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едметный материал («смоделирован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ые» событ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одуктивная деятельность (Не сделать ли нам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ак это сделать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Художествен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ые тексты (воображаемые событ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726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тские увлече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нты планирования работы воспитател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ОУ № 69 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981000"/>
          <a:ext cx="9144000" cy="5313600"/>
        </p:xfrm>
        <a:graphic>
          <a:graphicData uri="http://schemas.openxmlformats.org/drawingml/2006/table">
            <a:tbl>
              <a:tblPr/>
              <a:tblGrid>
                <a:gridCol w="826920"/>
                <a:gridCol w="1152720"/>
                <a:gridCol w="1440000"/>
                <a:gridCol w="1081080"/>
                <a:gridCol w="1150920"/>
                <a:gridCol w="1800000"/>
                <a:gridCol w="1692360"/>
              </a:tblGrid>
              <a:tr h="733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нь недели/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бразов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вместная деятельность взрослого и детей с учетом интеграции образовательных обла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рга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азвиваю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реды д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амостоятель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тей (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активности, в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ме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рупп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заимодействие с родителями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циальными партне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театрам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портивн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 художествен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ыми школам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бщеобразов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ельн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чреждениям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бразов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ятель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ость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жим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омен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руппов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дгруппо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ндиви-дуа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ная форма планирования непосредственно образовательной деятельности (для детей 3-4 лет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50920" y="1341360"/>
          <a:ext cx="8569080" cy="4535640"/>
        </p:xfrm>
        <a:graphic>
          <a:graphicData uri="http://schemas.openxmlformats.org/drawingml/2006/table">
            <a:tbl>
              <a:tblPr/>
              <a:tblGrid>
                <a:gridCol w="1152360"/>
                <a:gridCol w="936720"/>
                <a:gridCol w="2232000"/>
                <a:gridCol w="2303640"/>
                <a:gridCol w="1944360"/>
              </a:tblGrid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ата (день недел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сновные виды деятельности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нтеграция образовательных обла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Форм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.00-9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вига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ФК, коммуникация, социализац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езопас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овая беседа с элементами движени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овое упражнение, подвижная иг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.25-9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тение худ. ли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тение, коммуникация, соци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итуативный разговор с детьм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модели организац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овательного процесс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112500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222268"/>
                </a:solidFill>
                <a:latin typeface="Arial"/>
              </a:rPr>
              <a:t>1. Учебная модел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В последние годы она активно используется в ДОУ. Организация образовательного процесса в дошкольном учреждении строится  по принципу разделенных учебных методик, каждая из которых имеют свою логику построения. В этой модели позиция взрослого -  учительская: ему всецело принадлежит инициатива и направление деятельности. Модель рассчитана на заблаговременное жесткое программирование образовательной среды в виде методик. Образовательный процесс осуществляется в дисциплинарной школьно-урочной форме. Предметная среда обслуживает занятие - методику и приобретает вид  “учебных пособий”. Привлекательность  учебной модели для практиков определяется ее высокой технологичностью, доступностью профессионально обученному педагогу. В помощь педагогу издается  множество конспектов – разработок по отдельным методикам, содержание которых не связано между с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0" y="2565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196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222268"/>
                </a:solidFill>
                <a:latin typeface="Arial"/>
              </a:rPr>
              <a:t>2. Комплексно-тематическая  модель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В основу организации образовательных содержаний ставится тема, которая выступает как сообщаемое знание и представляется в эмоционально-образной форме. Реализация темы в разных видах детской деятельности (“проживание” ее ребенком) вынуждает взрослого к выбору более свободной позиции, приближая ее к партнерск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Организация предметной среды в этой модели становится менее жесткой, включается творчество педагог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Набор тем определяет воспитатель и это придает систематичность всему образовательному процессу. Однако в целом образовательный процесс направлен скорее, на расширение представлений ребенка об окружающем мире, чем на его развитие. Эту модель чаще используют учителя - логопед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Модель предъявляет довольно высокие требования к общей культуре и творческому и педагогическому потенциалу воспитателя, так как отбор тем является сложным процессом.                                                                                    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Заголовок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модели организац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овательного процесс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модели организац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овательного процесс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1125360"/>
            <a:ext cx="9144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222268"/>
                </a:solidFill>
                <a:latin typeface="Arial"/>
              </a:rPr>
              <a:t>3. Предметно-средовая модель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Содержание образования проецируется непосредственно на предметную среду. Взрослый –  организатор предметных сред, подбирает автодидактический, развивающий материал, провоцирует пробы и фиксирует ошибки ребенка. Классический вариант этой модели – система М. Монтессо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Ограничение образовательной среды только предметным материалом и ставка на саморазвитие ребенка в этой модели приводит к утрате систематичности образовательного процесса и резко сужает культурные горизонты дошкольника. При этом, как и учебная, данная модель технологична и не требует творческих усилий от взросл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br>
              <a:rPr sz="1800"/>
            </a:b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Вывод: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особенности этих моделей–прототипов необходимо иметь в виду при конструировании оптимальной  модели образовательного процесса для детей дошкольного возраста. Возможно использование положительных сторон 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комплексно-тематической и предметно- средовой моде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ненавязчивая позиция взрослого, разнообразие детской активности, свободный выбор предметного матери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распространенная модель организации образовательного процесс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до введения  в действие  ФГ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24000" y="1700280"/>
          <a:ext cx="8424720" cy="3824280"/>
        </p:xfrm>
        <a:graphic>
          <a:graphicData uri="http://schemas.openxmlformats.org/drawingml/2006/table">
            <a:tbl>
              <a:tblPr/>
              <a:tblGrid>
                <a:gridCol w="2232000"/>
                <a:gridCol w="3384360"/>
                <a:gridCol w="2808360"/>
              </a:tblGrid>
              <a:tr h="11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чебный б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лок совместной деятельности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зрослого и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7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сновная форма – занятие (в соответствии с сеткой занят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жимные моменты, в ходе которых осуществляется решение образовательных задач (утренний прием, прогулка, подготовка ко сну, питание и д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едметно-развивающую и игровую среду создает педагог (уголки, зоны и д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оответствии с ФГТ предлагается следующая модель организаци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68360" y="1628640"/>
          <a:ext cx="8136000" cy="3816360"/>
        </p:xfrm>
        <a:graphic>
          <a:graphicData uri="http://schemas.openxmlformats.org/drawingml/2006/table">
            <a:tbl>
              <a:tblPr/>
              <a:tblGrid>
                <a:gridCol w="5327640"/>
                <a:gridCol w="2808360"/>
              </a:tblGrid>
              <a:tr h="11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Совместная деятельность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взрослого и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Самостоятельная деятельность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ahoma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Непосредственно образовательн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Основные формы: игра, наблюдение, экспериментирование, разговор, решение проблемных ситуаций, проектная деятельность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ahoma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Решение образовательных задач в ходе режимных момен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Разнообразная, гибко меняющаяся предметно-развивающая  и игровая 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иальные отличия модели организации образовательного процесса в соответствии с ФГТ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 «старой» 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50560" y="126792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Исключение учебного блока (но не процесса обучения!); </a:t>
            </a:r>
            <a:br>
              <a:rPr sz="2000"/>
            </a:b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Увеличение объема блока совместной деятельности взрослого и детей, в который, входит уже не только образовательная деятельность, осуществляемая в ходе режимных моментов, но и непосредственно образовательная деятельность;</a:t>
            </a:r>
            <a:br>
              <a:rPr sz="2000"/>
            </a:b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Изменение содержания понятия “совместная деятельность взрослого и детей” с учетом ее сущностных (а не формальных) признаков;</a:t>
            </a:r>
            <a:br>
              <a:rPr sz="2000"/>
            </a:b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Изменение объема и содержания понятия “непосредственно образовательная деятельность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уктура 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95280" y="1125360"/>
            <a:ext cx="8569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В образовательном процессе  включено два основных составляющих бл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совместная партнерская деятельность взрослого с дет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свободная самостоятельная деятельност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Такая структура образовательного процесса должна быть принята как каркасная для всего дошкольного возраста (3 – 7 лет) и как единственно возможная для младшего дошкольного возраста (3 – 5 л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Специфика дошкольного образования заключается в том, что обучение является по сути процессом “усвоения” содержания в видах деятельности (Д.Б. Элькони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Схема развития любого вида деятельности в соответствии с концепцией Л.С. Выготского такова: сначала она осуществляется в совместной деятельности со взрослыми, затем – в совместной деятельности со сверстниками и, наконец, становится самостоятельной деятельностью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тезисы организации партнерской деятельности взрослого с детьм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А. Коротк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1196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1. Включенность воспитателя в деятельность наравне с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2. Добровольное присоединение детей к деятельности (без психического и    дисциплинарного принуждения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3. Свободное общение и перемещение детей во время деятельности (при соответствии организации рабочего пространств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4.  Открытый временной конец занятия (каждый работает в своем темпе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Коснемся еще одного важного момента, к которому должны стремиться сегодня прак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мы должны заменить привычное для современной дошкольной педагогики разделение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“игра — учебные занятия”,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 приводящее к разрыву целостности образовательного процесса, на более психологичную и соответствующую возрасту структуру: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игра и родственные ей виды деятельности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1:55:59Z</dcterms:created>
  <dc:creator>panyakin</dc:creator>
  <dc:description/>
  <dc:language>en-US</dc:language>
  <cp:lastModifiedBy>AArcishevskaia</cp:lastModifiedBy>
  <dcterms:modified xsi:type="dcterms:W3CDTF">2011-04-08T12:17:52Z</dcterms:modified>
  <cp:revision>672</cp:revision>
  <dc:subject/>
  <dc:title>Слайд 1</dc:title>
</cp:coreProperties>
</file>