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595-50FC-4850-815E-FEF9AE30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532-4CC1-4BF1-B8BD-771FF460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E46-8445-4E3A-A4C4-4A920B77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FB2-3BE0-4B53-9F95-DFDB7EE2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48C-EE01-4CED-82A5-5443BAE9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FFCF-89B3-4AF2-94E1-F51E7106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AC3-B6CD-40F7-9455-D3F33A18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DE5-B5BB-4F0D-87CB-318BBDE1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BBB-1A5C-4F32-BC41-BB85181E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9CB-8BCF-40BE-B5A9-4743EC57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BE9-8D75-47FA-9834-3F893876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059-4CBC-4409-8B92-7A6BF1C3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66DF-D786-47C9-8AAC-3CF6390B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44B5-2C83-4A18-942C-EED22DE5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ED24-78F3-456A-BFAB-315FA89F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1531-C020-4907-9A63-99ABB622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033B-5C97-4183-8FA2-3C97D7AB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A9AC-C3B1-44EB-B180-2B0FC446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F0C0-0B2B-4688-94C8-2894A98C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4378-2CB7-40F9-913E-9CE97A39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B579-B318-48EE-9543-7FB08930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2A13-F63E-455F-A8A7-BDA8A02A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9CDC-F0E8-4C7A-A2A1-DFBDF7C0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0C0B-45B8-4D8F-ACF3-22042E85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940C-6B4A-42A5-A318-67CEC21B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456F7-C594-4756-8764-7574B2BA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8EF2-E12E-4666-9C5A-4B57B25D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E2258-EB6E-4F7A-86DE-9D6D4863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AAC1B-B6FA-4F95-8C05-FE426763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26F4-3F33-46AF-B0F2-F4EA6C78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A2D7-3873-4BCB-8478-1852BD27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25C23-7947-444D-B022-10F32963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1D9B2-008E-4ECF-AD75-8E1C20DA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B79A-BEEE-462F-A487-E056C064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49D2F-5502-43D3-805C-7D6FF3CA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6856A-9B6C-41E5-B532-9F557B0B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841400"/>
            <a:ext cx="9156960" cy="315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481040"/>
            <a:ext cx="9156960" cy="315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841400"/>
            <a:ext cx="9156960" cy="3151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77E2-1E33-4E08-99F5-4A9FBFA81C7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481040"/>
            <a:ext cx="9156960" cy="3151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91B1-AD42-4B0E-B29E-D16FBE6B2DC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й центр «МЦФЭР Ресурсы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Documents and Settings\AArcishevskaia.HQ\Мои документы\Наша реклама\#ЛОГОТИПЫ и ОБЛОЖКИ\Лого МЦФЭР Ресурсы образования\logo_mcfr_resuri_obraz_white copy.jpg"/>
          <p:cNvPicPr/>
          <p:nvPr/>
        </p:nvPicPr>
        <p:blipFill>
          <a:blip r:embed="rId2"/>
          <a:stretch/>
        </p:blipFill>
        <p:spPr>
          <a:xfrm>
            <a:off x="7667640" y="6357960"/>
            <a:ext cx="1476360" cy="500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C:\Documents and Settings\AArcishevskaia.HQ\Рабочий стол\111.jpg"/>
          <p:cNvPicPr/>
          <p:nvPr/>
        </p:nvPicPr>
        <p:blipFill>
          <a:blip r:embed="rId3"/>
          <a:stretch/>
        </p:blipFill>
        <p:spPr>
          <a:xfrm>
            <a:off x="-6480" y="1481040"/>
            <a:ext cx="9156960" cy="3151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2433-BAA2-4C6E-A9E4-9A04FC06EF9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3487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рганизация и планирование образовательного процесса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 соответствии с ФГТ</a:t>
            </a:r>
            <a:br>
              <a:rPr sz="2400"/>
            </a:br>
            <a:br>
              <a:rPr sz="1000"/>
            </a:br>
            <a:r>
              <a:rPr b="1" i="1" lang="ru-RU" sz="1700" spc="-1" strike="noStrike">
                <a:solidFill>
                  <a:srgbClr val="002060"/>
                </a:solidFill>
                <a:latin typeface="Arial"/>
              </a:rPr>
              <a:t>Для конструирования оптимальной модели образовательного процесса в соответствии с ФГТ необходимо вспомнить, какие основные образовательные модели существуют  в ДОУ в настоящее время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10920" y="4365360"/>
            <a:ext cx="8064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Лектор: </a:t>
            </a:r>
            <a:r>
              <a:rPr b="0" lang="ru-RU" sz="7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БЕЛАЯ КСЕНИЯ ЮРЬЕВНА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, профессор кафедры педагогики и методики дошкольного образования Московского института открытого образования, заслуженный учитель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можные темообразующие 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05228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ервый фактор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— реальные события, происходящие в окружающем мире и вызывающие интерес детей (яркие природные явления и общественные события, праздники.)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Второй фактор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— воображаемые события, описываемые в художественном произведении, которое воспитатель читает детям. Это  мощный темообразующий фактор, как и реальные собы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Третий фактор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— события, специально «смоделированные» воспитателем (исходя из развивающих задач). Это внесение в группу предметов, ранее неизвестных детям, с необычным эффектом или назначением, вызывающих неподдельный интерес и исследовательскую активность (Что это такое? Что с этим делать? Как это действует?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Четвертый фактор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— события, происходящие в жизни возрастной группы, «заражающие» детей и приводящие к удерживающимся какое-то время интересам, корни которых лежат, как правило, в средствах массовой коммуникации и игрушечной индустрии (например увлечение динозаврами,  и т. 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Все  эти факторы, могут использоваться воспитателем для гибкого проектирования целостного образовательного процесса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ий объем образовательной нагруз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ак непосредственно образовательной деятельности, так и образовательной деятельности, осуществляемой в ходе режимных момен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8920" y="112536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Определяется дошкольным образовательным учреждением самостоятельно с учет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действующих санитарно-эпидемиологических правил и нормативов (СанПи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федеральных государственных требований в сфере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типа и вида учреждения, реализующего основную общеобразовательную программу дошкольного образования, наличия приоритетных направлений образо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рекомендаций примерной основной общеобразовательной программы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специфики условий (климатических, демографических, национально-культурных и др.) осуществления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посредственно образователь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484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Реализуется через организацию различных видов детской деятельности или их интеграцию с использованием разнообразных форм и методов работы, выбор которых осуществляется педагогами самостоятельно в зависимости от контингента детей, уровня освоения Программы и решения конкретных образовательных 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В соответствии с возрастом детей, наличием приоритетных направлений образовательной деятельности и спецификой осуществления образовательного процесса рекомендуется учитывать следующие парамет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посредственно образователь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105264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бщий объем непосредственной образовательной деятельности в недел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родолжительность периодов непрерывной непосредственно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количество периодов непрерывной непосредственно образовательной деятельности в течение д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распределение периодов непрерывной непосредственно образовательной деятельности в течение дня (в первую и во вторую половин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ерерывы между периодами непрерывной непосредственно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сновные виды деятельности детей в конкретные периоды непрерывной непосредственно образовательной деятельности в течение дня, недели и  их черед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бразовательные области, задачи которых решаются в каждый из конкретных периодов непрерывной непосредственно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формы работы, в которых осуществляется непосредственно образовательн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ы непосредственно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50920" y="1197000"/>
          <a:ext cx="8642160" cy="4824360"/>
        </p:xfrm>
        <a:graphic>
          <a:graphicData uri="http://schemas.openxmlformats.org/drawingml/2006/table">
            <a:tbl>
              <a:tblPr/>
              <a:tblGrid>
                <a:gridCol w="2643120"/>
                <a:gridCol w="5999040"/>
              </a:tblGrid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тск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имеры фор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3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вига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движные игры с правилам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движные дидактические игр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овые упражнен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ревн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южетные игр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ы с правил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дук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астерская по изготовлению продуктов детского творчеств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ализация проек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 художественной лит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сужде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зуч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ы непосредственно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268280"/>
          <a:ext cx="8569080" cy="4910400"/>
        </p:xfrm>
        <a:graphic>
          <a:graphicData uri="http://schemas.openxmlformats.org/drawingml/2006/table">
            <a:tbl>
              <a:tblPr/>
              <a:tblGrid>
                <a:gridCol w="2952720"/>
                <a:gridCol w="5616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тск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имеры фор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знавательно-исследова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блю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Экскур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шение проблемных ситу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Эксперимент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ллекцион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де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ализация проек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ы (сюжетные, с правил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ммуника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ес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итуативный раз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чевая ситу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ставление и отгадывание загад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ы (сюжетные, с правил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560" y="112536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станавливается дошкольным образовательным учреждением самостоятельно с учетом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ремени пребывания детей в 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действующих санитарно-эпидемиологических правил и нормативов (СанПи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федеральных государственных требований в сфере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екомендаций примерной основной общеобразовательной программы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пецифики условий (климатических, демографических, национально-культурных и др.) осуществления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ремени год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 планирования работы воспитател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 работы на месяц. Автор - Н.А. Корот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981000"/>
          <a:ext cx="9144000" cy="5403960"/>
        </p:xfrm>
        <a:graphic>
          <a:graphicData uri="http://schemas.openxmlformats.org/drawingml/2006/table">
            <a:tbl>
              <a:tblPr/>
              <a:tblGrid>
                <a:gridCol w="971640"/>
                <a:gridCol w="1274760"/>
                <a:gridCol w="1965240"/>
                <a:gridCol w="1728720"/>
                <a:gridCol w="1603440"/>
                <a:gridCol w="1600200"/>
              </a:tblGrid>
              <a:tr h="172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деля меся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бытия в окружаю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щ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знавательно-исследователь-ская деятельность (Что это такое? Как? Почему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едметный материал («смоделирова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ые» событ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дуктивная деятельность (Не сделать ли нам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к это сделать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удожестве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ые тексты (воображаемые событ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726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тские увлеч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 планирования работы воспитател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ОУ № 69 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981000"/>
          <a:ext cx="9144000" cy="5313600"/>
        </p:xfrm>
        <a:graphic>
          <a:graphicData uri="http://schemas.openxmlformats.org/drawingml/2006/table">
            <a:tbl>
              <a:tblPr/>
              <a:tblGrid>
                <a:gridCol w="826920"/>
                <a:gridCol w="1152720"/>
                <a:gridCol w="1440000"/>
                <a:gridCol w="1081080"/>
                <a:gridCol w="1150920"/>
                <a:gridCol w="1800000"/>
                <a:gridCol w="1692360"/>
              </a:tblGrid>
              <a:tr h="733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нь недели/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раз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вместная деятельность взрослого и детей с учетом интеграции образовательных обла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рга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звиваю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реды д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мостоятель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тей (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ктивности, в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ме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рупп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заимодействие с родителями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циальными партне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театрам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портивн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 художестве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ыми школам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щеобраз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льн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реждениям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раз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ятель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ость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жим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мен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руппов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дгрупп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ндиви-ду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ная форма планирования непосредственно образовательной деятельности (для детей 3-4 ле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50920" y="1341360"/>
          <a:ext cx="8569080" cy="4535640"/>
        </p:xfrm>
        <a:graphic>
          <a:graphicData uri="http://schemas.openxmlformats.org/drawingml/2006/table">
            <a:tbl>
              <a:tblPr/>
              <a:tblGrid>
                <a:gridCol w="1152360"/>
                <a:gridCol w="936720"/>
                <a:gridCol w="2232000"/>
                <a:gridCol w="2303640"/>
                <a:gridCol w="1944360"/>
              </a:tblGrid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ата (день недел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сновные виды деятельности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нтеграция образовательных обла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.00-9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вига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К, коммуникация, социализац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езопас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овая беседа с элементами движени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гровое упражнение, подвижная иг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.25-9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 худ. ли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, коммуникация, соци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итуативный разговор с детьм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модели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ого процесс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125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222268"/>
                </a:solidFill>
                <a:latin typeface="Arial"/>
              </a:rPr>
              <a:t>1. Учебная модел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В последние годы она активно используется в ДОУ. Организация образовательного процесса в дошкольном учреждении строится  по принципу разделенных учебных методик, каждая из которых имеют свою логику построения. В этой модели позиция взрослого -  учительская: ему всецело принадлежит инициатива и направление деятельности. Модель рассчитана на заблаговременное жесткое программирование образовательной среды в виде методик. Образовательный процесс осуществляется в дисциплинарной школьно-урочной форме. Предметная среда обслуживает занятие - методику и приобретает вид  “учебных пособий”. Привлекательность  учебной модели для практиков определяется ее высокой технологичностью, доступностью профессионально обученному педагогу. В помощь педагогу издается  множество конспектов – разработок по отдельным методикам, содержание которых не связано 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0" y="2565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196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222268"/>
                </a:solidFill>
                <a:latin typeface="Arial"/>
              </a:rPr>
              <a:t>2. Комплексно-тематическая  модел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В основу организации образовательных содержаний ставится тема, которая выступает как сообщаемое знание и представляется в эмоционально-образной форме. Реализация темы в разных видах детской деятельности (“проживание” ее ребенком) вынуждает взрослого к выбору более свободной позиции, приближая ее к партнерск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Организация предметной среды в этой модели становится менее жесткой, включается творчество педагог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Набор тем определяет воспитатель и это придает систематичность всему образовательному процессу. Однако в целом образовательный процесс направлен скорее, на расширение представлений ребенка об окружающем мире, чем на его развитие. Эту модель чаще используют учителя - логопед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222268"/>
                </a:solidFill>
                <a:latin typeface="Arial"/>
              </a:rPr>
              <a:t>Модель предъявляет довольно высокие требования к общей культуре и творческому и педагогическому потенциалу воспитателя, так как отбор тем является сложным процессом.                                                                                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Заголовок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модели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ого процесс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модели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ого процесс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112536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222268"/>
                </a:solidFill>
                <a:latin typeface="Arial"/>
              </a:rPr>
              <a:t>3. Предметно-средовая модел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Содержание образования проецируется непосредственно на предметную среду. Взрослый –  организатор предметных сред, подбирает автодидактический, развивающий материал, провоцирует пробы и фиксирует ошибки ребенка. Классический вариант этой модели – система М. Монтессо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граничение образовательной среды только предметным материалом и ставка на саморазвитие ребенка в этой модели приводит к утрате систематичности образовательного процесса и резко сужает культурные горизонты дошкольника. При этом, как и учебная, данная модель технологична и не требует творческих усилий от взрос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Вывод: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особенности этих моделей–прототипов необходимо иметь в виду при конструировании оптимальной  модели образовательного процесса для детей дошкольного возраста. Возможно использование положительных сторон 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комплексно-тематической и предметно- средовой мод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ненавязчивая позиция взрослого, разнообразие детской активности, свободный выбор предметного матери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енная модель организации образовательного процесс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до введения  в действие  ФГ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4000" y="1700280"/>
          <a:ext cx="8424720" cy="3824280"/>
        </p:xfrm>
        <a:graphic>
          <a:graphicData uri="http://schemas.openxmlformats.org/drawingml/2006/table">
            <a:tbl>
              <a:tblPr/>
              <a:tblGrid>
                <a:gridCol w="2232000"/>
                <a:gridCol w="3384360"/>
                <a:gridCol w="2808360"/>
              </a:tblGrid>
              <a:tr h="11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ебный б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лок совместной деятельности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зрослого и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7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сновная форма – занятие (в соответствии с сеткой занят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жимные моменты, в ходе которых осуществляется решение образовательных задач (утренний прием, прогулка, подготовка ко сну, питание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едметно-развивающую и игровую среду создает педагог (уголки, зоны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оответствии с ФГТ предлагается следующая модель организаци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8360" y="1628640"/>
          <a:ext cx="8136000" cy="3816360"/>
        </p:xfrm>
        <a:graphic>
          <a:graphicData uri="http://schemas.openxmlformats.org/drawingml/2006/table">
            <a:tbl>
              <a:tblPr/>
              <a:tblGrid>
                <a:gridCol w="5327640"/>
                <a:gridCol w="2808360"/>
              </a:tblGrid>
              <a:tr h="11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Совместная деятельность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взрослого и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Самостоятельная деятельность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ahoma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Непосредственно образователь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Основные формы: игра, наблюдение, экспериментирование, разговор, решение проблемных ситуаций, проектная деятельность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ahoma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Решение образовательных задач в ходе режимных момен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Разнообразная, гибко меняющаяся предметно-развивающая  и игровая 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иальные отличия модели организации образовательного процесса в соответствии с ФГТ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 «старой»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50560" y="126792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сключение учебного блока (но не процесса обучения!); </a:t>
            </a:r>
            <a:br>
              <a:rPr sz="2000"/>
            </a:b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Увеличение объема блока совместной деятельности взрослого и детей, в который, входит уже не только образовательная деятельность, осуществляемая в ходе режимных моментов, но и непосредственно образовательная деятельность;</a:t>
            </a:r>
            <a:br>
              <a:rPr sz="2000"/>
            </a:b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зменение содержания понятия “совместная деятельность взрослого и детей” с учетом ее сущностных (а не формальных) признаков;</a:t>
            </a:r>
            <a:br>
              <a:rPr sz="2000"/>
            </a:b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зменение объема и содержания понятия “непосредственно образовательная деятельность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уктура 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95280" y="1125360"/>
            <a:ext cx="8569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В образовательном процессе  включено два основных составляющих бл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совместная партнерская деятельность взрослого с дет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свободная самостоятельная деятельн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Такая структура образовательного процесса должна быть принята как каркасная для всего дошкольного возраста (3 – 7 лет) и как единственно возможная для младшего дошкольного возраста (3 – 5 л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Специфика дошкольного образования заключается в том, что обучение является по сути процессом “усвоения” содержания в видах деятельности (Д.Б. Элькони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Схема развития любого вида деятельности в соответствии с концепцией Л.С. Выготского такова: сначала она осуществляется в совместной деятельности со взрослыми, затем – в совместной деятельности со сверстниками и, наконец, становится самостоятельной деятельностью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тезисы организации партнерской деятельности взрослого с детьм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А. Коротк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1. Включенность воспитателя в деятельность наравне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2. Добровольное присоединение детей к деятельности (без психического и    дисциплинарного принуждения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3. Свободное общение и перемещение детей во время деятельности (при соответствии организации рабочего пространств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4.  Открытый временной конец занятия (каждый работает в своем темпе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Коснемся еще одного важного момента, к которому должны стремиться сегодня прак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мы должны заменить привычное для современной дошкольной педагогики разделение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“игра — учебные занятия”,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 приводящее к разрыву целостности образовательного процесса, на более психологичную и соответствующую возрасту структуру: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гра и родственные ей виды деятельности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1:55:59Z</dcterms:created>
  <dc:creator>panyakin</dc:creator>
  <dc:description/>
  <dc:language>en-US</dc:language>
  <cp:lastModifiedBy>AArcishevskaia</cp:lastModifiedBy>
  <dcterms:modified xsi:type="dcterms:W3CDTF">2011-04-08T12:17:52Z</dcterms:modified>
  <cp:revision>672</cp:revision>
  <dc:subject/>
  <dc:title>Слайд 1</dc:title>
</cp:coreProperties>
</file>