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CC5-F2AA-46DF-8175-82F1CB09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BB2-7222-41DF-90B3-6FD2A24B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E40-1091-4658-973F-568D4415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BE1-3AB4-427C-87D6-FC42E93E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331-17FF-47FB-8533-54224EFE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85B-B2EE-4707-A0AA-36A7AEDD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2F7-1C23-41CE-AC39-8501B6C0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1BB-8CB8-43B5-9400-37CF0D9E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03B-52FF-469C-A88A-FD991E75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1D8-4772-4FA9-9669-AC5D086A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228-BF33-4A23-83D3-01E8B451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07C-F3D2-4846-A2B5-F77A2C3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D5AB-2983-4C21-AF5A-469D938340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то к нам с мечом придет, от меча и погиб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286000" y="2602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. Бород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е сраж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сской армией командовали опытные военачальники: Петр Иванович Багратион, Барклай де Толл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Documents and Settings\Владелец\Рабочий стол\Картинки\58094309_Barklay_de_Tolli.jpg"/>
          <p:cNvPicPr/>
          <p:nvPr/>
        </p:nvPicPr>
        <p:blipFill>
          <a:blip r:embed="rId1"/>
          <a:stretch/>
        </p:blipFill>
        <p:spPr>
          <a:xfrm>
            <a:off x="4932360" y="1989000"/>
            <a:ext cx="2952720" cy="417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Владелец\Рабочий стол\Картинки\Багратион.jpg"/>
          <p:cNvPicPr/>
          <p:nvPr/>
        </p:nvPicPr>
        <p:blipFill>
          <a:blip r:embed="rId3"/>
          <a:stretch/>
        </p:blipFill>
        <p:spPr>
          <a:xfrm>
            <a:off x="684360" y="1916280"/>
            <a:ext cx="3809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лай Николаевич Раевский, Николай Алексеевич Тучков и друг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Documents and Settings\Владелец\Рабочий стол\Картинки\Раевский.jpg"/>
          <p:cNvPicPr/>
          <p:nvPr/>
        </p:nvPicPr>
        <p:blipFill>
          <a:blip r:embed="rId1"/>
          <a:stretch/>
        </p:blipFill>
        <p:spPr>
          <a:xfrm>
            <a:off x="800280" y="1981080"/>
            <a:ext cx="358128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Владелец\Рабочий стол\Картинки\Тучков.jpeg"/>
          <p:cNvPicPr/>
          <p:nvPr/>
        </p:nvPicPr>
        <p:blipFill>
          <a:blip r:embed="rId2"/>
          <a:stretch/>
        </p:blipFill>
        <p:spPr>
          <a:xfrm>
            <a:off x="4849920" y="1981080"/>
            <a:ext cx="340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вный удар французов пришелся на армию Петра Ивановича Багратиона. Семь раз французы ходили в атаку. С обеих сторон потери были огромны. Когда с восьмой попытки французы потеснили левый фланг, генерал Багратион лично повел солдат в атаку, был тяжело ранен и вскоре умер, Все силы, весь талант, храбрость, любовь к родной земле отдал он для поб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Documents and Settings\Владелец\Рабочий стол\Картинки\Багратион ведет в атаку.jpeg"/>
          <p:cNvPicPr/>
          <p:nvPr/>
        </p:nvPicPr>
        <p:blipFill>
          <a:blip r:embed="rId1"/>
          <a:stretch/>
        </p:blipFill>
        <p:spPr>
          <a:xfrm>
            <a:off x="127944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рклай де Толли во время сражения командовал 1-й армией. После упорных боев с армией Багратиона французы бросили все силы на центральный фронт, которым командовал Барклай де Толли. Все время, пока шло сражение, генерал был на передовой, в непосредственной близости к противнику, верхом на коне. Свистели пули, рвались снаряды, осыпая генерала комьями земли. Но генерал и не пытался уйти в укрытие. После очередного взрыва он отряхивал мундир и продолжал командовать бое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C:\Documents and Settings\Владелец\Рабочий стол\Картинки\Багратион.jpg"/>
          <p:cNvPicPr/>
          <p:nvPr/>
        </p:nvPicPr>
        <p:blipFill>
          <a:blip r:embed="rId1"/>
          <a:stretch/>
        </p:blipFill>
        <p:spPr>
          <a:xfrm>
            <a:off x="2268360" y="2133720"/>
            <a:ext cx="4376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лые, безупречные действия генерала Николая Николаевича Раевского, командовавшего батареей в центре Бородинского поля, определили судьбу всего сражения. Прицельный огонь артиллеристов держал под контролем линию атаки неприятеля, пехотинцы храбро дрались на подступах к высоте, где стояла батаре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Documents and Settings\Владелец\Рабочий стол\Картинки\Во время боя под Салтановкой генерал Раевский с сыновьями .jpg"/>
          <p:cNvPicPr/>
          <p:nvPr/>
        </p:nvPicPr>
        <p:blipFill>
          <a:blip r:embed="rId1"/>
          <a:stretch/>
        </p:blipFill>
        <p:spPr>
          <a:xfrm>
            <a:off x="1979640" y="213372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пус генерала Николая Алексеевича Тучкова прикрывал левый фланг русской позиц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15 часов сражения линия обороны не была прорван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C:\Documents and Settings\Владелец\Рабочий стол\Картинки\Тучков в бою.jpg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2124000" y="260280"/>
            <a:ext cx="4572000" cy="6274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Times New Roman"/>
              </a:rPr>
              <a:t>Вот как пишет об этом М. Ю. Лермонто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не видать таких сражений!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сились знамена, как тен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ыму огонь блистал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учал булат, картечь визжал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а бойцов колоть устал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ядрам пролетать меш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а кровавых те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ведал враг в тот день немало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значит русский бой удал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 рукопашный бой!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мля тряслась - как наши груд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мешались в кучу кони, люд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залпы тысячи оруд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ились в протяжный вой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К ночи бой затих. Поле битвы осталось за русскими. Но какой ценой! Огромная площадь была взрыта ядрами, везде трупы людей и лошадей. Умирающие, стонущие, плачущие раненые. Река Колоча запружена трупами, вода окрашена кровью»- пишет очевидец. Наполеон впоследствии писал: « Из всех моих сражений самое ужасное то, которое я дал под Москвой. Французы показали себя в нем достойными одержать победу, а русские стяжали право быть непобедимым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C:\Documents and Settings\Владелец\Рабочий стол\Картинки\колоча.jpg"/>
          <p:cNvPicPr/>
          <p:nvPr/>
        </p:nvPicPr>
        <p:blipFill>
          <a:blip r:embed="rId1"/>
          <a:stretch/>
        </p:blipFill>
        <p:spPr>
          <a:xfrm>
            <a:off x="1908000" y="2421000"/>
            <a:ext cx="524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сентября в деревне Фили собрался военный совет. Кутузов понимал, что идти на сражение, значит рисковать судьбой Отечества. На военном совете Кутузов принял непростое решение: оставить Москву, сохранить армию и подготовиться к следующим битв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C:\Documents and Settings\Владелец\Рабочий стол\Картинки\совет в филях.jpg"/>
          <p:cNvPicPr/>
          <p:nvPr/>
        </p:nvPicPr>
        <p:blipFill>
          <a:blip r:embed="rId1"/>
          <a:stretch/>
        </p:blipFill>
        <p:spPr>
          <a:xfrm>
            <a:off x="1454040" y="1981080"/>
            <a:ext cx="623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от же день передовые отряды французов вошли в Москве ( показ на карте). Французский император Наполеон ждал, что москвичи принесут ему ключи от Москвы, как это было во многих городах Европы. Но Москва была пуста. Это ошеломило Наполеона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Французские солдаты начали грабить Москву. А вскоре начались пожары. Они полыхали несколько дн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C:\Documents and Settings\Владелец\Рабочий стол\Картинки\французы в москве.jpeg"/>
          <p:cNvPicPr/>
          <p:nvPr/>
        </p:nvPicPr>
        <p:blipFill>
          <a:blip r:embed="rId1"/>
          <a:stretch/>
        </p:blipFill>
        <p:spPr>
          <a:xfrm>
            <a:off x="1876320" y="3481560"/>
            <a:ext cx="1428840" cy="1114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Владелец\Рабочий стол\Картинки\москва в огне.jpg"/>
          <p:cNvPicPr/>
          <p:nvPr/>
        </p:nvPicPr>
        <p:blipFill>
          <a:blip r:embed="rId2"/>
          <a:stretch/>
        </p:blipFill>
        <p:spPr>
          <a:xfrm>
            <a:off x="4648320" y="2735280"/>
            <a:ext cx="3809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полеон Бонапар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C:\Documents and Settings\Владелец\Рабочий стол\Картинки\Mn5t0qNNV9r.jpg"/>
          <p:cNvPicPr/>
          <p:nvPr/>
        </p:nvPicPr>
        <p:blipFill>
          <a:blip r:embed="rId1"/>
          <a:stretch/>
        </p:blipFill>
        <p:spPr>
          <a:xfrm>
            <a:off x="2700360" y="1557360"/>
            <a:ext cx="3527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круг Москвы развернулось партизанское движение. Небольшие партизанские отряды нападали на отдельные части французской арм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За месяц пребывания в столице Наполеон потерял 30 000 своих солдат. Запасы продовольствия иссякли. Армия великая и непобедимая превращалась в шайку грабителей и разбойн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C:\Documents and Settings\Владелец\Рабочий стол\Картинки\партизаны.jpeg"/>
          <p:cNvPicPr/>
          <p:nvPr/>
        </p:nvPicPr>
        <p:blipFill>
          <a:blip r:embed="rId1"/>
          <a:stretch/>
        </p:blipFill>
        <p:spPr>
          <a:xfrm>
            <a:off x="539640" y="2349360"/>
            <a:ext cx="8064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Владелец\Рабочий стол\Картинки\0025-025-Davydov-denis-vasilevich-1784-18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Владелец\Рабочий стол\Картинки\Давыдов.jpeg"/>
          <p:cNvPicPr/>
          <p:nvPr/>
        </p:nvPicPr>
        <p:blipFill>
          <a:blip r:embed="rId1"/>
          <a:stretch/>
        </p:blipFill>
        <p:spPr>
          <a:xfrm>
            <a:off x="1833480" y="100080"/>
            <a:ext cx="54770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2286000" y="243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олеон понимал, что армия разлагается. Не дождавшись предложения о заключении мира, Наполеон покинул Москву. Кутузов, расположившись в местечке Турутино под Москвой, перекрыл путь французской армии к отступлению по Новой, еще не разоренной французами, Смоленской дороге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Владелец\Рабочий стол\Картинки\новая см дорога.jpg"/>
          <p:cNvPicPr/>
          <p:nvPr/>
        </p:nvPicPr>
        <p:blipFill>
          <a:blip r:embed="rId2"/>
          <a:stretch/>
        </p:blipFill>
        <p:spPr>
          <a:xfrm>
            <a:off x="684360" y="1989000"/>
            <a:ext cx="784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еся большие потери в сражении под Малоярославцем, Наполеон развернул свою армию и повел по Старой Смоленской доро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C:\Documents and Settings\Владелец\Рабочий стол\Картинки\старая см дорога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то они- герои Отечественной войны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алантливые военачальник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 Иванович Баграт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хаил Богданович Барклай- де- Тол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C:\Documents and Settings\Владелец\Рабочий стол\Картинки\Багратион.jpg"/>
          <p:cNvPicPr/>
          <p:nvPr/>
        </p:nvPicPr>
        <p:blipFill>
          <a:blip r:embed="rId1"/>
          <a:stretch/>
        </p:blipFill>
        <p:spPr>
          <a:xfrm>
            <a:off x="720720" y="2174760"/>
            <a:ext cx="3513240" cy="395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Владелец\Рабочий стол\Картинки\58094309_Barklay_de_Tolli.jpg"/>
          <p:cNvPicPr/>
          <p:nvPr/>
        </p:nvPicPr>
        <p:blipFill>
          <a:blip r:embed="rId2"/>
          <a:stretch/>
        </p:blipFill>
        <p:spPr>
          <a:xfrm>
            <a:off x="4859280" y="2205000"/>
            <a:ext cx="3025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ои Отечественн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ей Петрович Ермо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Николаевич Рае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C:\Documents and Settings\Владелец\Рабочий стол\Картинки\Ермолов Алексей Петрович..jpg"/>
          <p:cNvPicPr/>
          <p:nvPr/>
        </p:nvPicPr>
        <p:blipFill>
          <a:blip r:embed="rId1"/>
          <a:stretch/>
        </p:blipFill>
        <p:spPr>
          <a:xfrm>
            <a:off x="1042920" y="2205000"/>
            <a:ext cx="3313080" cy="388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Владелец\Рабочий стол\Картинки\Раевский.jpg"/>
          <p:cNvPicPr/>
          <p:nvPr/>
        </p:nvPicPr>
        <p:blipFill>
          <a:blip r:embed="rId2"/>
          <a:stretch/>
        </p:blipFill>
        <p:spPr>
          <a:xfrm>
            <a:off x="4946760" y="2174760"/>
            <a:ext cx="3438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ои Отечественн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 Петрович Коновницы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митрий Петрович Невер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C:\Documents and Settings\Владелец\Рабочий стол\Картинки\КОНОВНИЦЫН Петр Петрович.jpg"/>
          <p:cNvPicPr/>
          <p:nvPr/>
        </p:nvPicPr>
        <p:blipFill>
          <a:blip r:embed="rId1"/>
          <a:stretch/>
        </p:blipFill>
        <p:spPr>
          <a:xfrm>
            <a:off x="1035000" y="2174760"/>
            <a:ext cx="2884680" cy="395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Владелец\Рабочий стол\Картинки\Неверовский Дмитрий Петрович..jpg"/>
          <p:cNvPicPr/>
          <p:nvPr/>
        </p:nvPicPr>
        <p:blipFill>
          <a:blip r:embed="rId2"/>
          <a:stretch/>
        </p:blipFill>
        <p:spPr>
          <a:xfrm>
            <a:off x="5135400" y="2174760"/>
            <a:ext cx="3060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ои Отечественн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C:\Documents and Settings\Владелец\Рабочий стол\Картинки\Иван Семенович ДОРОХОВ.jpeg"/>
          <p:cNvPicPr/>
          <p:nvPr/>
        </p:nvPicPr>
        <p:blipFill>
          <a:blip r:embed="rId1"/>
          <a:stretch/>
        </p:blipFill>
        <p:spPr>
          <a:xfrm>
            <a:off x="468360" y="2492280"/>
            <a:ext cx="358452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ван Семенович Дорох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митрий Сергеевич Дохту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C:\Documents and Settings\Владелец\Рабочий стол\Картинки\ДОХТУРОВ Дмитрий Сергеевич..jpg"/>
          <p:cNvPicPr/>
          <p:nvPr/>
        </p:nvPicPr>
        <p:blipFill>
          <a:blip r:embed="rId2"/>
          <a:stretch/>
        </p:blipFill>
        <p:spPr>
          <a:xfrm>
            <a:off x="5364000" y="2565360"/>
            <a:ext cx="331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ои Отечественн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вей Иванович Пл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нис Васильевич Давы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C:\Documents and Settings\Владелец\Рабочий стол\Картинки\Матвей Иванович Платов..jpg"/>
          <p:cNvPicPr/>
          <p:nvPr/>
        </p:nvPicPr>
        <p:blipFill>
          <a:blip r:embed="rId1"/>
          <a:stretch/>
        </p:blipFill>
        <p:spPr>
          <a:xfrm>
            <a:off x="677880" y="2174760"/>
            <a:ext cx="3598920" cy="395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Documents and Settings\Владелец\Рабочий стол\Картинки\Давыдов.jpeg"/>
          <p:cNvPicPr/>
          <p:nvPr/>
        </p:nvPicPr>
        <p:blipFill>
          <a:blip r:embed="rId2"/>
          <a:stretch/>
        </p:blipFill>
        <p:spPr>
          <a:xfrm>
            <a:off x="5040360" y="2174760"/>
            <a:ext cx="32511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мператор Александ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C:\Documents and Settings\Владелец\Рабочий стол\Картинки\Александр1.jpg"/>
          <p:cNvPicPr/>
          <p:nvPr/>
        </p:nvPicPr>
        <p:blipFill>
          <a:blip r:embed="rId1"/>
          <a:stretch/>
        </p:blipFill>
        <p:spPr>
          <a:xfrm>
            <a:off x="2411280" y="1557360"/>
            <a:ext cx="40528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прежде всего главный герой- это простой солдат и народ. С первых дней войны развернулось партизанское движение. Крестьяне прятали припасы, угоняли скот и сами уходили в лес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C:\Documents and Settings\Владелец\Рабочий стол\Картинки\крестьяне-герои войны 1812.jpg"/>
          <p:cNvPicPr/>
          <p:nvPr/>
        </p:nvPicPr>
        <p:blipFill>
          <a:blip r:embed="rId1"/>
          <a:stretch/>
        </p:blipFill>
        <p:spPr>
          <a:xfrm>
            <a:off x="2340000" y="1700280"/>
            <a:ext cx="4680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ествие Наполеона на Россию закончилось полным ее крахом. В декабре 1812 года фельдмаршал Кутузов отдал приказ: « Война закончилась полным истреблением неприятеля, и каждый из вас есть спаситель Отечества. Россия приветствует вас сим именем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гда же было принято решение « в сохранение вечной памяти» о подвиге народном построить в Москве Храм Христа Спасител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C:\Documents and Settings\Владелец\Рабочий стол\Картинки\храм христа спасителя.jpg"/>
          <p:cNvPicPr/>
          <p:nvPr/>
        </p:nvPicPr>
        <p:blipFill>
          <a:blip r:embed="rId1"/>
          <a:stretch/>
        </p:blipFill>
        <p:spPr>
          <a:xfrm>
            <a:off x="2627280" y="1981080"/>
            <a:ext cx="4105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сть выдающегося русского полководца Михаила Илларионовича Голенищева- Кутузова- Смоленского в 1942 году во время Великой Отечественной войны 1941- 1945 годов был учрежден Орден Кутуз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А в 1943 году появился Орден Кутузова 1, 2, 3 степеней. Орденом награждались командующие фронтами, армиями, командиры дивизий, командиры полков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C:\Documents and Settings\Владелец\Рабочий стол\Картинки\орден.jpg"/>
          <p:cNvPicPr/>
          <p:nvPr/>
        </p:nvPicPr>
        <p:blipFill>
          <a:blip r:embed="rId1"/>
          <a:stretch/>
        </p:blipFill>
        <p:spPr>
          <a:xfrm>
            <a:off x="685800" y="2089080"/>
            <a:ext cx="77724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амять об Отечественной  1812 года народ увековечил имена герое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оскве есть Кутузовский проспект, памятники М. И. Кутузов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:\Documents and Settings\Владелец\Рабочий стол\Картинки\кутузовский проспект.jpg"/>
          <p:cNvPicPr/>
          <p:nvPr/>
        </p:nvPicPr>
        <p:blipFill>
          <a:blip r:embed="rId1"/>
          <a:stretch/>
        </p:blipFill>
        <p:spPr>
          <a:xfrm>
            <a:off x="685800" y="1989000"/>
            <a:ext cx="4102200" cy="410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Владелец\Рабочий стол\Картинки\памятник М.И. Кутузову в Москве..jpg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мятник П. И. Багратиону в Тбилисе, Барклаю де Толли в Санкт-Петербург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C:\Documents and Settings\Владелец\Рабочий стол\Картинки\Памятник Багратиону в Тбилиси..jpg"/>
          <p:cNvPicPr/>
          <p:nvPr/>
        </p:nvPicPr>
        <p:blipFill>
          <a:blip r:embed="rId1"/>
          <a:stretch/>
        </p:blipFill>
        <p:spPr>
          <a:xfrm>
            <a:off x="1285920" y="1981080"/>
            <a:ext cx="260964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Владелец\Рабочий стол\Картинки\Памятник Барклаю-де-Толли около Казанского собора г.Санк-Петербург..jpg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ытные русские военачальники Барклай де Толли и Багратион разгадали план неприятел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C:\Documents and Settings\Владелец\Рабочий стол\Картинки\58094309_Barklay_de_Tolli.jpg"/>
          <p:cNvPicPr/>
          <p:nvPr/>
        </p:nvPicPr>
        <p:blipFill>
          <a:blip r:embed="rId1"/>
          <a:stretch/>
        </p:blipFill>
        <p:spPr>
          <a:xfrm>
            <a:off x="684360" y="1989000"/>
            <a:ext cx="2950920" cy="39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Владелец\Рабочий стол\Картинки\Багратион.jpg"/>
          <p:cNvPicPr/>
          <p:nvPr/>
        </p:nvPicPr>
        <p:blipFill>
          <a:blip r:embed="rId2"/>
          <a:stretch/>
        </p:blipFill>
        <p:spPr>
          <a:xfrm>
            <a:off x="47242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286000" y="243000"/>
            <a:ext cx="4572000" cy="6311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молча отступ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адно было, боя жд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чали стар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то ж мы? На зимние квартир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меют что ли команди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жие изорвать мунди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русские штыки»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сал М. Ю. Лермонтов в стихотворении «Бородин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окомандующим русской армии в самый ответственный момент для России был назначен Михаил Илларионович Кутузов. «Прибыл Кутузов бить французов»- говорили солд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Documents and Settings\Владелец\Рабочий стол\Картинки\Кутузов.jpg"/>
          <p:cNvPicPr/>
          <p:nvPr/>
        </p:nvPicPr>
        <p:blipFill>
          <a:blip r:embed="rId1"/>
          <a:stretch/>
        </p:blipFill>
        <p:spPr>
          <a:xfrm>
            <a:off x="2340000" y="1773360"/>
            <a:ext cx="4032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6 августа (по новому стилю 7 сентября) 1812 года в 124 километрах от Москвы около села Бородино произошло крупнейшее сражение между русской и французской арм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ская арм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ранцузская арм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Documents and Settings\Владелец\Рабочий стол\Картинки\армия Наполеона.jpg"/>
          <p:cNvPicPr/>
          <p:nvPr/>
        </p:nvPicPr>
        <p:blipFill>
          <a:blip r:embed="rId1"/>
          <a:stretch/>
        </p:blipFill>
        <p:spPr>
          <a:xfrm>
            <a:off x="4500720" y="2421000"/>
            <a:ext cx="4248000" cy="345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Владелец\Рабочий стол\Картинки\армия кутузова.jpg"/>
          <p:cNvPicPr/>
          <p:nvPr/>
        </p:nvPicPr>
        <p:blipFill>
          <a:blip r:embed="rId2"/>
          <a:stretch/>
        </p:blipFill>
        <p:spPr>
          <a:xfrm>
            <a:off x="324000" y="2421000"/>
            <a:ext cx="39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2286000" y="797040"/>
            <a:ext cx="4572000" cy="5214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кажи-ка, дядя, ведь неда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 спаленная пожар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нцузу отд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ь были ж схватки боев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говорят еще каки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аром помнит вся Росс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день Бородина!- пишет М. Ю. Лермо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2050920" y="0"/>
            <a:ext cx="4572000" cy="649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Через село Бородино проходило две дороги. Заняв их, русские преградили путь французам к Москв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вот нашли большое пол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ь разгуляться где на воле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или реду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наших ушки на макушке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уть утро осветило пушк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леса синие верхушки-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анцузы тут как ту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           На Бородинском поле стояли друг против друга две огромные армии: 135 000 солдат и 580 орудий у Наполеона и 120 000 солдат и 640 орудий у Кутузова.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ородинская битва началась 26 август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2-08-31T19:56:24Z</dcterms:modified>
  <cp:revision>10</cp:revision>
  <dc:subject/>
  <dc:title>PowerPoint Presentation</dc:title>
</cp:coreProperties>
</file>