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png" ContentType="image/png"/>
  <Override PartName="/ppt/media/image9.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868BF-1996-407C-A0DD-9606DDAC1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D321-8094-483E-9E75-D4471ED1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17485-FA2D-4C95-8054-6E4E10AAC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1EC0C-0149-483F-AE18-495F3479B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E5DF3-B870-4722-9CB6-0BB9F9CFF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E1E68-E314-4CD5-89BA-21C1BC9F7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375F1-6DCC-42EC-88EA-5FA55F40C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A62D6-76DD-4CB4-A114-08F4ADD12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347F3-F813-4694-9187-C57CD9800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53B0F-4D5C-446F-B464-A9CC3474F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C1DED-3120-424D-BC36-5D763C7F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1BC1-76FC-429A-B0B6-BF74915A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4915F-0DE3-4A14-AEA0-842B71345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A216B-0286-4802-BB49-EF901E083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9479D-8E64-4923-A7F5-B68666184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07A3B-B913-40AA-B89F-F7806AAFB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06EFA-15CF-4EE4-A8D1-1786734D9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76C999-736B-4F7E-9976-BF8472A3C8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35FC1-28E0-410B-86C8-E7FEC4F11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FCAF4-5CE8-43AB-B598-95B06C7EA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A719E-0B18-4FF5-8662-DA6861541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C684E-0FFE-4C29-8583-284B120DA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FAA0-9D93-4A63-BB6B-76D6B7FB0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9AB31-6044-454F-B716-45C681184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6E49C-3747-43D7-B3A2-64CBD7DCD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F2042-17F5-47E5-BEBB-F935B2373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5593B-AE90-493B-B27D-D22D1D732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0FAD1-09AE-4FD6-B58A-2AEB261CD3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4F943-EDEF-496B-8B28-AF1BAFA84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8CEBD-EB88-4AE6-89B1-0925845FC5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2F50E3-D444-4D6B-812F-CD0A538168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DB858-BFDF-489B-A856-40712E6D1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F0302-6DE6-404A-BEFD-53FA14982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8761-9DF7-4767-B897-5EC52481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77C1C-3F75-4871-9FCC-5A5EEB8A8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9274D-9FAE-4D2F-B084-45F146A32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05476-3DDB-4E6A-92B2-180C12693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34255-BD10-4090-A481-1E1754094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6556B-5A0B-4D7B-8617-1A9C03CC3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7CDEE-04C4-4AD9-99D1-34666D8D8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5264D-781D-4AF5-AA99-C1A32AC53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5E6433-EF3B-4FFC-B5AC-0D0928C2B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B9AAC-E44C-4DF4-AB72-50F9C8A77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DC984E-FFCD-4094-B990-DB6FAF9BB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7BE6-DD21-49F9-A46B-D4C68226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C0920F-C6EB-47F8-91FE-C2F191677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90603-A6D3-4ADB-B1A6-A8B910D3E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10CEF-540A-4F14-9141-8B4DDBDE2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10D3AD-0BCC-4D25-AB5D-F9613B750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8097B-8BC3-4D9E-A2CA-5593C673E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F9DAB-B296-48DB-84E5-A35C7AFC5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AD7A9-C738-446D-BA74-AFC5F994C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C57AA-BDE9-49F7-9761-585F85B14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6C1B2-8017-4B59-B507-7F9346D92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D4DF07-42D5-430E-8689-EB306E3B16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2B7C-AD05-41B9-86E8-C0491C0F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224019-3DB4-4F75-ABA9-92FBA4D04F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31FA66-CAE8-4529-A88B-7081B6394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BDD2E7-D787-4A8A-9C28-DDFF587B9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9BD03-9CA1-4961-BC86-A137CDA18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7565A-5C03-4691-BE55-62AC4DA8F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068B07-32EE-44DF-9DF8-A8A8C620D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D715A-44A6-4029-AA28-11819DBA4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B2C06-76E0-4A7E-94C7-65390E6CD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615E9-FECC-4216-831C-B5C3F1382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9848D-AF67-4A13-9769-56A6D520F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ED12-7B5B-4FFE-AD92-034AA3C7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D5562-EDDA-475D-9DF8-1B1C5DD301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D8F634-E817-4302-B48B-D1FC0BBB03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96B90-456B-4DF3-90E7-3238B0D9A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B30181-1BA0-4514-9D10-A60768E7EE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277EA-85E0-407B-AEDB-C53BB437D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A2A8E1-F7A3-4BC4-A4C6-416800DE0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74746-BC55-4678-A985-A3EAAFA39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10134-2454-4AD9-AFC3-BA5F1DA73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00336B-F93E-48D5-B5C2-EAACB5E53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FB2DA-4B35-4191-83BA-0358EBF74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2982-EEE6-4EE6-B5EE-D2E7E151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DF7DA-F373-487A-A775-424FA178D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9542E-FD9B-4BEC-9AB2-7E4F0BB3E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A9BAF2-3628-411B-93FC-76241EB62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E735E-99EE-4F31-B942-D633D0032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18CB1-1C67-4873-BDDA-8AE23C331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8276C6-6D8F-4738-A763-137354C261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E8716-59A3-4353-8258-EEFB64FD4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3CF2C-F7F7-4E82-917D-DD9CF9F99E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E612A-2BD4-4A49-91C1-C566AAC53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19558-7E35-414B-94B2-B81503988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9A1D3-59A7-4D54-9371-D155CB1C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07795-54A8-4F8B-8717-284C8865A4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D5102-61EC-458B-A122-7DF0EC8E7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71DD5-0EE7-4919-8361-AD49F4438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54B93-9BAF-4FDC-81D0-64317F9F6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BD3E2-6962-47CE-81CE-C0354031D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5EF83-ED65-4B98-AB81-538858027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19A293-8E7E-4D77-B0D0-5C2EEB58626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B46A-7289-4A18-BD07-3FD1E22DEE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
          <p:cNvGrpSpPr/>
          <p:nvPr/>
        </p:nvGrpSpPr>
        <p:grpSpPr>
          <a:xfrm>
            <a:off x="-3240" y="4952880"/>
            <a:ext cx="9147240" cy="1911600"/>
            <a:chOff x="-3240" y="4952880"/>
            <a:chExt cx="9147240" cy="1911600"/>
          </a:xfrm>
        </p:grpSpPr>
        <p:sp>
          <p:nvSpPr>
            <p:cNvPr id="49" name="Полилиния 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7"/>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0"/>
            <p:cNvGrpSpPr/>
            <p:nvPr/>
          </p:nvGrpSpPr>
          <p:grpSpPr>
            <a:xfrm>
              <a:off x="2520" y="4992120"/>
              <a:ext cx="9141480" cy="1872360"/>
              <a:chOff x="2520" y="4992120"/>
              <a:chExt cx="9141480" cy="1872360"/>
            </a:xfrm>
          </p:grpSpPr>
          <p:pic>
            <p:nvPicPr>
              <p:cNvPr id="52" name="Полилиния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AF89-A70C-4839-A081-BB7D7004545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F025-A443-4263-8BDE-7093445067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4522-6152-4DAA-81B8-976EE82DCD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25FB-2133-4049-8854-2B04E53CD4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6CBC-823B-47F4-9C2D-2A28AACA0A6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A4C5-5B4E-472B-B314-51CAD02003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9"/>
          <p:cNvGrpSpPr/>
          <p:nvPr/>
        </p:nvGrpSpPr>
        <p:grpSpPr>
          <a:xfrm>
            <a:off x="-12600" y="5784840"/>
            <a:ext cx="3414600" cy="1092240"/>
            <a:chOff x="-12600" y="5784840"/>
            <a:chExt cx="3414600" cy="1092240"/>
          </a:xfrm>
        </p:grpSpPr>
        <p:pic>
          <p:nvPicPr>
            <p:cNvPr id="324" name="Прямоугольный треугольник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0" descr=""/>
          <p:cNvPicPr/>
          <p:nvPr/>
        </p:nvPicPr>
        <p:blipFill>
          <a:blip r:embed="rId4"/>
          <a:stretch/>
        </p:blipFill>
        <p:spPr>
          <a:xfrm>
            <a:off x="-19080" y="5772240"/>
            <a:ext cx="3421080" cy="1109520"/>
          </a:xfrm>
          <a:prstGeom prst="rect">
            <a:avLst/>
          </a:prstGeom>
          <a:ln w="0">
            <a:noFill/>
          </a:ln>
        </p:spPr>
      </p:pic>
      <p:sp>
        <p:nvSpPr>
          <p:cNvPr id="327" name="Нашивка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5DCD-C742-4DF1-AF78-12A2D7697C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64646"/>
                </a:solidFill>
                <a:latin typeface="Lucida Sans Unicode"/>
              </a:rPr>
              <a:t>Glushkov Nikita</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53535"/>
                </a:solidFill>
                <a:latin typeface="Lucida Sans Unicode"/>
              </a:rPr>
              <a:t>My name is Nikita Glushkov. The name of my town is Lysva. It was founded in 1785. I love my town because it is my native town, it is my history, the history of my family and friends. The town of Lysva is situated on the river Lysva and was founded as an industrial town.</a:t>
            </a:r>
            <a:endParaRPr b="0" lang="en-US" sz="2400" spc="-1" strike="noStrike">
              <a:solidFill>
                <a:srgbClr val="000000"/>
              </a:solidFill>
              <a:latin typeface="Lucida Sans Unicode"/>
            </a:endParaRPr>
          </a:p>
        </p:txBody>
      </p:sp>
      <p:pic>
        <p:nvPicPr>
          <p:cNvPr id="373" name="Рисунок 3" descr="images.jpg"/>
          <p:cNvPicPr/>
          <p:nvPr/>
        </p:nvPicPr>
        <p:blipFill>
          <a:blip r:embed="rId1"/>
          <a:stretch/>
        </p:blipFill>
        <p:spPr>
          <a:xfrm>
            <a:off x="3124080" y="3657600"/>
            <a:ext cx="2438640" cy="2522520"/>
          </a:xfrm>
          <a:prstGeom prst="rect">
            <a:avLst/>
          </a:prstGeom>
          <a:ln w="0">
            <a:noFill/>
          </a:ln>
        </p:spPr>
      </p:pic>
      <p:sp>
        <p:nvSpPr>
          <p:cNvPr id="374" name=""/>
          <p:cNvSpPr/>
          <p:nvPr/>
        </p:nvSpPr>
        <p:spPr>
          <a:xfrm>
            <a:off x="990720" y="4572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sva</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The word “Lysva” means “forest water” in the Komi-Permyak language. The plants located here were very important to my country in hard times. Let’s take for example the Second World War. </a:t>
            </a:r>
            <a:endParaRPr b="0" lang="en-US" sz="2700" spc="-1" strike="noStrike">
              <a:solidFill>
                <a:srgbClr val="000000"/>
              </a:solidFill>
              <a:latin typeface="Lucida Sans Unicode"/>
            </a:endParaRPr>
          </a:p>
        </p:txBody>
      </p:sp>
      <p:pic>
        <p:nvPicPr>
          <p:cNvPr id="376" name="Заголовок 1" descr=""/>
          <p:cNvPicPr/>
          <p:nvPr/>
        </p:nvPicPr>
        <p:blipFill>
          <a:blip r:embed="rId1"/>
          <a:stretch/>
        </p:blipFill>
        <p:spPr>
          <a:xfrm>
            <a:off x="195120" y="268200"/>
            <a:ext cx="8498160" cy="1158840"/>
          </a:xfrm>
          <a:prstGeom prst="rect">
            <a:avLst/>
          </a:prstGeom>
          <a:ln w="0">
            <a:noFill/>
          </a:ln>
        </p:spPr>
      </p:pic>
      <p:pic>
        <p:nvPicPr>
          <p:cNvPr id="377" name="Рисунок 4" descr="загруженное (1).jpg"/>
          <p:cNvPicPr/>
          <p:nvPr/>
        </p:nvPicPr>
        <p:blipFill>
          <a:blip r:embed="rId2"/>
          <a:stretch/>
        </p:blipFill>
        <p:spPr>
          <a:xfrm>
            <a:off x="2286000" y="3581280"/>
            <a:ext cx="49086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14300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Our Lysvensky metallurgical works produced soldiers’ helmets . These helmets saved lives of many people. Even our enemies used captured helmets. You can see our helmet in Moscow if you visit the Victory Monument. </a:t>
            </a:r>
            <a:endParaRPr b="0" lang="en-US" sz="2700" spc="-1" strike="noStrike">
              <a:solidFill>
                <a:srgbClr val="000000"/>
              </a:solidFill>
              <a:latin typeface="Lucida Sans Unicode"/>
            </a:endParaRPr>
          </a:p>
        </p:txBody>
      </p:sp>
      <p:pic>
        <p:nvPicPr>
          <p:cNvPr id="379" name="Заголовок 1" descr=""/>
          <p:cNvPicPr/>
          <p:nvPr/>
        </p:nvPicPr>
        <p:blipFill>
          <a:blip r:embed="rId1"/>
          <a:stretch/>
        </p:blipFill>
        <p:spPr>
          <a:xfrm>
            <a:off x="195120" y="268200"/>
            <a:ext cx="8498160" cy="1158840"/>
          </a:xfrm>
          <a:prstGeom prst="rect">
            <a:avLst/>
          </a:prstGeom>
          <a:ln w="0">
            <a:noFill/>
          </a:ln>
        </p:spPr>
      </p:pic>
      <p:pic>
        <p:nvPicPr>
          <p:cNvPr id="380" name="Рисунок 3" descr="1.jpg"/>
          <p:cNvPicPr/>
          <p:nvPr/>
        </p:nvPicPr>
        <p:blipFill>
          <a:blip r:embed="rId2"/>
          <a:stretch/>
        </p:blipFill>
        <p:spPr>
          <a:xfrm>
            <a:off x="2362320" y="3352680"/>
            <a:ext cx="4647960" cy="304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8380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 </a:t>
            </a:r>
            <a:r>
              <a:rPr b="0" i="1" lang="en-US" sz="2700" spc="-1" strike="noStrike">
                <a:solidFill>
                  <a:srgbClr val="353535"/>
                </a:solidFill>
                <a:latin typeface="Lucida Sans Unicode"/>
              </a:rPr>
              <a:t>Nowadays steel enamel kitchen utensils made at Lysvensky metallurgical works have been playing the lead in the Ural region. And our products of the jointstock company “Lysva Stockings and Socks Factory” are known in many countries, such as Canada, Denmark, Switzerland.</a:t>
            </a: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195120" y="-6480"/>
            <a:ext cx="8498160" cy="1158840"/>
          </a:xfrm>
          <a:prstGeom prst="rect">
            <a:avLst/>
          </a:prstGeom>
          <a:ln w="0">
            <a:noFill/>
          </a:ln>
        </p:spPr>
      </p:pic>
      <p:pic>
        <p:nvPicPr>
          <p:cNvPr id="383" name="Рисунок 3" descr="hhspr12_lmz.preview.jpg"/>
          <p:cNvPicPr/>
          <p:nvPr/>
        </p:nvPicPr>
        <p:blipFill>
          <a:blip r:embed="rId2"/>
          <a:stretch/>
        </p:blipFill>
        <p:spPr>
          <a:xfrm>
            <a:off x="2057400" y="3733920"/>
            <a:ext cx="525780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lvl="2" marL="858960" indent="-228600" algn="ctr">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was created</a:t>
            </a:r>
            <a:br>
              <a:rPr sz="2400"/>
            </a:br>
            <a:br>
              <a:rPr sz="2400"/>
            </a:br>
            <a:r>
              <a:rPr b="1" lang="en-US" sz="2400" spc="-1" strike="noStrike">
                <a:solidFill>
                  <a:srgbClr val="000000"/>
                </a:solidFill>
                <a:latin typeface="Arial"/>
              </a:rPr>
              <a:t> by Glushkov Nikita.</a:t>
            </a:r>
            <a:br>
              <a:rPr sz="2400"/>
            </a:br>
            <a:br>
              <a:rPr sz="2400"/>
            </a:br>
            <a:r>
              <a:rPr b="0" lang="en-US" sz="2400" spc="-1" strike="noStrike">
                <a:solidFill>
                  <a:srgbClr val="000000"/>
                </a:solidFill>
                <a:latin typeface="Arial"/>
              </a:rPr>
              <a:t>School </a:t>
            </a:r>
            <a:r>
              <a:rPr b="0" lang="ru-RU" sz="2400" spc="-1" strike="noStrike">
                <a:solidFill>
                  <a:srgbClr val="000000"/>
                </a:solidFill>
                <a:latin typeface="Arial"/>
              </a:rPr>
              <a:t>№ 2</a:t>
            </a:r>
            <a:r>
              <a:rPr b="0" lang="en-US" sz="2400" spc="-1" strike="noStrike">
                <a:solidFill>
                  <a:srgbClr val="000000"/>
                </a:solidFill>
                <a:latin typeface="Arial"/>
              </a:rPr>
              <a:t> Lysva</a:t>
            </a:r>
            <a:r>
              <a:rPr b="0" lang="ru-RU" sz="2400" spc="-1" strike="noStrike">
                <a:solidFill>
                  <a:srgbClr val="000000"/>
                </a:solidFill>
                <a:latin typeface="Arial"/>
              </a:rPr>
              <a:t> </a:t>
            </a:r>
            <a:br>
              <a:rPr sz="2400"/>
            </a:br>
            <a:br>
              <a:rPr sz="2400"/>
            </a:br>
            <a:r>
              <a:rPr b="0" lang="en-US" sz="2400" spc="-1" strike="noStrike">
                <a:solidFill>
                  <a:srgbClr val="000000"/>
                </a:solidFill>
                <a:latin typeface="Arial"/>
              </a:rPr>
              <a:t>Teacher: Mandriko O.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3T13:49:48Z</dcterms:created>
  <dc:creator>asus</dc:creator>
  <dc:description/>
  <dc:language>en-US</dc:language>
  <cp:lastModifiedBy>Sana</cp:lastModifiedBy>
  <dcterms:modified xsi:type="dcterms:W3CDTF">2013-03-12T14:52:15Z</dcterms:modified>
  <cp:revision>5</cp:revision>
  <dc:subject/>
  <dc:title>Composition</dc:title>
</cp:coreProperties>
</file>