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5.jpeg" ContentType="image/jpeg"/>
  <Override PartName="/ppt/media/image8.jpeg" ContentType="image/jpeg"/>
  <Override PartName="/ppt/media/image10.jpeg" ContentType="image/jpeg"/>
  <Override PartName="/ppt/media/image6.jpeg" ContentType="image/jpeg"/>
  <Override PartName="/ppt/media/image12.jpeg" ContentType="image/jpeg"/>
  <Override PartName="/ppt/media/image13.png" ContentType="image/png"/>
  <Override PartName="/ppt/media/image7.png" ContentType="image/png"/>
  <Override PartName="/ppt/media/image9.png" ContentType="image/png"/>
  <Override PartName="/ppt/media/image11.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470641-0BDA-47A7-A042-D9045DB1BF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AC9338-563E-4812-BDF3-38C6A28D37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A63DF1-FDE2-481B-8DB9-C44E827A2B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ED33DA-0205-4675-99EA-B0945FFE8A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B8B235-A757-4A3E-84A1-72CE8B238F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E2003C-85F7-4284-B9CE-8963EDC48A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89FC54-B270-46DB-A1D1-1D8A454F9E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DA886C-BC18-4262-8398-91DF0C8DF7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DBEF3A-EA01-4881-8CD0-9E101AD4BE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722291-BFE1-4426-999B-705434E147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1A7F89-6998-4614-8F87-81731F95A2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0E59D5-FB69-4E81-8D32-AFC89DDA33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C71210-FFF8-49B9-A792-628BA09D3F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D1D961-2114-40AA-A373-CD98505B12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B72EB3-3AE4-491A-8370-44C9FE4D15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10B0C8-6929-4BC0-A22F-68CD1BAEB1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E809A7-4257-4498-AC63-C225D81AC6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FBC1083-456A-48BB-BDAB-70DE38117D0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99747B-B061-4BEC-8704-5BDFA82241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8DDCFC-D94E-472E-BCDD-8591374297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58CD36-044E-432E-8639-ACB929EB16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93639B-6C1A-4736-BFB3-77FC4E4128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0AC2CC-10AD-4228-8C97-4F23E76F2A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65F05D-0477-49F3-BAC1-F0577B2435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C7573A-C79A-492C-BEF6-2CB276513F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E05CDA-AF42-4554-9481-6F42CB0D27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6167A2-A497-4833-88F6-4564044747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0CA150-A514-4A35-B10D-77C4E180C3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47DA2FE-42B0-4E5F-8965-DA6FD204A16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6B8E64E-48AA-4EFA-A2F2-8AC2F66E01D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3DC0C66-BF00-49BF-B9C1-A5AAE9974D4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F54EAD-476C-4165-AC34-DDBE8CDAC3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D153DF-82F8-45CF-89B3-B3F59FE491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F8DB69-897A-4367-ADC0-CEA9583ED7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9EB8DC-0F09-4B1C-B9BE-D56D8ACB79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226B99-E9DE-4BCB-A912-9FBBA0278F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2A64BF-CB65-4DFC-A444-4E54C8D15C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A0D8C1-8F0B-42B4-B813-99E850E88C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D88877-A6AE-410B-8423-66B082151A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0498E5-5FC4-4395-8AC2-785D7F09D9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3CE29B-CD91-4630-923A-8E9C6140A4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C17F342-8E9E-4420-A813-E04636D3F37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E6E33B1-5EB3-4952-BAEF-B6472A6FE63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F4381FD-FA1E-448F-B036-03EE01594F6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D10AF1-E4EB-4CB4-BDBA-8BC63510D3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4945AE-8CAA-4F1A-80F4-64DAC85201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F19EFE-C368-45CC-A06A-878E0B1412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5AB22B-C9A4-4516-A2B7-D72BC6F4DD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930FEF-4BD0-4A4B-8B09-29D92AE2D18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9BA6AA0-3288-4596-9331-A6A558BD52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590F74-45E5-4289-BA11-474AD583A1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C85D7F-814C-440A-AC66-867374DD94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1EDAB2-D1C9-45C3-B1C4-326624F6C6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6DBA775-5087-4ED4-900D-C4E61F4340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166011A-5B2C-417C-81BB-D4C38FF2DA5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309794-3558-4B72-8E61-92E40A4B30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3DB392A-9AFA-4EFD-A423-E2FB29D8BCA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38476C2-2C99-4BA2-924B-03454D9C255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0189711-ABD9-4E5A-8F5E-B20EF4CFB62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6F4316E-8523-425B-89E6-ABC2C8FE228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E4BB24E-3AD3-4561-9367-8CE4161CD74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306317A-4F0F-4009-8EF1-68AEC7DDE9C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A344DFF-F120-49C4-BDA9-7E43A8BCD9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4A1AFC-4E9E-40CC-8445-303696BF76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0200F8-905F-4CA3-91D6-026AF1C1B1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AF4EFC-C3AF-477E-BA58-EBCAD6B410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74975-65AA-4F7F-88F3-2FEF7061DE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8758D9-85DB-4217-92D3-A036EC180CA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61074A9-1F60-4641-9C66-AF7939B67C5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262BAC8-6552-4DB1-B333-E85464FD3E1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2F31D43-D3C9-422B-B0C5-EE49356DF0D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35457E2-812A-4B90-B16D-D054DF53DFF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A285DA3-6217-490E-9657-8CDC635CA95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7D594B0-499B-407B-97F1-41BB521A4E8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60F1B3E-0381-422E-B73C-B546BEC50B5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F1536C5-3BC6-4BED-B743-92B5EE99C1D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CCFAE8-EE42-4CB6-906A-FE3B394AAE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C6A0D-824F-4609-AFA8-6E55F1A53B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14B419-8D6B-4215-8E3F-27A0B55F8C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214B3C-6AA8-4153-BE04-08765BFDD7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43802FE-B4A5-4540-8340-1FD25C4F0A3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DB74D3F-BA35-4A9A-921D-8E7AEFA6241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D5831F6-6343-4789-B7E6-E6CAE91D1F9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4A4518D-3AAB-40CC-92FF-EC89937E319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8090D90-9161-4054-B024-CA58727DC74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CF35749-7836-47CA-90A7-64B3144A772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9C3A087-A410-4D28-BA2C-7F4BB969FD0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C823EE4-23D6-47E2-B83D-9FA9BA6BEC6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96EAA-B5A0-43AC-BC6C-2262E73929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3E1674F-242C-4CC2-BD20-AE1AD29C7F5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872F62-ACFF-40E9-B085-CE2EF17944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48F156-2109-4763-879E-ADA00DD828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5A3CED-BCBD-4847-9771-E99AC8C6FD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43FC475-6C2C-4408-9392-92F5F37C990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BA09D40-3DFA-485E-873A-B7EE279BBFB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B85F191-312D-482A-95CD-F59F0A692C48}"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олилиния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 name="Полилиния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 name="Прямоугольный треугольник 13"/>
          <p:cNvGrpSpPr/>
          <p:nvPr/>
        </p:nvGrpSpPr>
        <p:grpSpPr>
          <a:xfrm>
            <a:off x="-12600" y="5784840"/>
            <a:ext cx="3414600" cy="1092240"/>
            <a:chOff x="-12600" y="5784840"/>
            <a:chExt cx="3414600" cy="1092240"/>
          </a:xfrm>
        </p:grpSpPr>
        <p:pic>
          <p:nvPicPr>
            <p:cNvPr id="3" name="Прямоугольный треугольник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 name="Прямая соединительная линия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BD215-EE68-4AE2-9292-94834602A29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Прямоугольный треугольник 9"/>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nvGrpSpPr>
          <p:cNvPr id="48" name="Группа 1"/>
          <p:cNvGrpSpPr/>
          <p:nvPr/>
        </p:nvGrpSpPr>
        <p:grpSpPr>
          <a:xfrm>
            <a:off x="-3240" y="4952880"/>
            <a:ext cx="9147240" cy="1911600"/>
            <a:chOff x="-3240" y="4952880"/>
            <a:chExt cx="9147240" cy="1911600"/>
          </a:xfrm>
        </p:grpSpPr>
        <p:sp>
          <p:nvSpPr>
            <p:cNvPr id="49" name="Полилиния 6"/>
            <p:cNvSpPr/>
            <p:nvPr/>
          </p:nvSpPr>
          <p:spPr>
            <a:xfrm>
              <a:off x="1693440" y="4952880"/>
              <a:ext cx="7444440" cy="48672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0" name="Полилиния 7"/>
            <p:cNvSpPr/>
            <p:nvPr/>
          </p:nvSpPr>
          <p:spPr>
            <a:xfrm>
              <a:off x="44280" y="5236560"/>
              <a:ext cx="9093600" cy="7862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51" name="Полилиния 10"/>
            <p:cNvGrpSpPr/>
            <p:nvPr/>
          </p:nvGrpSpPr>
          <p:grpSpPr>
            <a:xfrm>
              <a:off x="2520" y="4992120"/>
              <a:ext cx="9141480" cy="1872360"/>
              <a:chOff x="2520" y="4992120"/>
              <a:chExt cx="9141480" cy="1872360"/>
            </a:xfrm>
          </p:grpSpPr>
          <p:pic>
            <p:nvPicPr>
              <p:cNvPr id="52" name="Полилиния 10" descr=""/>
              <p:cNvPicPr/>
              <p:nvPr/>
            </p:nvPicPr>
            <p:blipFill>
              <a:blip r:embed="rId2"/>
              <a:stretch/>
            </p:blipFill>
            <p:spPr>
              <a:xfrm>
                <a:off x="2520" y="4992120"/>
                <a:ext cx="9141480" cy="1872360"/>
              </a:xfrm>
              <a:prstGeom prst="rect">
                <a:avLst/>
              </a:prstGeom>
              <a:ln w="0">
                <a:noFill/>
              </a:ln>
            </p:spPr>
          </p:pic>
          <p:sp>
            <p:nvSpPr>
              <p:cNvPr id="53" name=""/>
              <p:cNvSpPr/>
              <p:nvPr/>
            </p:nvSpPr>
            <p:spPr>
              <a:xfrm>
                <a:off x="8280" y="5000400"/>
                <a:ext cx="360" cy="360"/>
              </a:xfrm>
              <a:prstGeom prst="rect">
                <a:avLst/>
              </a:prstGeom>
              <a:no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4" name="Прямая соединительная линия 11"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5E655-E234-48BC-9189-8754E94A1064}"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Полилиния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97" name="Полилиния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98" name="Прямоугольный треугольник 13"/>
          <p:cNvGrpSpPr/>
          <p:nvPr/>
        </p:nvGrpSpPr>
        <p:grpSpPr>
          <a:xfrm>
            <a:off x="-12600" y="5784840"/>
            <a:ext cx="3414600" cy="1092240"/>
            <a:chOff x="-12600" y="5784840"/>
            <a:chExt cx="3414600" cy="1092240"/>
          </a:xfrm>
        </p:grpSpPr>
        <p:pic>
          <p:nvPicPr>
            <p:cNvPr id="99" name="Прямоугольный треугольник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01" name="Прямая соединительная линия 14" descr=""/>
          <p:cNvPicPr/>
          <p:nvPr/>
        </p:nvPicPr>
        <p:blipFill>
          <a:blip r:embed="rId4"/>
          <a:stretch/>
        </p:blipFill>
        <p:spPr>
          <a:xfrm>
            <a:off x="-19080" y="5772240"/>
            <a:ext cx="3421080" cy="1109520"/>
          </a:xfrm>
          <a:prstGeom prst="rect">
            <a:avLst/>
          </a:prstGeom>
          <a:ln w="0">
            <a:noFill/>
          </a:ln>
        </p:spPr>
      </p:pic>
      <p:sp>
        <p:nvSpPr>
          <p:cNvPr id="102" name="Нашивка 6"/>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3" name="Нашивка 7"/>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95BEA-E2E9-4EB1-8BD5-3E4818CA071F}"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Полилиния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6" name="Полилиния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147" name="Прямоугольный треугольник 13"/>
          <p:cNvGrpSpPr/>
          <p:nvPr/>
        </p:nvGrpSpPr>
        <p:grpSpPr>
          <a:xfrm>
            <a:off x="-12600" y="5784840"/>
            <a:ext cx="3414600" cy="1092240"/>
            <a:chOff x="-12600" y="5784840"/>
            <a:chExt cx="3414600" cy="1092240"/>
          </a:xfrm>
        </p:grpSpPr>
        <p:pic>
          <p:nvPicPr>
            <p:cNvPr id="148" name="Прямоугольный треугольник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50" name="Прямая соединительная линия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099E7-7561-4780-A900-D1FF6FBCE712}"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C1070-7840-4507-A9C5-D0DDB8E0F9C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Полилиния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234" name="Полилиния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35" name="Прямоугольный треугольник 13"/>
          <p:cNvGrpSpPr/>
          <p:nvPr/>
        </p:nvGrpSpPr>
        <p:grpSpPr>
          <a:xfrm>
            <a:off x="-12600" y="5784840"/>
            <a:ext cx="3414600" cy="1092240"/>
            <a:chOff x="-12600" y="5784840"/>
            <a:chExt cx="3414600" cy="1092240"/>
          </a:xfrm>
        </p:grpSpPr>
        <p:pic>
          <p:nvPicPr>
            <p:cNvPr id="236" name="Прямоугольный треугольник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238" name="Прямая соединительная линия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EBCFF-9E3A-4EEF-A2C7-1FA3312556EF}"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2AB86-F159-4A9B-AE28-3D4A4E8EA71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Полилиния 7"/>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22" name="Полилиния 8"/>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323" name="Прямоугольный треугольник 9"/>
          <p:cNvGrpSpPr/>
          <p:nvPr/>
        </p:nvGrpSpPr>
        <p:grpSpPr>
          <a:xfrm>
            <a:off x="-12600" y="5784840"/>
            <a:ext cx="3414600" cy="1092240"/>
            <a:chOff x="-12600" y="5784840"/>
            <a:chExt cx="3414600" cy="1092240"/>
          </a:xfrm>
        </p:grpSpPr>
        <p:pic>
          <p:nvPicPr>
            <p:cNvPr id="324" name="Прямоугольный треугольник 9"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326" name="Прямая соединительная линия 10" descr=""/>
          <p:cNvPicPr/>
          <p:nvPr/>
        </p:nvPicPr>
        <p:blipFill>
          <a:blip r:embed="rId4"/>
          <a:stretch/>
        </p:blipFill>
        <p:spPr>
          <a:xfrm>
            <a:off x="-19080" y="5772240"/>
            <a:ext cx="3421080" cy="1109520"/>
          </a:xfrm>
          <a:prstGeom prst="rect">
            <a:avLst/>
          </a:prstGeom>
          <a:ln w="0">
            <a:noFill/>
          </a:ln>
        </p:spPr>
      </p:pic>
      <p:sp>
        <p:nvSpPr>
          <p:cNvPr id="327" name="Нашивка 11"/>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8" name="Нашивка 12"/>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EFEA5-11C3-410C-9B8B-7F6F9893CC5C}"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Заголовок 1" descr=""/>
          <p:cNvPicPr/>
          <p:nvPr/>
        </p:nvPicPr>
        <p:blipFill>
          <a:blip r:embed="rId1"/>
          <a:stretch/>
        </p:blipFill>
        <p:spPr>
          <a:xfrm>
            <a:off x="682560" y="1749600"/>
            <a:ext cx="8089920" cy="1841400"/>
          </a:xfrm>
          <a:prstGeom prst="rect">
            <a:avLst/>
          </a:prstGeom>
          <a:ln w="0">
            <a:noFill/>
          </a:ln>
        </p:spPr>
      </p:pic>
      <p:sp>
        <p:nvSpPr>
          <p:cNvPr id="371" name="PlaceHolder 1"/>
          <p:cNvSpPr>
            <a:spLocks noGrp="1"/>
          </p:cNvSpPr>
          <p:nvPr>
            <p:ph type="subTitle"/>
          </p:nvPr>
        </p:nvSpPr>
        <p:spPr>
          <a:xfrm>
            <a:off x="685800" y="3611520"/>
            <a:ext cx="7772400" cy="1200240"/>
          </a:xfrm>
          <a:prstGeom prst="rect">
            <a:avLst/>
          </a:prstGeom>
          <a:noFill/>
          <a:ln w="0">
            <a:noFill/>
          </a:ln>
        </p:spPr>
        <p:txBody>
          <a:bodyPr lIns="45720" rIns="4572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464646"/>
                </a:solidFill>
                <a:latin typeface="Lucida Sans Unicode"/>
              </a:rPr>
              <a:t>Glushkov Nikita</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53535"/>
                </a:solidFill>
                <a:latin typeface="Lucida Sans Unicode"/>
              </a:rPr>
              <a:t>My name is Nikita Glushkov. The name of my town is Lysva. It was founded in 1785. I love my town because it is my native town, it is my history, the history of my family and friends. The town of Lysva is situated on the river Lysva and was founded as an industrial town.</a:t>
            </a:r>
            <a:endParaRPr b="0" lang="en-US" sz="2400" spc="-1" strike="noStrike">
              <a:solidFill>
                <a:srgbClr val="000000"/>
              </a:solidFill>
              <a:latin typeface="Lucida Sans Unicode"/>
            </a:endParaRPr>
          </a:p>
        </p:txBody>
      </p:sp>
      <p:pic>
        <p:nvPicPr>
          <p:cNvPr id="373" name="Рисунок 3" descr="images.jpg"/>
          <p:cNvPicPr/>
          <p:nvPr/>
        </p:nvPicPr>
        <p:blipFill>
          <a:blip r:embed="rId1"/>
          <a:stretch/>
        </p:blipFill>
        <p:spPr>
          <a:xfrm>
            <a:off x="3124080" y="3657600"/>
            <a:ext cx="2438640" cy="2522520"/>
          </a:xfrm>
          <a:prstGeom prst="rect">
            <a:avLst/>
          </a:prstGeom>
          <a:ln w="0">
            <a:noFill/>
          </a:ln>
        </p:spPr>
      </p:pic>
      <p:sp>
        <p:nvSpPr>
          <p:cNvPr id="374" name=""/>
          <p:cNvSpPr/>
          <p:nvPr/>
        </p:nvSpPr>
        <p:spPr>
          <a:xfrm>
            <a:off x="990720" y="457200"/>
            <a:ext cx="7238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ysva</a:t>
            </a:r>
            <a:endParaRPr b="0" lang="en-US" sz="32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353535"/>
                </a:solidFill>
                <a:latin typeface="Lucida Sans Unicode"/>
              </a:rPr>
              <a:t>The word “Lysva” means “forest water” in the Komi-Permyak language. The plants located here were very important to my country in hard times. Let’s take for example the Second World War. </a:t>
            </a:r>
            <a:endParaRPr b="0" lang="en-US" sz="2700" spc="-1" strike="noStrike">
              <a:solidFill>
                <a:srgbClr val="000000"/>
              </a:solidFill>
              <a:latin typeface="Lucida Sans Unicode"/>
            </a:endParaRPr>
          </a:p>
        </p:txBody>
      </p:sp>
      <p:pic>
        <p:nvPicPr>
          <p:cNvPr id="376" name="Заголовок 1" descr=""/>
          <p:cNvPicPr/>
          <p:nvPr/>
        </p:nvPicPr>
        <p:blipFill>
          <a:blip r:embed="rId1"/>
          <a:stretch/>
        </p:blipFill>
        <p:spPr>
          <a:xfrm>
            <a:off x="195120" y="268200"/>
            <a:ext cx="8498160" cy="1158840"/>
          </a:xfrm>
          <a:prstGeom prst="rect">
            <a:avLst/>
          </a:prstGeom>
          <a:ln w="0">
            <a:noFill/>
          </a:ln>
        </p:spPr>
      </p:pic>
      <p:pic>
        <p:nvPicPr>
          <p:cNvPr id="377" name="Рисунок 4" descr="загруженное (1).jpg"/>
          <p:cNvPicPr/>
          <p:nvPr/>
        </p:nvPicPr>
        <p:blipFill>
          <a:blip r:embed="rId2"/>
          <a:stretch/>
        </p:blipFill>
        <p:spPr>
          <a:xfrm>
            <a:off x="2286000" y="3581280"/>
            <a:ext cx="4908600" cy="2819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
          <p:cNvSpPr txBox="1"/>
          <p:nvPr/>
        </p:nvSpPr>
        <p:spPr>
          <a:xfrm>
            <a:off x="457200" y="114300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353535"/>
                </a:solidFill>
                <a:latin typeface="Lucida Sans Unicode"/>
              </a:rPr>
              <a:t>Our Lysvensky metallurgical works produced soldiers’ helmets . These helmets saved lives of many people. Even our enemies used captured helmets. You can see our helmet in Moscow if you visit the Victory Monument. </a:t>
            </a:r>
            <a:endParaRPr b="0" lang="en-US" sz="2700" spc="-1" strike="noStrike">
              <a:solidFill>
                <a:srgbClr val="000000"/>
              </a:solidFill>
              <a:latin typeface="Lucida Sans Unicode"/>
            </a:endParaRPr>
          </a:p>
        </p:txBody>
      </p:sp>
      <p:pic>
        <p:nvPicPr>
          <p:cNvPr id="379" name="Заголовок 1" descr=""/>
          <p:cNvPicPr/>
          <p:nvPr/>
        </p:nvPicPr>
        <p:blipFill>
          <a:blip r:embed="rId1"/>
          <a:stretch/>
        </p:blipFill>
        <p:spPr>
          <a:xfrm>
            <a:off x="195120" y="268200"/>
            <a:ext cx="8498160" cy="1158840"/>
          </a:xfrm>
          <a:prstGeom prst="rect">
            <a:avLst/>
          </a:prstGeom>
          <a:ln w="0">
            <a:noFill/>
          </a:ln>
        </p:spPr>
      </p:pic>
      <p:pic>
        <p:nvPicPr>
          <p:cNvPr id="380" name="Рисунок 3" descr="1.jpg"/>
          <p:cNvPicPr/>
          <p:nvPr/>
        </p:nvPicPr>
        <p:blipFill>
          <a:blip r:embed="rId2"/>
          <a:stretch/>
        </p:blipFill>
        <p:spPr>
          <a:xfrm>
            <a:off x="2362320" y="3352680"/>
            <a:ext cx="4647960" cy="3044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
          <p:cNvSpPr txBox="1"/>
          <p:nvPr/>
        </p:nvSpPr>
        <p:spPr>
          <a:xfrm>
            <a:off x="457200" y="83808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353535"/>
                </a:solidFill>
                <a:latin typeface="Lucida Sans Unicode"/>
              </a:rPr>
              <a:t> </a:t>
            </a:r>
            <a:r>
              <a:rPr b="0" i="1" lang="en-US" sz="2700" spc="-1" strike="noStrike">
                <a:solidFill>
                  <a:srgbClr val="353535"/>
                </a:solidFill>
                <a:latin typeface="Lucida Sans Unicode"/>
              </a:rPr>
              <a:t>Nowadays steel enamel kitchen utensils made at Lysvensky metallurgical works have been playing the lead in the Ural region. And our products of the jointstock company “Lysva Stockings and Socks Factory” are known in many countries, such as Canada, Denmark, Switzerland.</a:t>
            </a:r>
            <a:endParaRPr b="0" lang="en-US" sz="2700" spc="-1" strike="noStrike">
              <a:solidFill>
                <a:srgbClr val="000000"/>
              </a:solidFill>
              <a:latin typeface="Lucida Sans Unicode"/>
            </a:endParaRPr>
          </a:p>
        </p:txBody>
      </p:sp>
      <p:pic>
        <p:nvPicPr>
          <p:cNvPr id="382" name="Заголовок 2" descr=""/>
          <p:cNvPicPr/>
          <p:nvPr/>
        </p:nvPicPr>
        <p:blipFill>
          <a:blip r:embed="rId1"/>
          <a:stretch/>
        </p:blipFill>
        <p:spPr>
          <a:xfrm>
            <a:off x="195120" y="-6480"/>
            <a:ext cx="8498160" cy="1158840"/>
          </a:xfrm>
          <a:prstGeom prst="rect">
            <a:avLst/>
          </a:prstGeom>
          <a:ln w="0">
            <a:noFill/>
          </a:ln>
        </p:spPr>
      </p:pic>
      <p:pic>
        <p:nvPicPr>
          <p:cNvPr id="383" name="Рисунок 3" descr="hhspr12_lmz.preview.jpg"/>
          <p:cNvPicPr/>
          <p:nvPr/>
        </p:nvPicPr>
        <p:blipFill>
          <a:blip r:embed="rId2"/>
          <a:stretch/>
        </p:blipFill>
        <p:spPr>
          <a:xfrm>
            <a:off x="2057400" y="3733920"/>
            <a:ext cx="5257800" cy="3124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lvl="2" marL="858960" indent="-228600" algn="ctr">
              <a:lnSpc>
                <a:spcPct val="10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esentation was created</a:t>
            </a:r>
            <a:br>
              <a:rPr sz="2400"/>
            </a:br>
            <a:br>
              <a:rPr sz="2400"/>
            </a:br>
            <a:r>
              <a:rPr b="1" lang="en-US" sz="2400" spc="-1" strike="noStrike">
                <a:solidFill>
                  <a:srgbClr val="000000"/>
                </a:solidFill>
                <a:latin typeface="Arial"/>
              </a:rPr>
              <a:t> by Glushkov Nikita.</a:t>
            </a:r>
            <a:br>
              <a:rPr sz="2400"/>
            </a:br>
            <a:br>
              <a:rPr sz="2400"/>
            </a:br>
            <a:r>
              <a:rPr b="0" lang="en-US" sz="2400" spc="-1" strike="noStrike">
                <a:solidFill>
                  <a:srgbClr val="000000"/>
                </a:solidFill>
                <a:latin typeface="Arial"/>
              </a:rPr>
              <a:t>School </a:t>
            </a:r>
            <a:r>
              <a:rPr b="0" lang="ru-RU" sz="2400" spc="-1" strike="noStrike">
                <a:solidFill>
                  <a:srgbClr val="000000"/>
                </a:solidFill>
                <a:latin typeface="Arial"/>
              </a:rPr>
              <a:t>№ 2</a:t>
            </a:r>
            <a:r>
              <a:rPr b="0" lang="en-US" sz="2400" spc="-1" strike="noStrike">
                <a:solidFill>
                  <a:srgbClr val="000000"/>
                </a:solidFill>
                <a:latin typeface="Arial"/>
              </a:rPr>
              <a:t> Lysva</a:t>
            </a:r>
            <a:r>
              <a:rPr b="0" lang="ru-RU" sz="2400" spc="-1" strike="noStrike">
                <a:solidFill>
                  <a:srgbClr val="000000"/>
                </a:solidFill>
                <a:latin typeface="Arial"/>
              </a:rPr>
              <a:t> </a:t>
            </a:r>
            <a:br>
              <a:rPr sz="2400"/>
            </a:br>
            <a:br>
              <a:rPr sz="2400"/>
            </a:br>
            <a:r>
              <a:rPr b="0" lang="en-US" sz="2400" spc="-1" strike="noStrike">
                <a:solidFill>
                  <a:srgbClr val="000000"/>
                </a:solidFill>
                <a:latin typeface="Arial"/>
              </a:rPr>
              <a:t>Teacher: Mandriko O.N.</a:t>
            </a: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23T13:49:48Z</dcterms:created>
  <dc:creator>asus</dc:creator>
  <dc:description/>
  <dc:language>en-US</dc:language>
  <cp:lastModifiedBy>Sana</cp:lastModifiedBy>
  <dcterms:modified xsi:type="dcterms:W3CDTF">2013-03-12T14:52:15Z</dcterms:modified>
  <cp:revision>5</cp:revision>
  <dc:subject/>
  <dc:title>Composition</dc:title>
</cp:coreProperties>
</file>