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11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4F0-A88D-45B5-9C01-F9651A84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EE0-41B2-48AD-BD12-2A2DB0B9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9D4-C884-4DA9-BF29-A1158E6A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4B5-C9ED-44A7-A50F-EFFB8B71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C037-36FA-45EE-A12A-DBAEF727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1902-4426-4E3C-9B49-BBB66188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0388-B3A5-42D8-86D3-EFC6C051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B675-2FD1-4F41-BCF3-0C8CEA0A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77AC-B2B7-4D3D-9A44-848E9DC0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9D98-9855-44A9-91D1-D9FCFCAA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E605-9041-46E8-82FA-D4F67C68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D42-BB62-465D-BF17-FD736BF4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5280-C733-4AD7-BE29-1ABCEE60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FAC1-28A2-4595-A114-2BD5720D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56A4-B5CE-4897-AD23-D8453D86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9583-011F-4B51-B6C9-8F3A8D02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F5D2-7373-4B7F-85E4-C1D3CC1F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95C-8165-475F-AEC6-DBE79F4C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3E9-CC83-4895-AED1-74A010AB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EC8-5BD1-464F-91B4-228C4EEC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B04-90FC-4273-93D8-84A7B953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5E4-44E5-465E-B386-22F20145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118-DF1E-44F6-9793-6F7E5329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A86-27EE-4108-9F2B-80B0ECF5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6BB3-EF83-4657-96B9-01E16B8F70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5157-32AE-48BA-B5CE-802B9938F9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hyperlink" Target="http://nayrok.ru/" TargetMode="External"/><Relationship Id="rId8" Type="http://schemas.openxmlformats.org/officeDocument/2006/relationships/hyperlink" Target="http://www.proshkolu.ru/" TargetMode="External"/><Relationship Id="rId9" Type="http://schemas.openxmlformats.org/officeDocument/2006/relationships/hyperlink" Target="http://www.uroki.net/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 rot="930000">
            <a:off x="1665000" y="3497400"/>
            <a:ext cx="1936800" cy="10000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Использование ИКТ на уроках в начальной школ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419640" y="2708280"/>
            <a:ext cx="61243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Скажи мне, и я забуду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кажи мне, - я смогу запомнить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ь мне это сделать самому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это станет моим навсегда".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ревняя мудр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уруллина Т.П.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ОУ  СОШ №42 г.Уф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MCj04282610000[1]"/>
          <p:cNvPicPr/>
          <p:nvPr/>
        </p:nvPicPr>
        <p:blipFill>
          <a:blip r:embed="rId1"/>
          <a:stretch/>
        </p:blipFill>
        <p:spPr>
          <a:xfrm>
            <a:off x="0" y="4797360"/>
            <a:ext cx="1962000" cy="187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images.asia.ru/img/alibaba/photo/51690853/Computer.jpg"/>
          <p:cNvPicPr/>
          <p:nvPr/>
        </p:nvPicPr>
        <p:blipFill>
          <a:blip r:embed="rId2"/>
          <a:stretch/>
        </p:blipFill>
        <p:spPr>
          <a:xfrm>
            <a:off x="0" y="3141720"/>
            <a:ext cx="635940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cbcb"/>
                </a:solidFill>
                <a:latin typeface="Times New Roman"/>
              </a:rPr>
              <a:t>Основные способы использования интерактивных досок в начальной школе:</a:t>
            </a:r>
            <a:br>
              <a:rPr sz="2800"/>
            </a:b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429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лать пометки и записи поверх выводимых на экран изображений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групповых форм работы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местная работа над документами, таблицами или изображениями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правление компьютером без использования самого компьютера (управление через интерактивную доску)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интерактивной доски как обычной, но с возможностью сохранить результат, распечатать изображение на доске на принтере и т.д.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менение текста в выводимых на экране документах, используя виртуальную клавиатуру, которая настраивается в программном обеспечении доски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менение любых документов или изображений на экране, использование любых пометок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хранение на компьютере в специальном файле всех пометок, которые учитель делает во время урока, для дальнейшей демонстрации на других уроках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храненные во время урока записи учитель может передать любому ученику, пропустившему занятие или не успевшему сделать соответствующие записи в своей тетради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монстрация работы одного ученика всем остальным ученикам класса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монстрация  картин, видеороликов, фильмов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дание рисунков на интерактивной доске без использования компьютерной мыши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дание рисунков, схем и карт во время проведения урока, которые можно использовать на следующих занятиях, что экономит время на уроке.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можность делать записи электронными чернилами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матривать видеофрагменты, прослушивать аудиозаписи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делять отдельные части экрана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резать и стирать, копировать и вставлять объекты, отменять или возвращать действия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стать страницы вперед и назад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ворачивать и перемещать объекты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Использование различных обучающих программ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Picture 2" descr="http://static.ozone.ru/multimedia/audio_cd_covers/1001235819.jpg"/>
          <p:cNvPicPr/>
          <p:nvPr/>
        </p:nvPicPr>
        <p:blipFill>
          <a:blip r:embed="rId1"/>
          <a:stretch/>
        </p:blipFill>
        <p:spPr>
          <a:xfrm>
            <a:off x="357120" y="3643200"/>
            <a:ext cx="2098800" cy="30006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2928960" y="1595520"/>
            <a:ext cx="5929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оки практически не содержат текста — весь материал представлен видеоизображениями и анимированными интерактивными тренажерами, что наиболее подходит для детского восприятия. Мультимедийные уроки способствуют формированию у младших школьников логического мышления, развивают внимание и расширяют кругозор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бник предназначен для учеников начальной школы и разработан в соответствии с Государственным стандартом образования Р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0" y="1285920"/>
            <a:ext cx="278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e0"/>
                </a:solidFill>
                <a:latin typeface="Times New Roman"/>
              </a:rPr>
              <a:t>Диски из серии «Уроки Кирила и Мефод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71388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«Природа и человек. Естествознание для начальной школы».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43200" y="1981080"/>
            <a:ext cx="5143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вающая программа для учащихся 1-4 классов предлагает ребёнку 250 интерактивных заданий, выполняя которые он научится размышлять и самостоятельно находить верные ответы, пользуясь дополнительной информацией в виде кратких текстов, схем и таблиц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асочные иллюстрации, интересные и забавные задания, загадки и кроссворды, доступное изложение материала, тесно связанного с повседневной жизнью- всё это не даст заскучать во время занятий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грамма работает в трех режимах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обучение с "обратной связью " под управлением программы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бучение в свободном режим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тестиров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http://trade-mart.ru/images/2-69-680759.jpg"/>
          <p:cNvPicPr/>
          <p:nvPr/>
        </p:nvPicPr>
        <p:blipFill>
          <a:blip r:embed="rId1"/>
          <a:stretch/>
        </p:blipFill>
        <p:spPr>
          <a:xfrm>
            <a:off x="285840" y="2000160"/>
            <a:ext cx="3500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«Мое тело. Как оно устроено?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286160" y="157176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е тело. Как оно устроено?"- самая известная и популярная в мире программа по изучению тела человека для детей. Теперь любопытные "почемучки" найдут ответы на все вопросы о том, как устроено тело, как оно работает и что надо делать, чтобы всегда быть здоровым и сильным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Мое тело. Как оно устроено?: Интерактивная энциклопедия (CDpc)"/>
          <p:cNvPicPr/>
          <p:nvPr/>
        </p:nvPicPr>
        <p:blipFill>
          <a:blip r:embed="rId1"/>
          <a:srcRect l="-3384" t="19853" r="-5669" b="22799"/>
          <a:stretch/>
        </p:blipFill>
        <p:spPr>
          <a:xfrm>
            <a:off x="0" y="1928880"/>
            <a:ext cx="4924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Использование ресурсов Интернет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ширяет виды учебной деятельности обучающихся (поиск и обработка информации по предмету из Интернета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оставляет возможности для профессионального творческого общения и оперативного обмена информацией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ет возможности для профессионального роста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крывает творческие возможности для учителя по подбору и использованию дидактического материала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воляет использовать на уроке современные технические средства, увлекательные для обучающихся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4"/>
          <p:cNvSpPr/>
          <p:nvPr/>
        </p:nvSpPr>
        <p:spPr>
          <a:xfrm>
            <a:off x="7286760" y="3929040"/>
            <a:ext cx="7142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РЕЗУЛЬТАТИВНОСТЬ ОПЫТА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Picture 2" descr="http://image.shutterstock.com/display_pic_with_logo/11982/11982,1248765055,2/stock-vector-boy-with-computer-34357399.jpg"/>
          <p:cNvPicPr/>
          <p:nvPr/>
        </p:nvPicPr>
        <p:blipFill>
          <a:blip r:embed="rId1"/>
          <a:srcRect l="0" t="0" r="0" b="6384"/>
          <a:stretch/>
        </p:blipFill>
        <p:spPr>
          <a:xfrm>
            <a:off x="5238720" y="2666880"/>
            <a:ext cx="3905280" cy="4191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14200" y="1412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т положительной мотивации на уроках с применением ИКТ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уровня использования наглядности на уроке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производительности учебно-воспитательного процесса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чественное изменение взаимоотношений между участниками учебно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тельного процесса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т качества знани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1785960"/>
          <a:ext cx="9144000" cy="4871880"/>
        </p:xfrm>
        <a:graphic>
          <a:graphicData uri="http://schemas.openxmlformats.org/drawingml/2006/table">
            <a:tbl>
              <a:tblPr/>
              <a:tblGrid>
                <a:gridCol w="438120"/>
                <a:gridCol w="8705880"/>
              </a:tblGrid>
              <a:tr h="31572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ктронная обработка докум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готовых мультимедийных проду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ресурсов сети Интернет для подготовки к урокам или для само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электронной почты для переписки, общения с коллег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компьютерных технологий во внеурочное врем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компьютерных технологий в работе с родителями, на педсоветах, заседаниях М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собственных мультимедийных продукт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ональные форумы, работа в сетевых профессиональных ассоци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 сети Интернет для участия в дистанционных конкурсах, олимпиадах, конференциях разного уров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станционное образование (курсы повышения квалификаци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4200"/>
            <a:ext cx="9182160" cy="240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cbcb"/>
                </a:solidFill>
                <a:latin typeface="Times New Roman"/>
              </a:rPr>
              <a:t>Использование учителями начальных классов ИКТ</a:t>
            </a:r>
            <a:br>
              <a:rPr sz="3200"/>
            </a:b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В таблице приведены данные </a:t>
            </a:r>
            <a:br>
              <a:rPr sz="2800"/>
            </a:b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по мере уменьшения значимости: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олезные сайт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7" name="Picture 2" descr="Бесплатный школьный портал ПроШколу.ру"/>
          <p:cNvPicPr/>
          <p:nvPr/>
        </p:nvPicPr>
        <p:blipFill>
          <a:blip r:embed="rId1"/>
          <a:stretch/>
        </p:blipFill>
        <p:spPr>
          <a:xfrm>
            <a:off x="357120" y="1357200"/>
            <a:ext cx="190512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талог сайтов 'Российское образование в сети'"/>
          <p:cNvPicPr/>
          <p:nvPr/>
        </p:nvPicPr>
        <p:blipFill>
          <a:blip r:embed="rId2"/>
          <a:stretch/>
        </p:blipFill>
        <p:spPr>
          <a:xfrm>
            <a:off x="357120" y="1928880"/>
            <a:ext cx="1589040" cy="57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Методсовет"/>
          <p:cNvPicPr/>
          <p:nvPr/>
        </p:nvPicPr>
        <p:blipFill>
          <a:blip r:embed="rId3"/>
          <a:stretch/>
        </p:blipFill>
        <p:spPr>
          <a:xfrm>
            <a:off x="428760" y="2571840"/>
            <a:ext cx="1419120" cy="500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Сайт"/>
          <p:cNvPicPr/>
          <p:nvPr/>
        </p:nvPicPr>
        <p:blipFill>
          <a:blip r:embed="rId4"/>
          <a:stretch/>
        </p:blipFill>
        <p:spPr>
          <a:xfrm>
            <a:off x="500040" y="3286080"/>
            <a:ext cx="1143000" cy="57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Учительский портал "/>
          <p:cNvPicPr/>
          <p:nvPr/>
        </p:nvPicPr>
        <p:blipFill>
          <a:blip r:embed="rId5"/>
          <a:stretch/>
        </p:blipFill>
        <p:spPr>
          <a:xfrm>
            <a:off x="357120" y="414324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www.uroki.net/banners/Soft.gif"/>
          <p:cNvPicPr/>
          <p:nvPr/>
        </p:nvPicPr>
        <p:blipFill>
          <a:blip r:embed="rId6"/>
          <a:stretch/>
        </p:blipFill>
        <p:spPr>
          <a:xfrm>
            <a:off x="428760" y="5357880"/>
            <a:ext cx="1825560" cy="6429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250920" y="630864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imes New Roman"/>
                <a:hlinkClick r:id="rId7"/>
              </a:rPr>
              <a:t>Уч.портал "На Урок. Ру"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365560" y="342900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pedsovet.su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2432880" y="1357200"/>
            <a:ext cx="25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proshkolu.ru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508120" y="200016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educat.msk.ru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508840" y="257184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metodsovet.su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431800" y="457200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uchportal.ru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2716560" y="557208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http://www.uroki.net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Овал 17"/>
          <p:cNvSpPr/>
          <p:nvPr/>
        </p:nvSpPr>
        <p:spPr>
          <a:xfrm>
            <a:off x="5072040" y="2500200"/>
            <a:ext cx="28584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Овал 18"/>
          <p:cNvSpPr/>
          <p:nvPr/>
        </p:nvSpPr>
        <p:spPr>
          <a:xfrm>
            <a:off x="5572080" y="2357280"/>
            <a:ext cx="35712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Овал 19"/>
          <p:cNvSpPr/>
          <p:nvPr/>
        </p:nvSpPr>
        <p:spPr>
          <a:xfrm>
            <a:off x="7215120" y="2214720"/>
            <a:ext cx="285840" cy="28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Овал 20"/>
          <p:cNvSpPr/>
          <p:nvPr/>
        </p:nvSpPr>
        <p:spPr>
          <a:xfrm>
            <a:off x="7000920" y="2214720"/>
            <a:ext cx="285840" cy="28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4" descr="http://images.clipartof.com/small/6236-Female-Teacher-Sitting-At-A-Computer-Surrounded-By-School-Kids-In-A-Classroom-Clipart-Picture.jpg"/>
          <p:cNvPicPr/>
          <p:nvPr/>
        </p:nvPicPr>
        <p:blipFill>
          <a:blip r:embed="rId10"/>
          <a:srcRect l="0" t="0" r="0" b="7623"/>
          <a:stretch/>
        </p:blipFill>
        <p:spPr>
          <a:xfrm>
            <a:off x="4643280" y="1857240"/>
            <a:ext cx="42865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Использование ИКТ в учебном процессе позволяет: 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2880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илить образовательные эффекты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сить качество усвоения материала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ить индивидуальные образовательные траектории обучающихся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уществить дифференцированный подход к обучающимся с разным уровнем готовности к обучению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овать одновременно детей, обладающих различными способностями и возможностям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gym1584.mskzapad.ru/images/cms/data/computer-learning-games.jpg"/>
          <p:cNvPicPr/>
          <p:nvPr/>
        </p:nvPicPr>
        <p:blipFill>
          <a:blip r:embed="rId1"/>
          <a:stretch/>
        </p:blipFill>
        <p:spPr>
          <a:xfrm>
            <a:off x="3751200" y="3000240"/>
            <a:ext cx="5392800" cy="3857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840" y="6091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Направления внедрения ИКТ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2276280"/>
            <a:ext cx="7772400" cy="36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здание презентаций к урокам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бота с ресурсами Интернет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готовых обучающих программ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28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Презентации позволяют учителю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000080"/>
            <a:ext cx="521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глядно представлять материал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тенсифицировать процесс объяснения нового материала;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ть объем и скорость выводимой информации посредством анимации;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http://activerain.com/image_store/uploads/8/0/9/4/9/ar120726451094908.jpg"/>
          <p:cNvPicPr/>
          <p:nvPr/>
        </p:nvPicPr>
        <p:blipFill>
          <a:blip r:embed="rId1"/>
          <a:stretch/>
        </p:blipFill>
        <p:spPr>
          <a:xfrm>
            <a:off x="5143680" y="0"/>
            <a:ext cx="400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Преимущества работы с интерактивными досками для преподавателей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71680" y="25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воляет преподавателям объяснять новый материал из центра класса, работать в большой аудитории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ощряет импровизацию и гибкость, позволяя рисовать и делать записи поверх любых приложений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воляет сохранять и распечатывать изображения на доске, включая любые записи, сделанные во время занятия, не затрачивая при этом много времени и сил и упрощая проверку усвоенного материала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воляет учителям делиться материалами друг с другом и вновь использовать их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дохновляет преподавателей на поиск новых подходов к обучению, стимулирует профессиональный рост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Преимущества для обучающихся: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лает занятия интересными и развивает мотивацию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оставляет больше возможностей для участия в коллективной работе, развития личных и социальных навыков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ающиеся легче воспринимают и усваивают сложные вопросы в результате более ясной, эффективной и динамичной подачи материала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воляет использовать различные стили обучения, преподаватели могут обращаться к всевозможным ресурсам, приспосабливаясь к определенным потребностям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ающиеся начинают работать более творчески и становятся уверенными в себ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рудности, возникающие при работе с интерактивной доской: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23572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личие чисто технических проблем. При скачках напряжения, или отказе доски по неизвестной причине не все учителя сумеют найти верное решение проблемы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ременные затраты на подготовку урока очень велики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обходимость временного ограничения работы с интерактивной доской на уроке из-за необходимости соблюдать санитарные нормы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смотря на все сложности, которые учитель в состоянии решить, новые технологии открывают учителю более широкие возможности для творчества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4:15:42Z</dcterms:created>
  <dc:creator>Алена</dc:creator>
  <dc:description/>
  <dc:language>en-US</dc:language>
  <cp:lastModifiedBy>Пользователь</cp:lastModifiedBy>
  <dcterms:modified xsi:type="dcterms:W3CDTF">2012-11-10T11:56:37Z</dcterms:modified>
  <cp:revision>54</cp:revision>
  <dc:subject/>
  <dc:title>Использование ИКТ на уроках в начальной школе.</dc:title>
</cp:coreProperties>
</file>