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B268-1354-4887-92E8-13B2EC596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50C4-78FA-40D1-B865-A6090BC90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2032-D3DF-4A38-8F14-B7811698F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8E0D-6365-41F5-AE29-3705390A3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655B-B94D-4EF1-8DA4-1461D5E3F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4A4C-978E-452D-B8C6-4D926FA16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3047-3AB4-449C-AE4E-5DB3F9033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7E5C-B0E7-43EF-A3BD-DC5D5FC82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0185-E19B-4BCD-A90D-F0DB1FF9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DD5B-39EA-4AAD-8D5B-139F2D46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C95B-88FA-4DE1-979C-7B62D4B8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6C78-E891-43C5-B428-9CEFCEA1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BA4F0-7382-4BB0-A4F3-9185B82F9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99640" y="1267920"/>
            <a:ext cx="70549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урс: «Родное Подмосковье»</a:t>
            </a:r>
            <a:br>
              <a:rPr sz="3200"/>
            </a:br>
            <a:br>
              <a:rPr sz="32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Исторические факторы развития хозяйства Подмосковья» 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асть1(до начала 20ве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219640" y="5300640"/>
            <a:ext cx="3232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учитель географии МОУ СОШ №8 г.Рамен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ниченко Е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суда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Гусь-Хрустальный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84360" y="2276640"/>
            <a:ext cx="7818120" cy="37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11280" y="1773360"/>
          <a:ext cx="8229600" cy="3095640"/>
        </p:xfrm>
        <a:graphic>
          <a:graphicData uri="http://schemas.openxmlformats.org/drawingml/2006/table">
            <a:tbl>
              <a:tblPr/>
              <a:tblGrid>
                <a:gridCol w="503280"/>
                <a:gridCol w="1008000"/>
                <a:gridCol w="1728720"/>
                <a:gridCol w="1943280"/>
                <a:gridCol w="3046320"/>
              </a:tblGrid>
              <a:tr h="7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о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рав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62-19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квалифицированных кадров.  Ж/д строительство. Центральность. Наличие местных топливных ресур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ащивание эконом. потенциала. Зарождение машиностроения и металлообработк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ормировался текстильно-промышленный комплекс, начало формирования радиально-кольцев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укту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троительство железных дорог в Подмосковь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547640" y="2133720"/>
            <a:ext cx="6266160" cy="41338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116000" y="1989000"/>
            <a:ext cx="7210440" cy="44593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1979640" y="1916280"/>
            <a:ext cx="6012000" cy="4743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1116000" y="1989000"/>
            <a:ext cx="694224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6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7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8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ы для повтор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овите самую известную профессию на территории Подмосковья до 16 ве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юдей какого ремесла селили на «выселки», на окраинные районы Москв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изготавливали ремесленники хамовни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обозначает название Таганской площад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обозначает название Бронная слобод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обозначает название Серебрянической набережной Яуз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Факторы развития и размещения промышленности Подмосковь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68360" y="2060640"/>
          <a:ext cx="8229600" cy="4260960"/>
        </p:xfrm>
        <a:graphic>
          <a:graphicData uri="http://schemas.openxmlformats.org/drawingml/2006/table">
            <a:tbl>
              <a:tblPr/>
              <a:tblGrid>
                <a:gridCol w="503280"/>
                <a:gridCol w="1008000"/>
                <a:gridCol w="1728720"/>
                <a:gridCol w="1943280"/>
                <a:gridCol w="3046320"/>
              </a:tblGrid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о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рав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-15 ве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кустарно- ремесленного производства  определялось оседлостью населения, концентрации его на стыке водных и сухопутных путей. Возрастало торговое значение городов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положенных на водных путя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е ви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месел - строительство каменных зданий и крепостей, снабжение армии, выпуск предметов для царского дв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ство пороха, оружия, тканей для обмундирова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ые текстильные производства на местном сырье (лен, конопля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вались гончарные промыслы, свечное производство, резьба по Дерев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ой промысловой деятельности Подмосковья- домашняя крестьянская ремесленная деятельность, тесно связанная с сельским хозяйство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4-15 в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859280" y="4437000"/>
            <a:ext cx="2438280" cy="1785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427640" y="1413000"/>
            <a:ext cx="3636720" cy="2724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826920" y="1413000"/>
            <a:ext cx="31878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68360" y="692280"/>
          <a:ext cx="8229600" cy="4886280"/>
        </p:xfrm>
        <a:graphic>
          <a:graphicData uri="http://schemas.openxmlformats.org/drawingml/2006/table">
            <a:tbl>
              <a:tblPr/>
              <a:tblGrid>
                <a:gridCol w="503280"/>
                <a:gridCol w="1008000"/>
                <a:gridCol w="1728720"/>
                <a:gridCol w="1943280"/>
                <a:gridCol w="3046320"/>
              </a:tblGrid>
              <a:tr h="78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о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рав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0-18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нообразие природных условий. (реки, лес) Высокая плотность населения. Избыток рабочей сил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явление мануфактур, работающих на энергии воды и с применением ручного труда. Зарождение суконного производ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сети промышленных районов  в Москве, формирование квалифицированных кадров в регион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13-18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машинного перевор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явление фабричной промышленности. Зарождение хлопчатобумажного производств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промышленных пунктов в регионе. Возникновение текстильно-промышленного цикл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менская бумагопрядильная мануфак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24000" y="1773360"/>
            <a:ext cx="4975200" cy="3519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900000" y="1916280"/>
            <a:ext cx="7059600" cy="47037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3059280" y="1844640"/>
            <a:ext cx="5502240" cy="37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3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асители в Щелко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547640" y="1341360"/>
            <a:ext cx="621828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оизводство швейных маш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00" y="1268280"/>
            <a:ext cx="5767200" cy="37195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195640" y="1413000"/>
            <a:ext cx="5400720" cy="3949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2843280" y="2133720"/>
            <a:ext cx="575136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ряновская мануфак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971640" y="1341360"/>
            <a:ext cx="6414840" cy="3467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780000" y="2781360"/>
            <a:ext cx="4824360" cy="37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9T19:52:22Z</dcterms:created>
  <dc:creator>User</dc:creator>
  <dc:description/>
  <dc:language>en-US</dc:language>
  <cp:lastModifiedBy>ЕЛЕНА</cp:lastModifiedBy>
  <dcterms:modified xsi:type="dcterms:W3CDTF">2013-02-16T18:37:41Z</dcterms:modified>
  <cp:revision>15</cp:revision>
  <dc:subject/>
  <dc:title>Слайд 1</dc:title>
</cp:coreProperties>
</file>