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A4F8-2A0F-4AC5-A6F4-51949367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8A24-447A-411D-AB0F-2BDEF31E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86B-3918-4C8F-8F82-A3763DA7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1EE-574F-4829-B4FA-B0F06C89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DC66-EDF8-4270-9CE9-DC8A9C6A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8336-438C-478F-ACF4-35C43117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81A7-7029-42EC-B988-6414BE20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B678-C67E-4A7C-9BA9-780173F6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186A-3FA0-448A-A393-D34F1F59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E33-B08B-4C53-898B-8C81B2AF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F8D2-67A1-427A-B38B-3828D032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D660-CB83-4866-A46B-37C9EC1F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62BE-9DD1-4698-A8FB-1B56378D5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0549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рс: «Родное Подмосковье»</a:t>
            </a:r>
            <a:br>
              <a:rPr sz="3200"/>
            </a:b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Исторические факторы развития хозяйства Подмосковья»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асть1(до начала 20ве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19640" y="5300640"/>
            <a:ext cx="3232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учитель географии МОУ СОШ №8 г.Рамен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ниченко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суда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Гусь-Хрустальны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7818120" cy="37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1280" y="1773360"/>
          <a:ext cx="8229600" cy="3095640"/>
        </p:xfrm>
        <a:graphic>
          <a:graphicData uri="http://schemas.openxmlformats.org/drawingml/2006/table">
            <a:tbl>
              <a:tblPr/>
              <a:tblGrid>
                <a:gridCol w="503280"/>
                <a:gridCol w="1008000"/>
                <a:gridCol w="1728720"/>
                <a:gridCol w="1943280"/>
                <a:gridCol w="3046320"/>
              </a:tblGrid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2-19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квалифицированных кадров.  Ж/д строительство. Центральность. Наличие местных топливных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ащивание эконом. потенциала. Зарождение машиностроения и металлообработ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лся текстильно-промышленный комплекс, начало формирования радиально-кольце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оительство железных дорог в Подмосков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547640" y="2133720"/>
            <a:ext cx="6266160" cy="4133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16000" y="1989000"/>
            <a:ext cx="7210440" cy="4459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979640" y="1916280"/>
            <a:ext cx="6012000" cy="4743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116000" y="1989000"/>
            <a:ext cx="69422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повто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самую известную профессию на территории Подмосковья до 16 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дей какого ремесла селили на «выселки», на окраинные районы Москв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изготавливали ремесленники хамовн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обозначает название Таганской площад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обозначает название Бронная слоб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обозначает название Серебрянической набережной Яуз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кторы развития и размещения промышленности Подмосков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8360" y="2060640"/>
          <a:ext cx="8229600" cy="4260960"/>
        </p:xfrm>
        <a:graphic>
          <a:graphicData uri="http://schemas.openxmlformats.org/drawingml/2006/table">
            <a:tbl>
              <a:tblPr/>
              <a:tblGrid>
                <a:gridCol w="503280"/>
                <a:gridCol w="1008000"/>
                <a:gridCol w="1728720"/>
                <a:gridCol w="1943280"/>
                <a:gridCol w="3046320"/>
              </a:tblGrid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-15 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устарно- ремесленного производства  определялось оседлостью населения, концентрации его на стыке водных и сухопутных путей. Возрастало торговое значение городов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ных на водных пут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е ви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месел - строительство каменных зданий и крепостей, снабжение армии, выпуск предметов для царского дв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 пороха, оружия, тканей для обмундиров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е текстильные производства на местном сырье (лен, конопля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лись гончарные промыслы, свечное производство, резьба по Дерев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ой промысловой деятельности Подмосковья- домашняя крестьянская ремесленная деятельность, тесно связанная с сельским хозяйств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-15 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59280" y="4437000"/>
            <a:ext cx="2438280" cy="1785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427640" y="1413000"/>
            <a:ext cx="3636720" cy="2724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826920" y="1413000"/>
            <a:ext cx="31878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692280"/>
          <a:ext cx="8229600" cy="4886280"/>
        </p:xfrm>
        <a:graphic>
          <a:graphicData uri="http://schemas.openxmlformats.org/drawingml/2006/table">
            <a:tbl>
              <a:tblPr/>
              <a:tblGrid>
                <a:gridCol w="503280"/>
                <a:gridCol w="1008000"/>
                <a:gridCol w="1728720"/>
                <a:gridCol w="1943280"/>
                <a:gridCol w="3046320"/>
              </a:tblGrid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0-18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ие природных условий. (реки, лес) Высокая плотность населения. Избыток рабочей сил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вление мануфактур, работающих на энергии воды и с применением ручного труда. Зарождение суконного произво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сети промышленных районов  в Москве, формирование квалифицированных кадров в регион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3-18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машинного перевор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вление фабричной промышленности. Зарождение хлопчатобумажного производст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промышленных пунктов в регионе. Возникновение текстильно-промышленного цик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менская бумагопрядильная мануфак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975200" cy="3519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7059600" cy="4703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059280" y="1844640"/>
            <a:ext cx="550224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асители в Щелк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547640" y="1341360"/>
            <a:ext cx="62182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изводство швейных маш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5767200" cy="3719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195640" y="1413000"/>
            <a:ext cx="5400720" cy="3949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843280" y="2133720"/>
            <a:ext cx="57513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ряновская мануфа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6414840" cy="3467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780000" y="2781360"/>
            <a:ext cx="482436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9:52:22Z</dcterms:created>
  <dc:creator>User</dc:creator>
  <dc:description/>
  <dc:language>en-US</dc:language>
  <cp:lastModifiedBy>ЕЛЕНА</cp:lastModifiedBy>
  <dcterms:modified xsi:type="dcterms:W3CDTF">2013-02-16T18:37:41Z</dcterms:modified>
  <cp:revision>15</cp:revision>
  <dc:subject/>
  <dc:title>Слайд 1</dc:title>
</cp:coreProperties>
</file>