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5.wmf" ContentType="image/x-wmf"/>
  <Override PartName="/ppt/media/image12.wmf" ContentType="image/x-wmf"/>
  <Override PartName="/ppt/media/image27.png" ContentType="image/png"/>
  <Override PartName="/ppt/media/image13.png" ContentType="image/png"/>
  <Override PartName="/ppt/media/image8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14.png" ContentType="image/png"/>
  <Override PartName="/ppt/media/image9.wmf" ContentType="image/x-wmf"/>
  <Override PartName="/ppt/media/image6.wmf" ContentType="image/x-wmf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7.wmf" ContentType="image/x-wmf"/>
  <Override PartName="/ppt/media/image3.png" ContentType="image/png"/>
  <Override PartName="/ppt/media/image26.png" ContentType="image/png"/>
  <Override PartName="/ppt/media/image1.jpeg" ContentType="image/jpeg"/>
  <Override PartName="/ppt/media/image15.wmf" ContentType="image/x-wmf"/>
  <Override PartName="/ppt/media/image16.png" ContentType="image/png"/>
  <Override PartName="/ppt/media/image17.wmf" ContentType="image/x-wmf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4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864-20B5-4AAF-B5AB-3D648102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A2C-D91C-41B3-AD0E-D33B4B7E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2D6E8-E8FA-4B22-AD49-0C0FFEF4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50BC7-CF42-46FE-A8E6-5DC91E4B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F97B4-93B9-4D33-B046-34A12DF9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475A1-3C53-4D84-8C22-1D6BF559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E23FD-7681-4BFE-840A-A9B9076D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97B49-5448-4BBB-9A8D-CC1AC01A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DDE15-9CEE-494D-9DAD-BF167C58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17927-8C65-4C70-A1B5-53EDB878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A8BB1-898B-4EF9-978E-01120325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7A2-0620-4CB9-8664-86EC81D2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7BA-6149-45B7-B9DD-DC124BE9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79EE-45DE-465D-9604-35725613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247F-C321-4A74-9A47-09B9F602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D495-229E-492B-8C3A-C6F9BC74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DB3D-B9B1-49D9-A5F3-88E53F3E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BA85-528A-4C63-BBF3-C85CD044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BF21-82FA-489B-BE5A-91CA125C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AA77-B04E-4452-8EDF-528642C9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E176-A6D4-4118-81DD-4F6C3967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5BBC-35E1-4DC4-85FB-9FBDD26B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C38A-59DB-488B-94D9-27A3EACC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D9B6-06F1-418D-BB1B-FE579D10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8BC6-4409-48FC-9421-C20D1034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BD83-C474-4326-8419-2D7F9AF7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ABE9A-FA68-4FE2-8C25-C385F83E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467AB-376C-4875-B5A3-06DC2427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8BF64-2245-4201-A8E9-1F2B057F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A8F9F-104F-43D3-9C8D-9686FDE4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087A1-B4F8-4126-8CBF-0D307A5D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6F98-6606-4E99-BFBA-9FECE221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34D21-08FF-4C52-85CE-A1EE123F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B7871-358F-4862-8EA6-54ED552B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71DF5-CF85-46B1-A7A3-C1412514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AC916-CCF9-46D5-AB70-494BC5D6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33B52-3E2D-450B-B402-E7EB8DB4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1F851-935B-4EE9-92E7-3CE4B141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3B7E5-DE87-428D-B26D-83A6502E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C5F08-E0FD-42D1-981F-03966BD6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95552-3FDF-4E0F-8902-EC874528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E1B2F-86D4-4725-B453-FA7E7290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290-CBFE-4DFA-8B7F-4997F7A2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B2B15-9C2B-4E52-A593-3603D531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41F71-8422-474F-9F80-181A3F41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33D1B-3DFC-4B2D-8852-F5C69ADA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47E75-9985-46D5-8EF4-00669C52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B4F06-601D-4573-8B37-85D3E5C7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8A192-996F-43DD-A882-D9B631AD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978EC-EA3B-4293-A287-5927C3F8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CBE1F-C216-449C-AC75-59DE2C53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9C91F-7A83-4B53-9ACE-F86CBD3A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5C520-D16B-48E8-A0E9-A13B3974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CA9F-5A18-4A23-ABD0-21AC07E8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5F299-DD3B-4411-AD1E-8BFF3469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99122-82FF-446A-A86D-C5AB9890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7AD2D-600F-45D3-84F4-9168EB17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ED8CA-34E4-4890-BF5B-F85CA524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F8602-3901-4F55-AA9A-57A7FA21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11B70-2449-4BC9-AE96-AE161EAF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5FB3D-2C2C-4330-AA26-584C5D04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1B336-ABEC-4642-8436-23010A50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1F31B-A14B-4226-BD3C-A0EB0D1B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CE3B2-0B42-45CE-BC52-2F0B7AF5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D20-8965-4AE2-BF3B-B03B5269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B41BE-4028-4545-8AB2-796E447A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6A847-BDBA-4462-815D-86CCC90D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0EF31-4BEB-42EB-B418-11E7558F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EAEEB-451A-4FB9-A825-F268DB89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68F3A-120C-4817-A43F-DA603B81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0C7B1-74C4-424E-9B5B-E0AE4880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95CE6-04E8-40AE-8507-0610501A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A9B94-E530-4982-880B-9F11C82A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1839F-8799-492D-9338-4A8B4697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06C4C-E69A-4716-8535-48F27BA4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3B4-D144-4E67-9561-FA5B143C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F588C-09B1-4F27-8763-7EE36458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64B29-4BA4-4A5D-8894-F13C1F58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60A8A-BD74-4AF1-8ABF-C30E164C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EEA1F-9B81-4223-939C-7784C3E3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B7A22-F721-4FAE-AA29-95F080B1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F60B9-1B66-407D-AF4B-3FD7E3F6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1BC84-7AB0-4570-88C4-08F9AAB9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FBBC9-980E-4C3D-8E2C-1B406EF3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F3282-7981-4950-A26C-AFE2AAB1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921DB-3473-4251-B6AC-0D6B0513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C20-CE4D-4CE5-A934-BAF1BC03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723D2-2D24-4634-BB94-70FF966B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0796F-757D-47A6-B9C0-B004E515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0F39C-521F-40D5-9123-44ED279F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EC079-CA49-4B0F-8E59-3071DB33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0D158-BBA1-4D2A-AC79-C564D90A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0F422-F341-4445-AAED-957382B3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89BC2-2497-4B8C-BD00-7D90E772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247B0-22CC-4395-A396-87988446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2572A-6DF9-483C-B357-1EDB3A88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F3833-D35C-4091-869B-F78EC3F4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D832-B736-4C62-A299-58268416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7FF9B-2D0F-4D57-BC19-C975A8A2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C37A5-D50D-4E85-B61D-68A26CB2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69A12-62F4-4871-B029-E6D4B757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6FF4B-5550-415B-9129-663AB4DB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1F583-70C4-4F1D-B442-DB4A58AE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044EC-7F2A-4633-93DF-607CED34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96D02-EA84-4D8E-8778-C76B4C99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DCBCC-C302-4814-9E2D-A418765C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EB0B1-7CD5-463C-A010-64A4ED9D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E9E4A-1CA9-4F1C-B46F-5AF00870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7190-DB60-4067-8B88-CC40892E65F5}" type="datetime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FC8E-DAEB-4DD3-8208-25361D32310E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DD6F-CC9A-4066-BD48-678A56E70DD4}" type="datetime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0C27-BC45-44EB-B213-3036D2EF79B2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CD5E-8A4C-4AB4-8373-06D8B9FE7A0E}" type="datetime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023F-CAC1-44C0-9DA3-781DF7DAF41D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4930-7D90-46F5-9D10-556ABFD71DE7}" type="datetime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7451-EDCE-4E51-ABB2-206BF80DDBF8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E754-8C87-476A-8B44-23337B9D5F21}" type="datetime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FC35-795B-42A2-B77D-0753C89E85D2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6BE9-F1D5-44F5-8685-E48F662FEA6C}" type="datetime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B1EA-34B1-4A81-BED5-6281A429EC4B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2F82-0F88-4152-8D2D-3CB024847A77}" type="datetime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92E9-85C0-4A48-8211-2C2DA6F7D0CA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44AB-C403-4492-B065-7F48D25E9FAA}" type="datetime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F894-B7A6-495C-9AE1-821590615D39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F6DE-A5F5-444B-AA76-70C0142830B3}" type="datetime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FBCB-DBC3-48C4-B7DD-5786E8E1B77D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image" Target="../media/image24.wmf"/><Relationship Id="rId6" Type="http://schemas.openxmlformats.org/officeDocument/2006/relationships/image" Target="../media/image6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53880" y="390600"/>
            <a:ext cx="8528040" cy="12556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305920" cy="32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ТЫ И ТВОЯ БУДУЩАЯ ПРОФЕССИЯ»</a:t>
            </a:r>
            <a:endParaRPr b="0" lang="en-US" sz="54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1" name="Номер слайда 8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40C0-3B4B-4A8C-9A8E-A8B0FD4EF21E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7" descr="C:\Program Files\Microsoft Office\MEDIA\CAGCAT10\j0301252.wmf"/>
          <p:cNvPicPr/>
          <p:nvPr/>
        </p:nvPicPr>
        <p:blipFill>
          <a:blip r:embed="rId2"/>
          <a:stretch/>
        </p:blipFill>
        <p:spPr>
          <a:xfrm>
            <a:off x="333360" y="1571760"/>
            <a:ext cx="1381320" cy="16430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C:\Program Files\Microsoft Office\MEDIA\CAGCAT10\j0240695.wmf"/>
          <p:cNvPicPr/>
          <p:nvPr/>
        </p:nvPicPr>
        <p:blipFill>
          <a:blip r:embed="rId3"/>
          <a:stretch/>
        </p:blipFill>
        <p:spPr>
          <a:xfrm>
            <a:off x="357120" y="4714920"/>
            <a:ext cx="1825560" cy="1285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C:\Program Files\Microsoft Office\MEDIA\CAGCAT10\j0240719.wmf"/>
          <p:cNvPicPr/>
          <p:nvPr/>
        </p:nvPicPr>
        <p:blipFill>
          <a:blip r:embed="rId4"/>
          <a:stretch/>
        </p:blipFill>
        <p:spPr>
          <a:xfrm>
            <a:off x="7429680" y="1071720"/>
            <a:ext cx="1428480" cy="16891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C:\Program Files\Microsoft Office\MEDIA\CAGCAT10\j0285698.wmf"/>
          <p:cNvPicPr/>
          <p:nvPr/>
        </p:nvPicPr>
        <p:blipFill>
          <a:blip r:embed="rId5"/>
          <a:stretch/>
        </p:blipFill>
        <p:spPr>
          <a:xfrm>
            <a:off x="7215120" y="4500720"/>
            <a:ext cx="1706760" cy="18237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C:\Program Files\Microsoft Office\MEDIA\CAGCAT10\j0195384.wmf"/>
          <p:cNvPicPr/>
          <p:nvPr/>
        </p:nvPicPr>
        <p:blipFill>
          <a:blip r:embed="rId6"/>
          <a:stretch/>
        </p:blipFill>
        <p:spPr>
          <a:xfrm>
            <a:off x="3929040" y="4572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Содержимое 1"/>
          <p:cNvGrpSpPr/>
          <p:nvPr/>
        </p:nvGrpSpPr>
        <p:grpSpPr>
          <a:xfrm>
            <a:off x="195120" y="96840"/>
            <a:ext cx="8759880" cy="6267600"/>
            <a:chOff x="195120" y="96840"/>
            <a:chExt cx="8759880" cy="6267600"/>
          </a:xfrm>
        </p:grpSpPr>
        <p:pic>
          <p:nvPicPr>
            <p:cNvPr id="451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195120" y="96840"/>
              <a:ext cx="8759880" cy="626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457200" y="357120"/>
              <a:ext cx="8229600" cy="57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e5b6f"/>
                  </a:solidFill>
                  <a:latin typeface="Franklin Gothic Book"/>
                </a:rPr>
                <a:t>   </a:t>
              </a:r>
              <a:r>
                <a:rPr b="1" lang="ru-RU" sz="40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При выборе профессии часто имеет место </a:t>
              </a: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фактор престижности</a:t>
              </a:r>
              <a:r>
                <a:rPr b="1" lang="ru-RU" sz="40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. Но оглядка на престижность </a:t>
              </a: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е самый верный принцип выбора</a:t>
              </a:r>
              <a:r>
                <a:rPr b="1" lang="ru-RU" sz="40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, поскольку престижность сродни поветрию, моде. А это явление, как известно, очень не постоянное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buClr>
                  <a:srgbClr val="7fd13b"/>
                </a:buClr>
                <a:buSzPct val="7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Номер слайда 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E410-60B9-43B3-B058-C031FA64F7D5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Содержимое 1"/>
          <p:cNvGrpSpPr/>
          <p:nvPr/>
        </p:nvGrpSpPr>
        <p:grpSpPr>
          <a:xfrm>
            <a:off x="237960" y="96840"/>
            <a:ext cx="8759880" cy="6529320"/>
            <a:chOff x="237960" y="96840"/>
            <a:chExt cx="8759880" cy="6529320"/>
          </a:xfrm>
        </p:grpSpPr>
        <p:pic>
          <p:nvPicPr>
            <p:cNvPr id="455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237960" y="96840"/>
              <a:ext cx="8759880" cy="652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500040" y="357120"/>
              <a:ext cx="8229600" cy="60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4e5b6f"/>
                  </a:solidFill>
                  <a:latin typeface="Franklin Gothic Book"/>
                </a:rPr>
                <a:t>   </a:t>
              </a:r>
              <a:r>
                <a:rPr b="1" lang="ru-RU" sz="28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Правильнее было бы, ориентируясь в мире профессий, 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решить для себя, что для вас самое важное в будущем, </a:t>
              </a:r>
              <a:r>
                <a:rPr b="1" lang="ru-RU" sz="28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что вы считаете совершенно необходимым для себя: 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размеренную, спокойную работу или постоянные командировки, экспедиции, независимость и самостоятельность, творчество или выполнение четко определённых обязанностей</a:t>
              </a:r>
              <a:r>
                <a:rPr b="1" lang="ru-RU" sz="28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. Но не нужно понимать так, что творчество - хорошо, а исполнительность - плохо. В каждой профессии есть свои особенности. 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ажно определиться в главном,</a:t>
              </a:r>
              <a:r>
                <a:rPr b="1" lang="ru-RU" sz="28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 т.е. 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онять, какие из качественных сторон профессий для вас важны, а какими можно и пренебречь</a:t>
              </a:r>
              <a:r>
                <a:rPr b="1" lang="ru-RU" sz="28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Номер слайда 2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66A0-EEC5-491D-927B-F6F49AC6E54B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347760" y="-73080"/>
            <a:ext cx="7716600" cy="1639800"/>
          </a:xfrm>
          <a:prstGeom prst="rect">
            <a:avLst/>
          </a:prstGeom>
          <a:ln w="0">
            <a:noFill/>
          </a:ln>
        </p:spPr>
      </p:pic>
      <p:grpSp>
        <p:nvGrpSpPr>
          <p:cNvPr id="459" name="Содержимое 1"/>
          <p:cNvGrpSpPr/>
          <p:nvPr/>
        </p:nvGrpSpPr>
        <p:grpSpPr>
          <a:xfrm>
            <a:off x="133200" y="2444760"/>
            <a:ext cx="5432400" cy="4443480"/>
            <a:chOff x="133200" y="2444760"/>
            <a:chExt cx="5432400" cy="4443480"/>
          </a:xfrm>
        </p:grpSpPr>
        <p:pic>
          <p:nvPicPr>
            <p:cNvPr id="460" name="Содержимое 1" descr=""/>
            <p:cNvPicPr/>
            <p:nvPr/>
          </p:nvPicPr>
          <p:blipFill>
            <a:blip r:embed="rId2"/>
            <a:stretch/>
          </p:blipFill>
          <p:spPr>
            <a:xfrm>
              <a:off x="133200" y="2444760"/>
              <a:ext cx="5432400" cy="444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95280" y="2708280"/>
              <a:ext cx="4900680" cy="39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e5b6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Людям любой профессии необходимо работать над собой всегда, и тогда любая мечта станет реальностью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901"/>
                </a:spcBef>
                <a:buClr>
                  <a:srgbClr val="7fd13b"/>
                </a:buClr>
                <a:buSzPct val="7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Номер слайда 9"/>
          <p:cNvSpPr/>
          <p:nvPr/>
        </p:nvSpPr>
        <p:spPr>
          <a:xfrm>
            <a:off x="822960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EEDC-0FAB-45B6-9B4A-343846FBF7B7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" descr="C:\Program Files\Microsoft Office\MEDIA\CAGCAT10\j0240719.wmf"/>
          <p:cNvPicPr/>
          <p:nvPr/>
        </p:nvPicPr>
        <p:blipFill>
          <a:blip r:embed="rId3"/>
          <a:stretch/>
        </p:blipFill>
        <p:spPr>
          <a:xfrm>
            <a:off x="7572240" y="1052640"/>
            <a:ext cx="1571760" cy="18572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" descr="C:\Program Files\Microsoft Office\MEDIA\CAGCAT10\j0240695.wmf"/>
          <p:cNvPicPr/>
          <p:nvPr/>
        </p:nvPicPr>
        <p:blipFill>
          <a:blip r:embed="rId4"/>
          <a:stretch/>
        </p:blipFill>
        <p:spPr>
          <a:xfrm>
            <a:off x="4284720" y="1557360"/>
            <a:ext cx="1825560" cy="12859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C:\Program Files\Microsoft Office\MEDIA\CAGCAT10\j0292020.wmf"/>
          <p:cNvPicPr/>
          <p:nvPr/>
        </p:nvPicPr>
        <p:blipFill>
          <a:blip r:embed="rId5"/>
          <a:stretch/>
        </p:blipFill>
        <p:spPr>
          <a:xfrm>
            <a:off x="1042920" y="1125360"/>
            <a:ext cx="1857600" cy="14986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7" descr="C:\Program Files\Microsoft Office\MEDIA\CAGCAT10\j0301252.wmf"/>
          <p:cNvPicPr/>
          <p:nvPr/>
        </p:nvPicPr>
        <p:blipFill>
          <a:blip r:embed="rId6"/>
          <a:stretch/>
        </p:blipFill>
        <p:spPr>
          <a:xfrm>
            <a:off x="6072120" y="2428920"/>
            <a:ext cx="2000160" cy="17143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9" descr="C:\Program Files\Microsoft Office\MEDIA\CAGCAT10\j0285698.wmf"/>
          <p:cNvPicPr/>
          <p:nvPr/>
        </p:nvPicPr>
        <p:blipFill>
          <a:blip r:embed="rId7"/>
          <a:stretch/>
        </p:blipFill>
        <p:spPr>
          <a:xfrm>
            <a:off x="7437600" y="4286160"/>
            <a:ext cx="1506240" cy="16099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C:\Program Files\Microsoft Office\MEDIA\CAGCAT10\j0195384.wmf"/>
          <p:cNvPicPr/>
          <p:nvPr/>
        </p:nvPicPr>
        <p:blipFill>
          <a:blip r:embed="rId8"/>
          <a:stretch/>
        </p:blipFill>
        <p:spPr>
          <a:xfrm>
            <a:off x="5429160" y="442908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Содержимое 1"/>
          <p:cNvGrpSpPr/>
          <p:nvPr/>
        </p:nvGrpSpPr>
        <p:grpSpPr>
          <a:xfrm>
            <a:off x="195120" y="23760"/>
            <a:ext cx="8759880" cy="6675480"/>
            <a:chOff x="195120" y="23760"/>
            <a:chExt cx="8759880" cy="6675480"/>
          </a:xfrm>
        </p:grpSpPr>
        <p:pic>
          <p:nvPicPr>
            <p:cNvPr id="408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195120" y="23760"/>
              <a:ext cx="8759880" cy="667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457200" y="285840"/>
              <a:ext cx="8229600" cy="61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90000"/>
                </a:lnSpc>
                <a:spcBef>
                  <a:spcPts val="799"/>
                </a:spcBef>
                <a:buClr>
                  <a:srgbClr val="7fd13b"/>
                </a:buClr>
                <a:buSzPct val="7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576e"/>
                  </a:solidFill>
                  <a:latin typeface="Times New Roman"/>
                  <a:ea typeface="Times New Roman"/>
                </a:rPr>
                <a:t>«Истинное сокровище для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576e"/>
                  </a:solidFill>
                  <a:latin typeface="Times New Roman"/>
                  <a:ea typeface="Times New Roman"/>
                </a:rPr>
                <a:t>    </a:t>
              </a:r>
              <a:r>
                <a:rPr b="1" lang="ru-RU" sz="3200" spc="-1" strike="noStrike">
                  <a:solidFill>
                    <a:srgbClr val="00576e"/>
                  </a:solidFill>
                  <a:latin typeface="Times New Roman"/>
                  <a:ea typeface="Times New Roman"/>
                </a:rPr>
                <a:t>людей - умение трудиться»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                             </a:t>
              </a:r>
              <a:r>
                <a:rPr b="1" lang="ru-RU" sz="32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(Эзоп)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799"/>
                </a:spcBef>
                <a:buClr>
                  <a:srgbClr val="7fd13b"/>
                </a:buClr>
                <a:buSzPct val="7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576e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200" spc="-1" strike="noStrike">
                  <a:solidFill>
                    <a:srgbClr val="00576e"/>
                  </a:solidFill>
                  <a:latin typeface="Times New Roman"/>
                  <a:ea typeface="Times New Roman"/>
                </a:rPr>
                <a:t>«Будем трудиться, потому что труд это отец удовольствия»    </a:t>
              </a:r>
              <a:r>
                <a:rPr b="1" lang="ru-RU" sz="32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(Стендаль)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799"/>
                </a:spcBef>
                <a:buClr>
                  <a:srgbClr val="7fd13b"/>
                </a:buClr>
                <a:buSzPct val="7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576e"/>
                  </a:solidFill>
                  <a:latin typeface="Times New Roman"/>
                  <a:ea typeface="Times New Roman"/>
                </a:rPr>
                <a:t>«Тот, кто с детства знает, что труд есть закон жизни, кто смолоду понял, что хлеб добывается только в поте лица, тот способен к подвигу, потому что в нужный день и час у него найдётся воля его выполнить и силы для этого» </a:t>
              </a:r>
              <a:r>
                <a:rPr b="1" lang="ru-RU" sz="32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(Жюль Верн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799"/>
                </a:spcBef>
                <a:buClr>
                  <a:srgbClr val="7fd13b"/>
                </a:buClr>
                <a:buSzPct val="7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Номер слайда 3"/>
          <p:cNvSpPr/>
          <p:nvPr/>
        </p:nvSpPr>
        <p:spPr>
          <a:xfrm>
            <a:off x="8358120" y="64008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F665-E0E4-47B9-8B3E-92E79A6954FE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Program Files\Microsoft Office\MEDIA\CAGCAT10\j0233312.wmf"/>
          <p:cNvPicPr/>
          <p:nvPr/>
        </p:nvPicPr>
        <p:blipFill>
          <a:blip r:embed="rId2"/>
          <a:stretch/>
        </p:blipFill>
        <p:spPr>
          <a:xfrm>
            <a:off x="6500880" y="500040"/>
            <a:ext cx="17859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195120" y="-109440"/>
            <a:ext cx="8759880" cy="1407960"/>
          </a:xfrm>
          <a:prstGeom prst="rect">
            <a:avLst/>
          </a:prstGeom>
          <a:ln w="0">
            <a:noFill/>
          </a:ln>
        </p:spPr>
      </p:pic>
      <p:grpSp>
        <p:nvGrpSpPr>
          <p:cNvPr id="413" name="Содержимое 1"/>
          <p:cNvGrpSpPr/>
          <p:nvPr/>
        </p:nvGrpSpPr>
        <p:grpSpPr>
          <a:xfrm>
            <a:off x="195120" y="878040"/>
            <a:ext cx="8759880" cy="5486400"/>
            <a:chOff x="195120" y="878040"/>
            <a:chExt cx="8759880" cy="5486400"/>
          </a:xfrm>
        </p:grpSpPr>
        <p:pic>
          <p:nvPicPr>
            <p:cNvPr id="414" name="Содержимое 1" descr=""/>
            <p:cNvPicPr/>
            <p:nvPr/>
          </p:nvPicPr>
          <p:blipFill>
            <a:blip r:embed="rId2"/>
            <a:stretch/>
          </p:blipFill>
          <p:spPr>
            <a:xfrm>
              <a:off x="195120" y="878040"/>
              <a:ext cx="875988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57200" y="1143000"/>
              <a:ext cx="8229600" cy="49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4e5b6f"/>
                  </a:solidFill>
                  <a:latin typeface="Franklin Gothic Book"/>
                </a:rPr>
                <a:t>   </a:t>
              </a:r>
              <a:r>
                <a:rPr b="1" lang="ru-RU" sz="36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Этот тип объединяет профессии, представители которых имеют дело с объектами, явлениями и процессами живой и неживой природы </a:t>
              </a: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ветеринар, агроном, гидролог, овцевод, механизатор, тракторист). </a:t>
              </a:r>
              <a:r>
                <a:rPr b="1" lang="ru-RU" sz="36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Для них характерен общий предмет труда - животные и растения, почва и воздушная среда - природа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901"/>
                </a:spcBef>
                <a:buClr>
                  <a:srgbClr val="7fd13b"/>
                </a:buClr>
                <a:buSzPct val="7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3181-D7DB-4E44-A146-F10D70A7BE09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C:\Program Files\Microsoft Office\MEDIA\CAGCAT10\j0149887.wmf"/>
          <p:cNvPicPr/>
          <p:nvPr/>
        </p:nvPicPr>
        <p:blipFill>
          <a:blip r:embed="rId3"/>
          <a:stretch/>
        </p:blipFill>
        <p:spPr>
          <a:xfrm>
            <a:off x="7429680" y="2786040"/>
            <a:ext cx="1071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59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28760" y="1213920"/>
            <a:ext cx="8286480" cy="5286600"/>
          </a:xfrm>
          <a:prstGeom prst="rect">
            <a:avLst/>
          </a:prstGeom>
          <a:noFill/>
          <a:ln w="57240">
            <a:solidFill>
              <a:srgbClr val="00576e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Это могут быть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лоты, водители, матросы, электромонтёры, слесари </a:t>
            </a:r>
            <a:r>
              <a:rPr b="1" lang="ru-RU" sz="4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и т.д., использующие технические устройства.</a:t>
            </a:r>
            <a:endParaRPr b="0" lang="en-US" sz="4400" spc="-1" strike="noStrike">
              <a:solidFill>
                <a:srgbClr val="4e5b6f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b6f"/>
                </a:solidFill>
                <a:latin typeface="Franklin Gothic Book"/>
              </a:rPr>
              <a:t>                                                                            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0" name="Номер слайда 6"/>
          <p:cNvSpPr/>
          <p:nvPr/>
        </p:nvSpPr>
        <p:spPr>
          <a:xfrm>
            <a:off x="8358120" y="64008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35F1-F6A6-4E6C-B8A9-C42BC3686D73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C:\Program Files\Microsoft Office\MEDIA\CAGCAT10\j0240695.wmf"/>
          <p:cNvPicPr/>
          <p:nvPr/>
        </p:nvPicPr>
        <p:blipFill>
          <a:blip r:embed="rId2"/>
          <a:stretch/>
        </p:blipFill>
        <p:spPr>
          <a:xfrm>
            <a:off x="1571760" y="4857840"/>
            <a:ext cx="1825560" cy="1285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Program Files\Microsoft Office\MEDIA\CAGCAT10\j0212957.wmf"/>
          <p:cNvPicPr/>
          <p:nvPr/>
        </p:nvPicPr>
        <p:blipFill>
          <a:blip r:embed="rId3"/>
          <a:stretch/>
        </p:blipFill>
        <p:spPr>
          <a:xfrm>
            <a:off x="6858000" y="1500120"/>
            <a:ext cx="1830240" cy="114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C:\Program Files\Microsoft Office\MEDIA\CAGCAT10\j0293234.wmf"/>
          <p:cNvPicPr/>
          <p:nvPr/>
        </p:nvPicPr>
        <p:blipFill>
          <a:blip r:embed="rId4"/>
          <a:stretch/>
        </p:blipFill>
        <p:spPr>
          <a:xfrm>
            <a:off x="4572000" y="4786200"/>
            <a:ext cx="25002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936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500040" y="1285560"/>
            <a:ext cx="8229600" cy="5357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Franklin Gothic Book"/>
              </a:rPr>
              <a:t>  </a:t>
            </a:r>
            <a:r>
              <a:rPr b="1" lang="ru-RU" sz="32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Тут для специалиста предметом труда является другой человек, а характерной чертой деятельности - необходимость воздействия на других людей. К такому типу профессий относя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, врач, журналист и продавец</a:t>
            </a:r>
            <a:r>
              <a:rPr b="1" lang="ru-RU" sz="32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6" name="Номер слайда 5"/>
          <p:cNvSpPr/>
          <p:nvPr/>
        </p:nvSpPr>
        <p:spPr>
          <a:xfrm>
            <a:off x="8534520" y="621504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4737-BD9F-4E36-B4DF-37781B821420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C:\Program Files\Microsoft Office\MEDIA\CAGCAT10\j0240719.wmf"/>
          <p:cNvPicPr/>
          <p:nvPr/>
        </p:nvPicPr>
        <p:blipFill>
          <a:blip r:embed="rId2"/>
          <a:stretch/>
        </p:blipFill>
        <p:spPr>
          <a:xfrm>
            <a:off x="5357880" y="4429080"/>
            <a:ext cx="2143080" cy="2071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C:\Program Files\Microsoft Office\MEDIA\CAGCAT10\j0301252.wmf"/>
          <p:cNvPicPr/>
          <p:nvPr/>
        </p:nvPicPr>
        <p:blipFill>
          <a:blip r:embed="rId3"/>
          <a:stretch/>
        </p:blipFill>
        <p:spPr>
          <a:xfrm>
            <a:off x="1357200" y="4929120"/>
            <a:ext cx="23576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2" descr=""/>
          <p:cNvPicPr/>
          <p:nvPr/>
        </p:nvPicPr>
        <p:blipFill>
          <a:blip r:embed="rId1"/>
          <a:stretch/>
        </p:blipFill>
        <p:spPr>
          <a:xfrm>
            <a:off x="237960" y="-158760"/>
            <a:ext cx="8759880" cy="1865160"/>
          </a:xfrm>
          <a:prstGeom prst="rect">
            <a:avLst/>
          </a:prstGeom>
          <a:ln w="0">
            <a:noFill/>
          </a:ln>
        </p:spPr>
      </p:pic>
      <p:grpSp>
        <p:nvGrpSpPr>
          <p:cNvPr id="430" name="Содержимое 1"/>
          <p:cNvGrpSpPr/>
          <p:nvPr/>
        </p:nvGrpSpPr>
        <p:grpSpPr>
          <a:xfrm>
            <a:off x="237960" y="1238400"/>
            <a:ext cx="8759880" cy="5338440"/>
            <a:chOff x="237960" y="1238400"/>
            <a:chExt cx="8759880" cy="5338440"/>
          </a:xfrm>
        </p:grpSpPr>
        <p:pic>
          <p:nvPicPr>
            <p:cNvPr id="431" name="Содержимое 1" descr=""/>
            <p:cNvPicPr/>
            <p:nvPr/>
          </p:nvPicPr>
          <p:blipFill>
            <a:blip r:embed="rId2"/>
            <a:stretch/>
          </p:blipFill>
          <p:spPr>
            <a:xfrm>
              <a:off x="237960" y="1238400"/>
              <a:ext cx="8759880" cy="53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00040" y="1500120"/>
              <a:ext cx="8229600" cy="48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e5b6f"/>
                  </a:solidFill>
                  <a:latin typeface="Franklin Gothic Book"/>
                </a:rPr>
                <a:t>   </a:t>
              </a:r>
              <a:r>
                <a:rPr b="1" lang="ru-RU" sz="32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Люди, выбравшие этот тип профессиональной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32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деятельности, должны уметь оперировать абстрактными понятиями, иметь широкий кругозор. Это 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ухгалтеры, учёные, операторы ЭВМ, люди, </a:t>
              </a:r>
              <a:r>
                <a:rPr b="1" lang="ru-RU" sz="32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работающие в лабора-ториях, научных центра</a:t>
              </a:r>
              <a:r>
                <a:rPr b="1" lang="ru-RU" sz="36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х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901"/>
                </a:spcBef>
                <a:buClr>
                  <a:srgbClr val="7fd13b"/>
                </a:buClr>
                <a:buSzPct val="7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Номер слайда 4"/>
          <p:cNvSpPr/>
          <p:nvPr/>
        </p:nvSpPr>
        <p:spPr>
          <a:xfrm>
            <a:off x="8429760" y="62866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B39F-4AD1-4166-AE5E-4C16BE34E950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C:\Program Files\Microsoft Office\MEDIA\CAGCAT10\j0195384.wmf"/>
          <p:cNvPicPr/>
          <p:nvPr/>
        </p:nvPicPr>
        <p:blipFill>
          <a:blip r:embed="rId3"/>
          <a:stretch/>
        </p:blipFill>
        <p:spPr>
          <a:xfrm>
            <a:off x="6786720" y="1785960"/>
            <a:ext cx="15858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2" descr=""/>
          <p:cNvPicPr/>
          <p:nvPr/>
        </p:nvPicPr>
        <p:blipFill>
          <a:blip r:embed="rId1"/>
          <a:stretch/>
        </p:blipFill>
        <p:spPr>
          <a:xfrm>
            <a:off x="285840" y="-79200"/>
            <a:ext cx="8407440" cy="1517400"/>
          </a:xfrm>
          <a:prstGeom prst="rect">
            <a:avLst/>
          </a:prstGeom>
          <a:ln w="0">
            <a:noFill/>
          </a:ln>
        </p:spPr>
      </p:pic>
      <p:grpSp>
        <p:nvGrpSpPr>
          <p:cNvPr id="436" name="Содержимое 1"/>
          <p:cNvGrpSpPr/>
          <p:nvPr/>
        </p:nvGrpSpPr>
        <p:grpSpPr>
          <a:xfrm>
            <a:off x="281160" y="1322280"/>
            <a:ext cx="8588160" cy="4956120"/>
            <a:chOff x="281160" y="1322280"/>
            <a:chExt cx="8588160" cy="4956120"/>
          </a:xfrm>
        </p:grpSpPr>
        <p:pic>
          <p:nvPicPr>
            <p:cNvPr id="437" name="Содержимое 1" descr=""/>
            <p:cNvPicPr/>
            <p:nvPr/>
          </p:nvPicPr>
          <p:blipFill>
            <a:blip r:embed="rId2"/>
            <a:stretch/>
          </p:blipFill>
          <p:spPr>
            <a:xfrm>
              <a:off x="281160" y="1322280"/>
              <a:ext cx="858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457200" y="1500120"/>
              <a:ext cx="822960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e5b6f"/>
                  </a:solidFill>
                  <a:latin typeface="Franklin Gothic Book"/>
                </a:rPr>
                <a:t>   </a:t>
              </a:r>
              <a:r>
                <a:rPr b="1" lang="ru-RU" sz="40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Людей этого типы отличает наличие живого образного мышления, художественная фантазия, талант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buClr>
                  <a:srgbClr val="7fd13b"/>
                </a:buClr>
                <a:buSzPct val="7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FA57-590A-43F7-ACD1-FCE4EC77054C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C:\Program Files\Microsoft Office\MEDIA\CAGCAT10\j0292020.wmf"/>
          <p:cNvPicPr/>
          <p:nvPr/>
        </p:nvPicPr>
        <p:blipFill>
          <a:blip r:embed="rId3"/>
          <a:stretch/>
        </p:blipFill>
        <p:spPr>
          <a:xfrm>
            <a:off x="6143760" y="3500280"/>
            <a:ext cx="1868400" cy="20592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C:\Program Files\Microsoft Office\MEDIA\CAGCAT10\j0217698.wmf"/>
          <p:cNvPicPr/>
          <p:nvPr/>
        </p:nvPicPr>
        <p:blipFill>
          <a:blip r:embed="rId4"/>
          <a:stretch/>
        </p:blipFill>
        <p:spPr>
          <a:xfrm>
            <a:off x="2286000" y="4214880"/>
            <a:ext cx="21430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Содержимое 1"/>
          <p:cNvGrpSpPr/>
          <p:nvPr/>
        </p:nvGrpSpPr>
        <p:grpSpPr>
          <a:xfrm>
            <a:off x="195120" y="237960"/>
            <a:ext cx="8759880" cy="6126480"/>
            <a:chOff x="195120" y="237960"/>
            <a:chExt cx="8759880" cy="6126480"/>
          </a:xfrm>
        </p:grpSpPr>
        <p:pic>
          <p:nvPicPr>
            <p:cNvPr id="443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195120" y="237960"/>
              <a:ext cx="8759880" cy="612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457200" y="500040"/>
              <a:ext cx="8229600" cy="55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e5b6f"/>
                  </a:solidFill>
                  <a:latin typeface="Times New Roman"/>
                  <a:ea typeface="Times New Roman"/>
                </a:rPr>
                <a:t>    </a:t>
              </a:r>
              <a:r>
                <a:rPr b="1" lang="ru-RU" sz="40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Необходимо взвесить и оценить свои способности, помнить, что с возрастом способности к обучению снижаются. Если автоматизм управления автомобилем у 10-летних вырабатывается за 4 часа, то у взрослых - за 50 часов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001"/>
                </a:spcBef>
                <a:buClr>
                  <a:srgbClr val="7fd13b"/>
                </a:buClr>
                <a:buSzPct val="7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Номер слайда 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A24B-3AC0-416D-A4BB-88E1B40CE16E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Содержимое 1"/>
          <p:cNvGrpSpPr/>
          <p:nvPr/>
        </p:nvGrpSpPr>
        <p:grpSpPr>
          <a:xfrm>
            <a:off x="255600" y="122400"/>
            <a:ext cx="8516880" cy="6430680"/>
            <a:chOff x="255600" y="122400"/>
            <a:chExt cx="8516880" cy="6430680"/>
          </a:xfrm>
        </p:grpSpPr>
        <p:pic>
          <p:nvPicPr>
            <p:cNvPr id="447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255600" y="122400"/>
              <a:ext cx="8516880" cy="64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395280" y="260280"/>
              <a:ext cx="8229600" cy="61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fd13b"/>
                </a:buClr>
                <a:buSzPct val="7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fd13b"/>
                </a:buClr>
                <a:buSzPct val="7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Но кроме способностей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еобходимо учитывать и свои интересы</a:t>
              </a:r>
              <a:r>
                <a:rPr b="1" lang="ru-RU" sz="24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. Идеальное совпадение способностей и интересов это и есть призвани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fd13b"/>
                </a:buClr>
                <a:buSzPct val="7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Сколько людей всю жизнь занимаются нелюбимым делом: кто-то ради денег, кто-то по привычке, кто-то просто потому, что когда-то не очень серьёзно отнёсся к собственному выбору. Сегодня попытаемся честно оценить свои способности, желания и возможности при выборе будущей профессии.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режде всего надо считаться с физическими способностями</a:t>
              </a:r>
              <a:r>
                <a:rPr b="1" lang="ru-RU" sz="24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. По данным социологов,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уквально единицы соотносят своё здоровье с выбором профессии</a:t>
              </a:r>
              <a:r>
                <a:rPr b="1" lang="ru-RU" sz="2400" spc="-1" strike="noStrike">
                  <a:solidFill>
                    <a:srgbClr val="835e01"/>
                  </a:solidFill>
                  <a:latin typeface="Times New Roman"/>
                  <a:ea typeface="Times New Roman"/>
                </a:rPr>
                <a:t>. Остальные просто не принимают его во внимание и делают первую ошибк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Номер слайда 2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1598-C5DD-43A7-832B-B35A0C64752F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5:45:44Z</dcterms:created>
  <dc:creator>сарсен</dc:creator>
  <dc:description/>
  <dc:language>en-US</dc:language>
  <cp:lastModifiedBy>Windows User</cp:lastModifiedBy>
  <dcterms:modified xsi:type="dcterms:W3CDTF">2013-03-12T16:27:13Z</dcterms:modified>
  <cp:revision>43</cp:revision>
  <dc:subject/>
  <dc:title>КЛАССНЫЙ ЧАС НА ТЕМУ: </dc:title>
</cp:coreProperties>
</file>