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wmf" ContentType="image/x-wmf"/>
  <Override PartName="/ppt/media/image12.wmf" ContentType="image/x-wmf"/>
  <Override PartName="/ppt/media/image27.png" ContentType="image/png"/>
  <Override PartName="/ppt/media/image13.png" ContentType="image/png"/>
  <Override PartName="/ppt/media/image8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7.wmf" ContentType="image/x-wmf"/>
  <Override PartName="/ppt/media/image3.png" ContentType="image/png"/>
  <Override PartName="/ppt/media/image26.png" ContentType="image/png"/>
  <Override PartName="/ppt/media/image1.jpeg" ContentType="image/jpeg"/>
  <Override PartName="/ppt/media/image15.wmf" ContentType="image/x-wmf"/>
  <Override PartName="/ppt/media/image16.png" ContentType="image/png"/>
  <Override PartName="/ppt/media/image17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C19-DFCB-4323-8BA2-170567BD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038-0E9B-4247-9B4D-CFC0BD9A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75308-10C2-4EA3-BEA7-11EE8DA4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3DD77-DB7B-4025-B36D-D9A981F8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08C98-4282-4A55-B4EC-2B3D4E0C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6CD8E-47E2-4F9F-9E92-C4DC2C1F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10B61-67A2-44A8-A57D-B788A5C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80727-0897-4F41-840E-906FC340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17FA8-5B87-4BD9-A071-074773B0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11B14-99A0-43F9-9E84-9D5AC1D2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848B6-F354-47E4-8FB4-4EA82F79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022-88FB-4E04-AE47-C9DB9C11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578-0DDE-4320-998A-9217B213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AE02-6FE1-4D81-8336-FAF09BF4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5752-F295-4155-AF93-FD250911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892F-7E22-488E-888D-AEAFECFE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1090-6F11-4721-9621-DFE21C9A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6B6E-5EEE-470B-AEBD-B7AA5610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80FB-13E7-44E7-B0B4-5C684219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90DB-FB15-4FCE-A812-AEA7B69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2EB-AEAE-449F-860C-E0BFD6F3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22B1-F74C-4ED0-B5EA-854338BE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D499-1A02-4DC9-8227-6BE0CD76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E4AC-3FB1-4018-8D19-2706EE8B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B439-1082-438C-B92A-24F2AA36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DABB-F78A-4C67-969E-9B72CCE5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EA09E-01EC-4E3A-91EB-0E7D07AA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58998-1997-41B8-AAE0-FD8B0BA6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31E8-85A4-4AF5-8885-BB18C54C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D552-0318-4DB5-9DCE-35854087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1BC07-5341-4278-B94A-C5624536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B89-8CE9-411A-88C3-2B3041B3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4299B-CFCB-4D86-8B96-14E299AB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2089-73F1-4CD6-A56F-90B124DE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B1B7-C85F-4F46-862E-EF3F8244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9543-88E1-41EA-A5E3-EE153DE2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99A8-FA05-4262-9D32-4D82DDD1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1D36B-7A44-4EAC-A406-CE5F24DD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978E-215A-47C7-8C46-F21F1D73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ED25F-6461-45A5-A1B9-D5E21CBD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EBC4-944D-4858-AFCD-EA75BF25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93790-68B0-4B16-9724-8F288D2C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084-1C8F-4636-91AD-09703BC3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F9B8D-ACD4-4427-A8E0-A7C6B638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B64ED-A62C-45F0-A3D7-78C09C72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6396D-547A-450A-8E36-8BF263C3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117A5-FC59-4D92-ACA0-E4BCA5EC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50554-ECE8-42D6-AC0B-0E173E07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F22D5-7A11-4175-9C9B-D6712611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145A2-0B1B-4EA1-A5FE-FB2BE08D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25322-5382-4EC4-8324-B5EDC104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D0052-1232-487A-9838-06A988C2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D30A4-526D-46A2-B4F2-BCE4468A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910-4E8B-41D7-B83E-D72A411A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2C877-55DE-4B15-ABFF-66F92125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D3E37-2510-4019-9AC8-1B787ABB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5BF57-6386-4CB9-9C96-36427ABE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CBFB8-4981-4964-926E-257F5226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2ADB1-010A-48AC-8FA5-14F796BA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B3F34-C4E6-4FC5-8A5F-27685BBD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4559E-1F74-4EBE-861F-2D2B4EE9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E10AE-0EFA-498B-B789-19128740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7D725-A637-44FA-82E9-8EAED5D9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E6CB-3EBC-461A-80E9-5E523C07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806-8CB8-4CA4-9195-7F761CCA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EB57B-EB84-4B74-8BB6-660719E1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2BCE-D6F7-4CC9-B635-820D0EF3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25ABC-1689-4346-A715-8324A3BD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3A187-1D42-442E-AF26-E49E348D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2A3E6-BFF3-450F-97FB-624E80CA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0C289-6B89-4018-A0FE-F932DB84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B1D5F-F9B2-494F-A7F6-8C90D798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148D0-B185-4FCC-92BB-FF019525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4998E-FC01-402E-80AB-947AFF4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BA97C-A5F6-4613-8A9D-09D3D08B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C73-86FE-44A2-855A-343148C6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D71C1-0AE4-49BE-84C9-F2E67D34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D62F8-0544-4133-98D7-742F5F6A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ECBC-565C-4698-9E92-96510351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26C43-443C-4677-81AB-963DB2CD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531E4-E443-4207-A8C7-DA201E86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7FD9B-AC08-42B8-9B5E-7058B4D1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02D8F-468F-4534-AB46-2BA02D5B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4D620-DA52-46EC-949D-6860F776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AB961-742B-49AC-95BF-437D740A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8984-AC77-4248-8B1E-5DE97BF5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04B-806E-4B4F-A8C8-FE0EF9E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E5149-E735-4048-A3BC-81AFCB6A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3160A-7154-4456-BE5C-539EAF1C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D7627-A789-4950-975B-6DAE05BC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3DA40-1911-4AB3-9BAA-54061697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1EF9-7F5C-4A80-9365-DD7AD2E0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5249E-7B83-4677-B886-CD43AE12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CC163-C92B-445A-9968-D5BA3CB1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D743B-5029-4F7E-BE73-9911B10B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56DC5-8974-4B3A-82DC-D6965B01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6D26F-ED6B-430C-913C-236CF4E9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1ED-29B3-45D3-BF9D-B84B6D96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9D15B-F0F1-472D-888B-D14B995C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C821F-759C-44B7-A636-7B7C0C75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C92D3-3683-4FFD-AD65-326D8D21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A6D8A-56C9-4891-8DBC-95A5CEE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C9D01-52D6-40CA-B446-91C9104B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1C948-82B6-4B0A-BA8A-379CAC34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70ADF-410B-489B-935D-DF195EE6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3C7C4-7651-4ADC-9699-9131DB56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4DE48-564F-4198-A4FB-AD606CA4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8739B-4919-4CD4-9D47-DAE1C625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EFC0-8D42-47BB-A100-FB681282A4CE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EA29-096A-4C5F-9AD0-24D2C35FA89E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2E93-C827-4F1F-81DF-E24594A56456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FF01-B0A6-44E8-B694-B25F076D9A58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6C61-8976-4451-97B8-1811B03F3757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1C20-B716-4137-8147-13482239E3DA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89CB-F97D-4D82-97BD-A3B492DEC215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4167-5D10-42FC-9C63-38649F3DC84B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5C7F-7540-4012-8822-A80258E02A2E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84E3-A0CB-4516-8F8F-7C086E56C8F0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3A26-AD11-4BC7-AFF3-B67B70A54C6F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0528-4EC9-4062-AF4F-305B9A8ECAE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D3A0-0D4C-4255-926B-5AD8C5560C58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FFE3-2110-45D7-9474-45B5F337125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ECA4-5FCE-470B-BD9C-E9A6AD17EC51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79D4-4B7F-4824-A4BD-81FEB8B6FF2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52B-A52D-4260-8639-C0C11FE26D8E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6D04-8AC5-4202-8867-4C06CB96A338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image" Target="../media/image24.wmf"/><Relationship Id="rId6" Type="http://schemas.openxmlformats.org/officeDocument/2006/relationships/image" Target="../media/image6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53880" y="390600"/>
            <a:ext cx="8528040" cy="1255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30592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ТЫ И ТВОЯ БУДУЩАЯ ПРОФЕССИЯ»</a:t>
            </a:r>
            <a:endParaRPr b="0" lang="en-US" sz="54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1" name="Номер слайда 8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2690-BDE7-489A-8B2B-CEDE9741EF97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7" descr="C:\Program Files\Microsoft Office\MEDIA\CAGCAT10\j0301252.wmf"/>
          <p:cNvPicPr/>
          <p:nvPr/>
        </p:nvPicPr>
        <p:blipFill>
          <a:blip r:embed="rId2"/>
          <a:stretch/>
        </p:blipFill>
        <p:spPr>
          <a:xfrm>
            <a:off x="333360" y="1571760"/>
            <a:ext cx="1381320" cy="16430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Program Files\Microsoft Office\MEDIA\CAGCAT10\j0240695.wmf"/>
          <p:cNvPicPr/>
          <p:nvPr/>
        </p:nvPicPr>
        <p:blipFill>
          <a:blip r:embed="rId3"/>
          <a:stretch/>
        </p:blipFill>
        <p:spPr>
          <a:xfrm>
            <a:off x="357120" y="4714920"/>
            <a:ext cx="1825560" cy="12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Program Files\Microsoft Office\MEDIA\CAGCAT10\j0240719.wmf"/>
          <p:cNvPicPr/>
          <p:nvPr/>
        </p:nvPicPr>
        <p:blipFill>
          <a:blip r:embed="rId4"/>
          <a:stretch/>
        </p:blipFill>
        <p:spPr>
          <a:xfrm>
            <a:off x="7429680" y="1071720"/>
            <a:ext cx="1428480" cy="1689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C:\Program Files\Microsoft Office\MEDIA\CAGCAT10\j0285698.wmf"/>
          <p:cNvPicPr/>
          <p:nvPr/>
        </p:nvPicPr>
        <p:blipFill>
          <a:blip r:embed="rId5"/>
          <a:stretch/>
        </p:blipFill>
        <p:spPr>
          <a:xfrm>
            <a:off x="7215120" y="4500720"/>
            <a:ext cx="1706760" cy="1823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Program Files\Microsoft Office\MEDIA\CAGCAT10\j0195384.wmf"/>
          <p:cNvPicPr/>
          <p:nvPr/>
        </p:nvPicPr>
        <p:blipFill>
          <a:blip r:embed="rId6"/>
          <a:stretch/>
        </p:blipFill>
        <p:spPr>
          <a:xfrm>
            <a:off x="3929040" y="4572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Содержимое 1"/>
          <p:cNvGrpSpPr/>
          <p:nvPr/>
        </p:nvGrpSpPr>
        <p:grpSpPr>
          <a:xfrm>
            <a:off x="195120" y="96840"/>
            <a:ext cx="8759880" cy="6267600"/>
            <a:chOff x="195120" y="96840"/>
            <a:chExt cx="8759880" cy="6267600"/>
          </a:xfrm>
        </p:grpSpPr>
        <p:pic>
          <p:nvPicPr>
            <p:cNvPr id="451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195120" y="96840"/>
              <a:ext cx="8759880" cy="626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57200" y="357120"/>
              <a:ext cx="8229600" cy="57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e5b6f"/>
                  </a:solidFill>
                  <a:latin typeface="Franklin Gothic Book"/>
                </a:rPr>
                <a:t>   </a:t>
              </a:r>
              <a:r>
                <a:rPr b="1" lang="ru-RU" sz="40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При выборе профессии часто имеет место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фактор престижности</a:t>
              </a:r>
              <a:r>
                <a:rPr b="1" lang="ru-RU" sz="40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. Но оглядка на престижность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е самый верный принцип выбора</a:t>
              </a:r>
              <a:r>
                <a:rPr b="1" lang="ru-RU" sz="40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, поскольку престижность сродни поветрию, моде. А это явление, как известно, очень не постоянное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Номер слайда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AC36-9C96-4013-B098-8BC2E2546D71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Содержимое 1"/>
          <p:cNvGrpSpPr/>
          <p:nvPr/>
        </p:nvGrpSpPr>
        <p:grpSpPr>
          <a:xfrm>
            <a:off x="237960" y="96840"/>
            <a:ext cx="8759880" cy="6529320"/>
            <a:chOff x="237960" y="96840"/>
            <a:chExt cx="8759880" cy="6529320"/>
          </a:xfrm>
        </p:grpSpPr>
        <p:pic>
          <p:nvPicPr>
            <p:cNvPr id="455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237960" y="96840"/>
              <a:ext cx="8759880" cy="65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500040" y="357120"/>
              <a:ext cx="8229600" cy="60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4e5b6f"/>
                  </a:solidFill>
                  <a:latin typeface="Franklin Gothic Book"/>
                </a:rPr>
                <a:t>   </a:t>
              </a:r>
              <a:r>
                <a:rPr b="1" lang="ru-RU" sz="28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Правильнее было бы, ориентируясь в мире профессий,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решить для себя, что для вас самое важное в будущем, </a:t>
              </a:r>
              <a:r>
                <a:rPr b="1" lang="ru-RU" sz="28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что вы считаете совершенно необходимым для себя: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размеренную, спокойную работу или постоянные командировки, экспедиции, независимость и самостоятельность, творчество или выполнение четко определённых обязанностей</a:t>
              </a:r>
              <a:r>
                <a:rPr b="1" lang="ru-RU" sz="28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. Но не нужно понимать так, что творчество - хорошо, а исполнительность - плохо. В каждой профессии есть свои особенности.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ажно определиться в главном,</a:t>
              </a:r>
              <a:r>
                <a:rPr b="1" lang="ru-RU" sz="28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 т.е.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онять, какие из качественных сторон профессий для вас важны, а какими можно и пренебречь</a:t>
              </a:r>
              <a:r>
                <a:rPr b="1" lang="ru-RU" sz="28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Номер слайда 2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D35B-5F7A-4A72-AA0A-37F8C9F65FF0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347760" y="-73080"/>
            <a:ext cx="7716600" cy="1639800"/>
          </a:xfrm>
          <a:prstGeom prst="rect">
            <a:avLst/>
          </a:prstGeom>
          <a:ln w="0">
            <a:noFill/>
          </a:ln>
        </p:spPr>
      </p:pic>
      <p:grpSp>
        <p:nvGrpSpPr>
          <p:cNvPr id="459" name="Содержимое 1"/>
          <p:cNvGrpSpPr/>
          <p:nvPr/>
        </p:nvGrpSpPr>
        <p:grpSpPr>
          <a:xfrm>
            <a:off x="133200" y="2444760"/>
            <a:ext cx="5432400" cy="4443480"/>
            <a:chOff x="133200" y="2444760"/>
            <a:chExt cx="5432400" cy="4443480"/>
          </a:xfrm>
        </p:grpSpPr>
        <p:pic>
          <p:nvPicPr>
            <p:cNvPr id="460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133200" y="2444760"/>
              <a:ext cx="5432400" cy="44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95280" y="2708280"/>
              <a:ext cx="4900680" cy="39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e5b6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Людям любой профессии необходимо работать над собой всегда, и тогда любая мечта станет реальностью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Номер слайда 9"/>
          <p:cNvSpPr/>
          <p:nvPr/>
        </p:nvSpPr>
        <p:spPr>
          <a:xfrm>
            <a:off x="822960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34F4-CC7B-45DE-9903-EF049A7E6CC8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C:\Program Files\Microsoft Office\MEDIA\CAGCAT10\j0240719.wmf"/>
          <p:cNvPicPr/>
          <p:nvPr/>
        </p:nvPicPr>
        <p:blipFill>
          <a:blip r:embed="rId3"/>
          <a:stretch/>
        </p:blipFill>
        <p:spPr>
          <a:xfrm>
            <a:off x="7572240" y="105264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C:\Program Files\Microsoft Office\MEDIA\CAGCAT10\j0240695.wmf"/>
          <p:cNvPicPr/>
          <p:nvPr/>
        </p:nvPicPr>
        <p:blipFill>
          <a:blip r:embed="rId4"/>
          <a:stretch/>
        </p:blipFill>
        <p:spPr>
          <a:xfrm>
            <a:off x="4284720" y="1557360"/>
            <a:ext cx="1825560" cy="12859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C:\Program Files\Microsoft Office\MEDIA\CAGCAT10\j0292020.wmf"/>
          <p:cNvPicPr/>
          <p:nvPr/>
        </p:nvPicPr>
        <p:blipFill>
          <a:blip r:embed="rId5"/>
          <a:stretch/>
        </p:blipFill>
        <p:spPr>
          <a:xfrm>
            <a:off x="1042920" y="1125360"/>
            <a:ext cx="1857600" cy="14986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C:\Program Files\Microsoft Office\MEDIA\CAGCAT10\j0301252.wmf"/>
          <p:cNvPicPr/>
          <p:nvPr/>
        </p:nvPicPr>
        <p:blipFill>
          <a:blip r:embed="rId6"/>
          <a:stretch/>
        </p:blipFill>
        <p:spPr>
          <a:xfrm>
            <a:off x="6072120" y="2428920"/>
            <a:ext cx="2000160" cy="1714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" descr="C:\Program Files\Microsoft Office\MEDIA\CAGCAT10\j0285698.wmf"/>
          <p:cNvPicPr/>
          <p:nvPr/>
        </p:nvPicPr>
        <p:blipFill>
          <a:blip r:embed="rId7"/>
          <a:stretch/>
        </p:blipFill>
        <p:spPr>
          <a:xfrm>
            <a:off x="7437600" y="4286160"/>
            <a:ext cx="1506240" cy="1609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Program Files\Microsoft Office\MEDIA\CAGCAT10\j0195384.wmf"/>
          <p:cNvPicPr/>
          <p:nvPr/>
        </p:nvPicPr>
        <p:blipFill>
          <a:blip r:embed="rId8"/>
          <a:stretch/>
        </p:blipFill>
        <p:spPr>
          <a:xfrm>
            <a:off x="5429160" y="442908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Содержимое 1"/>
          <p:cNvGrpSpPr/>
          <p:nvPr/>
        </p:nvGrpSpPr>
        <p:grpSpPr>
          <a:xfrm>
            <a:off x="195120" y="23760"/>
            <a:ext cx="8759880" cy="6675480"/>
            <a:chOff x="195120" y="23760"/>
            <a:chExt cx="8759880" cy="6675480"/>
          </a:xfrm>
        </p:grpSpPr>
        <p:pic>
          <p:nvPicPr>
            <p:cNvPr id="408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195120" y="23760"/>
              <a:ext cx="8759880" cy="667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457200" y="285840"/>
              <a:ext cx="8229600" cy="61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799"/>
                </a:spcBef>
                <a:buClr>
                  <a:srgbClr val="7fd13b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576e"/>
                  </a:solidFill>
                  <a:latin typeface="Times New Roman"/>
                  <a:ea typeface="Times New Roman"/>
                </a:rPr>
                <a:t>«Истинное сокровище дл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576e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3200" spc="-1" strike="noStrike">
                  <a:solidFill>
                    <a:srgbClr val="00576e"/>
                  </a:solidFill>
                  <a:latin typeface="Times New Roman"/>
                  <a:ea typeface="Times New Roman"/>
                </a:rPr>
                <a:t>людей - умение трудиться»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                             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(Эзоп)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99"/>
                </a:spcBef>
                <a:buClr>
                  <a:srgbClr val="7fd13b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576e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576e"/>
                  </a:solidFill>
                  <a:latin typeface="Times New Roman"/>
                  <a:ea typeface="Times New Roman"/>
                </a:rPr>
                <a:t>«Будем трудиться, потому что труд это отец удовольствия»    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(Стендаль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99"/>
                </a:spcBef>
                <a:buClr>
                  <a:srgbClr val="7fd13b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576e"/>
                  </a:solidFill>
                  <a:latin typeface="Times New Roman"/>
                  <a:ea typeface="Times New Roman"/>
                </a:rPr>
                <a:t>«Тот, кто с детства знает, что труд есть закон жизни, кто смолоду понял, что хлеб добывается только в поте лица, тот способен к подвигу, потому что в нужный день и час у него найдётся воля его выполнить и силы для этого» 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(Жюль Верн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99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Номер слайда 3"/>
          <p:cNvSpPr/>
          <p:nvPr/>
        </p:nvSpPr>
        <p:spPr>
          <a:xfrm>
            <a:off x="8358120" y="64008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3393-FE48-49D4-ABBE-085696C32AE5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Program Files\Microsoft Office\MEDIA\CAGCAT10\j0233312.wmf"/>
          <p:cNvPicPr/>
          <p:nvPr/>
        </p:nvPicPr>
        <p:blipFill>
          <a:blip r:embed="rId2"/>
          <a:stretch/>
        </p:blipFill>
        <p:spPr>
          <a:xfrm>
            <a:off x="6500880" y="500040"/>
            <a:ext cx="17859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195120" y="-109440"/>
            <a:ext cx="8759880" cy="1407960"/>
          </a:xfrm>
          <a:prstGeom prst="rect">
            <a:avLst/>
          </a:prstGeom>
          <a:ln w="0">
            <a:noFill/>
          </a:ln>
        </p:spPr>
      </p:pic>
      <p:grpSp>
        <p:nvGrpSpPr>
          <p:cNvPr id="413" name="Содержимое 1"/>
          <p:cNvGrpSpPr/>
          <p:nvPr/>
        </p:nvGrpSpPr>
        <p:grpSpPr>
          <a:xfrm>
            <a:off x="195120" y="878040"/>
            <a:ext cx="8759880" cy="5486400"/>
            <a:chOff x="195120" y="878040"/>
            <a:chExt cx="8759880" cy="5486400"/>
          </a:xfrm>
        </p:grpSpPr>
        <p:pic>
          <p:nvPicPr>
            <p:cNvPr id="414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195120" y="878040"/>
              <a:ext cx="87598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200" y="1143000"/>
              <a:ext cx="822960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4e5b6f"/>
                  </a:solidFill>
                  <a:latin typeface="Franklin Gothic Book"/>
                </a:rPr>
                <a:t>   </a:t>
              </a:r>
              <a:r>
                <a:rPr b="1" lang="ru-RU" sz="36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Этот тип объединяет профессии, представители которых имеют дело с объектами, явлениями и процессами живой и неживой природы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ветеринар, агроном, гидролог, овцевод, механизатор, тракторист). </a:t>
              </a:r>
              <a:r>
                <a:rPr b="1" lang="ru-RU" sz="36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Для них характерен общий предмет труда - животные и растения, почва и воздушная среда - природа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9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E7D4-28F5-4068-AEA7-2B72A740FD1F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C:\Program Files\Microsoft Office\MEDIA\CAGCAT10\j0149887.wmf"/>
          <p:cNvPicPr/>
          <p:nvPr/>
        </p:nvPicPr>
        <p:blipFill>
          <a:blip r:embed="rId3"/>
          <a:stretch/>
        </p:blipFill>
        <p:spPr>
          <a:xfrm>
            <a:off x="7429680" y="2786040"/>
            <a:ext cx="1071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59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28760" y="1213920"/>
            <a:ext cx="8286480" cy="5286600"/>
          </a:xfrm>
          <a:prstGeom prst="rect">
            <a:avLst/>
          </a:prstGeom>
          <a:noFill/>
          <a:ln w="57240">
            <a:solidFill>
              <a:srgbClr val="00576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Это могут быть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лоты, водители, матросы, электромонтёры, слесари </a:t>
            </a:r>
            <a:r>
              <a:rPr b="1" lang="ru-RU" sz="4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и т.д., использующие технические устройства.</a:t>
            </a:r>
            <a:endParaRPr b="0" lang="en-US" sz="4400" spc="-1" strike="noStrike">
              <a:solidFill>
                <a:srgbClr val="4e5b6f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                                                                            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0" name="Номер слайда 6"/>
          <p:cNvSpPr/>
          <p:nvPr/>
        </p:nvSpPr>
        <p:spPr>
          <a:xfrm>
            <a:off x="8358120" y="64008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79B7-0F0B-4A33-B257-35D7E14D0D35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C:\Program Files\Microsoft Office\MEDIA\CAGCAT10\j0240695.wmf"/>
          <p:cNvPicPr/>
          <p:nvPr/>
        </p:nvPicPr>
        <p:blipFill>
          <a:blip r:embed="rId2"/>
          <a:stretch/>
        </p:blipFill>
        <p:spPr>
          <a:xfrm>
            <a:off x="1571760" y="4857840"/>
            <a:ext cx="1825560" cy="1285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Program Files\Microsoft Office\MEDIA\CAGCAT10\j0212957.wmf"/>
          <p:cNvPicPr/>
          <p:nvPr/>
        </p:nvPicPr>
        <p:blipFill>
          <a:blip r:embed="rId3"/>
          <a:stretch/>
        </p:blipFill>
        <p:spPr>
          <a:xfrm>
            <a:off x="6858000" y="1500120"/>
            <a:ext cx="1830240" cy="114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C:\Program Files\Microsoft Office\MEDIA\CAGCAT10\j0293234.wmf"/>
          <p:cNvPicPr/>
          <p:nvPr/>
        </p:nvPicPr>
        <p:blipFill>
          <a:blip r:embed="rId4"/>
          <a:stretch/>
        </p:blipFill>
        <p:spPr>
          <a:xfrm>
            <a:off x="4572000" y="4786200"/>
            <a:ext cx="25002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93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00040" y="1285560"/>
            <a:ext cx="8229600" cy="5357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Тут для специалиста предметом труда является другой человек, а характерной чертой деятельности - необходимость воздействия на других людей. К такому типу профессий относя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, врач, журналист и продавец</a:t>
            </a:r>
            <a:r>
              <a:rPr b="1" lang="ru-RU" sz="32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6" name="Номер слайда 5"/>
          <p:cNvSpPr/>
          <p:nvPr/>
        </p:nvSpPr>
        <p:spPr>
          <a:xfrm>
            <a:off x="8534520" y="621504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DB34-CC7D-40D8-B11F-A41A7E64F008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C:\Program Files\Microsoft Office\MEDIA\CAGCAT10\j0240719.wmf"/>
          <p:cNvPicPr/>
          <p:nvPr/>
        </p:nvPicPr>
        <p:blipFill>
          <a:blip r:embed="rId2"/>
          <a:stretch/>
        </p:blipFill>
        <p:spPr>
          <a:xfrm>
            <a:off x="5357880" y="442908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C:\Program Files\Microsoft Office\MEDIA\CAGCAT10\j0301252.wmf"/>
          <p:cNvPicPr/>
          <p:nvPr/>
        </p:nvPicPr>
        <p:blipFill>
          <a:blip r:embed="rId3"/>
          <a:stretch/>
        </p:blipFill>
        <p:spPr>
          <a:xfrm>
            <a:off x="1357200" y="4929120"/>
            <a:ext cx="23576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2" descr=""/>
          <p:cNvPicPr/>
          <p:nvPr/>
        </p:nvPicPr>
        <p:blipFill>
          <a:blip r:embed="rId1"/>
          <a:stretch/>
        </p:blipFill>
        <p:spPr>
          <a:xfrm>
            <a:off x="237960" y="-158760"/>
            <a:ext cx="8759880" cy="1865160"/>
          </a:xfrm>
          <a:prstGeom prst="rect">
            <a:avLst/>
          </a:prstGeom>
          <a:ln w="0">
            <a:noFill/>
          </a:ln>
        </p:spPr>
      </p:pic>
      <p:grpSp>
        <p:nvGrpSpPr>
          <p:cNvPr id="430" name="Содержимое 1"/>
          <p:cNvGrpSpPr/>
          <p:nvPr/>
        </p:nvGrpSpPr>
        <p:grpSpPr>
          <a:xfrm>
            <a:off x="237960" y="1238400"/>
            <a:ext cx="8759880" cy="5338440"/>
            <a:chOff x="237960" y="1238400"/>
            <a:chExt cx="8759880" cy="5338440"/>
          </a:xfrm>
        </p:grpSpPr>
        <p:pic>
          <p:nvPicPr>
            <p:cNvPr id="431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237960" y="1238400"/>
              <a:ext cx="8759880" cy="53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00040" y="1500120"/>
              <a:ext cx="8229600" cy="48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e5b6f"/>
                  </a:solidFill>
                  <a:latin typeface="Franklin Gothic Book"/>
                </a:rPr>
                <a:t>   </a:t>
              </a:r>
              <a:r>
                <a:rPr b="1" lang="ru-RU" sz="32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Люди, выбравшие этот тип профессионально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2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деятельности, должны уметь оперировать абстрактными понятиями, иметь широкий кругозор. Это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ухгалтеры, учёные, операторы ЭВМ, люди, </a:t>
              </a:r>
              <a:r>
                <a:rPr b="1" lang="ru-RU" sz="32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работающие в лабора-ториях, научных центра</a:t>
              </a:r>
              <a:r>
                <a:rPr b="1" lang="ru-RU" sz="36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х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Номер слайда 4"/>
          <p:cNvSpPr/>
          <p:nvPr/>
        </p:nvSpPr>
        <p:spPr>
          <a:xfrm>
            <a:off x="8429760" y="6286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85EF-AEF6-4F5A-8944-04A02DD1B377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C:\Program Files\Microsoft Office\MEDIA\CAGCAT10\j0195384.wmf"/>
          <p:cNvPicPr/>
          <p:nvPr/>
        </p:nvPicPr>
        <p:blipFill>
          <a:blip r:embed="rId3"/>
          <a:stretch/>
        </p:blipFill>
        <p:spPr>
          <a:xfrm>
            <a:off x="6786720" y="1785960"/>
            <a:ext cx="15858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1517400"/>
          </a:xfrm>
          <a:prstGeom prst="rect">
            <a:avLst/>
          </a:prstGeom>
          <a:ln w="0">
            <a:noFill/>
          </a:ln>
        </p:spPr>
      </p:pic>
      <p:grpSp>
        <p:nvGrpSpPr>
          <p:cNvPr id="436" name="Содержимое 1"/>
          <p:cNvGrpSpPr/>
          <p:nvPr/>
        </p:nvGrpSpPr>
        <p:grpSpPr>
          <a:xfrm>
            <a:off x="281160" y="1322280"/>
            <a:ext cx="8588160" cy="4956120"/>
            <a:chOff x="281160" y="1322280"/>
            <a:chExt cx="8588160" cy="4956120"/>
          </a:xfrm>
        </p:grpSpPr>
        <p:pic>
          <p:nvPicPr>
            <p:cNvPr id="437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281160" y="1322280"/>
              <a:ext cx="858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457200" y="1500120"/>
              <a:ext cx="822960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e5b6f"/>
                  </a:solidFill>
                  <a:latin typeface="Franklin Gothic Book"/>
                </a:rPr>
                <a:t>   </a:t>
              </a:r>
              <a:r>
                <a:rPr b="1" lang="ru-RU" sz="40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Людей этого типы отличает наличие живого образного мышления, художественная фантазия, талант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54BB-B05D-4B01-96DA-EF7FF49C1605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C:\Program Files\Microsoft Office\MEDIA\CAGCAT10\j0292020.wmf"/>
          <p:cNvPicPr/>
          <p:nvPr/>
        </p:nvPicPr>
        <p:blipFill>
          <a:blip r:embed="rId3"/>
          <a:stretch/>
        </p:blipFill>
        <p:spPr>
          <a:xfrm>
            <a:off x="6143760" y="3500280"/>
            <a:ext cx="1868400" cy="2059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C:\Program Files\Microsoft Office\MEDIA\CAGCAT10\j0217698.wmf"/>
          <p:cNvPicPr/>
          <p:nvPr/>
        </p:nvPicPr>
        <p:blipFill>
          <a:blip r:embed="rId4"/>
          <a:stretch/>
        </p:blipFill>
        <p:spPr>
          <a:xfrm>
            <a:off x="2286000" y="4214880"/>
            <a:ext cx="21430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Содержимое 1"/>
          <p:cNvGrpSpPr/>
          <p:nvPr/>
        </p:nvGrpSpPr>
        <p:grpSpPr>
          <a:xfrm>
            <a:off x="195120" y="237960"/>
            <a:ext cx="8759880" cy="6126480"/>
            <a:chOff x="195120" y="237960"/>
            <a:chExt cx="8759880" cy="6126480"/>
          </a:xfrm>
        </p:grpSpPr>
        <p:pic>
          <p:nvPicPr>
            <p:cNvPr id="443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195120" y="237960"/>
              <a:ext cx="8759880" cy="612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7200" y="500040"/>
              <a:ext cx="8229600" cy="55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e5b6f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40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Необходимо взвесить и оценить свои способности, помнить, что с возрастом способности к обучению снижаются. Если автоматизм управления автомобилем у 10-летних вырабатывается за 4 часа, то у взрослых - за 50 часов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Номер слайда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3303-7577-4689-B52D-C8B7F59E2242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Содержимое 1"/>
          <p:cNvGrpSpPr/>
          <p:nvPr/>
        </p:nvGrpSpPr>
        <p:grpSpPr>
          <a:xfrm>
            <a:off x="255600" y="122400"/>
            <a:ext cx="8516880" cy="6430680"/>
            <a:chOff x="255600" y="122400"/>
            <a:chExt cx="8516880" cy="6430680"/>
          </a:xfrm>
        </p:grpSpPr>
        <p:pic>
          <p:nvPicPr>
            <p:cNvPr id="447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255600" y="122400"/>
              <a:ext cx="8516880" cy="64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395280" y="260280"/>
              <a:ext cx="822960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Но кроме способностей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еобходимо учитывать и свои интересы</a:t>
              </a:r>
              <a:r>
                <a:rPr b="1" lang="ru-RU" sz="24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. Идеальное совпадение способностей и интересов это и есть призвани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Сколько людей всю жизнь занимаются нелюбимым делом: кто-то ради денег, кто-то по привычке, кто-то просто потому, что когда-то не очень серьёзно отнёсся к собственному выбору. Сегодня попытаемся честно оценить свои способности, желания и возможности при выборе будущей профессии.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режде всего надо считаться с физическими способностями</a:t>
              </a:r>
              <a:r>
                <a:rPr b="1" lang="ru-RU" sz="24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. По данным социологов,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уквально единицы соотносят своё здоровье с выбором профессии</a:t>
              </a:r>
              <a:r>
                <a:rPr b="1" lang="ru-RU" sz="24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. Остальные просто не принимают его во внимание и делают первую ошиб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Номер слайда 2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6BE8-DBBF-4FC5-BE9A-089A2061B0A9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45:44Z</dcterms:created>
  <dc:creator>сарсен</dc:creator>
  <dc:description/>
  <dc:language>en-US</dc:language>
  <cp:lastModifiedBy>Windows User</cp:lastModifiedBy>
  <dcterms:modified xsi:type="dcterms:W3CDTF">2013-03-12T16:27:13Z</dcterms:modified>
  <cp:revision>43</cp:revision>
  <dc:subject/>
  <dc:title>КЛАССНЫЙ ЧАС НА ТЕМУ: </dc:title>
</cp:coreProperties>
</file>