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FB62-ABA2-41E3-8FB8-6843E1B7D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6DF0-5D60-4DF8-9112-7105546F9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437B-877A-48C9-9007-4F003C23A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70AC-6B8B-4A6F-91D6-9880E20FC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E554-BC79-4338-A43B-4AA4386CC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A4FA-522F-4694-9DDC-13B5EF62B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867E-E869-4891-A3A0-BD70BB049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8E82-0B2D-44B5-9FD7-3E6757A2A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168C-32B2-46F8-A699-8BF68E8A8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44C4-FA25-4E48-A253-E66C9F91B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5D1C-F24E-48DC-91AA-EF05966E8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FF60-A3CD-4F30-B98C-98CB5F6E5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6BCD22-36C0-4B94-AED0-4D0D5FD90B7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пелёва Татьяна Иванов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У СОШ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708280"/>
            <a:ext cx="6696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ЕТЕНТНОСТН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ИЕНТИРОВ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ПО АЛГЕБ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7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520"/>
            <a:ext cx="82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писок понятий, владеть которыми необходимо, изучив тему: «Линейное уравнение с двумя переменными и его граф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34936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700280"/>
            <a:ext cx="7704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ерное числовое равен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венство с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нные (зависимая, независима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перем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ое уравнение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е линейного уравнения с двумя перем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рям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ы точки плоск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ординатная плос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ямая ли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ней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я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ик линей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52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самостоятельный поиск информации, умение преобразовывать информацию, об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излагать и аргументировать свою точку зрения, умение выражать свои мыс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, поискового характ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-495360"/>
            <a:ext cx="8147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ить алгоритм решения урав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07-3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0,26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484280"/>
            <a:ext cx="806472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 3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нести из левой части уравнения в правую, а число 0,26 перенести из правой части уравнения в левую, с противоположными зн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й и левой частях уравнения привести подобные слагаемые, преобразовав уравнение к виду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рни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ые компетен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анализ, синтез, конкретизация, пошаговый и итоговый контроль, планирование своих действий в соответствии с поставленной задач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трудовые (установление логических цепочек, самоконтро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три ящика и десять карточек с алгебраическими выра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2613240" cy="185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72360" y="1773360"/>
            <a:ext cx="2612880" cy="185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0880000">
            <a:off x="920520" y="292248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+b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²+2ab+2bc+2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580000">
            <a:off x="4363560" y="2917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+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580000">
            <a:off x="7235640" y="292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²–2ab+b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43700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+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8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43700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508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734080"/>
            <a:ext cx="1008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860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437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5084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-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0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57340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-b-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386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a+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4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4836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+c+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е принцип соответствия между карточками и ящ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ите карточки по ящ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ся ли какой-то ящик пуст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ись ли карточки вне ящик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 (дедукция, анализ, умозаключение, умение соотносить, умение преобразовывать информацию, причинно- следственные связи, срав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трудовые (волевое усил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(умение выражать свои мысли, строить монологические высказыв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гляните, вот задача из старинного папируса Ахмеса (1700 г. до н.э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276640"/>
            <a:ext cx="15224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84520" cy="468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249228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человек имеют по 7 кошек, каждая кошка съедает по 7 мышей, каждая мышь съедает по 7 колосьев ячменя, а из каждого колоса вырастает 7 мер ячменя. Сколько мер ячменя сохранится благодаря этим кошка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177336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много вдумаетесь в содержание задачи, то обнаружите, что для её решения нужно вычислить произведение пяти одинаковых множителей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=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3330720"/>
            <a:ext cx="43214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выполнять задания творческого характера, уметь применять знания в изменённых услови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слушать и поним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владение вычислительными навыками, преобразование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-38880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ий словарик.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схему, которая покажет, как вы понимаете соотношение между основными элементами темы: «Одночлены (мономы)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565360"/>
            <a:ext cx="1728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3789360"/>
            <a:ext cx="1873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5157720"/>
            <a:ext cx="1297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5157720"/>
            <a:ext cx="1656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5157720"/>
            <a:ext cx="12967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3357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930920" y="4653000"/>
            <a:ext cx="7221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47973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4581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6370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член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²x²3bxy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3933720"/>
            <a:ext cx="208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член стандартного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373720"/>
            <a:ext cx="151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эффициен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1840" y="5362560"/>
            <a:ext cx="8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5229360"/>
            <a:ext cx="136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кв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³x³y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5300640"/>
            <a:ext cx="12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пень 3+3+3=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98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81360"/>
            <a:ext cx="3600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поиск информации, умение использовать математическую терминолог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твования (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ите иссле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ок бумаги разрывают пополам, одну из получившихся половинок снова делят пополам и т.д. Сколько понадобится таких делений, чтобы получить частицы, вес которых равен весу ат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для расчета: бумажный лист весит 1г, вес ато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4292640"/>
            <a:ext cx="669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уемые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(умение анализировать и оценивать свою деятельность, умение формулировать собственное мнение и позицию, развитие индивидуальных способн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познавательные (самооценка деятельности, самостоятельный поис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9:00:27Z</dcterms:created>
  <dc:creator>Аня</dc:creator>
  <dc:description/>
  <dc:language>en-US</dc:language>
  <cp:lastModifiedBy>KAMatveenko</cp:lastModifiedBy>
  <dcterms:modified xsi:type="dcterms:W3CDTF">2013-01-28T06:20:42Z</dcterms:modified>
  <cp:revision>4</cp:revision>
  <dc:subject/>
  <dc:title>Шепелёва Татьяна Ивановна МБУ СОШ 94</dc:title>
</cp:coreProperties>
</file>