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D23-1785-4AAB-A05E-F94FBC44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54456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157-55D2-4D8E-9DF2-D59C9210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620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5E7-2FFA-4D37-B618-8173EB60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520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520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ABC-2C27-464E-81EF-1AE15F36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14240" y="337680"/>
            <a:ext cx="829800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829800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14240" y="537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337680"/>
            <a:ext cx="829800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AD7-ECEA-4459-A456-D1861DE0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6620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4240" y="354456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6620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972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5200" y="33768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1424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972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5200" y="3544560"/>
            <a:ext cx="267156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829800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E53-08D4-45DF-AAE5-D98A4DE9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C2C-6D89-4EB9-BEEF-54595253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95F-4812-4FF5-B06F-1739DE15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537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34C-304A-4756-BD7F-F268C9C6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C84-D79A-43DE-8319-21E82B44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6200" y="354456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CB4-8DC3-4765-93F8-BB1319F8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6200" y="337680"/>
            <a:ext cx="404928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544560"/>
            <a:ext cx="8298000" cy="2928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2A4-E859-4262-B396-CEBC8E7C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90C2A-0075-4C5E-B57E-2230726181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840" y="0"/>
            <a:ext cx="9686880" cy="6480000"/>
          </a:xfrm>
          <a:custGeom>
            <a:avLst/>
            <a:gdLst/>
            <a:ahLst/>
            <a:rect l="l" t="t" r="r" b="b"/>
            <a:pathLst>
              <a:path w="26906" h="18001">
                <a:moveTo>
                  <a:pt x="26905" y="0"/>
                </a:moveTo>
                <a:cubicBezTo>
                  <a:pt x="2201" y="3638"/>
                  <a:pt x="0" y="18000"/>
                  <a:pt x="0" y="18000"/>
                </a:cubicBezTo>
              </a:path>
            </a:pathLst>
          </a:custGeom>
          <a:noFill/>
          <a:ln w="3600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823000"/>
            <a:ext cx="368280" cy="32868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7320" y="5076720"/>
            <a:ext cx="620640" cy="55404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280" y="4289400"/>
            <a:ext cx="698400" cy="62244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71720" y="3392640"/>
            <a:ext cx="892080" cy="79524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16280" y="2232000"/>
            <a:ext cx="1277640" cy="113976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27400" y="1084320"/>
            <a:ext cx="1535040" cy="136836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92840" y="131760"/>
            <a:ext cx="1831680" cy="163368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89640" y="0"/>
            <a:ext cx="2430720" cy="1349280"/>
          </a:xfrm>
          <a:custGeom>
            <a:avLst/>
            <a:gdLst/>
            <a:ahLst/>
            <a:rect l="l" t="t" r="r" b="b"/>
            <a:pathLst>
              <a:path w="6751" h="3747">
                <a:moveTo>
                  <a:pt x="4551" y="3557"/>
                </a:moveTo>
                <a:lnTo>
                  <a:pt x="3982" y="3698"/>
                </a:lnTo>
                <a:lnTo>
                  <a:pt x="3375" y="3746"/>
                </a:lnTo>
                <a:lnTo>
                  <a:pt x="2767" y="3698"/>
                </a:lnTo>
                <a:lnTo>
                  <a:pt x="2197" y="3557"/>
                </a:lnTo>
                <a:lnTo>
                  <a:pt x="1671" y="3335"/>
                </a:lnTo>
                <a:lnTo>
                  <a:pt x="1201" y="3038"/>
                </a:lnTo>
                <a:lnTo>
                  <a:pt x="793" y="2674"/>
                </a:lnTo>
                <a:lnTo>
                  <a:pt x="460" y="2255"/>
                </a:lnTo>
                <a:lnTo>
                  <a:pt x="210" y="1785"/>
                </a:lnTo>
                <a:lnTo>
                  <a:pt x="53" y="1277"/>
                </a:lnTo>
                <a:lnTo>
                  <a:pt x="0" y="736"/>
                </a:lnTo>
                <a:lnTo>
                  <a:pt x="53" y="194"/>
                </a:lnTo>
                <a:lnTo>
                  <a:pt x="113" y="0"/>
                </a:lnTo>
                <a:lnTo>
                  <a:pt x="6750" y="0"/>
                </a:lnTo>
                <a:lnTo>
                  <a:pt x="6750" y="201"/>
                </a:lnTo>
                <a:lnTo>
                  <a:pt x="6750" y="736"/>
                </a:lnTo>
                <a:lnTo>
                  <a:pt x="6695" y="1277"/>
                </a:lnTo>
                <a:lnTo>
                  <a:pt x="6539" y="1785"/>
                </a:lnTo>
                <a:lnTo>
                  <a:pt x="6289" y="2255"/>
                </a:lnTo>
                <a:lnTo>
                  <a:pt x="5956" y="2674"/>
                </a:lnTo>
                <a:lnTo>
                  <a:pt x="5548" y="3038"/>
                </a:lnTo>
                <a:lnTo>
                  <a:pt x="5078" y="3335"/>
                </a:lnTo>
                <a:lnTo>
                  <a:pt x="4551" y="3557"/>
                </a:lnTo>
              </a:path>
            </a:pathLst>
          </a:cu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232335"/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4240" y="337680"/>
            <a:ext cx="829800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994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The name of my tow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0000" y="1260360"/>
            <a:ext cx="665928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900000"/>
            <a:ext cx="39592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I would like to tell you about my native town. I was born in Lysva. It is a little town in the Ural region. It is very small in all-Russian's scales but it is very beautiful and n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19640" y="360360"/>
            <a:ext cx="485928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539640"/>
            <a:ext cx="414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Especially I like the name of my town. The meaning of the world "lys" in the ancient Komi-Permyak language is "conifer" and that of the world "va" is "water". These two words together mean "coniferous water" or "a river flowing through coniferous woods". And I suppose it is not by chance. Lysva is really rich in rivers and fores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00720" y="900000"/>
            <a:ext cx="504000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1079640"/>
            <a:ext cx="485928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he name of Lysva was also given to the river on which my town is situated. And it was given to the metallurgical works founded on its banks in 1785-17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37280" y="720720"/>
            <a:ext cx="43034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260360"/>
            <a:ext cx="4680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The date of the beginning of the works' construction, 19 August, 1785 is treated as the starting point of the history of the town of Lys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40360" y="720720"/>
            <a:ext cx="431964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1260360"/>
            <a:ext cx="45007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n 5 April, 1926 the works' settlement of Lysva was given the status of a town. It means that my town has got a long hi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0000" y="53964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260360"/>
            <a:ext cx="424656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In conclusion I would like to say that I love my town Lysva very much and I am proud of its people who are hospitable, generous, and help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0000" y="539640"/>
            <a:ext cx="468000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537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4240" y="1079280"/>
            <a:ext cx="829800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was created by Makarova Anna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: Mandriko O.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l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№2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s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8:52:57Z</dcterms:created>
  <dc:creator/>
  <dc:description/>
  <dc:language>en-US</dc:language>
  <cp:lastModifiedBy>Sana</cp:lastModifiedBy>
  <dcterms:modified xsi:type="dcterms:W3CDTF">2013-03-12T14:52:34Z</dcterms:modified>
  <cp:revision>3</cp:revision>
  <dc:subject/>
  <dc:title>The name of my town.</dc:title>
</cp:coreProperties>
</file>