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C69-818B-44A6-B9BB-AEF03F69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72E-0802-4F03-B697-16DA284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2CF-B2DB-475A-9367-382A1874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C74-7797-4AAE-9DCD-1F241251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5C5-73B9-4B2C-A8F0-96DCA3F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530-9F15-4A80-8A80-CDA76E1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B3B-FCA1-410D-B189-22991656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170-FCF6-43A4-B132-2B414FF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5FB-777D-45E1-98AD-B6D5CA64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25D-E82D-4991-95FD-EE38118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C65-3FCA-43F1-8DFE-24D6F91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D6A-C697-49D5-BDA7-A0202CD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BCE-6736-4E24-8DE2-9966B83FD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colnyshko.ru/big/b1c5e5599e8e42f7d64b25f80693169f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Box 3"/>
          <p:cNvSpPr/>
          <p:nvPr/>
        </p:nvSpPr>
        <p:spPr>
          <a:xfrm>
            <a:off x="5214960" y="4643280"/>
            <a:ext cx="371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«Масле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 4–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№ 411 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чеданцева Семё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 сковородку наливаю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 вчетверо сгиб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ейчас в который раз очень удивитесь. Ох уж этот удивительный и загадочный язык! Блин и мельница – родственники! Оба слова восходят к древнему млинъ, что означало «жернов», «нечто круглое». Таким образом, блин вовсе не был блином, а был млином. Это потом уже м перешло в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7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марта 2013 года в России - начало Масленицы (Масленичной недели). Масленица – один из самых радостных и светлых празд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начало"/>
          <p:cNvPicPr/>
          <p:nvPr/>
        </p:nvPicPr>
        <p:blipFill>
          <a:blip r:embed="rId1"/>
          <a:stretch/>
        </p:blipFill>
        <p:spPr>
          <a:xfrm>
            <a:off x="611280" y="1989000"/>
            <a:ext cx="7873920" cy="43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 старину, так и ныне, главное угощение на Масленице состоит в блинах. Всю неделю пекут из гречневой или пшеничной муки круглые, во весь объем  сково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233208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блины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43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Масленица для нас, как карнавал для итальянцев. Тем более что в переводе с итальянского «карнавал» означает «говядина, прощай!». А масленица издавна называлась «Мясопустом»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навал"/>
          <p:cNvPicPr/>
          <p:nvPr/>
        </p:nvPicPr>
        <p:blipFill>
          <a:blip r:embed="rId1"/>
          <a:stretch/>
        </p:blipFill>
        <p:spPr>
          <a:xfrm>
            <a:off x="571680" y="1996920"/>
            <a:ext cx="7961040" cy="452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ый день масленой недели существовали определенные обря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стре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ле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аигрыш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аком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в среду масленой недели, тёщи приглашали на блины зятьев с жёнами. Наверняка отсюда и пошло выражение «к тёще на бли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тверг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згу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сходили самые людные ка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ятницу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ёщины вечер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ятья звали тёщу на уго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бота отводилась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оловкиным посидел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кресенье вечером соверш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д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ен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 утра ребятишки собирали дрова для костра. Молодежь в санях с чучелом Масленицы ездила по деревне до темноты, балагуря и распевая песни. Поздно вечером выезжали в поле и здесь, на приготовленном заранее костре, чучело сжигали. Разыгрывали порой и целые представления - похороны Масленицы. С ней прощались и в шутку, и всерьё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3428640"/>
            <a:ext cx="8013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чучело"/>
          <p:cNvPicPr/>
          <p:nvPr/>
        </p:nvPicPr>
        <p:blipFill>
          <a:blip r:embed="rId1"/>
          <a:stretch/>
        </p:blipFill>
        <p:spPr>
          <a:xfrm>
            <a:off x="4929120" y="3292560"/>
            <a:ext cx="3857760" cy="30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5" descr="воскресение"/>
          <p:cNvPicPr/>
          <p:nvPr/>
        </p:nvPicPr>
        <p:blipFill>
          <a:blip r:embed="rId2"/>
          <a:stretch/>
        </p:blipFill>
        <p:spPr>
          <a:xfrm>
            <a:off x="285840" y="3218040"/>
            <a:ext cx="3857400" cy="313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день Масленицы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щёное воскресен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асивый, гуманный русский обычай когда в последний день Масленицы просят прощения друг у друга.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7640" y="2276640"/>
            <a:ext cx="525636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прощённое воскресенье"/>
          <p:cNvPicPr/>
          <p:nvPr/>
        </p:nvPicPr>
        <p:blipFill>
          <a:blip r:embed="rId1"/>
          <a:stretch/>
        </p:blipFill>
        <p:spPr>
          <a:xfrm>
            <a:off x="1547640" y="1582560"/>
            <a:ext cx="6204240" cy="501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9:36:53Z</dcterms:created>
  <dc:creator>*</dc:creator>
  <dc:description/>
  <dc:language>en-US</dc:language>
  <cp:lastModifiedBy>User</cp:lastModifiedBy>
  <dcterms:modified xsi:type="dcterms:W3CDTF">2013-03-12T08:02:00Z</dcterms:modified>
  <cp:revision>18</cp:revision>
  <dc:subject/>
  <dc:title>11 марта 2013 года в России - начало Масленицы (Масленичной недели). Масленица – один из самых радостных и светлых праздников </dc:title>
</cp:coreProperties>
</file>