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1A3-1B2D-491B-B816-AF70D03C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B9A-27E6-40A2-BD3B-BBD29155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5C5D-44B5-430C-8EF0-54AD0D56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DB4-53E9-4FA9-AE57-FB44CAA6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FB3E-45AF-447D-8C84-0EB99BB8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A92-BB26-4010-8CDE-849F0F11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574C-8073-4EAE-BDB1-1C135895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572-8AD2-437C-BE6D-18436BC9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572-3617-4030-B0A1-690D2340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515-D8F7-4AD1-BA57-44450349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364-B264-4174-B7E6-7894BF70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A75-4859-4468-BDC8-666F9BF6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900D-8F7C-495E-8051-1DEDED9FB8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tatic.colnyshko.ru/big/b1c5e5599e8e42f7d64b25f80693169f.jpg"/>
          <p:cNvPicPr/>
          <p:nvPr/>
        </p:nvPicPr>
        <p:blipFill>
          <a:blip r:embed="rId1"/>
          <a:stretch/>
        </p:blipFill>
        <p:spPr>
          <a:xfrm>
            <a:off x="500040" y="357120"/>
            <a:ext cx="5572080" cy="410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" name="TextBox 3"/>
          <p:cNvSpPr/>
          <p:nvPr/>
        </p:nvSpPr>
        <p:spPr>
          <a:xfrm>
            <a:off x="5214960" y="4643280"/>
            <a:ext cx="371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«Маслени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а 4–А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ы № 411 «Гармо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чеданцева Семё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на сковородку наливаю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 вчетверо сгибаю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сейчас в который раз очень удивитесь. Ох уж этот удивительный и загадочный язык! Блин и мельница – родственники! Оба слова восходят к древнему млинъ, что означало «жернов», «нечто круглое». Таким образом, блин вовсе не был блином, а был млином. Это потом уже м перешло в 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74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марта 2013 года в России - начало Масленицы (Масленичной недели). Масленица – один из самых радостных и светлых празд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начало"/>
          <p:cNvPicPr/>
          <p:nvPr/>
        </p:nvPicPr>
        <p:blipFill>
          <a:blip r:embed="rId1"/>
          <a:stretch/>
        </p:blipFill>
        <p:spPr>
          <a:xfrm>
            <a:off x="611280" y="1989000"/>
            <a:ext cx="7873920" cy="439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 старину, так и ныне, главное угощение на Масленице состоит в блинах. Всю неделю пекут из гречневой или пшеничной муки круглые, во весь объем  сково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6920" y="233208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блины"/>
          <p:cNvPicPr/>
          <p:nvPr/>
        </p:nvPicPr>
        <p:blipFill>
          <a:blip r:embed="rId1"/>
          <a:stretch/>
        </p:blipFill>
        <p:spPr>
          <a:xfrm>
            <a:off x="1042920" y="1989000"/>
            <a:ext cx="7201080" cy="439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здник Масленица для нас, как карнавал для итальянцев. Тем более что в переводе с итальянского «карнавал» означает «говядина, прощай!». А масленица издавна называлась «Мясопустом».</a:t>
            </a:r>
            <a:br>
              <a:rPr sz="2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карнавал"/>
          <p:cNvPicPr/>
          <p:nvPr/>
        </p:nvPicPr>
        <p:blipFill>
          <a:blip r:embed="rId1"/>
          <a:stretch/>
        </p:blipFill>
        <p:spPr>
          <a:xfrm>
            <a:off x="571680" y="1996920"/>
            <a:ext cx="7961040" cy="452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ждый день масленой недели существовали определенные обря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едельник -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стре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слениц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ник -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заигрыш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лаком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есть в среду масленой недели, тёщи приглашали на блины зятьев с жёнами. Наверняка отсюда и пошло выражение «к тёще на блин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тверг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азгу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исходили самые людные ка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ятницу –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ёщины вечер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ятья звали тёщу на уго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бота отводилась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золовкиным посиделк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7100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оскресенье вечером совершалис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оды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лени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 утра ребятишки собирали дрова для костра. Молодежь в санях с чучелом Масленицы ездила по деревне до темноты, балагуря и распевая песни. Поздно вечером выезжали в поле и здесь, на приготовленном заранее костре, чучело сжигали. Разыгрывали порой и целые представления - похороны Масленицы. С ней прощались и в шутку, и всерьёз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3428640"/>
            <a:ext cx="801360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чучело"/>
          <p:cNvPicPr/>
          <p:nvPr/>
        </p:nvPicPr>
        <p:blipFill>
          <a:blip r:embed="rId1"/>
          <a:stretch/>
        </p:blipFill>
        <p:spPr>
          <a:xfrm>
            <a:off x="4929120" y="3292560"/>
            <a:ext cx="3857760" cy="306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Picture 5" descr="воскресение"/>
          <p:cNvPicPr/>
          <p:nvPr/>
        </p:nvPicPr>
        <p:blipFill>
          <a:blip r:embed="rId2"/>
          <a:stretch/>
        </p:blipFill>
        <p:spPr>
          <a:xfrm>
            <a:off x="285840" y="3218040"/>
            <a:ext cx="3857400" cy="313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ий день Масленицы –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ощёное воскресень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расивый, гуманный русский обычай когда в последний день Масленицы просят прощения друг у друга.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7640" y="2276640"/>
            <a:ext cx="5256360" cy="38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прощённое воскресенье"/>
          <p:cNvPicPr/>
          <p:nvPr/>
        </p:nvPicPr>
        <p:blipFill>
          <a:blip r:embed="rId1"/>
          <a:stretch/>
        </p:blipFill>
        <p:spPr>
          <a:xfrm>
            <a:off x="1547640" y="1582560"/>
            <a:ext cx="6204240" cy="501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09:36:53Z</dcterms:created>
  <dc:creator>*</dc:creator>
  <dc:description/>
  <dc:language>en-US</dc:language>
  <cp:lastModifiedBy>User</cp:lastModifiedBy>
  <dcterms:modified xsi:type="dcterms:W3CDTF">2013-03-12T08:02:00Z</dcterms:modified>
  <cp:revision>18</cp:revision>
  <dc:subject/>
  <dc:title>11 марта 2013 года в России - начало Масленицы (Масленичной недели). Масленица – один из самых радостных и светлых праздников </dc:title>
</cp:coreProperties>
</file>