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D60-8335-41EC-A97C-2A46AE5A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995-C3A7-49D5-8FCE-669BCC16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847-3A76-4E2B-9F3C-394FA822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19D-BCF7-441A-A1B6-911D9ADC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670-55CB-46FA-8BB5-A9432385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522-571D-4625-873D-C4EC5FE7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891-0301-4085-8C38-F1F172C3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B9B-5C3A-4CB6-932A-10EAC158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EC5-15EF-4E38-B7FC-4C1D27FB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EDE-6CE9-4BB4-8CFB-C493176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7DD-B5FA-4F35-91E6-1B1763D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D7A-7C69-4A81-AE49-45DC65FC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B4A6-854F-4A90-A293-B785200CCE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-109440" y="549360"/>
            <a:ext cx="9362880" cy="6418080"/>
            <a:chOff x="-109440" y="549360"/>
            <a:chExt cx="9362880" cy="6418080"/>
          </a:xfrm>
        </p:grpSpPr>
        <p:pic>
          <p:nvPicPr>
            <p:cNvPr id="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109440" y="549360"/>
              <a:ext cx="9362880" cy="64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785880"/>
              <a:ext cx="9144000" cy="60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3000" indent="-11430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900" spc="-1" strike="noStrike">
                  <a:solidFill>
                    <a:srgbClr val="ff0000"/>
                  </a:solidFill>
                  <a:latin typeface="Calibri"/>
                </a:rPr>
                <a:t>Сергиево Посадские матрёшки </a:t>
              </a:r>
              <a:br>
                <a:rPr sz="5900"/>
              </a:br>
              <a:br>
                <a:rPr sz="5900"/>
              </a:br>
              <a:br>
                <a:rPr sz="5900"/>
              </a:br>
              <a:br>
                <a:rPr sz="5900"/>
              </a:br>
              <a:br>
                <a:rPr sz="5900"/>
              </a:b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                        Подготовили: ученики 8 «Б»класса </a:t>
              </a:r>
              <a:br>
                <a:rPr sz="1600"/>
              </a:b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                       Козельчук Кристина и Иванюшко Андрей.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44" name="Рисунок 2" descr="4217.jpg"/>
          <p:cNvPicPr/>
          <p:nvPr/>
        </p:nvPicPr>
        <p:blipFill>
          <a:blip r:embed="rId3"/>
          <a:stretch/>
        </p:blipFill>
        <p:spPr>
          <a:xfrm>
            <a:off x="1979640" y="2708280"/>
            <a:ext cx="46814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499680"/>
            <a:ext cx="8286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Матрешку сделать непросто. Сначала надо выточить из дерева заготовку, и чтобы ни сучка, ни трещинки не было. А начинает работу мастер с самой маленькой матрешечки, лишь потом их размер становится все больше и больше. Яркими, веселыми красками художник распишет матрешек, словно оденет их в нарядные одежды. И вот уже улыбается нам русская красавица. А что ей скучать? Она ведь не одна, а с целой дружной семейкой. Усадьба Абрамцево — рядом с Сергиевым Посадом, который издавна славился мастерами-игрушечниками. Вскоре и сергиевопосадские мастера тоже принялись за дело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тали делать матрешек и в других местах России. Матрешки из города Семенова обязательно держат в руках пышные букеты цветов, а из Полхов-Майдана. они особенно нарядные и более «стройные». Есть матрешки, которых не расписывают красками, а украшают выжженными узорами. А порою матрешку Матреной и не назовешь! Это былинные богатыри, веселые музыканты, важные бояре, а то и цари. Теперь деревянные куклы как две капли воды похожи на известных людей. Стали матрешку золотить, да и весь ее традиционный облик изменился. Бывают матрешки крохотные, не больше наперстка, а есть и настоящие великаны — в метр высотой. Внутри такой «матрешки» спрятан не один десяток ее сестричек. Или братишек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 так,что же такое Матрёшка?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157140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атрёшка-это русская игрушка в виде расписной куклы , внутри которой  находятся куклы меньшего разме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11" descr="5901.jpg"/>
          <p:cNvPicPr/>
          <p:nvPr/>
        </p:nvPicPr>
        <p:blipFill>
          <a:blip r:embed="rId2"/>
          <a:stretch/>
        </p:blipFill>
        <p:spPr>
          <a:xfrm>
            <a:off x="1835280" y="3284640"/>
            <a:ext cx="48258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8" descr="4.jpg"/>
          <p:cNvPicPr/>
          <p:nvPr/>
        </p:nvPicPr>
        <p:blipFill>
          <a:blip r:embed="rId2"/>
          <a:stretch/>
        </p:blipFill>
        <p:spPr>
          <a:xfrm>
            <a:off x="250920" y="189000"/>
            <a:ext cx="8572320" cy="63579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576.jpg"/>
          <p:cNvPicPr/>
          <p:nvPr/>
        </p:nvPicPr>
        <p:blipFill>
          <a:blip r:embed="rId3"/>
          <a:stretch/>
        </p:blipFill>
        <p:spPr>
          <a:xfrm>
            <a:off x="468360" y="189000"/>
            <a:ext cx="1825560" cy="1409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8073.jpg"/>
          <p:cNvPicPr/>
          <p:nvPr/>
        </p:nvPicPr>
        <p:blipFill>
          <a:blip r:embed="rId4"/>
          <a:stretch/>
        </p:blipFill>
        <p:spPr>
          <a:xfrm>
            <a:off x="357120" y="4643280"/>
            <a:ext cx="2139840" cy="17146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5" descr="5858.jpg"/>
          <p:cNvPicPr/>
          <p:nvPr/>
        </p:nvPicPr>
        <p:blipFill>
          <a:blip r:embed="rId5"/>
          <a:stretch/>
        </p:blipFill>
        <p:spPr>
          <a:xfrm>
            <a:off x="6732720" y="4581360"/>
            <a:ext cx="17319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опросы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закрепления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680" y="24285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Что вы узнали о матрёшках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Какой ряд отличительных черт имеет Сергиево Посадская матрёшка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Когда,где и кем была выточена первая деревянная куколка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Когда до нас дошли деревянные игрушки изображающие крестьянскую  девушку в кокошнике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История Сергиево Посадских матрёшек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Содержимое 3" descr="mt81.jpg"/>
          <p:cNvPicPr/>
          <p:nvPr/>
        </p:nvPicPr>
        <p:blipFill>
          <a:blip r:embed="rId2"/>
          <a:stretch/>
        </p:blipFill>
        <p:spPr>
          <a:xfrm>
            <a:off x="428760" y="3143160"/>
            <a:ext cx="3600360" cy="33084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mt80.jpg"/>
          <p:cNvPicPr/>
          <p:nvPr/>
        </p:nvPicPr>
        <p:blipFill>
          <a:blip r:embed="rId3"/>
          <a:stretch/>
        </p:blipFill>
        <p:spPr>
          <a:xfrm>
            <a:off x="4786200" y="3071880"/>
            <a:ext cx="3714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ород Сергиев посад, расположенный в 73 км от Москвы, обязан своим происхождением знаменитой Троице-Сергиевской лавре. В 1340 году монах Сергий Радонежский основал маленькую, затерянную в лесах обитель, которая с течением времени превратилась в крупнейший монастырь Российского государства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лободах и сёлах, окружавших лавру, процветало множество ремёсел. Особенно выделялось производство деревянной игрушки, получившей название «троицкой». По преданию, первую «троицкую» игрушку вырезал настоятель Троице-Сергиева монастыря Сергий Радонежский. Он лично одаривал игрушками детей. Богомольцы, стекавшиеся в лавру со всех концов России, покупали здесь игрушки для своих детей. Даже среди игрушек царских детей были деревянные троицкие («потешные возки» с конями, братинки, «красные» ложки). Их покупали в Сергиевом Посаде, когда на Богомолье в Троице-Сергиев монастырь приезжали русские цари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052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С конца XVIII и начала XIX века дошли до нас деревянные игрушки, изображающие крестьянскую девушку в кокошнике. Пляшущего мужика, нарядных барынь и гусар. Это были настоящие деревянные скульптуры, умело раскрашенные. Резные и раскрашенные барыни и гусары отличались индивидуальностью, жизненной правдивостью, большим мастерством исполнения. Резные и раскрашенные барыни и гусары отличались индивидуальностью, жизненной правдивостью, большим мастерством исполнен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13" descr="76643621_2225643_Sergiev_Posad2.JPG"/>
          <p:cNvPicPr/>
          <p:nvPr/>
        </p:nvPicPr>
        <p:blipFill>
          <a:blip r:embed="rId2"/>
          <a:stretch/>
        </p:blipFill>
        <p:spPr>
          <a:xfrm>
            <a:off x="5435640" y="3213000"/>
            <a:ext cx="308448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овая деревянная токарная игрушка-матрёшка, выполненная профессиональными художниками, получает второе рождение в недрах старинного игрушечного промысла, располагавшего многочисленными частными мастерскими, в которых работали искуснейшие потомственные мастера-игрушечники. Бурный расцвет искусства изготовления и росписи Сергиево-Посадской матрёшки в первые десятилетия XX века был настолько своеобразен, что определил стиль росписи матрёшки в России на многие годы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Рисунок 14" descr="38407334_mat5.jpg"/>
          <p:cNvPicPr/>
          <p:nvPr/>
        </p:nvPicPr>
        <p:blipFill>
          <a:blip r:embed="rId2"/>
          <a:stretch/>
        </p:blipFill>
        <p:spPr>
          <a:xfrm>
            <a:off x="5435640" y="1197000"/>
            <a:ext cx="302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это время были созданы основные типы росписи сергиево-посадской матрёшки, главной отличительной чертой которой является стремление отобразить в росписи современную жизнь. Сергиев Посад был колоритным исконно русским городком. Лавра придавала ему неповторимое своеобразие. Большая базарная площадь, расположенная напротив монастыря, почти всегда была заполнена пёстрой шумной толпой: купцами, монахами, богомольцами, ремесленниками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1910 году в Сергиевом Посаде была организована артель «Кустарь - художник» - куда вошли почти все местные мастера. В 1928 году она была преобразована в фабрику игрушек, существующую и по сей день. Матрёшка из Сергиева Посада имеет ряд отличительных черт: приземистую форму, верх, плавно переходящий в утолщающую нижнюю часть фигурки, роспись гуашью и лаковое покрытие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Немного о матрёшках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Рисунок 4" descr="557.jpg"/>
          <p:cNvPicPr/>
          <p:nvPr/>
        </p:nvPicPr>
        <p:blipFill>
          <a:blip r:embed="rId2"/>
          <a:stretch/>
        </p:blipFill>
        <p:spPr>
          <a:xfrm>
            <a:off x="1000080" y="285840"/>
            <a:ext cx="2087640" cy="244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risunok1.jpg"/>
          <p:cNvPicPr/>
          <p:nvPr/>
        </p:nvPicPr>
        <p:blipFill>
          <a:blip r:embed="rId3"/>
          <a:stretch/>
        </p:blipFill>
        <p:spPr>
          <a:xfrm>
            <a:off x="4929120" y="4214880"/>
            <a:ext cx="3341880" cy="2170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1277.jpg"/>
          <p:cNvPicPr/>
          <p:nvPr/>
        </p:nvPicPr>
        <p:blipFill>
          <a:blip r:embed="rId4"/>
          <a:stretch/>
        </p:blipFill>
        <p:spPr>
          <a:xfrm>
            <a:off x="285840" y="4143240"/>
            <a:ext cx="3276360" cy="2205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mt21.jpg"/>
          <p:cNvPicPr/>
          <p:nvPr/>
        </p:nvPicPr>
        <p:blipFill>
          <a:blip r:embed="rId5"/>
          <a:stretch/>
        </p:blipFill>
        <p:spPr>
          <a:xfrm>
            <a:off x="4500720" y="0"/>
            <a:ext cx="3348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99680" y="7142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атрёшка —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главное — эта куколка с секретом! Внутри неё прячутся весёлые сестрички, мал-мала меньше. Про матрёшку придумали потешку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Шли матрёшки по дорожке Было их немножечко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ве Матрёны, три Матрёшк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 ещё Матрёшечка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Рисунок 3" descr="mt21.jpg"/>
          <p:cNvPicPr/>
          <p:nvPr/>
        </p:nvPicPr>
        <p:blipFill>
          <a:blip r:embed="rId2"/>
          <a:stretch/>
        </p:blipFill>
        <p:spPr>
          <a:xfrm>
            <a:off x="2071800" y="4265640"/>
            <a:ext cx="3806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о сравнению с другими игрушками, деревянная расписная куколка молода, ей чуть более ста лет. Для народной игрушки это не возраст. Самым древним куклам, найденным археологами, более трех тысяч лет!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рообразом матрешки могли послужить «писанки» — деревянные, расписные пасхальные яйца, их уже много веков делают на Руси. Они бывают полыми внутри, и в большее вкладывается меньшее. Другим прообразом русской матрешки стала японская ритуальная кукла, внутри которой помещалось еще несколько фигурок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конце XIX века в Абрамцево по эскизу художника Сергея Малютина местный токарь Звездочкин выточил первую деревянную куколку. А когда Малютин расписал ее, получилась девочка в русском сарафане, в платочке, с петухом в руке. По преданию, кто-то, увидев куклу, смеясь воскликнул: «До чего похожа на нашу Матрену!» С тех пор и зовут эту игрушку матрешкой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0:45:08Z</dcterms:created>
  <dc:creator>андрей</dc:creator>
  <dc:description/>
  <dc:language>en-US</dc:language>
  <cp:lastModifiedBy>ЕЛЕНА</cp:lastModifiedBy>
  <dcterms:modified xsi:type="dcterms:W3CDTF">2013-03-12T12:40:36Z</dcterms:modified>
  <cp:revision>13</cp:revision>
  <dc:subject/>
  <dc:title>Сергиево Посадские матрёшки Подготовили: ученики 8 «Бэээ»класса  Козельчук Кристина и Иванюшко Андрей.</dc:title>
</cp:coreProperties>
</file>