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9.jpeg" ContentType="image/jpeg"/>
  <Override PartName="/ppt/media/image10.jpeg" ContentType="image/jpeg"/>
  <Override PartName="/ppt/media/image31.wmf" ContentType="image/x-wmf"/>
  <Override PartName="/ppt/media/image28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3.gif" ContentType="image/gif"/>
  <Override PartName="/ppt/media/image21.jpeg" ContentType="image/jpeg"/>
  <Override PartName="/ppt/media/image29.png" ContentType="image/png"/>
  <Override PartName="/ppt/media/image11.jpeg" ContentType="image/jpeg"/>
  <Override PartName="/ppt/media/image1.gif" ContentType="image/gif"/>
  <Override PartName="/ppt/media/image27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8043-0709-405A-946B-BF1CD85E2B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1E26-2A75-4FA5-8991-0C10EDC005AA}" type="slidenum"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7E9-00BC-4DCF-BC36-D135B77B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AD7-BD27-4B01-A8B4-81EC4384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9F4-27D6-45B1-B618-5DB8A784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34D-6E62-4A68-982A-B583E74A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F621-A05E-465F-9FA6-16789794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F759-3000-42A9-B18B-A2F8035C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C0C6-4542-49D0-B14A-5D8CDF06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1B99-7326-4F53-B432-B0CB7862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1DD8-352E-418B-B532-1A20437D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1541-B7DC-43C9-83D4-24BE99F7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7A2B-EC00-4716-A4ED-94E81ADB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FBF1-842F-4DCC-B732-14A33037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9660-C8B6-4A0A-B20B-177D9A96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EB1B-50CD-4407-9BFB-6A6126D5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4AFF-8FE5-49A9-AE81-01DFA7DB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73E3-BCB1-4A47-AA8C-5D31F783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B042-CB6E-417A-8227-BBCDD1EF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F6E2B-9C47-4D34-A63B-CAB47F68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9FA27-5287-4017-9510-E6B9AAD6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D6447-B7DC-4717-BBD2-6515323B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2B0FF-7FC4-43EF-A7F7-DC1475FB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2AA41-7431-457C-8AC8-E6CCD01B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F74B-35FB-4DA5-ADC3-C912A677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F93C5-9235-4F60-BB96-AB0A8375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4E0E2-BA64-4F64-8FF0-E67D1152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CC2A5-4785-4560-9A73-F7B66CA8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232E3-3B37-4191-A83F-69048C62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FC3D2-DBC0-4802-ACA5-9DDE24B1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73976-C3E9-48B6-B137-341ED5B7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A0EBB-D2E6-4046-9438-1BB462F9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E7422-8882-4437-BCA5-F3C3F1D6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95B92-B3C8-43EC-AF75-17F8FD61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A782B-8A33-482E-B107-0C7E034C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975-997A-4491-B8FA-4645FB67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E02B5-E070-494E-9306-0C58D34D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1B158-B202-4233-9679-E9234740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6804D-E7E0-490F-B5CB-CC3740DA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0D6C2-71EB-4D21-A3CF-C9F3F9E8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25741-78C5-4008-8934-02EE9D17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BED6E-8854-4011-82B4-0AABF008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12496-B094-48DB-8D1E-B2671DFF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02A98-C89A-4FF6-B223-0612474A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C6DAC-A0D6-4846-8B67-69F29215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A5A-2439-44D6-8789-9FCCF3FE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ADB-3883-4020-BC31-EB022D9C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CF86-F497-430C-A7C7-E3E00B79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7CFD-6EED-459B-8C42-3EF88DAD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B20-9955-4D5A-85DB-A81F7759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901800" y="3378240"/>
            <a:ext cx="5359320" cy="242568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297000" y="3022560"/>
            <a:ext cx="976320" cy="2828880"/>
            <a:chOff x="297000" y="3022560"/>
            <a:chExt cx="976320" cy="2828880"/>
          </a:xfrm>
        </p:grpSpPr>
        <p:grpSp>
          <p:nvGrpSpPr>
            <p:cNvPr id="2" name="Group 4"/>
            <p:cNvGrpSpPr/>
            <p:nvPr/>
          </p:nvGrpSpPr>
          <p:grpSpPr>
            <a:xfrm>
              <a:off x="297000" y="5091120"/>
              <a:ext cx="695160" cy="760320"/>
              <a:chOff x="297000" y="5091120"/>
              <a:chExt cx="695160" cy="76032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297000" y="5626080"/>
                <a:ext cx="690480" cy="225360"/>
              </a:xfrm>
              <a:prstGeom prst="ellips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298440" y="5610240"/>
                <a:ext cx="693720" cy="223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436680" y="5091120"/>
                <a:ext cx="423720" cy="13320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439560" y="5091120"/>
                <a:ext cx="414360" cy="11124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7" name="AutoShape 9"/>
              <p:cNvSpPr/>
              <p:nvPr/>
            </p:nvSpPr>
            <p:spPr>
              <a:xfrm flipV="1">
                <a:off x="297000" y="5163480"/>
                <a:ext cx="695160" cy="18396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97000" y="5370480"/>
                <a:ext cx="691920" cy="370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297000" y="5284800"/>
                <a:ext cx="69192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343080" y="5210280"/>
                <a:ext cx="179280" cy="62388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71600" y="5113440"/>
                <a:ext cx="352440" cy="7128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304920" y="5289480"/>
                <a:ext cx="663480" cy="136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68280" y="5211720"/>
                <a:ext cx="106560" cy="585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826920" y="5199120"/>
                <a:ext cx="157320" cy="576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700200" y="5103720"/>
                <a:ext cx="117360" cy="36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781200" y="5281560"/>
                <a:ext cx="117360" cy="36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3960" y="5159520"/>
                <a:ext cx="115920" cy="363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536400" y="5213520"/>
                <a:ext cx="128880" cy="187200"/>
              </a:xfrm>
              <a:prstGeom prst="pie">
                <a:avLst/>
              </a:prstGeom>
              <a:gradFill rotWithShape="0">
                <a:gsLst>
                  <a:gs pos="0">
                    <a:srgbClr val="b36666"/>
                  </a:gs>
                  <a:gs pos="100000">
                    <a:srgbClr val="ffff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47840" y="5183280"/>
                <a:ext cx="414000" cy="55440"/>
              </a:xfrm>
              <a:prstGeom prst="pie">
                <a:avLst/>
              </a:prstGeom>
              <a:solidFill>
                <a:srgbClr val="33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0" name="Freeform 22"/>
            <p:cNvSpPr/>
            <p:nvPr/>
          </p:nvSpPr>
          <p:spPr>
            <a:xfrm>
              <a:off x="601560" y="3022560"/>
              <a:ext cx="671760" cy="216864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d19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1" name="Freeform 23"/>
          <p:cNvSpPr/>
          <p:nvPr/>
        </p:nvSpPr>
        <p:spPr>
          <a:xfrm>
            <a:off x="600120" y="3164040"/>
            <a:ext cx="560520" cy="2022480"/>
          </a:xfrm>
          <a:prstGeom prst="pie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169920" y="6273720"/>
            <a:ext cx="2496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2817720" y="6286680"/>
            <a:ext cx="357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© Ishevskaya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6511680" y="6286680"/>
            <a:ext cx="2462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CD81-8E01-4265-837F-A1CA94904B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>
            <a:off x="1663560" y="3327480"/>
            <a:ext cx="7480440" cy="308772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123840" y="165240"/>
            <a:ext cx="2471760" cy="6400800"/>
            <a:chOff x="123840" y="165240"/>
            <a:chExt cx="2471760" cy="6400800"/>
          </a:xfrm>
        </p:grpSpPr>
        <p:grpSp>
          <p:nvGrpSpPr>
            <p:cNvPr id="65" name="Group 4"/>
            <p:cNvGrpSpPr/>
            <p:nvPr/>
          </p:nvGrpSpPr>
          <p:grpSpPr>
            <a:xfrm>
              <a:off x="123840" y="4903920"/>
              <a:ext cx="1741320" cy="1662120"/>
              <a:chOff x="123840" y="4903920"/>
              <a:chExt cx="1741320" cy="1662120"/>
            </a:xfrm>
          </p:grpSpPr>
          <p:sp>
            <p:nvSpPr>
              <p:cNvPr id="66" name="Rectangle 5"/>
              <p:cNvSpPr/>
              <p:nvPr/>
            </p:nvSpPr>
            <p:spPr>
              <a:xfrm>
                <a:off x="130320" y="5518080"/>
                <a:ext cx="1722240" cy="814320"/>
              </a:xfrm>
              <a:prstGeom prst="rect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7" name="Oval 6"/>
              <p:cNvSpPr/>
              <p:nvPr/>
            </p:nvSpPr>
            <p:spPr>
              <a:xfrm>
                <a:off x="138240" y="6073920"/>
                <a:ext cx="1720800" cy="49212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8" name="Oval 7"/>
              <p:cNvSpPr/>
              <p:nvPr/>
            </p:nvSpPr>
            <p:spPr>
              <a:xfrm>
                <a:off x="142920" y="5318280"/>
                <a:ext cx="1722240" cy="33156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9" name="AutoShape 8"/>
              <p:cNvSpPr/>
              <p:nvPr/>
            </p:nvSpPr>
            <p:spPr>
              <a:xfrm flipV="1">
                <a:off x="123840" y="5064840"/>
                <a:ext cx="1728720" cy="40500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266760" y="5113440"/>
                <a:ext cx="446040" cy="136980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71" name="Oval 10"/>
              <p:cNvSpPr/>
              <p:nvPr/>
            </p:nvSpPr>
            <p:spPr>
              <a:xfrm>
                <a:off x="168120" y="5318280"/>
                <a:ext cx="1648080" cy="29988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353880" y="5176800"/>
                <a:ext cx="209520" cy="12715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1450800" y="5141880"/>
                <a:ext cx="389160" cy="1265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74" name="Group 13"/>
              <p:cNvGrpSpPr/>
              <p:nvPr/>
            </p:nvGrpSpPr>
            <p:grpSpPr>
              <a:xfrm>
                <a:off x="466560" y="4903920"/>
                <a:ext cx="1055880" cy="293400"/>
                <a:chOff x="466560" y="4903920"/>
                <a:chExt cx="1055880" cy="293400"/>
              </a:xfrm>
            </p:grpSpPr>
            <p:sp>
              <p:nvSpPr>
                <p:cNvPr id="75" name="Oval 14"/>
                <p:cNvSpPr/>
                <p:nvPr/>
              </p:nvSpPr>
              <p:spPr>
                <a:xfrm>
                  <a:off x="466560" y="4903920"/>
                  <a:ext cx="1055880" cy="29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ffffcc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5"/>
                <p:cNvSpPr/>
                <p:nvPr/>
              </p:nvSpPr>
              <p:spPr>
                <a:xfrm>
                  <a:off x="474840" y="4903920"/>
                  <a:ext cx="103176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ffffcc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6"/>
                <p:cNvSpPr/>
                <p:nvPr/>
              </p:nvSpPr>
              <p:spPr>
                <a:xfrm>
                  <a:off x="563400" y="4938840"/>
                  <a:ext cx="879480" cy="15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ffffcc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Freeform 17"/>
              <p:cNvSpPr/>
              <p:nvPr/>
            </p:nvSpPr>
            <p:spPr>
              <a:xfrm>
                <a:off x="195120" y="5499000"/>
                <a:ext cx="511200" cy="12060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>
                <a:off x="1135080" y="4906800"/>
                <a:ext cx="287280" cy="781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>
                <a:off x="1336680" y="5305320"/>
                <a:ext cx="287280" cy="777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81" name="Freeform 20"/>
              <p:cNvSpPr/>
              <p:nvPr/>
            </p:nvSpPr>
            <p:spPr>
              <a:xfrm>
                <a:off x="511200" y="5040360"/>
                <a:ext cx="287280" cy="777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82" name="Freeform 21"/>
              <p:cNvSpPr/>
              <p:nvPr/>
            </p:nvSpPr>
            <p:spPr>
              <a:xfrm>
                <a:off x="819000" y="5197320"/>
                <a:ext cx="317520" cy="365400"/>
              </a:xfrm>
              <a:prstGeom prst="pie">
                <a:avLst/>
              </a:prstGeom>
              <a:gradFill rotWithShape="0">
                <a:gsLst>
                  <a:gs pos="0">
                    <a:srgbClr val="b36666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22"/>
            <p:cNvGrpSpPr/>
            <p:nvPr/>
          </p:nvGrpSpPr>
          <p:grpSpPr>
            <a:xfrm>
              <a:off x="1000080" y="165240"/>
              <a:ext cx="1595520" cy="4890960"/>
              <a:chOff x="1000080" y="165240"/>
              <a:chExt cx="1595520" cy="4890960"/>
            </a:xfrm>
          </p:grpSpPr>
          <p:sp>
            <p:nvSpPr>
              <p:cNvPr id="84" name="Freeform 23"/>
              <p:cNvSpPr/>
              <p:nvPr/>
            </p:nvSpPr>
            <p:spPr>
              <a:xfrm>
                <a:off x="1386000" y="165240"/>
                <a:ext cx="1209600" cy="3676680"/>
              </a:xfrm>
              <a:prstGeom prst="pie">
                <a:avLst/>
              </a:prstGeom>
              <a:gradFill rotWithShape="0">
                <a:gsLst>
                  <a:gs pos="0">
                    <a:srgbClr val="a64c4c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85" name="Freeform 24"/>
              <p:cNvSpPr/>
              <p:nvPr/>
            </p:nvSpPr>
            <p:spPr>
              <a:xfrm>
                <a:off x="1000080" y="181080"/>
                <a:ext cx="1452600" cy="487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228600" y="6261120"/>
            <a:ext cx="252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© Ishevskaya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44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EECC-6CAD-450D-B1FB-EC07537A5D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2"/>
          <p:cNvSpPr/>
          <p:nvPr/>
        </p:nvSpPr>
        <p:spPr>
          <a:xfrm>
            <a:off x="901800" y="3378240"/>
            <a:ext cx="5359320" cy="242568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297000" y="3022560"/>
            <a:ext cx="976320" cy="2828880"/>
            <a:chOff x="297000" y="3022560"/>
            <a:chExt cx="976320" cy="2828880"/>
          </a:xfrm>
        </p:grpSpPr>
        <p:grpSp>
          <p:nvGrpSpPr>
            <p:cNvPr id="129" name="Group 4"/>
            <p:cNvGrpSpPr/>
            <p:nvPr/>
          </p:nvGrpSpPr>
          <p:grpSpPr>
            <a:xfrm>
              <a:off x="297000" y="5091120"/>
              <a:ext cx="695160" cy="760320"/>
              <a:chOff x="297000" y="5091120"/>
              <a:chExt cx="695160" cy="760320"/>
            </a:xfrm>
          </p:grpSpPr>
          <p:sp>
            <p:nvSpPr>
              <p:cNvPr id="130" name="Oval 5"/>
              <p:cNvSpPr/>
              <p:nvPr/>
            </p:nvSpPr>
            <p:spPr>
              <a:xfrm>
                <a:off x="297000" y="5626080"/>
                <a:ext cx="690480" cy="225360"/>
              </a:xfrm>
              <a:prstGeom prst="ellips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1" name="Oval 6"/>
              <p:cNvSpPr/>
              <p:nvPr/>
            </p:nvSpPr>
            <p:spPr>
              <a:xfrm>
                <a:off x="298440" y="5610240"/>
                <a:ext cx="693720" cy="223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2" name="Oval 7"/>
              <p:cNvSpPr/>
              <p:nvPr/>
            </p:nvSpPr>
            <p:spPr>
              <a:xfrm>
                <a:off x="436680" y="5091120"/>
                <a:ext cx="423720" cy="13320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3" name="Oval 8"/>
              <p:cNvSpPr/>
              <p:nvPr/>
            </p:nvSpPr>
            <p:spPr>
              <a:xfrm>
                <a:off x="439560" y="5091120"/>
                <a:ext cx="414360" cy="11124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4" name="AutoShape 9"/>
              <p:cNvSpPr/>
              <p:nvPr/>
            </p:nvSpPr>
            <p:spPr>
              <a:xfrm flipV="1">
                <a:off x="297000" y="5163480"/>
                <a:ext cx="695160" cy="18396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5" name="Rectangle 10"/>
              <p:cNvSpPr/>
              <p:nvPr/>
            </p:nvSpPr>
            <p:spPr>
              <a:xfrm>
                <a:off x="297000" y="5370480"/>
                <a:ext cx="691920" cy="370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6" name="Oval 11"/>
              <p:cNvSpPr/>
              <p:nvPr/>
            </p:nvSpPr>
            <p:spPr>
              <a:xfrm>
                <a:off x="297000" y="5284800"/>
                <a:ext cx="69192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7" name="Freeform 12"/>
              <p:cNvSpPr/>
              <p:nvPr/>
            </p:nvSpPr>
            <p:spPr>
              <a:xfrm>
                <a:off x="343080" y="5210280"/>
                <a:ext cx="179280" cy="62388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8" name="Oval 13"/>
              <p:cNvSpPr/>
              <p:nvPr/>
            </p:nvSpPr>
            <p:spPr>
              <a:xfrm>
                <a:off x="471600" y="5113440"/>
                <a:ext cx="352440" cy="7128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9" name="Oval 14"/>
              <p:cNvSpPr/>
              <p:nvPr/>
            </p:nvSpPr>
            <p:spPr>
              <a:xfrm>
                <a:off x="304920" y="5289480"/>
                <a:ext cx="663480" cy="136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40" name="Freeform 15"/>
              <p:cNvSpPr/>
              <p:nvPr/>
            </p:nvSpPr>
            <p:spPr>
              <a:xfrm>
                <a:off x="368280" y="5211720"/>
                <a:ext cx="106560" cy="585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41" name="Freeform 16"/>
              <p:cNvSpPr/>
              <p:nvPr/>
            </p:nvSpPr>
            <p:spPr>
              <a:xfrm>
                <a:off x="826920" y="5199120"/>
                <a:ext cx="157320" cy="576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42" name="Freeform 17"/>
              <p:cNvSpPr/>
              <p:nvPr/>
            </p:nvSpPr>
            <p:spPr>
              <a:xfrm>
                <a:off x="700200" y="5103720"/>
                <a:ext cx="117360" cy="36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43" name="Freeform 18"/>
              <p:cNvSpPr/>
              <p:nvPr/>
            </p:nvSpPr>
            <p:spPr>
              <a:xfrm>
                <a:off x="781200" y="5281560"/>
                <a:ext cx="117360" cy="36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>
                <a:off x="453960" y="5159520"/>
                <a:ext cx="115920" cy="363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>
                <a:off x="536400" y="5213520"/>
                <a:ext cx="128880" cy="187200"/>
              </a:xfrm>
              <a:prstGeom prst="pie">
                <a:avLst/>
              </a:prstGeom>
              <a:gradFill rotWithShape="0">
                <a:gsLst>
                  <a:gs pos="0">
                    <a:srgbClr val="b36666"/>
                  </a:gs>
                  <a:gs pos="100000">
                    <a:srgbClr val="ffff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46" name="Freeform 21"/>
              <p:cNvSpPr/>
              <p:nvPr/>
            </p:nvSpPr>
            <p:spPr>
              <a:xfrm>
                <a:off x="447840" y="5183280"/>
                <a:ext cx="414000" cy="55440"/>
              </a:xfrm>
              <a:prstGeom prst="pie">
                <a:avLst/>
              </a:prstGeom>
              <a:solidFill>
                <a:srgbClr val="33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147" name="Freeform 22"/>
            <p:cNvSpPr/>
            <p:nvPr/>
          </p:nvSpPr>
          <p:spPr>
            <a:xfrm>
              <a:off x="601560" y="3022560"/>
              <a:ext cx="671760" cy="216864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d19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48" name="Freeform 23"/>
          <p:cNvSpPr/>
          <p:nvPr/>
        </p:nvSpPr>
        <p:spPr>
          <a:xfrm>
            <a:off x="600120" y="3164040"/>
            <a:ext cx="560520" cy="2022480"/>
          </a:xfrm>
          <a:prstGeom prst="pie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2600-A9BB-4F73-AC08-813EA5BB48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reeform 2"/>
          <p:cNvSpPr/>
          <p:nvPr/>
        </p:nvSpPr>
        <p:spPr>
          <a:xfrm>
            <a:off x="901800" y="3378240"/>
            <a:ext cx="5359320" cy="242568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297000" y="3022560"/>
            <a:ext cx="976320" cy="2828880"/>
            <a:chOff x="297000" y="3022560"/>
            <a:chExt cx="976320" cy="2828880"/>
          </a:xfrm>
        </p:grpSpPr>
        <p:grpSp>
          <p:nvGrpSpPr>
            <p:cNvPr id="192" name="Group 4"/>
            <p:cNvGrpSpPr/>
            <p:nvPr/>
          </p:nvGrpSpPr>
          <p:grpSpPr>
            <a:xfrm>
              <a:off x="297000" y="5091120"/>
              <a:ext cx="695160" cy="760320"/>
              <a:chOff x="297000" y="5091120"/>
              <a:chExt cx="695160" cy="760320"/>
            </a:xfrm>
          </p:grpSpPr>
          <p:sp>
            <p:nvSpPr>
              <p:cNvPr id="193" name="Oval 5"/>
              <p:cNvSpPr/>
              <p:nvPr/>
            </p:nvSpPr>
            <p:spPr>
              <a:xfrm>
                <a:off x="297000" y="5626080"/>
                <a:ext cx="690480" cy="225360"/>
              </a:xfrm>
              <a:prstGeom prst="ellips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94" name="Oval 6"/>
              <p:cNvSpPr/>
              <p:nvPr/>
            </p:nvSpPr>
            <p:spPr>
              <a:xfrm>
                <a:off x="298440" y="5610240"/>
                <a:ext cx="693720" cy="223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95" name="Oval 7"/>
              <p:cNvSpPr/>
              <p:nvPr/>
            </p:nvSpPr>
            <p:spPr>
              <a:xfrm>
                <a:off x="436680" y="5091120"/>
                <a:ext cx="423720" cy="13320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96" name="Oval 8"/>
              <p:cNvSpPr/>
              <p:nvPr/>
            </p:nvSpPr>
            <p:spPr>
              <a:xfrm>
                <a:off x="439560" y="5091120"/>
                <a:ext cx="414360" cy="11124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97" name="AutoShape 9"/>
              <p:cNvSpPr/>
              <p:nvPr/>
            </p:nvSpPr>
            <p:spPr>
              <a:xfrm flipV="1">
                <a:off x="297000" y="5163480"/>
                <a:ext cx="695160" cy="18396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98" name="Rectangle 10"/>
              <p:cNvSpPr/>
              <p:nvPr/>
            </p:nvSpPr>
            <p:spPr>
              <a:xfrm>
                <a:off x="297000" y="5370480"/>
                <a:ext cx="691920" cy="370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99" name="Oval 11"/>
              <p:cNvSpPr/>
              <p:nvPr/>
            </p:nvSpPr>
            <p:spPr>
              <a:xfrm>
                <a:off x="297000" y="5284800"/>
                <a:ext cx="69192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0" name="Freeform 12"/>
              <p:cNvSpPr/>
              <p:nvPr/>
            </p:nvSpPr>
            <p:spPr>
              <a:xfrm>
                <a:off x="343080" y="5210280"/>
                <a:ext cx="179280" cy="62388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1" name="Oval 13"/>
              <p:cNvSpPr/>
              <p:nvPr/>
            </p:nvSpPr>
            <p:spPr>
              <a:xfrm>
                <a:off x="471600" y="5113440"/>
                <a:ext cx="352440" cy="7128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2" name="Oval 14"/>
              <p:cNvSpPr/>
              <p:nvPr/>
            </p:nvSpPr>
            <p:spPr>
              <a:xfrm>
                <a:off x="304920" y="5289480"/>
                <a:ext cx="663480" cy="136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3" name="Freeform 15"/>
              <p:cNvSpPr/>
              <p:nvPr/>
            </p:nvSpPr>
            <p:spPr>
              <a:xfrm>
                <a:off x="368280" y="5211720"/>
                <a:ext cx="106560" cy="585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4" name="Freeform 16"/>
              <p:cNvSpPr/>
              <p:nvPr/>
            </p:nvSpPr>
            <p:spPr>
              <a:xfrm>
                <a:off x="826920" y="5199120"/>
                <a:ext cx="157320" cy="576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5" name="Freeform 17"/>
              <p:cNvSpPr/>
              <p:nvPr/>
            </p:nvSpPr>
            <p:spPr>
              <a:xfrm>
                <a:off x="700200" y="5103720"/>
                <a:ext cx="117360" cy="36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6" name="Freeform 18"/>
              <p:cNvSpPr/>
              <p:nvPr/>
            </p:nvSpPr>
            <p:spPr>
              <a:xfrm>
                <a:off x="781200" y="5281560"/>
                <a:ext cx="117360" cy="36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7" name="Freeform 19"/>
              <p:cNvSpPr/>
              <p:nvPr/>
            </p:nvSpPr>
            <p:spPr>
              <a:xfrm>
                <a:off x="453960" y="5159520"/>
                <a:ext cx="115920" cy="363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8" name="Freeform 20"/>
              <p:cNvSpPr/>
              <p:nvPr/>
            </p:nvSpPr>
            <p:spPr>
              <a:xfrm>
                <a:off x="536400" y="5213520"/>
                <a:ext cx="128880" cy="187200"/>
              </a:xfrm>
              <a:prstGeom prst="pie">
                <a:avLst/>
              </a:prstGeom>
              <a:gradFill rotWithShape="0">
                <a:gsLst>
                  <a:gs pos="0">
                    <a:srgbClr val="b36666"/>
                  </a:gs>
                  <a:gs pos="100000">
                    <a:srgbClr val="ffff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9" name="Freeform 21"/>
              <p:cNvSpPr/>
              <p:nvPr/>
            </p:nvSpPr>
            <p:spPr>
              <a:xfrm>
                <a:off x="447840" y="5183280"/>
                <a:ext cx="414000" cy="55440"/>
              </a:xfrm>
              <a:prstGeom prst="pie">
                <a:avLst/>
              </a:prstGeom>
              <a:solidFill>
                <a:srgbClr val="33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10" name="Freeform 22"/>
            <p:cNvSpPr/>
            <p:nvPr/>
          </p:nvSpPr>
          <p:spPr>
            <a:xfrm>
              <a:off x="601560" y="3022560"/>
              <a:ext cx="671760" cy="216864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d19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11" name="Freeform 23"/>
          <p:cNvSpPr/>
          <p:nvPr/>
        </p:nvSpPr>
        <p:spPr>
          <a:xfrm>
            <a:off x="600120" y="3164040"/>
            <a:ext cx="560520" cy="2022480"/>
          </a:xfrm>
          <a:prstGeom prst="pie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5402-7590-4DCA-84BF-801F36874DC4}" type="slidenum">
              <a:rPr b="0" lang="ru-RU" sz="14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pekulant.ru/files/images/2004/12/15-1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iki.iteach.ru/images/d/d6/00_clip_image0581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iteach.ru/images/d/d6/00_clip_image0581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61" name="WordArt 7" descr=""/>
          <p:cNvPicPr/>
          <p:nvPr/>
        </p:nvPicPr>
        <p:blipFill>
          <a:blip r:embed="rId2"/>
          <a:stretch/>
        </p:blipFill>
        <p:spPr>
          <a:xfrm>
            <a:off x="-6480" y="1279440"/>
            <a:ext cx="9156960" cy="2683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FEYR8"/>
          <p:cNvPicPr/>
          <p:nvPr/>
        </p:nvPicPr>
        <p:blipFill>
          <a:blip r:embed="rId3"/>
          <a:stretch/>
        </p:blipFill>
        <p:spPr>
          <a:xfrm>
            <a:off x="7451640" y="4581360"/>
            <a:ext cx="1692360" cy="22766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9"/>
          <p:cNvSpPr/>
          <p:nvPr/>
        </p:nvSpPr>
        <p:spPr>
          <a:xfrm>
            <a:off x="1785960" y="4179960"/>
            <a:ext cx="5072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БОТУ ВЫПОЛНИЛА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ица  6«Г» класса</a:t>
            </a:r>
            <a:br>
              <a:rPr sz="24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опова Алина.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УКОВОДИТЕЛ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люнцева О.М.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0" y="214200"/>
            <a:ext cx="94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19"/>
                </a:solidFill>
                <a:latin typeface="Times New Roman"/>
              </a:rPr>
              <a:t>Филиал МБОУ лицей с. Долгоруково в д. Екатериновка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65" name="Picture 1" descr="C:\Documents and Settings\Администратор\Рабочий стол\форум 2013\меры роста\5.jpeg"/>
          <p:cNvPicPr/>
          <p:nvPr/>
        </p:nvPicPr>
        <p:blipFill>
          <a:blip r:embed="rId4"/>
          <a:stretch/>
        </p:blipFill>
        <p:spPr>
          <a:xfrm>
            <a:off x="5307120" y="4143240"/>
            <a:ext cx="3836880" cy="2714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C:\Documents and Settings\Администратор\Рабочий стол\форум 2013\меры роста\0011-006-Kosaja-sazhen.jpg"/>
          <p:cNvPicPr/>
          <p:nvPr/>
        </p:nvPicPr>
        <p:blipFill>
          <a:blip r:embed="rId1"/>
          <a:stretch/>
        </p:blipFill>
        <p:spPr>
          <a:xfrm>
            <a:off x="2500200" y="270000"/>
            <a:ext cx="4023000" cy="658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Старинные русские меры длины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168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1680" y="396360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89" name="Picture 10" descr="3"/>
          <p:cNvPicPr/>
          <p:nvPr/>
        </p:nvPicPr>
        <p:blipFill>
          <a:blip r:embed="rId1"/>
          <a:stretch/>
        </p:blipFill>
        <p:spPr>
          <a:xfrm>
            <a:off x="250920" y="1700280"/>
            <a:ext cx="4303440" cy="4392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4" descr="dlina2"/>
          <p:cNvPicPr/>
          <p:nvPr/>
        </p:nvPicPr>
        <p:blipFill>
          <a:blip r:embed="rId2"/>
          <a:stretch/>
        </p:blipFill>
        <p:spPr>
          <a:xfrm>
            <a:off x="5148360" y="5084640"/>
            <a:ext cx="2995560" cy="1623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C:\Documents and Settings\Администратор\Рабочий стол\форум 2013\меры роста\0006-002-Djujm-mera-dliny-ravnaja-dline-3-sukhikh-zjoren-jachmenja-vytjanutykh-iz.jpg"/>
          <p:cNvPicPr/>
          <p:nvPr/>
        </p:nvPicPr>
        <p:blipFill>
          <a:blip r:embed="rId1"/>
          <a:stretch/>
        </p:blipFill>
        <p:spPr>
          <a:xfrm>
            <a:off x="4643280" y="3745080"/>
            <a:ext cx="4096080" cy="3112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C:\Documents and Settings\Администратор\Рабочий стол\форум 2013\меры роста\3.jpeg"/>
          <p:cNvPicPr/>
          <p:nvPr/>
        </p:nvPicPr>
        <p:blipFill>
          <a:blip r:embed="rId2"/>
          <a:stretch/>
        </p:blipFill>
        <p:spPr>
          <a:xfrm>
            <a:off x="285840" y="425520"/>
            <a:ext cx="4938480" cy="3460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" descr="C:\Documents and Settings\Администратор\Рабочий стол\форум 2013\меры роста\кп.jpeg"/>
          <p:cNvPicPr/>
          <p:nvPr/>
        </p:nvPicPr>
        <p:blipFill>
          <a:blip r:embed="rId1"/>
          <a:stretch/>
        </p:blipFill>
        <p:spPr>
          <a:xfrm>
            <a:off x="4929120" y="571680"/>
            <a:ext cx="375120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0" descr="13-01"/>
          <p:cNvPicPr/>
          <p:nvPr/>
        </p:nvPicPr>
        <p:blipFill>
          <a:blip r:embed="rId1"/>
          <a:stretch/>
        </p:blipFill>
        <p:spPr>
          <a:xfrm>
            <a:off x="0" y="0"/>
            <a:ext cx="6215040" cy="6708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499920" y="1676160"/>
            <a:ext cx="5643720" cy="546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Локоть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расстояние от конца вытянутого среднего пальца руки до локтевого сгиба (размер локтя колебался в пределах от 38 см до 46 см и соответствовал двум пядям). Сохранилась поговорка: «Сам с ноготок, а борода с локоток».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6" name="Picture 8" descr="2"/>
          <p:cNvPicPr/>
          <p:nvPr/>
        </p:nvPicPr>
        <p:blipFill>
          <a:blip r:embed="rId1"/>
          <a:stretch/>
        </p:blipFill>
        <p:spPr>
          <a:xfrm>
            <a:off x="428760" y="571680"/>
            <a:ext cx="3071520" cy="5294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1" descr="C:\Documents and Settings\Администратор\Рабочий стол\форум 2013\меры роста\8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0" y="3600"/>
            <a:ext cx="857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19"/>
                </a:solidFill>
                <a:latin typeface="Times New Roman"/>
                <a:ea typeface="Times New Roman"/>
              </a:rPr>
              <a:t>Старые русские меры</a:t>
            </a:r>
            <a:endParaRPr b="0" lang="en-US" sz="6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9" name="Прямоугольник 2"/>
          <p:cNvSpPr/>
          <p:nvPr/>
        </p:nvSpPr>
        <p:spPr>
          <a:xfrm>
            <a:off x="0" y="4857840"/>
            <a:ext cx="871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Наиболее распространенными старинными мерами длины являются </a:t>
            </a:r>
            <a:r>
              <a:rPr b="1" lang="ru-RU" sz="3200" spc="-1" strike="noStrike">
                <a:solidFill>
                  <a:srgbClr val="800080"/>
                </a:solidFill>
                <a:latin typeface="Times New Roman"/>
                <a:ea typeface="Arial"/>
              </a:rPr>
              <a:t>перст, вершок, пядь, сажень, локоть, аршин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00" name="Picture 8" descr="Картинка 13 из 548"/>
          <p:cNvPicPr/>
          <p:nvPr/>
        </p:nvPicPr>
        <p:blipFill>
          <a:blip r:embed="rId1"/>
          <a:stretch/>
        </p:blipFill>
        <p:spPr>
          <a:xfrm>
            <a:off x="642960" y="928800"/>
            <a:ext cx="7000920" cy="3859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2"/>
          <p:cNvSpPr/>
          <p:nvPr/>
        </p:nvSpPr>
        <p:spPr>
          <a:xfrm>
            <a:off x="503280" y="549360"/>
            <a:ext cx="8640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19"/>
                </a:solidFill>
                <a:latin typeface="Times New Roman"/>
              </a:rPr>
              <a:t>Русские меры длины были уточнены в  </a:t>
            </a:r>
            <a:r>
              <a:rPr b="1" lang="en-US" sz="3600" spc="-1" strike="noStrike">
                <a:solidFill>
                  <a:srgbClr val="ffff19"/>
                </a:solidFill>
                <a:latin typeface="Times New Roman"/>
              </a:rPr>
              <a:t>XVIII</a:t>
            </a:r>
            <a:r>
              <a:rPr b="1" lang="ru-RU" sz="3600" spc="-1" strike="noStrike">
                <a:solidFill>
                  <a:srgbClr val="ffff19"/>
                </a:solidFill>
                <a:latin typeface="Times New Roman"/>
              </a:rPr>
              <a:t> в. указом Петра I: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02" name="Рисунок 3" descr="mhtml:file://F:\перв%20шаги\Меры%20длины%20наших%20предков.mht!http://rus-ved-rus.narod.ru/82.jpg"/>
          <p:cNvPicPr/>
          <p:nvPr/>
        </p:nvPicPr>
        <p:blipFill>
          <a:blip r:embed="rId1"/>
          <a:stretch/>
        </p:blipFill>
        <p:spPr>
          <a:xfrm>
            <a:off x="250920" y="2637000"/>
            <a:ext cx="2806560" cy="15094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"/>
          <p:cNvSpPr/>
          <p:nvPr/>
        </p:nvSpPr>
        <p:spPr>
          <a:xfrm>
            <a:off x="3071880" y="1881360"/>
            <a:ext cx="5857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л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= 7 верстам (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,47 км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);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ст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= 500 саженям </a:t>
            </a:r>
            <a:br>
              <a:rPr sz="3200"/>
            </a:b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(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,07 км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);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жень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= 3 аршинам = </a:t>
            </a:r>
            <a:br>
              <a:rPr sz="3200"/>
            </a:b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7 футам (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13 м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);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шин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= 16 вершкам = 28 дюймам (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1,12 см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);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т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= 12 дюймам (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,48 см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);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юйм</a:t>
            </a: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= 10 линиям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2,54 см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);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ния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= 10 точкам (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54 мм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 advTm="12000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  <a:ea typeface="Arial"/>
              </a:rPr>
              <a:t>Старинные меры длины в пословицах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1143000"/>
            <a:ext cx="9144000" cy="5429160"/>
          </a:xfrm>
          <a:prstGeom prst="rect">
            <a:avLst/>
          </a:prstGeom>
          <a:solidFill>
            <a:srgbClr val="ffffb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07" name="Рисунок 45" descr="Картинка 164 из 546"/>
          <p:cNvPicPr/>
          <p:nvPr/>
        </p:nvPicPr>
        <p:blipFill>
          <a:blip r:embed="rId1"/>
          <a:stretch/>
        </p:blipFill>
        <p:spPr>
          <a:xfrm>
            <a:off x="0" y="1143000"/>
            <a:ext cx="3343320" cy="4071960"/>
          </a:xfrm>
          <a:prstGeom prst="rect">
            <a:avLst/>
          </a:prstGeom>
          <a:ln w="0">
            <a:noFill/>
          </a:ln>
        </p:spPr>
      </p:pic>
      <p:sp>
        <p:nvSpPr>
          <p:cNvPr id="308" name="TextBox 9"/>
          <p:cNvSpPr/>
          <p:nvPr/>
        </p:nvSpPr>
        <p:spPr>
          <a:xfrm>
            <a:off x="3214800" y="1071720"/>
            <a:ext cx="5929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идит, ходит, словно аршин проглотил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ждый купец на свой аршин меряет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три аршина в землю видит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изок локоть да не укусишь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лизок локоток, да ум короток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ь вёрст до небес, и все лесом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ля молодца семь верст не околица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семь верст комара искали, а комар — на носу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т мысли до мысли пять тысяч верст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хотник за семь верст ходит киселя хлебать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янись верстой, да не будь простой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сква верстой далека, а сердцу ряд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4"/>
          <p:cNvSpPr/>
          <p:nvPr/>
        </p:nvSpPr>
        <p:spPr>
          <a:xfrm>
            <a:off x="0" y="428760"/>
            <a:ext cx="88581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 Измерь самого себя – и ты станешь настоящим геометром!»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</a:t>
            </a:r>
            <a:r>
              <a:rPr b="1" lang="ru-RU" sz="3200" spc="-1" strike="noStrike">
                <a:solidFill>
                  <a:srgbClr val="ffff19"/>
                </a:solidFill>
                <a:latin typeface="Times New Roman"/>
              </a:rPr>
              <a:t>Марсилио  Сичино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67" name="Picture 3" descr="C:\Documents and Settings\Администратор\Рабочий стол\форум 2013\меры роста\1.jpeg"/>
          <p:cNvPicPr/>
          <p:nvPr/>
        </p:nvPicPr>
        <p:blipFill>
          <a:blip r:embed="rId1"/>
          <a:stretch/>
        </p:blipFill>
        <p:spPr>
          <a:xfrm>
            <a:off x="1428840" y="2714760"/>
            <a:ext cx="7361280" cy="3929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37440" y="3240"/>
            <a:ext cx="830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19"/>
                </a:solidFill>
                <a:latin typeface="Times New Roman"/>
                <a:ea typeface="Times New Roman"/>
              </a:rPr>
              <a:t>Метрическая система мер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29160" y="5931000"/>
            <a:ext cx="66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а все времена всем народам!».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11" name="Picture 4" descr="C:\Documents and Settings\Администратор\Рабочий стол\форум 2013\меры роста\0014-010-Etalon-metra.jpg"/>
          <p:cNvPicPr/>
          <p:nvPr/>
        </p:nvPicPr>
        <p:blipFill>
          <a:blip r:embed="rId1"/>
          <a:stretch/>
        </p:blipFill>
        <p:spPr>
          <a:xfrm>
            <a:off x="214200" y="1428840"/>
            <a:ext cx="5823000" cy="378612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6072120" y="1071720"/>
            <a:ext cx="307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Эталон  метра, изготовлен-ный из сплава платины (90%) и иридия (10%).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Замеры роста</a:t>
            </a:r>
            <a:endParaRPr b="0" lang="en-US" sz="6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 rot="21064200">
            <a:off x="2533680" y="1769760"/>
            <a:ext cx="4672080" cy="3548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1"/>
          <p:cNvSpPr/>
          <p:nvPr/>
        </p:nvSpPr>
        <p:spPr>
          <a:xfrm>
            <a:off x="1714680" y="428760"/>
            <a:ext cx="6429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TextBox 3"/>
          <p:cNvSpPr/>
          <p:nvPr/>
        </p:nvSpPr>
        <p:spPr>
          <a:xfrm>
            <a:off x="0" y="35712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19"/>
                </a:solidFill>
                <a:latin typeface="Times New Roman"/>
              </a:rPr>
              <a:t>Сравнительный анализ роста учащихся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19"/>
                </a:solidFill>
                <a:latin typeface="Times New Roman"/>
              </a:rPr>
              <a:t>1 класс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0" y="1500120"/>
          <a:ext cx="9144000" cy="5181840"/>
        </p:xfrm>
        <a:graphic>
          <a:graphicData uri="http://schemas.openxmlformats.org/drawingml/2006/table">
            <a:tbl>
              <a:tblPr/>
              <a:tblGrid>
                <a:gridCol w="476280"/>
                <a:gridCol w="2290680"/>
                <a:gridCol w="1258920"/>
                <a:gridCol w="1292400"/>
                <a:gridCol w="1288800"/>
                <a:gridCol w="1268640"/>
                <a:gridCol w="1268280"/>
              </a:tblGrid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амилии уч-ся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ут</a:t>
                      </a:r>
                      <a:endParaRPr b="0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юйм</a:t>
                      </a:r>
                      <a:endParaRPr b="0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ерёзин Д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2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3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нькина К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7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ордеев Д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7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нов А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0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0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0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39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пова А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1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2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2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венкова Д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7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идов Д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3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43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краинец А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0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0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0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39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аустов В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8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1714680" y="428760"/>
            <a:ext cx="6429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9" name="TextBox 3"/>
          <p:cNvSpPr/>
          <p:nvPr/>
        </p:nvSpPr>
        <p:spPr>
          <a:xfrm>
            <a:off x="0" y="35712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19"/>
                </a:solidFill>
                <a:latin typeface="Times New Roman"/>
              </a:rPr>
              <a:t>Сравнительный анализ роста учащихся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19"/>
                </a:solidFill>
                <a:latin typeface="Times New Roman"/>
              </a:rPr>
              <a:t>6 класс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1571760"/>
          <a:ext cx="9144000" cy="5286240"/>
        </p:xfrm>
        <a:graphic>
          <a:graphicData uri="http://schemas.openxmlformats.org/drawingml/2006/table">
            <a:tbl>
              <a:tblPr/>
              <a:tblGrid>
                <a:gridCol w="476280"/>
                <a:gridCol w="2290680"/>
                <a:gridCol w="1258920"/>
                <a:gridCol w="1292400"/>
                <a:gridCol w="1288800"/>
                <a:gridCol w="1268640"/>
                <a:gridCol w="1268280"/>
              </a:tblGrid>
              <a:tr h="528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амилии уч-ся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ут</a:t>
                      </a:r>
                      <a:endParaRPr b="0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юйм</a:t>
                      </a:r>
                      <a:endParaRPr b="0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ерёзин Д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90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нькина К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2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20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ордеев Д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9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7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2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87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нов А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39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пова А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2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60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венкова Д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5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идов Д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39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краинец А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0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5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81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аустов В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2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2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59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1"/>
          <p:cNvSpPr/>
          <p:nvPr/>
        </p:nvSpPr>
        <p:spPr>
          <a:xfrm>
            <a:off x="1714680" y="428760"/>
            <a:ext cx="6429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TextBox 3"/>
          <p:cNvSpPr/>
          <p:nvPr/>
        </p:nvSpPr>
        <p:spPr>
          <a:xfrm>
            <a:off x="0" y="357120"/>
            <a:ext cx="8643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19"/>
                </a:solidFill>
                <a:latin typeface="Times New Roman"/>
              </a:rPr>
              <a:t>Сравнительный анализ роста учащихся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редний рост учащихся 1 класса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редний рост учащихся 6 класса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редний рост моего класса за пять лет изменился на: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85840" y="1571760"/>
          <a:ext cx="8429400" cy="10969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ут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юйм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44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8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81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214200" y="3214800"/>
          <a:ext cx="8501040" cy="1096920"/>
        </p:xfrm>
        <a:graphic>
          <a:graphicData uri="http://schemas.openxmlformats.org/drawingml/2006/table">
            <a:tbl>
              <a:tblPr/>
              <a:tblGrid>
                <a:gridCol w="1700280"/>
                <a:gridCol w="1700280"/>
                <a:gridCol w="1700280"/>
                <a:gridCol w="1700280"/>
                <a:gridCol w="169992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ут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юйм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4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2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60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0" y="5353200"/>
          <a:ext cx="9144000" cy="12189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40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40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40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ут</a:t>
                      </a:r>
                      <a:endParaRPr b="0" lang="en-US" sz="40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юйм</a:t>
                      </a:r>
                      <a:endParaRPr b="0" lang="en-US" sz="40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56</a:t>
                      </a:r>
                      <a:endParaRPr b="0" lang="en-US" sz="40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40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40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4</a:t>
                      </a:r>
                      <a:endParaRPr b="0" lang="en-US" sz="40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9</a:t>
                      </a:r>
                      <a:endParaRPr b="0" lang="en-US" sz="40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143080" y="28584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19"/>
                </a:solidFill>
                <a:latin typeface="Times New Roman"/>
              </a:rPr>
              <a:t>1 класс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27" name="Диаграмма 3" descr=""/>
          <p:cNvPicPr/>
          <p:nvPr/>
        </p:nvPicPr>
        <p:blipFill>
          <a:blip r:embed="rId1"/>
          <a:stretch/>
        </p:blipFill>
        <p:spPr>
          <a:xfrm>
            <a:off x="1420920" y="993600"/>
            <a:ext cx="7729560" cy="5870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2143080" y="28584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19"/>
                </a:solidFill>
                <a:latin typeface="Times New Roman"/>
              </a:rPr>
              <a:t>6 класс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29" name="Диаграмма 3" descr=""/>
          <p:cNvPicPr/>
          <p:nvPr/>
        </p:nvPicPr>
        <p:blipFill>
          <a:blip r:embed="rId1"/>
          <a:stretch/>
        </p:blipFill>
        <p:spPr>
          <a:xfrm>
            <a:off x="1279440" y="920880"/>
            <a:ext cx="7656480" cy="4870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2"/>
          <p:cNvSpPr/>
          <p:nvPr/>
        </p:nvSpPr>
        <p:spPr>
          <a:xfrm>
            <a:off x="2143080" y="285840"/>
            <a:ext cx="61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19"/>
                </a:solidFill>
                <a:latin typeface="Times New Roman"/>
              </a:rPr>
              <a:t>Изменение роста за 5 лет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31" name="Диаграмма 3" descr=""/>
          <p:cNvPicPr/>
          <p:nvPr/>
        </p:nvPicPr>
        <p:blipFill>
          <a:blip r:embed="rId1"/>
          <a:stretch/>
        </p:blipFill>
        <p:spPr>
          <a:xfrm>
            <a:off x="1206360" y="993600"/>
            <a:ext cx="7944120" cy="5870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"/>
          <p:cNvSpPr/>
          <p:nvPr/>
        </p:nvSpPr>
        <p:spPr>
          <a:xfrm>
            <a:off x="1860840" y="285840"/>
            <a:ext cx="305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19"/>
                </a:solidFill>
                <a:latin typeface="Times New Roman"/>
              </a:rPr>
              <a:t>Выводы</a:t>
            </a:r>
            <a:endParaRPr b="0" lang="en-US" sz="6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TextBox 2"/>
          <p:cNvSpPr/>
          <p:nvPr/>
        </p:nvSpPr>
        <p:spPr>
          <a:xfrm>
            <a:off x="0" y="1214280"/>
            <a:ext cx="8858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измерения длин можно использовать различные единицы измерения длины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тановила связь между различными единицами длины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азала, что каждая из единиц длины может быть представлена через общепринятую метрическую систему мер, а следовательно, становится понятной для любого человека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34" name="Group 16"/>
          <p:cNvGrpSpPr/>
          <p:nvPr/>
        </p:nvGrpSpPr>
        <p:grpSpPr>
          <a:xfrm>
            <a:off x="5929200" y="4357800"/>
            <a:ext cx="2292480" cy="2500200"/>
            <a:chOff x="5929200" y="4357800"/>
            <a:chExt cx="2292480" cy="2500200"/>
          </a:xfrm>
        </p:grpSpPr>
        <p:pic>
          <p:nvPicPr>
            <p:cNvPr id="335" name="i-main-pic" descr="Картинка 1 из 4740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056640" y="4460040"/>
              <a:ext cx="2001960" cy="22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15"/>
            <p:cNvSpPr/>
            <p:nvPr/>
          </p:nvSpPr>
          <p:spPr>
            <a:xfrm>
              <a:off x="5929200" y="4357800"/>
              <a:ext cx="2292480" cy="25002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 spd="med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"/>
          <p:cNvSpPr/>
          <p:nvPr/>
        </p:nvSpPr>
        <p:spPr>
          <a:xfrm>
            <a:off x="36000" y="3240"/>
            <a:ext cx="86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19"/>
                </a:solidFill>
                <a:latin typeface="Times New Roman"/>
                <a:ea typeface="Times New Roman"/>
              </a:rPr>
              <a:t>Информационные ресурсы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8" name="TextBox 2"/>
          <p:cNvSpPr/>
          <p:nvPr/>
        </p:nvSpPr>
        <p:spPr>
          <a:xfrm>
            <a:off x="357120" y="785880"/>
            <a:ext cx="850104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ленкин Н. Я. «Математика 5», учебник для пятого класс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образовательных учреждений. Москва «Сайтком», 200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пман И. Я. « За страницами учебника математики».Москва «Просвещение»,1989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яковский В. В. Собрание сочинений в 12 томах. Том 8. М.: Правда,  1978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мановский Б. В. « С метром по векам». Л. : Детская литература, 1985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рыгин И. Ф. « Наглядная геометрия 5 – 6», пособие для общеобразовательных учебных заведений. Москва «Дрофа», 2002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тернет ресурсы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1000080" y="57168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Times New Roman"/>
              </a:rPr>
              <a:t>Проблемный вопрос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9" name="Прямоугольник 2"/>
          <p:cNvSpPr/>
          <p:nvPr/>
        </p:nvSpPr>
        <p:spPr>
          <a:xfrm>
            <a:off x="785880" y="207180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Что значит – измерить какую – то величину?</a:t>
            </a:r>
            <a:endParaRPr b="0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70" name="Picture 2" descr="C:\Documents and Settings\Администратор\Рабочий стол\форум 2013\меры роста\ап.jpeg"/>
          <p:cNvPicPr/>
          <p:nvPr/>
        </p:nvPicPr>
        <p:blipFill>
          <a:blip r:embed="rId1"/>
          <a:stretch/>
        </p:blipFill>
        <p:spPr>
          <a:xfrm>
            <a:off x="6072120" y="3857760"/>
            <a:ext cx="3071880" cy="2792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5120" y="571320"/>
            <a:ext cx="8678880" cy="92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Спасибо за внимание!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40" name="Picture 9" descr=""/>
          <p:cNvPicPr/>
          <p:nvPr/>
        </p:nvPicPr>
        <p:blipFill>
          <a:blip r:embed="rId1"/>
          <a:stretch/>
        </p:blipFill>
        <p:spPr>
          <a:xfrm>
            <a:off x="7164360" y="3357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20" descr="Картинка 269 из 5093"/>
          <p:cNvPicPr/>
          <p:nvPr/>
        </p:nvPicPr>
        <p:blipFill>
          <a:blip r:embed="rId2"/>
          <a:stretch/>
        </p:blipFill>
        <p:spPr>
          <a:xfrm>
            <a:off x="2000160" y="1571760"/>
            <a:ext cx="4929120" cy="4579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19"/>
                </a:solidFill>
                <a:latin typeface="Times New Roman"/>
              </a:rPr>
              <a:t>Вступление</a:t>
            </a:r>
            <a:endParaRPr b="0" lang="en-US" sz="6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ажды я смотрела мультфильм «38 попугаев», где удав измерял свой рост в мартышках, слонах и попугаях. Я задумалась, как можно измерить рост человека? Какими мерами длины пользовались в старину?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73" name="Рисунок 1" descr=""/>
          <p:cNvPicPr/>
          <p:nvPr/>
        </p:nvPicPr>
        <p:blipFill>
          <a:blip r:embed="rId1"/>
          <a:srcRect l="23441" t="14779" r="23301" b="20450"/>
          <a:stretch/>
        </p:blipFill>
        <p:spPr>
          <a:xfrm>
            <a:off x="3214800" y="4214880"/>
            <a:ext cx="2733480" cy="2009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WordArt 4"/>
          <p:cNvSpPr txBox="1"/>
          <p:nvPr/>
        </p:nvSpPr>
        <p:spPr>
          <a:xfrm>
            <a:off x="0" y="285840"/>
            <a:ext cx="8858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Творческое название проект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275" name="TextBox 7" descr=""/>
          <p:cNvPicPr/>
          <p:nvPr/>
        </p:nvPicPr>
        <p:blipFill>
          <a:blip r:embed="rId1"/>
          <a:stretch/>
        </p:blipFill>
        <p:spPr>
          <a:xfrm>
            <a:off x="-49320" y="1096920"/>
            <a:ext cx="9729720" cy="3591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j0180477"/>
          <p:cNvPicPr/>
          <p:nvPr/>
        </p:nvPicPr>
        <p:blipFill>
          <a:blip r:embed="rId2"/>
          <a:stretch/>
        </p:blipFill>
        <p:spPr>
          <a:xfrm>
            <a:off x="3143160" y="3668760"/>
            <a:ext cx="2643120" cy="3189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19"/>
                </a:solidFill>
                <a:latin typeface="Times New Roman"/>
              </a:rPr>
              <a:t>Цели работы: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67920" y="142884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Рассмотреть старинные меры длины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Выяснить их происхождение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Измерить свой рост и рост своих одноклассников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Сравнить  рост в метрах и других мерах длины.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79" name="i-main-pic" descr="Картинка 17 из 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4500720"/>
            <a:ext cx="3745080" cy="2039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315720" y="359640"/>
            <a:ext cx="752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измеряли в древности</a:t>
            </a:r>
            <a:endParaRPr b="0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81" name="i-main-pic" descr="Картинка 17 из 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1357200"/>
            <a:ext cx="8083440" cy="4403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315720" y="359640"/>
            <a:ext cx="752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измеряли в древности</a:t>
            </a:r>
            <a:endParaRPr b="0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83" name="Picture 2" descr="C:\Documents and Settings\Администратор\Рабочий стол\форум 2013\меры роста\ить.jpeg"/>
          <p:cNvPicPr/>
          <p:nvPr/>
        </p:nvPicPr>
        <p:blipFill>
          <a:blip r:embed="rId1"/>
          <a:stretch/>
        </p:blipFill>
        <p:spPr>
          <a:xfrm>
            <a:off x="3286080" y="1428840"/>
            <a:ext cx="2500200" cy="4687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4" descr=""/>
          <p:cNvPicPr/>
          <p:nvPr/>
        </p:nvPicPr>
        <p:blipFill>
          <a:blip r:embed="rId1">
            <a:lum contrast="12000"/>
          </a:blip>
          <a:srcRect l="36039" t="47859" r="46444" b="37343"/>
          <a:stretch/>
        </p:blipFill>
        <p:spPr>
          <a:xfrm>
            <a:off x="357120" y="285840"/>
            <a:ext cx="5286600" cy="6151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15:49:55Z</dcterms:created>
  <dc:creator>Ишевская Е. П.</dc:creator>
  <dc:description/>
  <cp:keywords/>
  <dc:language>en-US</dc:language>
  <cp:lastModifiedBy>server</cp:lastModifiedBy>
  <dcterms:modified xsi:type="dcterms:W3CDTF">2013-03-12T13:58:51Z</dcterms:modified>
  <cp:revision>8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91049</vt:lpwstr>
  </property>
</Properties>
</file>