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9.jpeg" ContentType="image/jpeg"/>
  <Override PartName="/ppt/media/image10.jpeg" ContentType="image/jpeg"/>
  <Override PartName="/ppt/media/image31.wmf" ContentType="image/x-wmf"/>
  <Override PartName="/ppt/media/image28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3.gif" ContentType="image/gif"/>
  <Override PartName="/ppt/media/image21.jpeg" ContentType="image/jpeg"/>
  <Override PartName="/ppt/media/image29.png" ContentType="image/png"/>
  <Override PartName="/ppt/media/image11.jpeg" ContentType="image/jpeg"/>
  <Override PartName="/ppt/media/image1.gif" ContentType="image/gif"/>
  <Override PartName="/ppt/media/image27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08EE-B51F-4956-80B8-7655ED4D3B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CB8F-CB9F-4F15-8445-C859FF330B07}" type="slidenum"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5F0-C0D6-42EF-99D7-B629BB63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0A9-FA52-4052-A4B4-AF4D4A1C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62A-95A4-47F4-AF58-CC63A670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EFC-D264-4FE1-8B47-71776577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1F61-3459-46CB-A3DE-1CE00F7C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D821-CAD9-43B5-B104-FAB81ADD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4DE3-6E0A-4906-9752-BB46780F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D7E4-10D2-485C-867A-D14465F7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350B-9A3D-4B89-A5F8-785606E8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91C3-B744-42AE-9917-EA9AA4DC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11FC-F058-4BCF-8C84-01D23CAC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CA3-6B15-45DB-B577-B32C0416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3AD4-89EA-4450-ADE0-D21F294A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8AA7-7059-4643-AE04-95EC9904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E4C4-A7F5-4920-976C-5E921F6F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7810-0F24-46CD-A03C-F3C418AE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4D10-D1F6-465C-B84C-F00B6DF0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1893-3B25-4023-890A-AA3C6961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605A0-B4B7-4FCD-9013-3F65EA2D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BFCEC-0A92-4E5F-8387-72D307B1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95CA-A1B1-468E-9BDE-656F205B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FA345-7659-4B1B-8A6A-CF7C23F9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9B8-FA69-4F75-8ECA-1532C817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CF753-D713-493A-8923-C8C29507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AF078-0B26-4327-9072-C67CD379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92508-2BF9-473E-942F-4E22C9CA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B5154-6C97-4773-B219-00E92A01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77C4C-E89E-4BD6-9C28-9687191D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4F8CF-6B46-4D0D-95BB-BE2EB759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CFEA5-183C-47F8-8244-4A5806B6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7F6D2-D617-4B18-945D-468DE46A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E6FB5-35D5-4341-91D7-6DE092E6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09AC9-664E-4B2A-A8BE-1B232B9E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4C7-01B5-4462-8FE7-7B751E27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E8F85-1F7A-40FB-8275-6B2FCB0E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A4483-B02D-4FE3-BB7D-33A1FFD9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6CF21-9341-4C32-A2E2-C373F120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EAA90-DA00-4011-96E2-3E615870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7C316-0D44-45AC-8336-93243F29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7941F-2A45-45E5-BE9E-F40B04E8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A4236-66B5-4891-BCD4-9231406E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93676-493C-47A6-82B1-4CE34F34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B3356-9EB3-4251-9437-E700CAC7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816-2245-4D34-BE79-E4810013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FB80-055A-47DE-B40B-130FD790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D22-C7F5-4C97-80FA-2CB230F0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808-CBE1-4644-AEB5-767B9571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B23-8C9D-40A2-9D59-256D5106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901800" y="3378240"/>
            <a:ext cx="5359320" cy="242568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2" name="Group 4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 flipV="1">
                <a:off x="297000" y="5163480"/>
                <a:ext cx="695160" cy="18396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343080" y="5210280"/>
                <a:ext cx="179280" cy="62388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68280" y="5211720"/>
                <a:ext cx="106560" cy="585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26920" y="5199120"/>
                <a:ext cx="157320" cy="57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700200" y="510372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781200" y="528156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3960" y="5159520"/>
                <a:ext cx="115920" cy="363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536400" y="5213520"/>
                <a:ext cx="128880" cy="187200"/>
              </a:xfrm>
              <a:prstGeom prst="pie">
                <a:avLst/>
              </a:prstGeom>
              <a:gradFill rotWithShape="0">
                <a:gsLst>
                  <a:gs pos="0">
                    <a:srgbClr val="b36666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7840" y="5183280"/>
                <a:ext cx="414000" cy="55440"/>
              </a:xfrm>
              <a:prstGeom prst="pie">
                <a:avLst/>
              </a:prstGeom>
              <a:solidFill>
                <a:srgbClr val="33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0" name="Freeform 22"/>
            <p:cNvSpPr/>
            <p:nvPr/>
          </p:nvSpPr>
          <p:spPr>
            <a:xfrm>
              <a:off x="601560" y="3022560"/>
              <a:ext cx="671760" cy="216864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d19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1" name="Freeform 23"/>
          <p:cNvSpPr/>
          <p:nvPr/>
        </p:nvSpPr>
        <p:spPr>
          <a:xfrm>
            <a:off x="600120" y="3164040"/>
            <a:ext cx="560520" cy="2022480"/>
          </a:xfrm>
          <a:prstGeom prst="pie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169920" y="6273720"/>
            <a:ext cx="2496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2817720" y="6286680"/>
            <a:ext cx="357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© Ishevskaya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6511680" y="6286680"/>
            <a:ext cx="2462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FD38-2224-43CC-B554-DFE6A5B8CE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>
            <a:off x="1663560" y="3327480"/>
            <a:ext cx="7480440" cy="308772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23840" y="165240"/>
            <a:ext cx="2471760" cy="6400800"/>
            <a:chOff x="123840" y="165240"/>
            <a:chExt cx="2471760" cy="6400800"/>
          </a:xfrm>
        </p:grpSpPr>
        <p:grpSp>
          <p:nvGrpSpPr>
            <p:cNvPr id="65" name="Group 4"/>
            <p:cNvGrpSpPr/>
            <p:nvPr/>
          </p:nvGrpSpPr>
          <p:grpSpPr>
            <a:xfrm>
              <a:off x="123840" y="4903920"/>
              <a:ext cx="1741320" cy="1662120"/>
              <a:chOff x="123840" y="4903920"/>
              <a:chExt cx="1741320" cy="1662120"/>
            </a:xfrm>
          </p:grpSpPr>
          <p:sp>
            <p:nvSpPr>
              <p:cNvPr id="66" name="Rectangle 5"/>
              <p:cNvSpPr/>
              <p:nvPr/>
            </p:nvSpPr>
            <p:spPr>
              <a:xfrm>
                <a:off x="130320" y="5518080"/>
                <a:ext cx="1722240" cy="814320"/>
              </a:xfrm>
              <a:prstGeom prst="rect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7" name="Oval 6"/>
              <p:cNvSpPr/>
              <p:nvPr/>
            </p:nvSpPr>
            <p:spPr>
              <a:xfrm>
                <a:off x="138240" y="6073920"/>
                <a:ext cx="1720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8" name="Oval 7"/>
              <p:cNvSpPr/>
              <p:nvPr/>
            </p:nvSpPr>
            <p:spPr>
              <a:xfrm>
                <a:off x="142920" y="5318280"/>
                <a:ext cx="1722240" cy="33156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69" name="AutoShape 8"/>
              <p:cNvSpPr/>
              <p:nvPr/>
            </p:nvSpPr>
            <p:spPr>
              <a:xfrm flipV="1">
                <a:off x="123840" y="5064840"/>
                <a:ext cx="1728720" cy="40500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266760" y="5113440"/>
                <a:ext cx="446040" cy="136980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71" name="Oval 10"/>
              <p:cNvSpPr/>
              <p:nvPr/>
            </p:nvSpPr>
            <p:spPr>
              <a:xfrm>
                <a:off x="168120" y="5318280"/>
                <a:ext cx="1648080" cy="299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353880" y="5176800"/>
                <a:ext cx="209520" cy="12715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1450800" y="5141880"/>
                <a:ext cx="389160" cy="1265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74" name="Group 13"/>
              <p:cNvGrpSpPr/>
              <p:nvPr/>
            </p:nvGrpSpPr>
            <p:grpSpPr>
              <a:xfrm>
                <a:off x="466560" y="4903920"/>
                <a:ext cx="1055880" cy="293400"/>
                <a:chOff x="466560" y="4903920"/>
                <a:chExt cx="1055880" cy="293400"/>
              </a:xfrm>
            </p:grpSpPr>
            <p:sp>
              <p:nvSpPr>
                <p:cNvPr id="75" name="Oval 14"/>
                <p:cNvSpPr/>
                <p:nvPr/>
              </p:nvSpPr>
              <p:spPr>
                <a:xfrm>
                  <a:off x="466560" y="4903920"/>
                  <a:ext cx="105588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ffffcc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5"/>
                <p:cNvSpPr/>
                <p:nvPr/>
              </p:nvSpPr>
              <p:spPr>
                <a:xfrm>
                  <a:off x="474840" y="4903920"/>
                  <a:ext cx="103176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ffffcc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6"/>
                <p:cNvSpPr/>
                <p:nvPr/>
              </p:nvSpPr>
              <p:spPr>
                <a:xfrm>
                  <a:off x="563400" y="4938840"/>
                  <a:ext cx="87948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ffffcc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Freeform 17"/>
              <p:cNvSpPr/>
              <p:nvPr/>
            </p:nvSpPr>
            <p:spPr>
              <a:xfrm>
                <a:off x="195120" y="5499000"/>
                <a:ext cx="511200" cy="12060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1135080" y="4906800"/>
                <a:ext cx="287280" cy="781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1336680" y="5305320"/>
                <a:ext cx="287280" cy="777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>
                <a:off x="511200" y="5040360"/>
                <a:ext cx="287280" cy="777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>
                <a:off x="819000" y="5197320"/>
                <a:ext cx="317520" cy="365400"/>
              </a:xfrm>
              <a:prstGeom prst="pie">
                <a:avLst/>
              </a:prstGeom>
              <a:gradFill rotWithShape="0">
                <a:gsLst>
                  <a:gs pos="0">
                    <a:srgbClr val="b36666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22"/>
            <p:cNvGrpSpPr/>
            <p:nvPr/>
          </p:nvGrpSpPr>
          <p:grpSpPr>
            <a:xfrm>
              <a:off x="1000080" y="165240"/>
              <a:ext cx="1595520" cy="4890960"/>
              <a:chOff x="1000080" y="165240"/>
              <a:chExt cx="1595520" cy="4890960"/>
            </a:xfrm>
          </p:grpSpPr>
          <p:sp>
            <p:nvSpPr>
              <p:cNvPr id="84" name="Freeform 23"/>
              <p:cNvSpPr/>
              <p:nvPr/>
            </p:nvSpPr>
            <p:spPr>
              <a:xfrm>
                <a:off x="1386000" y="165240"/>
                <a:ext cx="1209600" cy="3676680"/>
              </a:xfrm>
              <a:prstGeom prst="pie">
                <a:avLst/>
              </a:prstGeom>
              <a:gradFill rotWithShape="0">
                <a:gsLst>
                  <a:gs pos="0">
                    <a:srgbClr val="a64c4c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85" name="Freeform 24"/>
              <p:cNvSpPr/>
              <p:nvPr/>
            </p:nvSpPr>
            <p:spPr>
              <a:xfrm>
                <a:off x="1000080" y="181080"/>
                <a:ext cx="1452600" cy="487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© Ishevskaya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0C48-C5E0-4F8D-BAF2-EBF63560A8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2"/>
          <p:cNvSpPr/>
          <p:nvPr/>
        </p:nvSpPr>
        <p:spPr>
          <a:xfrm>
            <a:off x="901800" y="3378240"/>
            <a:ext cx="5359320" cy="242568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129" name="Group 4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130" name="Oval 5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1" name="Oval 6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2" name="Oval 7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3" name="Oval 8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4" name="AutoShape 9"/>
              <p:cNvSpPr/>
              <p:nvPr/>
            </p:nvSpPr>
            <p:spPr>
              <a:xfrm flipV="1">
                <a:off x="297000" y="5163480"/>
                <a:ext cx="695160" cy="18396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5" name="Rectangle 10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6" name="Oval 11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7" name="Freeform 12"/>
              <p:cNvSpPr/>
              <p:nvPr/>
            </p:nvSpPr>
            <p:spPr>
              <a:xfrm>
                <a:off x="343080" y="5210280"/>
                <a:ext cx="179280" cy="62388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8" name="Oval 13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9" name="Oval 14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0" name="Freeform 15"/>
              <p:cNvSpPr/>
              <p:nvPr/>
            </p:nvSpPr>
            <p:spPr>
              <a:xfrm>
                <a:off x="368280" y="5211720"/>
                <a:ext cx="106560" cy="585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1" name="Freeform 16"/>
              <p:cNvSpPr/>
              <p:nvPr/>
            </p:nvSpPr>
            <p:spPr>
              <a:xfrm>
                <a:off x="826920" y="5199120"/>
                <a:ext cx="157320" cy="57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2" name="Freeform 17"/>
              <p:cNvSpPr/>
              <p:nvPr/>
            </p:nvSpPr>
            <p:spPr>
              <a:xfrm>
                <a:off x="700200" y="510372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3" name="Freeform 18"/>
              <p:cNvSpPr/>
              <p:nvPr/>
            </p:nvSpPr>
            <p:spPr>
              <a:xfrm>
                <a:off x="781200" y="528156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>
                <a:off x="453960" y="5159520"/>
                <a:ext cx="115920" cy="363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>
                <a:off x="536400" y="5213520"/>
                <a:ext cx="128880" cy="187200"/>
              </a:xfrm>
              <a:prstGeom prst="pie">
                <a:avLst/>
              </a:prstGeom>
              <a:gradFill rotWithShape="0">
                <a:gsLst>
                  <a:gs pos="0">
                    <a:srgbClr val="b36666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6" name="Freeform 21"/>
              <p:cNvSpPr/>
              <p:nvPr/>
            </p:nvSpPr>
            <p:spPr>
              <a:xfrm>
                <a:off x="447840" y="5183280"/>
                <a:ext cx="414000" cy="55440"/>
              </a:xfrm>
              <a:prstGeom prst="pie">
                <a:avLst/>
              </a:prstGeom>
              <a:solidFill>
                <a:srgbClr val="33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147" name="Freeform 22"/>
            <p:cNvSpPr/>
            <p:nvPr/>
          </p:nvSpPr>
          <p:spPr>
            <a:xfrm>
              <a:off x="601560" y="3022560"/>
              <a:ext cx="671760" cy="216864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d19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48" name="Freeform 23"/>
          <p:cNvSpPr/>
          <p:nvPr/>
        </p:nvSpPr>
        <p:spPr>
          <a:xfrm>
            <a:off x="600120" y="3164040"/>
            <a:ext cx="560520" cy="2022480"/>
          </a:xfrm>
          <a:prstGeom prst="pie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56F4-EEC6-4F1F-897B-12AECCAA03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reeform 2"/>
          <p:cNvSpPr/>
          <p:nvPr/>
        </p:nvSpPr>
        <p:spPr>
          <a:xfrm>
            <a:off x="901800" y="3378240"/>
            <a:ext cx="5359320" cy="242568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192" name="Group 4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193" name="Oval 5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4" name="Oval 6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5" name="Oval 7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6" name="Oval 8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7" name="AutoShape 9"/>
              <p:cNvSpPr/>
              <p:nvPr/>
            </p:nvSpPr>
            <p:spPr>
              <a:xfrm flipV="1">
                <a:off x="297000" y="5163480"/>
                <a:ext cx="695160" cy="18396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8" name="Rectangle 10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9" name="Oval 11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0" name="Freeform 12"/>
              <p:cNvSpPr/>
              <p:nvPr/>
            </p:nvSpPr>
            <p:spPr>
              <a:xfrm>
                <a:off x="343080" y="5210280"/>
                <a:ext cx="179280" cy="62388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1" name="Oval 13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2" name="Oval 14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3" name="Freeform 15"/>
              <p:cNvSpPr/>
              <p:nvPr/>
            </p:nvSpPr>
            <p:spPr>
              <a:xfrm>
                <a:off x="368280" y="5211720"/>
                <a:ext cx="106560" cy="585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4" name="Freeform 16"/>
              <p:cNvSpPr/>
              <p:nvPr/>
            </p:nvSpPr>
            <p:spPr>
              <a:xfrm>
                <a:off x="826920" y="5199120"/>
                <a:ext cx="157320" cy="57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5" name="Freeform 17"/>
              <p:cNvSpPr/>
              <p:nvPr/>
            </p:nvSpPr>
            <p:spPr>
              <a:xfrm>
                <a:off x="700200" y="510372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6" name="Freeform 18"/>
              <p:cNvSpPr/>
              <p:nvPr/>
            </p:nvSpPr>
            <p:spPr>
              <a:xfrm>
                <a:off x="781200" y="528156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7" name="Freeform 19"/>
              <p:cNvSpPr/>
              <p:nvPr/>
            </p:nvSpPr>
            <p:spPr>
              <a:xfrm>
                <a:off x="453960" y="5159520"/>
                <a:ext cx="115920" cy="363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8" name="Freeform 20"/>
              <p:cNvSpPr/>
              <p:nvPr/>
            </p:nvSpPr>
            <p:spPr>
              <a:xfrm>
                <a:off x="536400" y="5213520"/>
                <a:ext cx="128880" cy="187200"/>
              </a:xfrm>
              <a:prstGeom prst="pie">
                <a:avLst/>
              </a:prstGeom>
              <a:gradFill rotWithShape="0">
                <a:gsLst>
                  <a:gs pos="0">
                    <a:srgbClr val="b36666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9" name="Freeform 21"/>
              <p:cNvSpPr/>
              <p:nvPr/>
            </p:nvSpPr>
            <p:spPr>
              <a:xfrm>
                <a:off x="447840" y="5183280"/>
                <a:ext cx="414000" cy="55440"/>
              </a:xfrm>
              <a:prstGeom prst="pie">
                <a:avLst/>
              </a:prstGeom>
              <a:solidFill>
                <a:srgbClr val="33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10" name="Freeform 22"/>
            <p:cNvSpPr/>
            <p:nvPr/>
          </p:nvSpPr>
          <p:spPr>
            <a:xfrm>
              <a:off x="601560" y="3022560"/>
              <a:ext cx="671760" cy="216864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d19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11" name="Freeform 23"/>
          <p:cNvSpPr/>
          <p:nvPr/>
        </p:nvSpPr>
        <p:spPr>
          <a:xfrm>
            <a:off x="600120" y="3164040"/>
            <a:ext cx="560520" cy="2022480"/>
          </a:xfrm>
          <a:prstGeom prst="pie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3AD5-2A3D-4BF5-B0C1-ECD8DC8D29F6}" type="slidenum">
              <a:rPr b="0" lang="ru-RU" sz="14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pekulant.ru/files/images/2004/12/15-1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iki.iteach.ru/images/d/d6/00_clip_image058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iteach.ru/images/d/d6/00_clip_image058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7" descr=""/>
          <p:cNvPicPr/>
          <p:nvPr/>
        </p:nvPicPr>
        <p:blipFill>
          <a:blip r:embed="rId2"/>
          <a:stretch/>
        </p:blipFill>
        <p:spPr>
          <a:xfrm>
            <a:off x="-6480" y="1279440"/>
            <a:ext cx="9156960" cy="2683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FEYR8"/>
          <p:cNvPicPr/>
          <p:nvPr/>
        </p:nvPicPr>
        <p:blipFill>
          <a:blip r:embed="rId3"/>
          <a:stretch/>
        </p:blipFill>
        <p:spPr>
          <a:xfrm>
            <a:off x="7451640" y="4581360"/>
            <a:ext cx="1692360" cy="22766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9"/>
          <p:cNvSpPr/>
          <p:nvPr/>
        </p:nvSpPr>
        <p:spPr>
          <a:xfrm>
            <a:off x="1785960" y="4179960"/>
            <a:ext cx="5072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БОТУ ВЫПОЛНИЛА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ца  6«Г» класса</a:t>
            </a:r>
            <a:br>
              <a:rPr sz="2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пова Алина.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УКОВОДИТЕЛ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люнцева О.М.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0" y="214200"/>
            <a:ext cx="94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9"/>
                </a:solidFill>
                <a:latin typeface="Times New Roman"/>
              </a:rPr>
              <a:t>Филиал МБОУ лицей с. Долгоруково в д. Екатериновка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65" name="Picture 1" descr="C:\Documents and Settings\Администратор\Рабочий стол\форум 2013\меры роста\5.jpeg"/>
          <p:cNvPicPr/>
          <p:nvPr/>
        </p:nvPicPr>
        <p:blipFill>
          <a:blip r:embed="rId4"/>
          <a:stretch/>
        </p:blipFill>
        <p:spPr>
          <a:xfrm>
            <a:off x="5307120" y="4143240"/>
            <a:ext cx="383688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C:\Documents and Settings\Администратор\Рабочий стол\форум 2013\меры роста\0011-006-Kosaja-sazhen.jpg"/>
          <p:cNvPicPr/>
          <p:nvPr/>
        </p:nvPicPr>
        <p:blipFill>
          <a:blip r:embed="rId1"/>
          <a:stretch/>
        </p:blipFill>
        <p:spPr>
          <a:xfrm>
            <a:off x="2500200" y="270000"/>
            <a:ext cx="4023000" cy="658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таринные русские меры длины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168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168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89" name="Picture 10" descr="3"/>
          <p:cNvPicPr/>
          <p:nvPr/>
        </p:nvPicPr>
        <p:blipFill>
          <a:blip r:embed="rId1"/>
          <a:stretch/>
        </p:blipFill>
        <p:spPr>
          <a:xfrm>
            <a:off x="250920" y="1700280"/>
            <a:ext cx="4303440" cy="439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4" descr="dlina2"/>
          <p:cNvPicPr/>
          <p:nvPr/>
        </p:nvPicPr>
        <p:blipFill>
          <a:blip r:embed="rId2"/>
          <a:stretch/>
        </p:blipFill>
        <p:spPr>
          <a:xfrm>
            <a:off x="5148360" y="5084640"/>
            <a:ext cx="2995560" cy="1623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C:\Documents and Settings\Администратор\Рабочий стол\форум 2013\меры роста\0006-002-Djujm-mera-dliny-ravnaja-dline-3-sukhikh-zjoren-jachmenja-vytjanutykh-iz.jpg"/>
          <p:cNvPicPr/>
          <p:nvPr/>
        </p:nvPicPr>
        <p:blipFill>
          <a:blip r:embed="rId1"/>
          <a:stretch/>
        </p:blipFill>
        <p:spPr>
          <a:xfrm>
            <a:off x="4643280" y="3745080"/>
            <a:ext cx="4096080" cy="3112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C:\Documents and Settings\Администратор\Рабочий стол\форум 2013\меры роста\3.jpeg"/>
          <p:cNvPicPr/>
          <p:nvPr/>
        </p:nvPicPr>
        <p:blipFill>
          <a:blip r:embed="rId2"/>
          <a:stretch/>
        </p:blipFill>
        <p:spPr>
          <a:xfrm>
            <a:off x="285840" y="425520"/>
            <a:ext cx="4938480" cy="3460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C:\Documents and Settings\Администратор\Рабочий стол\форум 2013\меры роста\кп.jpeg"/>
          <p:cNvPicPr/>
          <p:nvPr/>
        </p:nvPicPr>
        <p:blipFill>
          <a:blip r:embed="rId1"/>
          <a:stretch/>
        </p:blipFill>
        <p:spPr>
          <a:xfrm>
            <a:off x="4929120" y="571680"/>
            <a:ext cx="375120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0" descr="13-01"/>
          <p:cNvPicPr/>
          <p:nvPr/>
        </p:nvPicPr>
        <p:blipFill>
          <a:blip r:embed="rId1"/>
          <a:stretch/>
        </p:blipFill>
        <p:spPr>
          <a:xfrm>
            <a:off x="0" y="0"/>
            <a:ext cx="6215040" cy="6708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499920" y="1676160"/>
            <a:ext cx="5643720" cy="54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Локоть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расстояние от конца вытянутого среднего пальца руки до локтевого сгиба (размер локтя колебался в пределах от 38 см до 46 см и соответствовал двум пядям). Сохранилась поговорка: «Сам с ноготок, а борода с локоток».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6" name="Picture 8" descr="2"/>
          <p:cNvPicPr/>
          <p:nvPr/>
        </p:nvPicPr>
        <p:blipFill>
          <a:blip r:embed="rId1"/>
          <a:stretch/>
        </p:blipFill>
        <p:spPr>
          <a:xfrm>
            <a:off x="428760" y="571680"/>
            <a:ext cx="3071520" cy="5294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" descr="C:\Documents and Settings\Администратор\Рабочий стол\форум 2013\меры роста\8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0" y="3600"/>
            <a:ext cx="857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19"/>
                </a:solidFill>
                <a:latin typeface="Times New Roman"/>
                <a:ea typeface="Times New Roman"/>
              </a:rPr>
              <a:t>Старые русские меры</a:t>
            </a: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Прямоугольник 2"/>
          <p:cNvSpPr/>
          <p:nvPr/>
        </p:nvSpPr>
        <p:spPr>
          <a:xfrm>
            <a:off x="0" y="4857840"/>
            <a:ext cx="871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Наиболее распространенными старинными мерами длины являются </a:t>
            </a:r>
            <a:r>
              <a:rPr b="1" lang="ru-RU" sz="3200" spc="-1" strike="noStrike">
                <a:solidFill>
                  <a:srgbClr val="800080"/>
                </a:solidFill>
                <a:latin typeface="Times New Roman"/>
                <a:ea typeface="Arial"/>
              </a:rPr>
              <a:t>перст, вершок, пядь, сажень, локоть, аршин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0" name="Picture 8" descr="Картинка 13 из 548"/>
          <p:cNvPicPr/>
          <p:nvPr/>
        </p:nvPicPr>
        <p:blipFill>
          <a:blip r:embed="rId1"/>
          <a:stretch/>
        </p:blipFill>
        <p:spPr>
          <a:xfrm>
            <a:off x="642960" y="928800"/>
            <a:ext cx="7000920" cy="3859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2"/>
          <p:cNvSpPr/>
          <p:nvPr/>
        </p:nvSpPr>
        <p:spPr>
          <a:xfrm>
            <a:off x="503280" y="549360"/>
            <a:ext cx="8640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19"/>
                </a:solidFill>
                <a:latin typeface="Times New Roman"/>
              </a:rPr>
              <a:t>Русские меры длины были уточнены в  </a:t>
            </a:r>
            <a:r>
              <a:rPr b="1" lang="en-US" sz="3600" spc="-1" strike="noStrike">
                <a:solidFill>
                  <a:srgbClr val="ffff19"/>
                </a:solidFill>
                <a:latin typeface="Times New Roman"/>
              </a:rPr>
              <a:t>XVIII</a:t>
            </a:r>
            <a:r>
              <a:rPr b="1" lang="ru-RU" sz="3600" spc="-1" strike="noStrike">
                <a:solidFill>
                  <a:srgbClr val="ffff19"/>
                </a:solidFill>
                <a:latin typeface="Times New Roman"/>
              </a:rPr>
              <a:t> в. указом Петра I: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2" name="Рисунок 3" descr="mhtml:file://F:\перв%20шаги\Меры%20длины%20наших%20предков.mht!http://rus-ved-rus.narod.ru/82.jpg"/>
          <p:cNvPicPr/>
          <p:nvPr/>
        </p:nvPicPr>
        <p:blipFill>
          <a:blip r:embed="rId1"/>
          <a:stretch/>
        </p:blipFill>
        <p:spPr>
          <a:xfrm>
            <a:off x="250920" y="2637000"/>
            <a:ext cx="2806560" cy="15094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"/>
          <p:cNvSpPr/>
          <p:nvPr/>
        </p:nvSpPr>
        <p:spPr>
          <a:xfrm>
            <a:off x="3071880" y="1881360"/>
            <a:ext cx="5857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л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= 7 верстам (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,47 км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ст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= 500 саженям 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(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,07 км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жень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= 3 аршинам = 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7 футам (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13 м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шин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= 16 вершкам = 28 дюймам (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1,12 см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т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= 12 дюймам (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,48 см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юйм</a:t>
            </a: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= 10 линия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2,54 см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ния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= 10 точкам (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54 мм</a:t>
            </a:r>
            <a:r>
              <a:rPr b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 advTm="12000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  <a:ea typeface="Arial"/>
              </a:rPr>
              <a:t>Старинные меры длины в пословицах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1143000"/>
            <a:ext cx="9144000" cy="5429160"/>
          </a:xfrm>
          <a:prstGeom prst="rect">
            <a:avLst/>
          </a:prstGeom>
          <a:solidFill>
            <a:srgbClr val="ffffb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7" name="Рисунок 45" descr="Картинка 164 из 546"/>
          <p:cNvPicPr/>
          <p:nvPr/>
        </p:nvPicPr>
        <p:blipFill>
          <a:blip r:embed="rId1"/>
          <a:stretch/>
        </p:blipFill>
        <p:spPr>
          <a:xfrm>
            <a:off x="0" y="1143000"/>
            <a:ext cx="3343320" cy="4071960"/>
          </a:xfrm>
          <a:prstGeom prst="rect">
            <a:avLst/>
          </a:prstGeom>
          <a:ln w="0">
            <a:noFill/>
          </a:ln>
        </p:spPr>
      </p:pic>
      <p:sp>
        <p:nvSpPr>
          <p:cNvPr id="308" name="TextBox 9"/>
          <p:cNvSpPr/>
          <p:nvPr/>
        </p:nvSpPr>
        <p:spPr>
          <a:xfrm>
            <a:off x="3214800" y="1071720"/>
            <a:ext cx="5929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идит, ходит, словно аршин проглотил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ый купец на свой аршин меряет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три аршина в землю видит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изок локоть да не укусишь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лизок локоток, да ум короток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 вёрст до небес, и все лесом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ля молодца семь верст не околица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семь верст комара искали, а комар — на носу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т мысли до мысли пять тысяч верст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хотник за семь верст ходит киселя хлебать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янись верстой, да не будь простой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сква верстой далека, а сердцу ряд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4"/>
          <p:cNvSpPr/>
          <p:nvPr/>
        </p:nvSpPr>
        <p:spPr>
          <a:xfrm>
            <a:off x="0" y="428760"/>
            <a:ext cx="88581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 Измерь самого себя – и ты станешь настоящим геометром!»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ffff19"/>
                </a:solidFill>
                <a:latin typeface="Times New Roman"/>
              </a:rPr>
              <a:t>Марсилио  Сичино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67" name="Picture 3" descr="C:\Documents and Settings\Администратор\Рабочий стол\форум 2013\меры роста\1.jpeg"/>
          <p:cNvPicPr/>
          <p:nvPr/>
        </p:nvPicPr>
        <p:blipFill>
          <a:blip r:embed="rId1"/>
          <a:stretch/>
        </p:blipFill>
        <p:spPr>
          <a:xfrm>
            <a:off x="1428840" y="2714760"/>
            <a:ext cx="7361280" cy="3929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37440" y="3240"/>
            <a:ext cx="83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19"/>
                </a:solidFill>
                <a:latin typeface="Times New Roman"/>
                <a:ea typeface="Times New Roman"/>
              </a:rPr>
              <a:t>Метрическая система мер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29160" y="5931000"/>
            <a:ext cx="66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 все времена всем народам!».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11" name="Picture 4" descr="C:\Documents and Settings\Администратор\Рабочий стол\форум 2013\меры роста\0014-010-Etalon-metra.jpg"/>
          <p:cNvPicPr/>
          <p:nvPr/>
        </p:nvPicPr>
        <p:blipFill>
          <a:blip r:embed="rId1"/>
          <a:stretch/>
        </p:blipFill>
        <p:spPr>
          <a:xfrm>
            <a:off x="214200" y="1428840"/>
            <a:ext cx="5823000" cy="37861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072120" y="1071720"/>
            <a:ext cx="307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Эталон  метра, изготовлен-ный из сплава платины (90%) и иридия (10%).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Замеры роста</a:t>
            </a:r>
            <a:endParaRPr b="0" lang="en-US" sz="6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 rot="21064200">
            <a:off x="2533680" y="1769760"/>
            <a:ext cx="4672080" cy="3548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1"/>
          <p:cNvSpPr/>
          <p:nvPr/>
        </p:nvSpPr>
        <p:spPr>
          <a:xfrm>
            <a:off x="1714680" y="428760"/>
            <a:ext cx="6429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0" y="3571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19"/>
                </a:solidFill>
                <a:latin typeface="Times New Roman"/>
              </a:rPr>
              <a:t>Сравнительный анализ роста учащихся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19"/>
                </a:solidFill>
                <a:latin typeface="Times New Roman"/>
              </a:rPr>
              <a:t>1 класс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0" y="1500120"/>
          <a:ext cx="9144000" cy="5181840"/>
        </p:xfrm>
        <a:graphic>
          <a:graphicData uri="http://schemas.openxmlformats.org/drawingml/2006/table">
            <a:tbl>
              <a:tblPr/>
              <a:tblGrid>
                <a:gridCol w="476280"/>
                <a:gridCol w="2290680"/>
                <a:gridCol w="1258920"/>
                <a:gridCol w="1292400"/>
                <a:gridCol w="1288800"/>
                <a:gridCol w="1268640"/>
                <a:gridCol w="1268280"/>
              </a:tblGrid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амилии уч-ся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юйм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ерёзин Д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3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нькина К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7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ордеев Д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7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нов А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3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пова А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1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венкова Д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7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идов Д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3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43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краинец А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3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аустов В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8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1714680" y="428760"/>
            <a:ext cx="6429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9" name="TextBox 3"/>
          <p:cNvSpPr/>
          <p:nvPr/>
        </p:nvSpPr>
        <p:spPr>
          <a:xfrm>
            <a:off x="0" y="3571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19"/>
                </a:solidFill>
                <a:latin typeface="Times New Roman"/>
              </a:rPr>
              <a:t>Сравнительный анализ роста учащихся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19"/>
                </a:solidFill>
                <a:latin typeface="Times New Roman"/>
              </a:rPr>
              <a:t>6 класс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1571760"/>
          <a:ext cx="9144000" cy="5286240"/>
        </p:xfrm>
        <a:graphic>
          <a:graphicData uri="http://schemas.openxmlformats.org/drawingml/2006/table">
            <a:tbl>
              <a:tblPr/>
              <a:tblGrid>
                <a:gridCol w="476280"/>
                <a:gridCol w="2290680"/>
                <a:gridCol w="1258920"/>
                <a:gridCol w="1292400"/>
                <a:gridCol w="1288800"/>
                <a:gridCol w="1268640"/>
                <a:gridCol w="1268280"/>
              </a:tblGrid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амилии уч-ся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юйм</a:t>
                      </a:r>
                      <a:endParaRPr b="0" lang="en-US" sz="28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ерёзин Д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9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нькина К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2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ордеев Д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87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нов А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3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пова А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6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венкова Д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5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идов Д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6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3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краинец А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0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81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аустов В.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8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2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59</a:t>
                      </a:r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1"/>
          <p:cNvSpPr/>
          <p:nvPr/>
        </p:nvSpPr>
        <p:spPr>
          <a:xfrm>
            <a:off x="1714680" y="428760"/>
            <a:ext cx="6429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0" y="357120"/>
            <a:ext cx="8643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19"/>
                </a:solidFill>
                <a:latin typeface="Times New Roman"/>
              </a:rPr>
              <a:t>Сравнительный анализ роста учащихся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редний рост учащихся 1 класса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редний рост учащихся 6 класса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редний рост моего класса за пять лет изменился на: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85840" y="1571760"/>
          <a:ext cx="8429400" cy="10969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юйм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44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8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81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214200" y="3214800"/>
          <a:ext cx="8501040" cy="1096920"/>
        </p:xfrm>
        <a:graphic>
          <a:graphicData uri="http://schemas.openxmlformats.org/drawingml/2006/table">
            <a:tbl>
              <a:tblPr/>
              <a:tblGrid>
                <a:gridCol w="1700280"/>
                <a:gridCol w="1700280"/>
                <a:gridCol w="1700280"/>
                <a:gridCol w="1700280"/>
                <a:gridCol w="169992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юйм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4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2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60</a:t>
                      </a:r>
                      <a:endParaRPr b="0" lang="en-US" sz="36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0" y="5353200"/>
          <a:ext cx="9144000" cy="1218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юйм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56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4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9</a:t>
                      </a:r>
                      <a:endParaRPr b="0" lang="en-US" sz="40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143080" y="28584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19"/>
                </a:solidFill>
                <a:latin typeface="Times New Roman"/>
              </a:rPr>
              <a:t>1 класс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27" name="Диаграмма 3" descr=""/>
          <p:cNvPicPr/>
          <p:nvPr/>
        </p:nvPicPr>
        <p:blipFill>
          <a:blip r:embed="rId1"/>
          <a:stretch/>
        </p:blipFill>
        <p:spPr>
          <a:xfrm>
            <a:off x="1420920" y="993600"/>
            <a:ext cx="7729560" cy="587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143080" y="28584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19"/>
                </a:solidFill>
                <a:latin typeface="Times New Roman"/>
              </a:rPr>
              <a:t>6 класс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29" name="Диаграмма 3" descr=""/>
          <p:cNvPicPr/>
          <p:nvPr/>
        </p:nvPicPr>
        <p:blipFill>
          <a:blip r:embed="rId1"/>
          <a:stretch/>
        </p:blipFill>
        <p:spPr>
          <a:xfrm>
            <a:off x="1279440" y="920880"/>
            <a:ext cx="7656480" cy="4870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2"/>
          <p:cNvSpPr/>
          <p:nvPr/>
        </p:nvSpPr>
        <p:spPr>
          <a:xfrm>
            <a:off x="2143080" y="285840"/>
            <a:ext cx="61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19"/>
                </a:solidFill>
                <a:latin typeface="Times New Roman"/>
              </a:rPr>
              <a:t>Изменение роста за 5 лет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31" name="Диаграмма 3" descr=""/>
          <p:cNvPicPr/>
          <p:nvPr/>
        </p:nvPicPr>
        <p:blipFill>
          <a:blip r:embed="rId1"/>
          <a:stretch/>
        </p:blipFill>
        <p:spPr>
          <a:xfrm>
            <a:off x="1206360" y="993600"/>
            <a:ext cx="7944120" cy="587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"/>
          <p:cNvSpPr/>
          <p:nvPr/>
        </p:nvSpPr>
        <p:spPr>
          <a:xfrm>
            <a:off x="1860840" y="285840"/>
            <a:ext cx="305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19"/>
                </a:solidFill>
                <a:latin typeface="Times New Roman"/>
              </a:rPr>
              <a:t>Выводы</a:t>
            </a: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TextBox 2"/>
          <p:cNvSpPr/>
          <p:nvPr/>
        </p:nvSpPr>
        <p:spPr>
          <a:xfrm>
            <a:off x="0" y="1214280"/>
            <a:ext cx="8858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измерения длин можно использовать различные единицы измерения длины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ановила связь между различными единицами длины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азала, что каждая из единиц длины может быть представлена через общепринятую метрическую систему мер, а следовательно, становится понятной для любого человека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34" name="Group 16"/>
          <p:cNvGrpSpPr/>
          <p:nvPr/>
        </p:nvGrpSpPr>
        <p:grpSpPr>
          <a:xfrm>
            <a:off x="5929200" y="4357800"/>
            <a:ext cx="2292480" cy="2500200"/>
            <a:chOff x="5929200" y="4357800"/>
            <a:chExt cx="2292480" cy="2500200"/>
          </a:xfrm>
        </p:grpSpPr>
        <p:pic>
          <p:nvPicPr>
            <p:cNvPr id="335" name="i-main-pic" descr="Картинка 1 из 4740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056640" y="4460040"/>
              <a:ext cx="2001960" cy="22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15"/>
            <p:cNvSpPr/>
            <p:nvPr/>
          </p:nvSpPr>
          <p:spPr>
            <a:xfrm>
              <a:off x="5929200" y="4357800"/>
              <a:ext cx="2292480" cy="2500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"/>
          <p:cNvSpPr/>
          <p:nvPr/>
        </p:nvSpPr>
        <p:spPr>
          <a:xfrm>
            <a:off x="36000" y="3240"/>
            <a:ext cx="86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19"/>
                </a:solidFill>
                <a:latin typeface="Times New Roman"/>
                <a:ea typeface="Times New Roman"/>
              </a:rPr>
              <a:t>Информационные ресурсы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357120" y="785880"/>
            <a:ext cx="850104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ленкин Н. Я. «Математика 5», учебник для пятого класс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образовательных учреждений. Москва «Сайтком», 200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пман И. Я. « За страницами учебника математики».Москва «Просвещение»,1989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яковский В. В. Собрание сочинений в 12 томах. Том 8. М.: Правда,  1978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мановский Б. В. « С метром по векам». Л. : Детская литература, 1985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рыгин И. Ф. « Наглядная геометрия 5 – 6», пособие для общеобразовательных учебных заведений. Москва «Дрофа», 2002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рнет ресурсы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1000080" y="5716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imes New Roman"/>
              </a:rPr>
              <a:t>Проблемный вопрос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785880" y="207180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Что значит – измерить какую – то величину?</a:t>
            </a:r>
            <a:endParaRPr b="0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0" name="Picture 2" descr="C:\Documents and Settings\Администратор\Рабочий стол\форум 2013\меры роста\ап.jpeg"/>
          <p:cNvPicPr/>
          <p:nvPr/>
        </p:nvPicPr>
        <p:blipFill>
          <a:blip r:embed="rId1"/>
          <a:stretch/>
        </p:blipFill>
        <p:spPr>
          <a:xfrm>
            <a:off x="6072120" y="3857760"/>
            <a:ext cx="3071880" cy="2792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5120" y="571320"/>
            <a:ext cx="8678880" cy="92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Спасибо за внимание!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1"/>
          <a:stretch/>
        </p:blipFill>
        <p:spPr>
          <a:xfrm>
            <a:off x="7164360" y="3357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20" descr="Картинка 269 из 5093"/>
          <p:cNvPicPr/>
          <p:nvPr/>
        </p:nvPicPr>
        <p:blipFill>
          <a:blip r:embed="rId2"/>
          <a:stretch/>
        </p:blipFill>
        <p:spPr>
          <a:xfrm>
            <a:off x="2000160" y="1571760"/>
            <a:ext cx="4929120" cy="4579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19"/>
                </a:solidFill>
                <a:latin typeface="Times New Roman"/>
              </a:rPr>
              <a:t>Вступление</a:t>
            </a:r>
            <a:endParaRPr b="0" lang="en-US" sz="6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ажды я смотрела мультфильм «38 попугаев», где удав измерял свой рост в мартышках, слонах и попугаях. Я задумалась, как можно измерить рост человека? Какими мерами длины пользовались в старину?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3" name="Рисунок 1" descr=""/>
          <p:cNvPicPr/>
          <p:nvPr/>
        </p:nvPicPr>
        <p:blipFill>
          <a:blip r:embed="rId1"/>
          <a:srcRect l="23441" t="14779" r="23301" b="20450"/>
          <a:stretch/>
        </p:blipFill>
        <p:spPr>
          <a:xfrm>
            <a:off x="3214800" y="4214880"/>
            <a:ext cx="2733480" cy="2009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4"/>
          <p:cNvSpPr txBox="1"/>
          <p:nvPr/>
        </p:nvSpPr>
        <p:spPr>
          <a:xfrm>
            <a:off x="0" y="285840"/>
            <a:ext cx="885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Творческое название проект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275" name="TextBox 7" descr=""/>
          <p:cNvPicPr/>
          <p:nvPr/>
        </p:nvPicPr>
        <p:blipFill>
          <a:blip r:embed="rId1"/>
          <a:stretch/>
        </p:blipFill>
        <p:spPr>
          <a:xfrm>
            <a:off x="-49320" y="1096920"/>
            <a:ext cx="9729720" cy="3591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j0180477"/>
          <p:cNvPicPr/>
          <p:nvPr/>
        </p:nvPicPr>
        <p:blipFill>
          <a:blip r:embed="rId2"/>
          <a:stretch/>
        </p:blipFill>
        <p:spPr>
          <a:xfrm>
            <a:off x="3143160" y="3668760"/>
            <a:ext cx="2643120" cy="3189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19"/>
                </a:solidFill>
                <a:latin typeface="Times New Roman"/>
              </a:rPr>
              <a:t>Цели работы: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67920" y="142884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Рассмотреть старинные меры длины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Выяснить их происхождение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Измерить свой рост и рост своих одноклассников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Сравнить  рост в метрах и других мерах длины.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9" name="i-main-pic" descr="Картинка 17 из 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4500720"/>
            <a:ext cx="3745080" cy="2039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315720" y="359640"/>
            <a:ext cx="752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измеряли в древности</a:t>
            </a:r>
            <a:endParaRPr b="0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81" name="i-main-pic" descr="Картинка 17 из 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357200"/>
            <a:ext cx="8083440" cy="4403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315720" y="359640"/>
            <a:ext cx="752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измеряли в древности</a:t>
            </a:r>
            <a:endParaRPr b="0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83" name="Picture 2" descr="C:\Documents and Settings\Администратор\Рабочий стол\форум 2013\меры роста\ить.jpeg"/>
          <p:cNvPicPr/>
          <p:nvPr/>
        </p:nvPicPr>
        <p:blipFill>
          <a:blip r:embed="rId1"/>
          <a:stretch/>
        </p:blipFill>
        <p:spPr>
          <a:xfrm>
            <a:off x="3286080" y="1428840"/>
            <a:ext cx="2500200" cy="4687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4" descr=""/>
          <p:cNvPicPr/>
          <p:nvPr/>
        </p:nvPicPr>
        <p:blipFill>
          <a:blip r:embed="rId1">
            <a:lum contrast="12000"/>
          </a:blip>
          <a:srcRect l="36039" t="47859" r="46444" b="37343"/>
          <a:stretch/>
        </p:blipFill>
        <p:spPr>
          <a:xfrm>
            <a:off x="357120" y="285840"/>
            <a:ext cx="5286600" cy="6151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5:49:55Z</dcterms:created>
  <dc:creator>Ишевская Е. П.</dc:creator>
  <dc:description/>
  <cp:keywords/>
  <dc:language>en-US</dc:language>
  <cp:lastModifiedBy>server</cp:lastModifiedBy>
  <dcterms:modified xsi:type="dcterms:W3CDTF">2013-03-12T13:58:51Z</dcterms:modified>
  <cp:revision>8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91049</vt:lpwstr>
  </property>
</Properties>
</file>