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57C-85B2-44A8-85A1-F3D33DD3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88A-AAF7-4342-AEA6-B3D674AE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C3D-D938-4756-A5D3-7C914418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9DF-1135-4592-A68F-DEC6D923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B85-6705-4D8A-9B8C-A240F554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BDC0-D582-45B4-AE77-709F1396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878-F9F2-4C2F-9C25-1D83FBB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83A7-9A4A-4544-A848-065340B2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F831-9206-493D-BB92-B0B1F39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A99-E174-40CB-B067-0A48EC1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220A-DD27-4AC3-ABCA-587D379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508-B24E-49FA-801B-A88BB2EC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2104-0947-489E-93C0-2808A51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D9B6-3B8B-4E95-9167-33A5EA2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E5F7-2183-4FCC-B0D4-381BB36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D44B-7C0A-467B-81BB-C8B4F063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ABC2-426A-42F1-85F2-A1DAFD74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EFE-2770-410D-86F6-56A1D7C4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C7F-864C-4D87-909E-F2B31F5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3B0-0770-4C50-B40E-3E3D545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C06-15EE-450C-8BB9-BF5D401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D0F-5D3D-4EBE-8C5B-FBF6EDFA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8FF-0033-4DE2-B631-75C433F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FA5-4B8D-4039-8554-F6140BA1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E112-6B6E-4021-90EB-8ACF8C6A3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8EEE-B97B-453F-AF5D-E646C1B16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51640" y="3141360"/>
            <a:ext cx="3348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ини-проект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 теме: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Если бы я был учителем…»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5084640" cy="381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189000"/>
            <a:ext cx="7705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ка МОУ «Новосёловская СОШ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пашевского района Том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сильева Александр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6516720" cy="465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6720" y="566100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Наша мастерск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А как вы думаете, на чём держится наша школ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рямо в точку. На учителя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Самых умных, талантливых, творческ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357720"/>
            <a:ext cx="24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Малеева Н.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Учитель года  2006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6084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У учителей такая д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Детям знания давать, современно обуча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И учиться, и учить, чтобы вмес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в этой школе дружно ж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536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97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64000" y="2602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Наш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молодой учитель</a:t>
            </a: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Цель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ект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«учитель» в современном мире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Выяснить условия работы педагогов моей школ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Определить значимость профессии «учител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сть директор в этой школе, у него не сладка дол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Школу в кулаке держать, да за всё и отвеч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7610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провожает школа своих выпуск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696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Вот  вы и познакомились с моей школой, моим вторым  до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612144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 этап. Выво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В «Толковом словаре живого великорусского языка», созданном в прошлом веке крупнейший учёном Владимиром Ивановичем Далем, слово «учитель» определяет как наставник, преподаватель. Преподаватель  передает накопленные человеческие знания.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Наставники наставляет, как следует себя вести и как надо жить. Эти две задачи учителя – преподавать и наставлять или, иначе, учить и воспитывать - основные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покон веков профессия учитель была самой  уважаемой и почитаемой. К учителям шли за помощью и советом, учитель считался носителем знаний и культуры. И сегодня, когда меняется не только время, но и нравы, учителя делятся с учениками теплотой своей души, помогают подрастающему поколению выработать нравственные принципы, обрести чёткую жизненную позицию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, учителей очень много. Но каждый из нас запоминает на вся жизнь только одного или двух. Тех, кто сыграл особую роль в какой-то момент нашей жизни. Тех, кто поддержал нас тогда, когда казалось, всё рушится. Тех, чью мудрость и доброта помогли нам остаться  хорошими людьми. Не у всех были такие учителя? Естественно, ведь учитель-профессия уникальная. И в нашей школе таких учителей много. Один- строгий , но справедливый другой- добрый, мудрый , но требовательный, третий- способен нас всегда понять. Но их всех объединяет талант, креатив, любовь к детям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едаром в нашей школе  учитель математики стала победителем областного конкурса « Учитель года 2006».  Я очень рад, что она преподаёт у меня такой предмет, как математика. У неё никогда не бывает совершено два одинаковых урока. Это бесспорно говорит о том, что профессия учителя самая творческая, уникальная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 этап. Сбор информаци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4 этап. Оценка проек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Хороший учитель - одновременно консерватор и новатор. Не зря ведь говорят, что лишь тот человек, кто «постигает новое, лелея старое», может быть  учителем. Учитель всегда держал и будет держать самую высокую планку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Талантлив учитель – талантливы дети. И в нашей школе тоже много талантливых детей. Они много раз занимали призовые места в предметных олимпиадах, конкурсах, проектах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Учитель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Он всегда в дороге-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В заботах, поисках тревоге-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И никогда покоя не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Если бы я был учителем….В первую очередь я научил бы детей учиться.  Один мудрый китаец сказал: «Если ты дашь человеку рыбу, он её съест. Если ты научишь его ловить рыбу, он будет кормить себя всю жизнь.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А ещё  я хотел бы быть похожим на своих учителей. Всегда внимательно и уважительно относиться к детям, разрабатывал бы такие же интересные и незабываемые уроки. И, конечно, я хотел бы быть современным учителем, применять инновационные образовательные технологии и компьютерные технологии с использованием возможностей сети Интернет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ия учителя не сравнима ни с одной другой профессией в мире. Любовь к делу и любовь к детям - основа этой замечательной, тяжёлой, но крайне благодарной профе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ия учителя – одна из самых почётных, ответственных и уважаемых в нашей стране: ведь не зря всех учителей принято называть только по имени отчеству. И все победы и достижения их учеников- это, в первую очередь, их побед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Я очень рад и поддерживаю предложение об объявлении 2010 года в Росси Годом учител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374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 считаю, что учитель должен стать  уважаемой  фигурой в обще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9672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 этап. Анализ информаци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начала хочу рассказать о моей родной школе,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где работают талантливые и творческие люд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5013360"/>
            <a:ext cx="5976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Школу все мы уважае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Это наш родимый 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десь мы знания получа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едь без них мы пропадё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2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5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993300"/>
                </a:solidFill>
                <a:latin typeface="Comic Sans MS"/>
              </a:rPr>
              <a:t>Этот кабинет готовит детей к шко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eec94"/>
                </a:solidFill>
                <a:uFillTx/>
                <a:latin typeface="Curlz MT"/>
              </a:rPr>
              <a:t>Мой любимый кабинет- кабинет   информа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2:07:12Z</dcterms:created>
  <dc:creator>User</dc:creator>
  <dc:description/>
  <dc:language>en-US</dc:language>
  <cp:lastModifiedBy>Малеева</cp:lastModifiedBy>
  <dcterms:modified xsi:type="dcterms:W3CDTF">2013-03-12T12:58:56Z</dcterms:modified>
  <cp:revision>10</cp:revision>
  <dc:subject/>
  <dc:title>Мини-проект « Если бы  я  был  учителем…»  </dc:title>
</cp:coreProperties>
</file>