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DF2-DB05-4E3E-B7E7-5775C7D7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CBE-059C-4A09-91D8-BC268EDF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42E-CBB3-40CD-B42D-6CDE6478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FE5-01F1-45CB-A452-B4AEA014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DE12-C843-4797-99CD-414FF7E4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6DBE-25A0-4695-B137-964E9CF9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5095-5482-41E7-B677-27CDA0B6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B81A-3EDB-4E4B-9804-77C264E6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CB11-192D-4F06-91FD-28C84EEA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F895-5841-4525-A859-580308B4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1483-EC83-45C5-8C58-6C0291FE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89E-866B-4B4C-B5F0-9EC578BF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C51C-2220-44C7-9E5E-0996DC38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FB84-5BDF-4817-AC79-B5FC3C4C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8F2F-5CB8-4C32-9AE1-0E44B303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EA15-E0BC-408C-99F5-F7CC0D17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C841-35BC-44E9-8C49-4F87B0D2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037-B625-405A-A542-45DBBA96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996-51B8-44D4-8006-30039DEF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274-48CB-48E0-9A9E-B4110959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D1F-EC73-4E00-A179-7BC8B866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E76-2868-4ED4-B6E1-12934405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111-E43B-4C1C-BA6B-4E34B25F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692-D335-4F11-B800-80A72B56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9F99-F609-45B7-9AB7-3BD3F14D4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0355-4058-4B41-9AD0-CCC549418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651640" y="3141360"/>
            <a:ext cx="3348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ини-проект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 теме: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«Если бы я был учителем…»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5084640" cy="3814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26920" y="189000"/>
            <a:ext cx="7705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ворческая работ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ника МОУ «Новосёловская СОШ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лпашевского района Томской област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асильева Александр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6516720" cy="4659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76720" y="566100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Наша мастерск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А как вы думаете, на чём держится наша школ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Прямо в точку. На учителя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Самых умных, талантливых, творческ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3357720"/>
            <a:ext cx="24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Малеева Н.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Учитель года  2006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60847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У учителей такая до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Детям знания давать, современно обучат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И учиться, и учить, чтобы вмест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в этой школе дружно ж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5364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97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564000" y="260280"/>
            <a:ext cx="55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Наш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молодой учитель</a:t>
            </a: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Цель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роекта: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нятие «учитель» в современном мире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адачи проект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Выяснить условия работы педагогов моей школ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Определить значимость профессии «учитель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сть директор в этой школе, у него не сладка дол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Школу в кулаке держать, да за всё и отвеч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76108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аждый год провожает школа своих выпускник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696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Вот  вы и познакомились с моей школой, моим вторым  домо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612144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227664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3 этап. Вывод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ec94"/>
                </a:solidFill>
                <a:latin typeface="Times New Roman"/>
              </a:rPr>
              <a:t>В «Толковом словаре живого великорусского языка», созданном в прошлом веке крупнейший учёном Владимиром Ивановичем Далем, слово «учитель» определяет как наставник, преподаватель. Преподаватель  передает накопленные человеческие знания.</a:t>
            </a:r>
            <a:br>
              <a:rPr sz="3200"/>
            </a:br>
            <a:r>
              <a:rPr b="1" i="1" lang="en-US" sz="3200" spc="-1" strike="noStrike">
                <a:solidFill>
                  <a:srgbClr val="feec94"/>
                </a:solidFill>
                <a:latin typeface="Times New Roman"/>
              </a:rPr>
              <a:t>Наставники наставляет, как следует себя вести и как надо жить. Эти две задачи учителя – преподавать и наставлять или, иначе, учить и воспитывать - основные.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42472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покон веков профессия учитель была самой  уважаемой и почитаемой. К учителям шли за помощью и советом, учитель считался носителем знаний и культуры. И сегодня, когда меняется не только время, но и нравы, учителя делятся с учениками теплотой своей души, помогают подрастающему поколению выработать нравственные принципы, обрести чёткую жизненную позицию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, учителей очень много. Но каждый из нас запоминает на вся жизнь только одного или двух. Тех, кто сыграл особую роль в какой-то момент нашей жизни. Тех, кто поддержал нас тогда, когда казалось, всё рушится. Тех, чью мудрость и доброта помогли нам остаться  хорошими людьми. Не у всех были такие учителя? Естественно, ведь учитель-профессия уникальная. И в нашей школе таких учителей много. Один- строгий , но справедливый другой- добрый, мудрый , но требовательный, третий- способен нас всегда понять. Но их всех объединяет талант, креатив, любовь к детям.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Недаром в нашей школе  учитель математики стала победителем областного конкурса « Учитель года 2006».  Я очень рад, что она преподаёт у меня такой предмет, как математика. У неё никогда не бывает совершено два одинаковых урока. Это бесспорно говорит о том, что профессия учителя самая творческая, уникальная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1 этап. Сбор информаци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4 этап. Оценка проект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Хороший учитель - одновременно консерватор и новатор. Не зря ведь говорят, что лишь тот человек, кто «постигает новое, лелея старое», может быть  учителем. Учитель всегда держал и будет держать самую высокую планку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Талантлив учитель – талантливы дети. И в нашей школе тоже много талантливых детей. Они много раз занимали призовые места в предметных олимпиадах, конкурсах, проектах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Учитель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Он всегда в дороге-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В заботах, поисках тревоге-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И никогда покоя нет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Если бы я был учителем….В первую очередь я научил бы детей учиться.  Один мудрый китаец сказал: «Если ты дашь человеку рыбу, он её съест. Если ты научишь его ловить рыбу, он будет кормить себя всю жизнь.»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А ещё  я хотел бы быть похожим на своих учителей. Всегда внимательно и уважительно относиться к детям, разрабатывал бы такие же интересные и незабываемые уроки. И, конечно, я хотел бы быть современным учителем, применять инновационные образовательные технологии и компьютерные технологии с использованием возможностей сети Интернет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фессия учителя не сравнима ни с одной другой профессией в мире. Любовь к делу и любовь к детям - основа этой замечательной, тяжёлой, но крайне благодарной професс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фессия учителя – одна из самых почётных, ответственных и уважаемых в нашей стране: ведь не зря всех учителей принято называть только по имени отчеству. И все победы и достижения их учеников- это, в первую очередь, их победы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Я очень рад и поддерживаю предложение об объявлении 2010 года в Росси Годом учител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374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Я считаю, что учитель должен стать  уважаемой  фигурой в обществ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24360" y="2637000"/>
            <a:ext cx="49672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2 этап. Анализ информаци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начала хочу рассказать о моей родной школе,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где работают талантливые и творческие люд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4968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5013360"/>
            <a:ext cx="597672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Школу все мы уважае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Это наш родимый д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Здесь мы знания получа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Ведь без них мы пропадё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22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5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993300"/>
                </a:solidFill>
                <a:latin typeface="Comic Sans MS"/>
              </a:rPr>
              <a:t>Этот кабинет готовит детей к школ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ec94"/>
                </a:solidFill>
                <a:uFillTx/>
                <a:latin typeface="Curlz MT"/>
              </a:rPr>
              <a:t>Мой любимый кабинет- кабинет   информат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2:07:12Z</dcterms:created>
  <dc:creator>User</dc:creator>
  <dc:description/>
  <dc:language>en-US</dc:language>
  <cp:lastModifiedBy>Малеева</cp:lastModifiedBy>
  <dcterms:modified xsi:type="dcterms:W3CDTF">2013-03-12T12:58:56Z</dcterms:modified>
  <cp:revision>10</cp:revision>
  <dc:subject/>
  <dc:title>Мини-проект « Если бы  я  был  учителем…»  </dc:title>
</cp:coreProperties>
</file>