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9EE-70B8-4285-8421-01BE01FB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2EE-8EEC-4BD5-9DDE-B7896030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0D1-AA23-4AC6-92C2-499E3BBA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E91-FCD4-434D-AB2A-CD8F8558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EF6F-E242-47F0-89E8-DC6DCFEC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8531-4499-49B5-BCC8-9A80FCCE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3188-4A87-46CE-B55F-AA00B093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06EC-7EB5-4410-BF62-E42BF7E5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5E1F-7290-4465-A35D-C1175A48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720A-9932-4D01-B9CE-81D0E33A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B151-8E5E-40AF-B305-BE60D86E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B8F-E6DA-4787-A176-3388B25D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490-7FE0-44A8-BE42-C1C9503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981-66B8-47A9-8FFF-135E8DB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25C-6DC2-42AB-9DCD-67A6E4B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3B3D-E029-486F-ADC7-58417F9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82E3-F0A1-4F1C-9CA5-D408533B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BF7-C9E5-4FEA-8F15-00A63A4D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46A-E85F-4EF6-B939-88BF7F25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3D1-A65A-4AEE-8784-2596D78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E12-1FF7-4CA6-A234-9403F28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A82-D7A6-4CFF-995B-A202537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2B4-EB98-4EF9-8F8A-3A6BBF8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9EA-90CB-4900-B1D3-0872008C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E7DC-B21F-4921-83BD-46795CA40A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D1F-46F0-4D4C-B7A3-1D0C080B3B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24"/>
          <p:cNvPicPr/>
          <p:nvPr/>
        </p:nvPicPr>
        <p:blipFill>
          <a:blip r:embed="rId1"/>
          <a:stretch/>
        </p:blipFill>
        <p:spPr>
          <a:xfrm>
            <a:off x="824040" y="1380960"/>
            <a:ext cx="7495920" cy="40960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250920" y="0"/>
            <a:ext cx="792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ародные традиции росписи по папье - маше и метал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1692360" y="57340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едоскинская лаковая миниатю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84440" cy="4653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30720" y="1773360"/>
            <a:ext cx="4013280" cy="4959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450864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ву подмосковному промыслу принесли сцены народного быта- чаепития, тройки, свидания, сенокосы, сказочные и былинные персонажи,  народные праздники и обряды, портретная живопись, списки известных произведений искусст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3" descr="fedoskino-01"/>
          <p:cNvPicPr/>
          <p:nvPr/>
        </p:nvPicPr>
        <p:blipFill>
          <a:blip r:embed="rId1"/>
          <a:stretch/>
        </p:blipFill>
        <p:spPr>
          <a:xfrm>
            <a:off x="2340000" y="5246640"/>
            <a:ext cx="2016000" cy="161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4b2e4d37367a"/>
          <p:cNvPicPr/>
          <p:nvPr/>
        </p:nvPicPr>
        <p:blipFill>
          <a:blip r:embed="rId2"/>
          <a:stretch/>
        </p:blipFill>
        <p:spPr>
          <a:xfrm>
            <a:off x="0" y="2421000"/>
            <a:ext cx="3203640" cy="28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fedoskino2"/>
          <p:cNvPicPr/>
          <p:nvPr/>
        </p:nvPicPr>
        <p:blipFill>
          <a:blip r:embed="rId3"/>
          <a:stretch/>
        </p:blipFill>
        <p:spPr>
          <a:xfrm>
            <a:off x="0" y="5468760"/>
            <a:ext cx="2124000" cy="1389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210409_html_m57ca2e75"/>
          <p:cNvPicPr/>
          <p:nvPr/>
        </p:nvPicPr>
        <p:blipFill>
          <a:blip r:embed="rId4"/>
          <a:stretch/>
        </p:blipFill>
        <p:spPr>
          <a:xfrm>
            <a:off x="0" y="0"/>
            <a:ext cx="5724360" cy="240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fedoskino-06"/>
          <p:cNvPicPr/>
          <p:nvPr/>
        </p:nvPicPr>
        <p:blipFill>
          <a:blip r:embed="rId5"/>
          <a:stretch/>
        </p:blipFill>
        <p:spPr>
          <a:xfrm>
            <a:off x="6399360" y="2924280"/>
            <a:ext cx="2744640" cy="3933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6"/>
          <a:stretch/>
        </p:blipFill>
        <p:spPr>
          <a:xfrm>
            <a:off x="6300720" y="47520"/>
            <a:ext cx="2843280" cy="2730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2700360" y="184572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оративное оформление предметов дополнялось инкрустацией перламутром, геометрическим узором, набранных из пластинок металла (скань), гравировкой по лаку на подкладке из олова (цировка), росписью под черепаху, под красное дерево, под бересту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ссортимент издел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брики был очень разнообразен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рцы, шкатулки, коробочки, крышки альбомов, чайницы, очечники, кошельки, пасхальные яйц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a38b7ede9198"/>
          <p:cNvPicPr/>
          <p:nvPr/>
        </p:nvPicPr>
        <p:blipFill>
          <a:blip r:embed="rId7"/>
          <a:stretch/>
        </p:blipFill>
        <p:spPr>
          <a:xfrm>
            <a:off x="4716360" y="5445000"/>
            <a:ext cx="1584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0_476cf_2f427fe_xl"/>
          <p:cNvPicPr/>
          <p:nvPr/>
        </p:nvPicPr>
        <p:blipFill>
          <a:blip r:embed="rId1"/>
          <a:stretch/>
        </p:blipFill>
        <p:spPr>
          <a:xfrm>
            <a:off x="0" y="0"/>
            <a:ext cx="6121440" cy="45925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940360" y="2520"/>
            <a:ext cx="3203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Чем отличается Федоскино от других?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ервое и самое главное: в Федоскинской живописи используются масляные краски, а в Палехской, Холуйской и Мстёрской - яичная темпера.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торое: федоскинская миниатюра - это реалистическая живопись.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Трёхслойное письмо, применяемое в Федоскино, позволяет достичь эффекта глубины и объёма. Портреты людей выглядят реалистично, "как живые", в пейзаже и сюжетных сценах чувствуется "воздух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79280" y="494820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амое примечательное во всей истории Федоскина, что техника живописи, сложившаяся в первой половине 19 века, остается в целом неизменной до настоящ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опросы для закреп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1052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Что такое папье-маш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Где и когда зародилось искусство папье-маш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Кем и когда была открыта первая мастерская в Подмосковь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Кто владел фабрикой на протяжении 19 ве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Назовите особенности федоскинской лаковой миниатю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Ассортимент фабрики – это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опросы для повторени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" y="1865160"/>
            <a:ext cx="81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С какого века существует промысел художественной обработки древеси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5560" y="2060640"/>
            <a:ext cx="69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Когда появилась первая матре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916280"/>
            <a:ext cx="750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В каком городе появились игрушки-матре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170028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Родственники» матрешки: отец – русский художник по фамилии …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д -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844640"/>
            <a:ext cx="794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Чаще всего матрешки состояли из скольких кук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9760" y="206064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Матрешка – символ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8760" y="206064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Назовите отличительные черты матр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4320" y="198900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Изделия Бабенского  про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84464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Из какой древесины изготавливали детские бус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http://vseotvetytut.ru/wp-content/uploads/2012/08/mashe.jpeg"/>
          <p:cNvPicPr/>
          <p:nvPr/>
        </p:nvPicPr>
        <p:blipFill>
          <a:blip r:embed="rId1"/>
          <a:stretch/>
        </p:blipFill>
        <p:spPr>
          <a:xfrm>
            <a:off x="3132000" y="115920"/>
            <a:ext cx="3071880" cy="27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img0.liveinternet.ru/images/attach/c/4/81/277/81277174_1980311_31.jpg"/>
          <p:cNvPicPr/>
          <p:nvPr/>
        </p:nvPicPr>
        <p:blipFill>
          <a:blip r:embed="rId2"/>
          <a:stretch/>
        </p:blipFill>
        <p:spPr>
          <a:xfrm>
            <a:off x="0" y="2825640"/>
            <a:ext cx="6227640" cy="403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41964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апье́-маше́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  — легко поддающаяся формовке масса, получаемая из смеси волокнистых материалов (бумаги, картона) с клеящими веществами, крахмалом, гипсом и т. 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kak-sdelati.ru/wp-content/uploads/2012/10/Papier-Mache.jpg"/>
          <p:cNvPicPr/>
          <p:nvPr/>
        </p:nvPicPr>
        <p:blipFill>
          <a:blip r:embed="rId3"/>
          <a:stretch/>
        </p:blipFill>
        <p:spPr>
          <a:xfrm>
            <a:off x="6227640" y="119160"/>
            <a:ext cx="2916360" cy="277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www.uzbekistans.ru/images/stories/post-3939-1168505400_thumb.jpg"/>
          <p:cNvPicPr/>
          <p:nvPr/>
        </p:nvPicPr>
        <p:blipFill>
          <a:blip r:embed="rId4"/>
          <a:stretch/>
        </p:blipFill>
        <p:spPr>
          <a:xfrm>
            <a:off x="6067440" y="2852640"/>
            <a:ext cx="312588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8920" y="3689280"/>
            <a:ext cx="302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усств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апье – маше зародилось в Кита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разу же после изобретения бумаг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11в н.э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img-fotki.yandex.ru/get/4517/95361786.3f/0_82269_9d6538f5_XL"/>
          <p:cNvPicPr/>
          <p:nvPr/>
        </p:nvPicPr>
        <p:blipFill>
          <a:blip r:embed="rId1"/>
          <a:stretch/>
        </p:blipFill>
        <p:spPr>
          <a:xfrm>
            <a:off x="0" y="0"/>
            <a:ext cx="5457960" cy="350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lavkadrevnostey.kz/assets/components/phpthumbof/cache/527822a43fbd132ecb62775384779897.f29f7e0370c52926f6338c4724bc46d9.jpg"/>
          <p:cNvPicPr/>
          <p:nvPr/>
        </p:nvPicPr>
        <p:blipFill>
          <a:blip r:embed="rId2"/>
          <a:stretch/>
        </p:blipFill>
        <p:spPr>
          <a:xfrm>
            <a:off x="3981600" y="3119400"/>
            <a:ext cx="516240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600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России  папье-маше стало популярно в  эпоху Петра 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 папье-маше изготавливался очень широкий ассортимент изделий : табакерки, шкатулки, игрушки, маски, подносы, архитектурная  лепнина для стен и потолков, подсвечники, рамы для зеркал, декоративные панели для стен, двер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&amp;pcy;&amp;acy;&amp;pcy;&amp;softcy;&amp;iecy;-&amp;mcy;&amp;acy;&amp;shcy;&amp;iecy; &amp;pcy;&amp;ocy;&amp;lcy;&amp;kcy;&amp;acy;"/>
          <p:cNvPicPr/>
          <p:nvPr/>
        </p:nvPicPr>
        <p:blipFill>
          <a:blip r:embed="rId1"/>
          <a:stretch/>
        </p:blipFill>
        <p:spPr>
          <a:xfrm>
            <a:off x="5651640" y="189000"/>
            <a:ext cx="2714400" cy="236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c-a-m.narod.ru/techno/papie-mashe-pict/buro.JPG"/>
          <p:cNvPicPr/>
          <p:nvPr/>
        </p:nvPicPr>
        <p:blipFill>
          <a:blip r:embed="rId2"/>
          <a:stretch/>
        </p:blipFill>
        <p:spPr>
          <a:xfrm>
            <a:off x="3635280" y="18900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turometr.s3.amazonaws.com/images/gallery/01/73/79/2010/08/18/768a3b__37bd35c243_600.jpg"/>
          <p:cNvPicPr/>
          <p:nvPr/>
        </p:nvPicPr>
        <p:blipFill>
          <a:blip r:embed="rId3"/>
          <a:stretch/>
        </p:blipFill>
        <p:spPr>
          <a:xfrm>
            <a:off x="3708360" y="3068640"/>
            <a:ext cx="4714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0224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0" y="3859200"/>
            <a:ext cx="8962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Родиной художественных лаков является Китай, г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они были известны уже в глубокой древности. </a:t>
            </a: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Пер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мастерская по изготовлению лаковых изделий в Подмосков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основана в 1795 году купцом Коробовым в Данилко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части села Федоскино (современный Мытищинский райо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здесь 212 лет назад зародился один из видов русских народных промыслов – роспись небольших черных лаковых коробочек из папье-ма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2" descr="720522"/>
          <p:cNvPicPr/>
          <p:nvPr/>
        </p:nvPicPr>
        <p:blipFill>
          <a:blip r:embed="rId1"/>
          <a:stretch/>
        </p:blipFill>
        <p:spPr>
          <a:xfrm>
            <a:off x="6537240" y="4686480"/>
            <a:ext cx="2606760" cy="217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720513"/>
          <p:cNvPicPr/>
          <p:nvPr/>
        </p:nvPicPr>
        <p:blipFill>
          <a:blip r:embed="rId2"/>
          <a:stretch/>
        </p:blipFill>
        <p:spPr>
          <a:xfrm>
            <a:off x="0" y="4724280"/>
            <a:ext cx="210816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napoleon_tabakerka"/>
          <p:cNvPicPr/>
          <p:nvPr/>
        </p:nvPicPr>
        <p:blipFill>
          <a:blip r:embed="rId3"/>
          <a:stretch/>
        </p:blipFill>
        <p:spPr>
          <a:xfrm>
            <a:off x="1332000" y="0"/>
            <a:ext cx="6408720" cy="3573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0" y="3429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его уходит корнями в глубь времен, когда московский купец Петр Коробов, владелец одной из многочисленных тогда бумажных табакерочных фабрик, отправился в Германию, где посетил фабрику Иоганна Штобвассера в Брауншвейге и привез в качестве образцов круглые табакерки с живописью. В этом же году в с. Данилково (ныне Федоскино) приобретается земля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124000" y="4843440"/>
            <a:ext cx="44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брику для производства такого рода изделий. Вслед за ней в соседних деревнях налаживались аналогичные производства – в Жостово, Осташково и т.д. Таким образом, вокруг этих сел формировался крупный центр лакировального промы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116280"/>
            <a:ext cx="82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24 году во владение фабрикой вступает Петр Лукутин – зять Коробова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 протяжении всего 19 века ею владеет семья Лукути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1828 года Лукутин участвует в российских и зарубежных художественно-промышленных выставках и неизменно удостаивается различных высших наград. Тогда же Лукутин был удостоен права клеймения своих изделий государственным гербом – двуглавым орл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ремя расцвета профессиональной миниатюрной живописи в России. Изделия этого времени называют «лукутинскими». Мастера работали на фабрике по найму. Известны имена некоторых из них — С. И. Бородкин, А. А. Шаврин, А. В. Тихомиров, Д. А. Крылов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621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www.antik-invest.ru/blog/wp-content/uploads/%d1%84%d0%b0%d0%b1%d1%80%d0%b8%d0%ba%d0%b0-%d0%9f.%d0%92.-%d0%9b%d1%83%d0%ba%d1%83%d1%82%d0%b8%d0%bd%d0%b0-1818-1828-%d0%b3%d0%be%d0%b4%d1%8b-.jpg"/>
          <p:cNvPicPr/>
          <p:nvPr/>
        </p:nvPicPr>
        <p:blipFill>
          <a:blip r:embed="rId1"/>
          <a:stretch/>
        </p:blipFill>
        <p:spPr>
          <a:xfrm>
            <a:off x="468360" y="2924280"/>
            <a:ext cx="3771720" cy="393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ttp://www.antik-invest.ru/blog/wp-content/uploads/%d1%84%d0%b0%d0%b1%d1%80%d0%b8%d0%ba%d0%b0-%d0%9f.%d0%92.-%d0%b8-%d0%90.%d0%9f.-%d0%9b%d1%83%d0%ba%d1%83%d1%82%d0%b8%d0%bd%d1%8b%d1%85-1843-1863-%d0%b3%d0%be%d0%b4%d1%8b-.jpg"/>
          <p:cNvPicPr/>
          <p:nvPr/>
        </p:nvPicPr>
        <p:blipFill>
          <a:blip r:embed="rId2"/>
          <a:stretch/>
        </p:blipFill>
        <p:spPr>
          <a:xfrm>
            <a:off x="4284720" y="2897280"/>
            <a:ext cx="45720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9f360a349665"/>
          <p:cNvPicPr/>
          <p:nvPr/>
        </p:nvPicPr>
        <p:blipFill>
          <a:blip r:embed="rId1"/>
          <a:stretch/>
        </p:blipFill>
        <p:spPr>
          <a:xfrm>
            <a:off x="6084720" y="3149640"/>
            <a:ext cx="2727360" cy="370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i-3858"/>
          <p:cNvPicPr/>
          <p:nvPr/>
        </p:nvPicPr>
        <p:blipFill>
          <a:blip r:embed="rId2"/>
          <a:stretch/>
        </p:blipFill>
        <p:spPr>
          <a:xfrm>
            <a:off x="4764240" y="0"/>
            <a:ext cx="4379760" cy="31813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250920" y="363744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ью федоскинской лаковой миниатюры является живопись маслом в три- четыре сло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малевоек, пропись, лессировка, бликовка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унтованной поверхност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апье-ма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 специальным подкладкам, каждый слой лакирую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ачестве подкладок широко использовались пластинки перламутра, листики сусального золота, серебряная фольга, металлические пор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живописи предмет полируется до зеркального бле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0_30599_219fb374_XL"/>
          <p:cNvPicPr/>
          <p:nvPr/>
        </p:nvPicPr>
        <p:blipFill>
          <a:blip r:embed="rId3"/>
          <a:stretch/>
        </p:blipFill>
        <p:spPr>
          <a:xfrm>
            <a:off x="0" y="0"/>
            <a:ext cx="43927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3:23:32Z</dcterms:created>
  <dc:creator>Home-PC</dc:creator>
  <dc:description/>
  <dc:language>en-US</dc:language>
  <cp:lastModifiedBy>ЕЛЕНА</cp:lastModifiedBy>
  <dcterms:modified xsi:type="dcterms:W3CDTF">2013-03-12T12:52:06Z</dcterms:modified>
  <cp:revision>12</cp:revision>
  <dc:subject/>
  <dc:title>Слайд 1</dc:title>
</cp:coreProperties>
</file>