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4.gif" ContentType="image/gif"/>
  <Override PartName="/ppt/media/image7.png" ContentType="image/png"/>
  <Override PartName="/ppt/media/image12.png" ContentType="image/png"/>
  <Override PartName="/ppt/media/image19.gif" ContentType="image/gif"/>
  <Override PartName="/ppt/media/image1.gif" ContentType="image/gif"/>
  <Override PartName="/ppt/media/image10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6.jpeg" ContentType="image/jpeg"/>
  <Override PartName="/ppt/media/image5.png" ContentType="image/png"/>
  <Override PartName="/ppt/media/image2.gif" ContentType="image/gif"/>
  <Override PartName="/ppt/media/image11.png" ContentType="image/png"/>
  <Override PartName="/ppt/media/image6.png" ContentType="image/png"/>
  <Override PartName="/ppt/media/image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CC36D-970D-4480-96A5-DAFF53DFE6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B1ECB-F10D-4872-851E-E9EEE9A372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097D9-CF9F-4338-933E-EDCE408E23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ABAEC-048C-4015-98ED-4F9EA481EA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CFDFD-FFBA-4619-8258-E0DF88ED11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1DD1F-8FC7-4FBA-8C71-90BD0D30BD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73100-CE5E-4F89-BF6F-69EF39B333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41A70-849F-4BBF-90A7-E6C45855EC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C9CFD-9640-4C60-B3CC-927D89429F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FAC9F-0E60-4CEB-A770-31462805DB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F40D1-4F88-4EEE-899B-1726D5C9D8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27662-599C-481E-A1C5-3DCB5E14DC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774C-7C2C-4445-8E98-F26DBA817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706A-34D2-4D91-87E2-824A6A3B5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C177-AC37-4949-A44B-967E26EE3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B62D-4D77-47D9-B842-B9122EEF7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8F88-BDF7-43D7-8CC7-3A749CE2B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EBB3-3894-4AB7-B281-1FD588089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177B-56AF-48DE-AC6A-EC7344222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CEA9-7EAB-4CAA-8AFB-DE1F3DBE8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36A2-C997-4A96-A79E-B3CFE643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6E2E-89D6-4215-BEDE-A37B188A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DF6D-FDA6-4659-8FC5-20527A90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84AB-359E-4BB0-B4AE-DD4BDFBF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28E07-E38E-49BF-8AC8-A2F98B7DAE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aea"/>
            </a:gs>
            <a:gs pos="100000">
              <a:srgbClr val="ffcc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Звуки и букв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68360" y="400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полнила: Калинина Е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итель-логоп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С(к)ОУ школы-интерната №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. Магнитогор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98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98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Хл_потливый ежик готовит ж_лище на з_м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1187280" y="404640"/>
            <a:ext cx="6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0093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6948360" y="620640"/>
            <a:ext cx="50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7074000" y="347760"/>
            <a:ext cx="44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0093"/>
                </a:solidFill>
                <a:latin typeface="Times New Roman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4643280" y="5300640"/>
            <a:ext cx="5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0093"/>
                </a:solidFill>
                <a:latin typeface="Times New Roman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8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2.22222E-006 4.07407E-006 L 0.00799 0.2625 E">
                                      <p:cBhvr>
                                        <p:cTn id="409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4.44444E-006 -2.59259E-006 L -0.0158 0.27292 E">
                                      <p:cBhvr>
                                        <p:cTn id="420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6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7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3.61111E-006 -2.96296E-006 L -0.00781 -0.36736 E">
                                      <p:cBhvr>
                                        <p:cTn id="431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ru-RU" sz="3600" spc="-1" strike="noStrike">
                <a:solidFill>
                  <a:srgbClr val="d60093"/>
                </a:solidFill>
                <a:latin typeface="Times New Roman"/>
              </a:rPr>
              <a:t>а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кает он в н</a:t>
            </a:r>
            <a:r>
              <a:rPr b="1" lang="ru-RU" sz="3600" spc="-1" strike="noStrike">
                <a:solidFill>
                  <a:srgbClr val="d60093"/>
                </a:solidFill>
                <a:latin typeface="Times New Roman"/>
              </a:rPr>
              <a:t>о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у л</a:t>
            </a:r>
            <a:r>
              <a:rPr b="1" lang="ru-RU" sz="3600" spc="-1" strike="noStrike">
                <a:solidFill>
                  <a:srgbClr val="d60093"/>
                </a:solidFill>
                <a:latin typeface="Times New Roman"/>
              </a:rPr>
              <a:t>и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точки и мо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ступила х</a:t>
            </a:r>
            <a:r>
              <a:rPr b="1" lang="ru-RU" sz="3600" spc="-1" strike="noStrike">
                <a:solidFill>
                  <a:srgbClr val="d60093"/>
                </a:solidFill>
                <a:latin typeface="Times New Roman"/>
              </a:rPr>
              <a:t>о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лодная  </a:t>
            </a:r>
            <a:r>
              <a:rPr b="1" lang="ru-RU" sz="3600" spc="-1" strike="noStrike">
                <a:solidFill>
                  <a:srgbClr val="d60093"/>
                </a:solidFill>
                <a:latin typeface="Times New Roman"/>
              </a:rPr>
              <a:t>о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ен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ru-RU" sz="3600" spc="-1" strike="noStrike">
                <a:solidFill>
                  <a:srgbClr val="d60093"/>
                </a:solidFill>
                <a:latin typeface="Times New Roman"/>
              </a:rPr>
              <a:t>и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ой накроет его н</a:t>
            </a:r>
            <a:r>
              <a:rPr b="1" lang="ru-RU" sz="3600" spc="-1" strike="noStrike">
                <a:solidFill>
                  <a:srgbClr val="d60093"/>
                </a:solidFill>
                <a:latin typeface="Times New Roman"/>
              </a:rPr>
              <a:t>о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у глубо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угро</a:t>
            </a:r>
            <a:r>
              <a:rPr b="1" lang="ru-RU" sz="3600" spc="-1" strike="noStrike">
                <a:solidFill>
                  <a:srgbClr val="d60093"/>
                </a:solidFill>
                <a:latin typeface="Times New Roman"/>
              </a:rPr>
              <a:t>б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д пуш</a:t>
            </a:r>
            <a:r>
              <a:rPr b="1" lang="ru-RU" sz="3600" spc="-1" strike="noStrike">
                <a:solidFill>
                  <a:srgbClr val="d60093"/>
                </a:solidFill>
                <a:latin typeface="Times New Roman"/>
              </a:rPr>
              <a:t>и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тым одеялом т</a:t>
            </a:r>
            <a:r>
              <a:rPr b="1" lang="ru-RU" sz="3600" spc="-1" strike="noStrike">
                <a:solidFill>
                  <a:srgbClr val="d60093"/>
                </a:solidFill>
                <a:latin typeface="Times New Roman"/>
              </a:rPr>
              <a:t>е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ло ежу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Хл</a:t>
            </a:r>
            <a:r>
              <a:rPr b="1" lang="ru-RU" sz="3600" spc="-1" strike="noStrike">
                <a:solidFill>
                  <a:srgbClr val="d60093"/>
                </a:solidFill>
                <a:latin typeface="Times New Roman"/>
              </a:rPr>
              <a:t>о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тливый ежик готовит ж</a:t>
            </a:r>
            <a:r>
              <a:rPr b="1" lang="ru-RU" sz="3600" spc="-1" strike="noStrike">
                <a:solidFill>
                  <a:srgbClr val="d60093"/>
                </a:solidFill>
                <a:latin typeface="Times New Roman"/>
              </a:rPr>
              <a:t>и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лищ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 з</a:t>
            </a:r>
            <a:r>
              <a:rPr b="1" lang="ru-RU" sz="3600" spc="-1" strike="noStrike">
                <a:solidFill>
                  <a:srgbClr val="d60093"/>
                </a:solidFill>
                <a:latin typeface="Times New Roman"/>
              </a:rPr>
              <a:t>и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3419640" y="5805360"/>
            <a:ext cx="23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4653 E">
                                      <p:cBhvr>
                                        <p:cTn id="437" dur="2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61944 E">
                                      <p:cBhvr>
                                        <p:cTn id="441" dur="20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61944 E">
                                      <p:cBhvr>
                                        <p:cTn id="443" dur="20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07361 E">
                                      <p:cBhvr>
                                        <p:cTn id="447" dur="2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07361 E">
                                      <p:cBhvr>
                                        <p:cTn id="449" dur="2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08403 E">
                                      <p:cBhvr>
                                        <p:cTn id="453" dur="2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1"/>
          <p:cNvSpPr/>
          <p:nvPr/>
        </p:nvSpPr>
        <p:spPr>
          <a:xfrm>
            <a:off x="179280" y="1365840"/>
            <a:ext cx="8713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ступила х</a:t>
            </a:r>
            <a:r>
              <a:rPr b="1" lang="ru-RU" sz="3200" spc="-1" strike="noStrike">
                <a:solidFill>
                  <a:srgbClr val="d60093"/>
                </a:solidFill>
                <a:latin typeface="Times New Roman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одная </a:t>
            </a:r>
            <a:r>
              <a:rPr b="1" lang="ru-RU" sz="3200" spc="-1" strike="noStrike">
                <a:solidFill>
                  <a:srgbClr val="d60093"/>
                </a:solidFill>
                <a:latin typeface="Times New Roman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ень. Хл</a:t>
            </a:r>
            <a:r>
              <a:rPr b="1" lang="ru-RU" sz="3200" spc="-1" strike="noStrike">
                <a:solidFill>
                  <a:srgbClr val="d60093"/>
                </a:solidFill>
                <a:latin typeface="Times New Roman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тливый ежик готовит ж</a:t>
            </a:r>
            <a:r>
              <a:rPr b="1" lang="ru-RU" sz="3200" spc="-1" strike="noStrike">
                <a:solidFill>
                  <a:srgbClr val="d60093"/>
                </a:solidFill>
                <a:latin typeface="Times New Roman"/>
              </a:rPr>
              <a:t>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ище на з</a:t>
            </a:r>
            <a:r>
              <a:rPr b="1" lang="ru-RU" sz="3200" spc="-1" strike="noStrike">
                <a:solidFill>
                  <a:srgbClr val="d60093"/>
                </a:solidFill>
                <a:latin typeface="Times New Roman"/>
              </a:rPr>
              <a:t>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у. Т</a:t>
            </a:r>
            <a:r>
              <a:rPr b="1" lang="ru-RU" sz="3200" spc="-1" strike="noStrike">
                <a:solidFill>
                  <a:srgbClr val="d60093"/>
                </a:solidFill>
                <a:latin typeface="Times New Roman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кает он в н</a:t>
            </a:r>
            <a:r>
              <a:rPr b="1" lang="ru-RU" sz="3200" spc="-1" strike="noStrike">
                <a:solidFill>
                  <a:srgbClr val="d60093"/>
                </a:solidFill>
                <a:latin typeface="Times New Roman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у л</a:t>
            </a:r>
            <a:r>
              <a:rPr b="1" lang="ru-RU" sz="3200" spc="-1" strike="noStrike">
                <a:solidFill>
                  <a:srgbClr val="d60093"/>
                </a:solidFill>
                <a:latin typeface="Times New Roman"/>
              </a:rPr>
              <a:t>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очки и мох. З</a:t>
            </a:r>
            <a:r>
              <a:rPr b="1" lang="ru-RU" sz="3200" spc="-1" strike="noStrike">
                <a:solidFill>
                  <a:srgbClr val="d60093"/>
                </a:solidFill>
                <a:latin typeface="Times New Roman"/>
              </a:rPr>
              <a:t>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ой накроет его н</a:t>
            </a:r>
            <a:r>
              <a:rPr b="1" lang="ru-RU" sz="3200" spc="-1" strike="noStrike">
                <a:solidFill>
                  <a:srgbClr val="d60093"/>
                </a:solidFill>
                <a:latin typeface="Times New Roman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у глубокий сугро</a:t>
            </a:r>
            <a:r>
              <a:rPr b="1" lang="ru-RU" sz="3200" spc="-1" strike="noStrike">
                <a:solidFill>
                  <a:srgbClr val="d60093"/>
                </a:solidFill>
                <a:latin typeface="Times New Roman"/>
              </a:rPr>
              <a:t>б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 Под пуш</a:t>
            </a:r>
            <a:r>
              <a:rPr b="1" lang="ru-RU" sz="3200" spc="-1" strike="noStrike">
                <a:solidFill>
                  <a:srgbClr val="d60093"/>
                </a:solidFill>
                <a:latin typeface="Times New Roman"/>
              </a:rPr>
              <a:t>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ым одеялом т</a:t>
            </a:r>
            <a:r>
              <a:rPr b="1" lang="ru-RU" sz="3200" spc="-1" strike="noStrike">
                <a:solidFill>
                  <a:srgbClr val="d60093"/>
                </a:solidFill>
                <a:latin typeface="Times New Roman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ло еж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еж"/>
          <p:cNvPicPr/>
          <p:nvPr/>
        </p:nvPicPr>
        <p:blipFill>
          <a:blip r:embed="rId1"/>
          <a:stretch/>
        </p:blipFill>
        <p:spPr>
          <a:xfrm>
            <a:off x="3851280" y="4076640"/>
            <a:ext cx="1427040" cy="1630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leaf2bar"/>
          <p:cNvPicPr/>
          <p:nvPr/>
        </p:nvPicPr>
        <p:blipFill>
          <a:blip r:embed="rId2"/>
          <a:stretch/>
        </p:blipFill>
        <p:spPr>
          <a:xfrm>
            <a:off x="250920" y="260280"/>
            <a:ext cx="8569080" cy="695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3" descr="leaf2bar"/>
          <p:cNvPicPr/>
          <p:nvPr/>
        </p:nvPicPr>
        <p:blipFill>
          <a:blip r:embed="rId3"/>
          <a:stretch/>
        </p:blipFill>
        <p:spPr>
          <a:xfrm>
            <a:off x="250920" y="5661000"/>
            <a:ext cx="849780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8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aea"/>
            </a:gs>
            <a:gs pos="100000">
              <a:srgbClr val="ffcc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сточники: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ww.Google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78"/>
          <p:cNvPicPr/>
          <p:nvPr/>
        </p:nvPicPr>
        <p:blipFill>
          <a:blip r:embed="rId1"/>
          <a:stretch/>
        </p:blipFill>
        <p:spPr>
          <a:xfrm>
            <a:off x="2916360" y="1125360"/>
            <a:ext cx="3456000" cy="4537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l2[1]"/>
          <p:cNvPicPr/>
          <p:nvPr/>
        </p:nvPicPr>
        <p:blipFill>
          <a:blip r:embed="rId2"/>
          <a:stretch/>
        </p:blipFill>
        <p:spPr>
          <a:xfrm>
            <a:off x="3564000" y="1268280"/>
            <a:ext cx="3887640" cy="3745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sun_tu4a[1]"/>
          <p:cNvPicPr/>
          <p:nvPr/>
        </p:nvPicPr>
        <p:blipFill>
          <a:blip r:embed="rId3"/>
          <a:stretch/>
        </p:blipFill>
        <p:spPr>
          <a:xfrm>
            <a:off x="5148360" y="1916280"/>
            <a:ext cx="2305080" cy="2049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128"/>
          <p:cNvPicPr/>
          <p:nvPr/>
        </p:nvPicPr>
        <p:blipFill>
          <a:blip r:embed="rId4"/>
          <a:stretch/>
        </p:blipFill>
        <p:spPr>
          <a:xfrm>
            <a:off x="1979640" y="2133720"/>
            <a:ext cx="1201680" cy="12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2" descr="D:\+WORK\Картинки\логопедия картинки\z_46.gif"/>
          <p:cNvPicPr/>
          <p:nvPr/>
        </p:nvPicPr>
        <p:blipFill>
          <a:blip r:embed="rId1"/>
          <a:stretch/>
        </p:blipFill>
        <p:spPr>
          <a:xfrm>
            <a:off x="892080" y="3714840"/>
            <a:ext cx="1656000" cy="2235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"/>
          <p:cNvPicPr/>
          <p:nvPr/>
        </p:nvPicPr>
        <p:blipFill>
          <a:blip r:embed="rId2"/>
          <a:stretch/>
        </p:blipFill>
        <p:spPr>
          <a:xfrm>
            <a:off x="6300720" y="4149720"/>
            <a:ext cx="2519280" cy="1871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"/>
          <p:cNvPicPr/>
          <p:nvPr/>
        </p:nvPicPr>
        <p:blipFill>
          <a:blip r:embed="rId3"/>
          <a:stretch/>
        </p:blipFill>
        <p:spPr>
          <a:xfrm>
            <a:off x="6372360" y="765000"/>
            <a:ext cx="1800000" cy="1597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"/>
          <p:cNvPicPr/>
          <p:nvPr/>
        </p:nvPicPr>
        <p:blipFill>
          <a:blip r:embed="rId4"/>
          <a:stretch/>
        </p:blipFill>
        <p:spPr>
          <a:xfrm>
            <a:off x="3995640" y="2133720"/>
            <a:ext cx="1370160" cy="2449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684360" y="549360"/>
            <a:ext cx="223200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2206800" cy="1865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5219640" y="4221000"/>
            <a:ext cx="2817720" cy="1668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3"/>
          <a:stretch/>
        </p:blipFill>
        <p:spPr>
          <a:xfrm>
            <a:off x="6012000" y="981000"/>
            <a:ext cx="2247840" cy="2148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4"/>
          <a:stretch/>
        </p:blipFill>
        <p:spPr>
          <a:xfrm>
            <a:off x="1547640" y="3860640"/>
            <a:ext cx="1862280" cy="22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8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8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8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>
            <a:alpha val="4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nach22-03[1]"/>
          <p:cNvPicPr/>
          <p:nvPr/>
        </p:nvPicPr>
        <p:blipFill>
          <a:blip r:embed="rId1"/>
          <a:stretch/>
        </p:blipFill>
        <p:spPr>
          <a:xfrm>
            <a:off x="250920" y="189000"/>
            <a:ext cx="3024000" cy="2735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nach22-02[1]"/>
          <p:cNvPicPr/>
          <p:nvPr/>
        </p:nvPicPr>
        <p:blipFill>
          <a:blip r:embed="rId2"/>
          <a:stretch/>
        </p:blipFill>
        <p:spPr>
          <a:xfrm>
            <a:off x="6372360" y="260280"/>
            <a:ext cx="2543040" cy="5616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main_3[1]"/>
          <p:cNvPicPr/>
          <p:nvPr/>
        </p:nvPicPr>
        <p:blipFill>
          <a:blip r:embed="rId3"/>
          <a:srcRect l="9850" t="9039" r="9850" b="13559"/>
          <a:stretch/>
        </p:blipFill>
        <p:spPr>
          <a:xfrm>
            <a:off x="324000" y="3429000"/>
            <a:ext cx="2952720" cy="2879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ti-187798-27119[1]"/>
          <p:cNvPicPr/>
          <p:nvPr/>
        </p:nvPicPr>
        <p:blipFill>
          <a:blip r:embed="rId4"/>
          <a:stretch/>
        </p:blipFill>
        <p:spPr>
          <a:xfrm>
            <a:off x="3564000" y="1484280"/>
            <a:ext cx="2592360" cy="27399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8"/>
          <p:cNvSpPr/>
          <p:nvPr/>
        </p:nvSpPr>
        <p:spPr>
          <a:xfrm>
            <a:off x="0" y="2349360"/>
            <a:ext cx="21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клё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395280" y="5661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ду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3708360" y="407664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ряб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6443640" y="573408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берё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2420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Т_скает  он  в  н_ру  л_сточки и мо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684360" y="549360"/>
            <a:ext cx="5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0093"/>
                </a:solidFill>
                <a:latin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3635280" y="566100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0093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7093080" y="620640"/>
            <a:ext cx="5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0093"/>
                </a:solidFill>
                <a:latin typeface="Times New Roman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4.16667E-006 -1.85185E-006 L 0.03246 0.34167 E">
                                      <p:cBhvr>
                                        <p:cTn id="263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1.11111E-006 -2.22222E-006 L 0.04045 -0.4037 E">
                                      <p:cBhvr>
                                        <p:cTn id="274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3.61111E-006 1.48148E-006 L -0.20573 0.33125 E">
                                      <p:cBhvr>
                                        <p:cTn id="285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1547640" y="2492280"/>
            <a:ext cx="603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ступила х_лодная  _сень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1258920" y="98100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1403280" y="54450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3.05556E-006 -4.81481E-006 L 0.31615 0.21575 E">
                                      <p:cBhvr>
                                        <p:cTn id="305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1.66667E-006 2.70183E-006 L 0.50504 -0.42448 E">
                                      <p:cBhvr>
                                        <p:cTn id="316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0560" y="2205000"/>
            <a:ext cx="8713800" cy="15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_мой накроет его н_ру глубокий  сугро_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1258920" y="54936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0093"/>
                </a:solidFill>
                <a:latin typeface="Times New Roman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4211640" y="620640"/>
            <a:ext cx="7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5292720" y="54936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0093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4859280" y="580536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0093"/>
                </a:solidFill>
                <a:latin typeface="Times New Roman"/>
              </a:rPr>
              <a:t>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2.77778E-006 -1.85185E-006 L -0.00069 0.22616 E">
                                      <p:cBhvr>
                                        <p:cTn id="336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1.11111E-006 -1.85185E-006 L -0.00695 0.22616 E">
                                      <p:cBhvr>
                                        <p:cTn id="347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3.05556E-006 2.96296E-006 L 0.00122 -0.45625 E">
                                      <p:cBhvr>
                                        <p:cTn id="358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280" y="1988640"/>
            <a:ext cx="8229600" cy="157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д пуш_стым одеялом т_пло ежу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556000" y="476280"/>
            <a:ext cx="7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2700360" y="47628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0093"/>
                </a:solidFill>
                <a:latin typeface="Times New Roman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6084720" y="4653000"/>
            <a:ext cx="5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0093"/>
                </a:solidFill>
                <a:latin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1.66667E-006 -3.7037E-006 L -0.01666 0.24723 E">
                                      <p:cBhvr>
                                        <p:cTn id="378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1.94444E-006 -1.48148E-006 L 0.00243 -0.3618 E">
                                      <p:cBhvr>
                                        <p:cTn id="389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7:28:48Z</dcterms:created>
  <dc:creator>111</dc:creator>
  <dc:description/>
  <dc:language>en-US</dc:language>
  <cp:lastModifiedBy>Admin</cp:lastModifiedBy>
  <dcterms:modified xsi:type="dcterms:W3CDTF">2010-01-29T14:09:08Z</dcterms:modified>
  <cp:revision>13</cp:revision>
  <dc:subject/>
  <dc:title>Слайд 1</dc:title>
</cp:coreProperties>
</file>