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19.gif" ContentType="image/gif"/>
  <Override PartName="/ppt/media/image1.gif" ContentType="image/gif"/>
  <Override PartName="/ppt/media/image10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3BFB-C6ED-4742-BDFF-F5E8C66DF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F336-A227-41DE-9ED2-2D834E31F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0C3-5A2C-42CF-8A44-43621E011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EB0F-4FB4-4AA7-A456-A2FC73E94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2E46-240B-4569-A1CC-2136640BD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936C-7003-4EF6-9E94-51880E74A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C07F-F186-410E-A4C3-7DEA10CD6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1F87-6733-42AB-AF89-F9084AF13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6263-E875-41D7-83C1-E861BAC643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08B6-A875-41E8-9A93-F9857C8DC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6789-C4AD-4306-BEEA-EDD3DAC58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17E-DFEE-4CDC-9904-A12723EBB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277-89DA-488C-BF6C-E3F91437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799-61AB-4B2F-AA4C-C491AE7B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A91-DBE9-4A0D-AD55-AE408C4C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C4A-1CF7-47E0-BB20-9D43F050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0F9-9044-47E9-93F1-73DE7A32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BBB-A894-4E02-8BAC-9F27101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A70-0208-4537-99A1-732E9E2D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55D-B8FE-48D7-9B08-73DB7D3E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C62-732B-4B61-9B36-64875E6F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AEB-714D-4BA3-9D2D-A8401DE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490-C3AE-4808-A468-2DF6520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88A-2BF9-4AB2-9848-E47D4A17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E6A-3A56-4791-8DDB-C748D2A1C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aea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Звуки и бук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а: Калинин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С(к)ОУ школы-интерната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Магнитог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л_потливый ежик готовит ж_лище на з_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87280" y="404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948360" y="62064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074000" y="34776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643280" y="5300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4.07407E-006 L 0.00799 0.2625 E">
                                      <p:cBhvr>
                                        <p:cTn id="40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-2.59259E-006 L -0.0158 0.27292 E">
                                      <p:cBhvr>
                                        <p:cTn id="42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-2.96296E-006 L -0.00781 -0.36736 E">
                                      <p:cBhvr>
                                        <p:cTn id="43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кает он в н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у л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очки и мо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ступила х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одная  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й накроет его н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у глубо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гро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б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 пуш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ым одеялом т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 еж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л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ливый ежик готовит ж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з</a:t>
            </a: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419640" y="5805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53 E">
                                      <p:cBhvr>
                                        <p:cTn id="437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61944 E">
                                      <p:cBhvr>
                                        <p:cTn id="441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61944 E">
                                      <p:cBhvr>
                                        <p:cTn id="443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61 E">
                                      <p:cBhvr>
                                        <p:cTn id="447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61 E">
                                      <p:cBhvr>
                                        <p:cTn id="4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8403 E">
                                      <p:cBhvr>
                                        <p:cTn id="453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179280" y="13658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ступила х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дная 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нь. Хл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ливый ежик готовит ж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ще на з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. Т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ает он в н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 л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чки и мох. З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й накроет его н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 глубокий сугро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од пуш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ым одеялом т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 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еж"/>
          <p:cNvPicPr/>
          <p:nvPr/>
        </p:nvPicPr>
        <p:blipFill>
          <a:blip r:embed="rId1"/>
          <a:stretch/>
        </p:blipFill>
        <p:spPr>
          <a:xfrm>
            <a:off x="3851280" y="4076640"/>
            <a:ext cx="1427040" cy="163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leaf2bar"/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69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leaf2bar"/>
          <p:cNvPicPr/>
          <p:nvPr/>
        </p:nvPicPr>
        <p:blipFill>
          <a:blip r:embed="rId3"/>
          <a:stretch/>
        </p:blipFill>
        <p:spPr>
          <a:xfrm>
            <a:off x="250920" y="5661000"/>
            <a:ext cx="84978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aea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Googl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78"/>
          <p:cNvPicPr/>
          <p:nvPr/>
        </p:nvPicPr>
        <p:blipFill>
          <a:blip r:embed="rId1"/>
          <a:stretch/>
        </p:blipFill>
        <p:spPr>
          <a:xfrm>
            <a:off x="2916360" y="1125360"/>
            <a:ext cx="3456000" cy="453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l2[1]"/>
          <p:cNvPicPr/>
          <p:nvPr/>
        </p:nvPicPr>
        <p:blipFill>
          <a:blip r:embed="rId2"/>
          <a:stretch/>
        </p:blipFill>
        <p:spPr>
          <a:xfrm>
            <a:off x="3564000" y="1268280"/>
            <a:ext cx="3887640" cy="374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sun_tu4a[1]"/>
          <p:cNvPicPr/>
          <p:nvPr/>
        </p:nvPicPr>
        <p:blipFill>
          <a:blip r:embed="rId3"/>
          <a:stretch/>
        </p:blipFill>
        <p:spPr>
          <a:xfrm>
            <a:off x="5148360" y="1916280"/>
            <a:ext cx="2305080" cy="204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128"/>
          <p:cNvPicPr/>
          <p:nvPr/>
        </p:nvPicPr>
        <p:blipFill>
          <a:blip r:embed="rId4"/>
          <a:stretch/>
        </p:blipFill>
        <p:spPr>
          <a:xfrm>
            <a:off x="1979640" y="2133720"/>
            <a:ext cx="12016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D:\+WORK\Картинки\логопедия картинки\z_46.gif"/>
          <p:cNvPicPr/>
          <p:nvPr/>
        </p:nvPicPr>
        <p:blipFill>
          <a:blip r:embed="rId1"/>
          <a:stretch/>
        </p:blipFill>
        <p:spPr>
          <a:xfrm>
            <a:off x="892080" y="3714840"/>
            <a:ext cx="1656000" cy="223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51928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3"/>
          <a:stretch/>
        </p:blipFill>
        <p:spPr>
          <a:xfrm>
            <a:off x="6372360" y="765000"/>
            <a:ext cx="1800000" cy="159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4"/>
          <a:stretch/>
        </p:blipFill>
        <p:spPr>
          <a:xfrm>
            <a:off x="3995640" y="2133720"/>
            <a:ext cx="1370160" cy="244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84360" y="549360"/>
            <a:ext cx="2232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206800" cy="186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2817720" cy="166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6012000" y="981000"/>
            <a:ext cx="2247840" cy="21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1547640" y="3860640"/>
            <a:ext cx="18622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>
            <a:alpha val="4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nach22-03[1]"/>
          <p:cNvPicPr/>
          <p:nvPr/>
        </p:nvPicPr>
        <p:blipFill>
          <a:blip r:embed="rId1"/>
          <a:stretch/>
        </p:blipFill>
        <p:spPr>
          <a:xfrm>
            <a:off x="250920" y="189000"/>
            <a:ext cx="302400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nach22-02[1]"/>
          <p:cNvPicPr/>
          <p:nvPr/>
        </p:nvPicPr>
        <p:blipFill>
          <a:blip r:embed="rId2"/>
          <a:stretch/>
        </p:blipFill>
        <p:spPr>
          <a:xfrm>
            <a:off x="6372360" y="260280"/>
            <a:ext cx="2543040" cy="561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ain_3[1]"/>
          <p:cNvPicPr/>
          <p:nvPr/>
        </p:nvPicPr>
        <p:blipFill>
          <a:blip r:embed="rId3"/>
          <a:srcRect l="9850" t="9039" r="9850" b="13559"/>
          <a:stretch/>
        </p:blipFill>
        <p:spPr>
          <a:xfrm>
            <a:off x="324000" y="342900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ti-187798-27119[1]"/>
          <p:cNvPicPr/>
          <p:nvPr/>
        </p:nvPicPr>
        <p:blipFill>
          <a:blip r:embed="rId4"/>
          <a:stretch/>
        </p:blipFill>
        <p:spPr>
          <a:xfrm>
            <a:off x="3564000" y="1484280"/>
            <a:ext cx="2592360" cy="2739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0" y="2349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528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у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708360" y="40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я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443640" y="5734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_скает  он  в  н_ру  л_сточки и мо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84360" y="549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635280" y="566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093080" y="6206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-1.85185E-006 L 0.03246 0.34167 E">
                                      <p:cBhvr>
                                        <p:cTn id="26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111E-006 -2.22222E-006 L 0.04045 -0.4037 E">
                                      <p:cBhvr>
                                        <p:cTn id="27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1.48148E-006 L -0.20573 0.33125 E">
                                      <p:cBhvr>
                                        <p:cTn id="28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547640" y="2492280"/>
            <a:ext cx="60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ступила х_лодная  _се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403280" y="54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-4.81481E-006 L 0.31615 0.21575 E">
                                      <p:cBhvr>
                                        <p:cTn id="30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2.70183E-006 L 0.50504 -0.42448 E">
                                      <p:cBhvr>
                                        <p:cTn id="31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87138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_мой накроет его н_ру глубокий  сугро_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58920" y="54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211640" y="620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292720" y="5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859280" y="580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6 -1.85185E-006 L -0.00069 0.22616 E">
                                      <p:cBhvr>
                                        <p:cTn id="33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111E-006 -1.85185E-006 L -0.00695 0.22616 E">
                                      <p:cBhvr>
                                        <p:cTn id="34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2.96296E-006 L 0.00122 -0.45625 E">
                                      <p:cBhvr>
                                        <p:cTn id="35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 пуш_стым одеялом т_пло еж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476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700360" y="476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084720" y="465300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-3.7037E-006 L -0.01666 0.24723 E">
                                      <p:cBhvr>
                                        <p:cTn id="37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1.48148E-006 L 0.00243 -0.3618 E">
                                      <p:cBhvr>
                                        <p:cTn id="38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28:48Z</dcterms:created>
  <dc:creator>111</dc:creator>
  <dc:description/>
  <dc:language>en-US</dc:language>
  <cp:lastModifiedBy>Admin</cp:lastModifiedBy>
  <dcterms:modified xsi:type="dcterms:W3CDTF">2010-01-29T14:09:08Z</dcterms:modified>
  <cp:revision>13</cp:revision>
  <dc:subject/>
  <dc:title>Слайд 1</dc:title>
</cp:coreProperties>
</file>