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090-AD26-40FF-A987-59C5D731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37B-4D2A-4E7B-970F-9BAF834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CD6-40CB-4E02-AA83-B5E1D775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C05-C9A3-4C55-AD88-9A8E76EF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BBAA-48B4-4BA7-B7D7-7CD8B5BB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1DAC-B22B-4C5C-A62B-CF8FFC8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D4BF-00F4-43B5-8D25-334792E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2E31-1876-4334-841D-1B02EC6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E912-DF47-4B01-BE45-69721646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32B2-20A4-40C5-8D08-3452A716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D15-43F2-4EB1-B0DF-1A2DB07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801-A28B-4ECF-9EEC-46874C26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6CA6-7BFC-47E6-87B3-7AFD9D3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EB02-033F-4081-8372-6AD726D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EB6-148C-4EB8-918C-EBC1AF26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BF16-4003-4390-B96A-BFDBEE04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ECF9-183A-4345-AEFF-B2865C6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C7AD-33AB-4F4B-85BD-93723A8D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3EED-A007-458E-8823-DDB5B34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47B5-0E6C-41A8-84B3-3CD99E8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F549-DF18-463E-97F7-DEE5BA10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A858-EECB-4DE6-883C-0A8D5B8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3FA-9E0D-41DC-96F6-74F1253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8027-B4D7-4774-9853-E5D98BC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3C96-FA18-435C-B594-1E55B12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900F-0B64-4F8E-920E-B8BA59C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5E24-125A-4FBB-A861-9CE24EC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EC9A-B96E-4522-9071-0863D4E6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4F50-3BC1-4D5C-8CFA-B34C7796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19BB-8FDA-44B4-A07F-73810C70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91B0-1A8D-480F-8046-61B04D03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D2FA-B236-491D-8EDF-463D2B35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961B-50F5-40C5-BBF0-4A3374F1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E67-77AE-4460-88D9-BFFE14EA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2B47-FA4E-45BB-BEC4-23CB76D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DAC6-8F28-46A0-A23F-FF9F2F2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C541-0C4E-47D8-AD3D-A4331C5A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B8DC-62D4-4D8F-9F6A-4335322A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2CCC-A279-4867-8269-A0B4E73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6BCB-2313-442C-9929-DD438AE9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4213-300C-42DF-AEB5-639E6B8C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D23F-DEB6-431A-B984-82897EE4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D605-7557-4FA6-B7CB-4F390672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BC2-6974-44AC-92E2-85AEBAE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67A-DF04-4622-A448-843584FE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3E8-4C15-4934-AC88-C4BC3CD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249-8903-470E-B0B7-3824768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3A5-4AD0-45A1-B77D-5004C2A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6792-E8C7-418A-BF92-F418D13C2D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E8D4-A72C-466A-9092-D78481E3B8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D46C-8DD2-41C8-AE9F-05CFC9A926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F62F-2D72-4CA6-BDC0-A07D99DD34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08080" y="853920"/>
            <a:ext cx="8491320" cy="2565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42920" y="5357880"/>
            <a:ext cx="4071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уцапкина Л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БОУ гимназия 34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вского райо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714240" y="357120"/>
            <a:ext cx="5643720" cy="947160"/>
          </a:xfrm>
          <a:prstGeom prst="rect">
            <a:avLst/>
          </a:prstGeom>
          <a:noFill/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Правила для подготовк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3"/>
          <p:cNvCxnSpPr/>
          <p:nvPr/>
        </p:nvCxnSpPr>
        <p:spPr>
          <a:xfrm flipH="1">
            <a:off x="713520" y="1357200"/>
            <a:ext cx="178668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9" name="TextBox 6"/>
          <p:cNvSpPr/>
          <p:nvPr/>
        </p:nvSpPr>
        <p:spPr>
          <a:xfrm>
            <a:off x="142920" y="2500200"/>
            <a:ext cx="2500200" cy="7038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 Заинтерес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8"/>
          <p:cNvCxnSpPr/>
          <p:nvPr/>
        </p:nvCxnSpPr>
        <p:spPr>
          <a:xfrm>
            <a:off x="3285000" y="1357200"/>
            <a:ext cx="1080" cy="25012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TextBox 9"/>
          <p:cNvSpPr/>
          <p:nvPr/>
        </p:nvSpPr>
        <p:spPr>
          <a:xfrm>
            <a:off x="2786040" y="3786120"/>
            <a:ext cx="207180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 Напр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11"/>
          <p:cNvCxnSpPr/>
          <p:nvPr/>
        </p:nvCxnSpPr>
        <p:spPr>
          <a:xfrm>
            <a:off x="3499200" y="1357200"/>
            <a:ext cx="1971000" cy="23472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3" name="TextBox 12"/>
          <p:cNvSpPr/>
          <p:nvPr/>
        </p:nvSpPr>
        <p:spPr>
          <a:xfrm>
            <a:off x="5072040" y="3786120"/>
            <a:ext cx="335772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 Заставить мыс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4"/>
          <p:cNvCxnSpPr/>
          <p:nvPr/>
        </p:nvCxnSpPr>
        <p:spPr>
          <a:xfrm>
            <a:off x="3928680" y="1357200"/>
            <a:ext cx="2786760" cy="1286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15"/>
          <p:cNvSpPr/>
          <p:nvPr/>
        </p:nvSpPr>
        <p:spPr>
          <a:xfrm>
            <a:off x="6786720" y="2643120"/>
            <a:ext cx="164304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 Пом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26"/>
          <p:cNvCxnSpPr/>
          <p:nvPr/>
        </p:nvCxnSpPr>
        <p:spPr>
          <a:xfrm flipH="1">
            <a:off x="2357280" y="1356840"/>
            <a:ext cx="643320" cy="4001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TextBox 28"/>
          <p:cNvSpPr/>
          <p:nvPr/>
        </p:nvSpPr>
        <p:spPr>
          <a:xfrm>
            <a:off x="428760" y="5429160"/>
            <a:ext cx="82864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Научить выражать свою точку зрения и отстаивать свои взгляды, делать выводы и кратко излагать суть сво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1866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85840" y="642960"/>
            <a:ext cx="8572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мер выполненной ученицей 9 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БОУ гимназии 343 Нев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учно-исследовательской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Смирновой Ангелины Серге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анотехнологии в косметической промышленност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бота вышла в финал кон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СЕРОССИЙСКОГО ФЕСТИВАЛ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ТВОРЧЕСКИХ ОТКРЫТИЙ И ИНИЦИАТИВ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«ЛЕОНАР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Финал состоится 29-31 марта 2013 г  в Москв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357120" y="50004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Работа выполнялась по  предложенной технологической к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ой  частью работы Смирновой А.С.  явилось проверка действия крема , изготовленного с использованием нанотехнологии, на кожу нескольких испытуемых. Исследование проводилось  в течение двух месяцев с фиксированием результатов с интервалом в 3-4 дня. Выводы были впечатляющ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амыми значимыми в работе явились выводы, в  которых была озвучена следующая мысль: « чтобы  утверждать, что какой-либо продукт полезен, необходимо как минимум 50 лет использования и контроль за этим использованием, поэтому о пользе данного крема, говорю с опаской… сейчас это здорово, но как будет дальше?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285840" y="3571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Спасибо за внимание! Удачи в рабо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428840" y="1214280"/>
            <a:ext cx="6286320" cy="533268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857160" y="9288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Если мы будем учить сегодня так, как учили вчера, мы украдем у детей завт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Users\User\Desktop\shkola-school.jpg"/>
          <p:cNvPicPr/>
          <p:nvPr/>
        </p:nvPicPr>
        <p:blipFill>
          <a:blip r:embed="rId1"/>
          <a:stretch/>
        </p:blipFill>
        <p:spPr>
          <a:xfrm>
            <a:off x="1500120" y="2143080"/>
            <a:ext cx="57866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2"/>
          <p:cNvSpPr/>
          <p:nvPr/>
        </p:nvSpPr>
        <p:spPr>
          <a:xfrm>
            <a:off x="500040" y="6429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ременные дети значительно отличаются от тех, для которых создавалась ныне действующая система   образования. В первую очередь изменилась  социальная ситуация развития детей нынешнего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Прямая со стрелкой 4"/>
          <p:cNvCxnSpPr/>
          <p:nvPr/>
        </p:nvCxnSpPr>
        <p:spPr>
          <a:xfrm flipH="1">
            <a:off x="856440" y="1571760"/>
            <a:ext cx="200124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1" name="TextBox 5"/>
          <p:cNvSpPr/>
          <p:nvPr/>
        </p:nvSpPr>
        <p:spPr>
          <a:xfrm>
            <a:off x="142920" y="2571840"/>
            <a:ext cx="25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ко возросла информированност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7"/>
          <p:cNvCxnSpPr/>
          <p:nvPr/>
        </p:nvCxnSpPr>
        <p:spPr>
          <a:xfrm flipH="1">
            <a:off x="2857320" y="1571400"/>
            <a:ext cx="429120" cy="18579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3" name="TextBox 9"/>
          <p:cNvSpPr/>
          <p:nvPr/>
        </p:nvSpPr>
        <p:spPr>
          <a:xfrm>
            <a:off x="1143000" y="34290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ременные дети относительно мало читают, особенно классическую художественную  и научно-популярную литера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11"/>
          <p:cNvCxnSpPr/>
          <p:nvPr/>
        </p:nvCxnSpPr>
        <p:spPr>
          <a:xfrm>
            <a:off x="3571560" y="1571400"/>
            <a:ext cx="1786680" cy="5720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5" name="TextBox 12"/>
          <p:cNvSpPr/>
          <p:nvPr/>
        </p:nvSpPr>
        <p:spPr>
          <a:xfrm>
            <a:off x="5429160" y="1928880"/>
            <a:ext cx="328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сформированность произвольности поведения, мотивационной сферы, разных типов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14"/>
          <p:cNvCxnSpPr/>
          <p:nvPr/>
        </p:nvCxnSpPr>
        <p:spPr>
          <a:xfrm>
            <a:off x="3427920" y="1571760"/>
            <a:ext cx="2500920" cy="26438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7" name="TextBox 15"/>
          <p:cNvSpPr/>
          <p:nvPr/>
        </p:nvSpPr>
        <p:spPr>
          <a:xfrm>
            <a:off x="5143680" y="428616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граниченность общения со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214200" y="5072040"/>
            <a:ext cx="8715600" cy="1557000"/>
          </a:xfrm>
          <a:prstGeom prst="rect">
            <a:avLst/>
          </a:prstGeom>
          <a:noFill/>
          <a:ln w="381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  <a:ea typeface="Times New Roman"/>
              </a:rPr>
              <a:t>И в настоящее время учитель должен и решает очень сложные задачи переосмысления своего педагогического опыта, ищет     ответ на вопросы «Как обучать в новых условиях? Как заставить мыслить ? Как вызвать интерес к предмету?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" descr=""/>
          <p:cNvPicPr/>
          <p:nvPr/>
        </p:nvPicPr>
        <p:blipFill>
          <a:blip r:embed="rId1"/>
          <a:stretch/>
        </p:blipFill>
        <p:spPr>
          <a:xfrm>
            <a:off x="2143080" y="4143240"/>
            <a:ext cx="5286600" cy="2571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357120" y="71424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изна современного российского образования требует личностного начала учителя, которое позволяет ему либо урочить, наполняя учеников знаниями умениями и навыками, либо давать урок, развивая понимание этих знаний, умений, навыков, создавая условия для порождения их ценностей и смы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571680" y="285840"/>
            <a:ext cx="81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Технологическая карта </a:t>
            </a:r>
            <a:br>
              <a:rPr sz="2800"/>
            </a:b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для выполнения научно-исследовательских работ, соответствующая требованиям ФГО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57120" y="1928880"/>
          <a:ext cx="8501040" cy="47149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2286000"/>
                <a:gridCol w="264312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сновные этапы организации  и подгот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ель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ыбор темы.   Постановка         зад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здание проблемной ситуации. Фиксация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рганизовывает погружение в тему, проблему, создает ситуацию разры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ытаются решить задачу известным способом. Слушают советы учителя. Фиксируют проблему . Сохраняют учебную цель, понимают зада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85840" y="1000080"/>
          <a:ext cx="8715240" cy="5357880"/>
        </p:xfrm>
        <a:graphic>
          <a:graphicData uri="http://schemas.openxmlformats.org/drawingml/2006/table">
            <a:tbl>
              <a:tblPr/>
              <a:tblGrid>
                <a:gridCol w="1928880"/>
                <a:gridCol w="2143080"/>
                <a:gridCol w="2286000"/>
                <a:gridCol w="2357280"/>
              </a:tblGrid>
              <a:tr h="58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вместное исследование проблем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бота по составлению плана 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иск решения поставленной  задачи, составление плана научно- исследовательск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рганизовывает анализ задачи. Фиксирует выдвинутые учениками гипотезы, организует их обсуждение. Направляет учеников к  составлению  плана работы над выбранной тем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нализируют, доказывают, аргументируют свою точку зрения, обсуждают способы  построения работы над темой. Составляет первый набросок  по работе над темой, с помощью учителя корректирует план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85840" y="214200"/>
          <a:ext cx="8643960" cy="6558120"/>
        </p:xfrm>
        <a:graphic>
          <a:graphicData uri="http://schemas.openxmlformats.org/drawingml/2006/table">
            <a:tbl>
              <a:tblPr/>
              <a:tblGrid>
                <a:gridCol w="2143080"/>
                <a:gridCol w="1722240"/>
                <a:gridCol w="2178360"/>
                <a:gridCol w="2600280"/>
              </a:tblGrid>
              <a:tr h="36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ксация основных направлений изучаемого объе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ует учебное взаимодействие  с учениками  и последующее обсуждение основных направлений работы, помогает в коррекции пла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нимают и сохраняют  поставленную цель и задачу. Выделяют главное. Работают  по созданному плану. Находят новые и интересные  факты. Дополняют пл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8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Конструирование нового способа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роение ориентированной основы нового способа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ует учебное исследование для выделения  главной темы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водят коллективное исследование. Участвуют в обсуждении содержания материала и проводимого ис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28760" y="428760"/>
          <a:ext cx="8501040" cy="6072120"/>
        </p:xfrm>
        <a:graphic>
          <a:graphicData uri="http://schemas.openxmlformats.org/drawingml/2006/table">
            <a:tbl>
              <a:tblPr/>
              <a:tblGrid>
                <a:gridCol w="1865160"/>
                <a:gridCol w="1936800"/>
                <a:gridCol w="2141640"/>
                <a:gridCol w="2557440"/>
              </a:tblGrid>
              <a:tr h="32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Переход к этапу решения част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ичный контроль за правильностью выполнения способа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агностирует  ход работы на каждом этапе, оценивает выполнение каждой опер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тся выражать свою точку зрения при работе над темой, последовательно работая над каждым поставленным вопрос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8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Применение общего способа действия для решения частных зад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рекция отработки способ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рекция отработки способа. Обсуждение и исправление ошибок. Поиск перспектив в изучаемой те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работка операций, в которых допущены ошибки. Осуществление пошагового контроля  за выполнением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14200" y="285840"/>
          <a:ext cx="8715600" cy="6173640"/>
        </p:xfrm>
        <a:graphic>
          <a:graphicData uri="http://schemas.openxmlformats.org/drawingml/2006/table">
            <a:tbl>
              <a:tblPr/>
              <a:tblGrid>
                <a:gridCol w="1857600"/>
                <a:gridCol w="2071440"/>
                <a:gridCol w="2214720"/>
                <a:gridCol w="2571840"/>
              </a:tblGrid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. Контр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 этапе окончания учебной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верка результатов . Обсуждение и выв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нализирует, оценивает результат, направляет на создание презентации по выполненной 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амоанализ работы, выделение главного, составление отчета по работе, самооценка. Подготовка к научно-практической конферен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.Научно-  практическая конфере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едставление своей работы  и рефлекс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ценивает качество выполненной работы, предлагает учащимся найти практическое применение своей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ыступает на конференции с представлением выполненной работы, заинтересовывает слушателей в выбранной 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6:05:42Z</dcterms:created>
  <dc:creator>User</dc:creator>
  <dc:description/>
  <dc:language>en-US</dc:language>
  <cp:lastModifiedBy>User</cp:lastModifiedBy>
  <dcterms:modified xsi:type="dcterms:W3CDTF">2013-03-11T19:35:00Z</dcterms:modified>
  <cp:revision>9</cp:revision>
  <dc:subject/>
  <dc:title>Научно-исследовательские работы учащихся  на основе ФГОС</dc:title>
</cp:coreProperties>
</file>