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394-17E1-49F4-949F-7A5AE370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2C3-3B64-4772-B875-BBFB7813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BDA-9FD7-4E71-87EA-4E6479B3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A1E-4D48-466D-B4CC-162E5DCC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550-C109-4C0A-BB7C-013D0D5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09FD-EA59-48C9-B1A1-95F26F3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374E-7294-4F12-97B4-B5FA1C3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8283-F86A-42D8-BE5D-92C98B4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553-1B43-4069-A97B-7C20CEA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E32-B561-4645-A376-39CA1B41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01D-DED7-40ED-A32A-6080B01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05F-06FC-4F13-B932-7FCFDFC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006-E626-44AE-A151-7939078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AE0-2816-49F2-A303-E0B43D2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1D58-3EFC-48C3-90B3-9029784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F42-41C7-4CB7-963B-485BFE73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663-9957-4892-90F9-871C275C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D8E7-06C6-4B05-8C11-9D03CC8D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12F3-FDEA-491F-AE96-7C71160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52F5-7BDF-49EC-9572-A6677C35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6520-F9BF-449A-BC9A-7C27882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DA63-1516-4A9A-80FA-4F3A62F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E5F-AB5D-4473-9447-AA31DAA8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DD64-39C5-477A-9549-152030A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BF6D-AC26-4D7C-B428-DEA3A03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5761-680D-4E32-AE53-B150A5D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9CC0-3F08-4FA4-836F-A559DF2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9530-8B0C-44FA-B994-524C365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7D0F-60A9-4D7B-90D4-F72C90D9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901D-B67A-4F55-995C-86F858AD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C984-CDB4-441E-9393-AC8DE097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656D-1CAC-41D6-8411-B837DA6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4C47-5A0D-449F-801C-D378AC5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189-01BD-47FF-9613-7063C9C3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DA46-FD34-49A8-8318-B9D90DE4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601F-44AC-4336-A13A-8CF6999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10F1-6F6B-4E91-AF7B-09EF98D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78E8-F22E-435E-823E-04CC93F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5BB2-5A7C-4919-9923-5B5901D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2B9D-62FC-4E63-8BF6-5FE2461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FCC4D-A11F-4A3B-B4DA-886A4C8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49E0-5BF0-49E2-8C9E-6060779C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D81A-9BFF-45CC-9B52-84ACAB26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22C-AFC4-4594-8782-6F4F6D26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B42-F273-414A-99E8-32168AF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E67-71CC-4268-91AC-F205228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E73-A72E-4C81-A810-3654659C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32A-96DD-40DE-BB73-7001655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07F-25F8-4B89-9B00-98D3D1345D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F457-7FBB-4C6D-B095-71C11EF905D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9011-1CD6-4065-AA8D-FD1741DDC2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5E3-C80E-4D2B-839F-548CB91F90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08080" y="853920"/>
            <a:ext cx="8491320" cy="2565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42920" y="5357880"/>
            <a:ext cx="4071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уцапкина Л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БОУ гимназия 34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вского райо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714240" y="357120"/>
            <a:ext cx="5643720" cy="94716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Правила для подготовк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"/>
          <p:cNvCxnSpPr/>
          <p:nvPr/>
        </p:nvCxnSpPr>
        <p:spPr>
          <a:xfrm flipH="1">
            <a:off x="713520" y="1357200"/>
            <a:ext cx="178668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9" name="TextBox 6"/>
          <p:cNvSpPr/>
          <p:nvPr/>
        </p:nvSpPr>
        <p:spPr>
          <a:xfrm>
            <a:off x="142920" y="2500200"/>
            <a:ext cx="2500200" cy="7038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 Заинтерес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8"/>
          <p:cNvCxnSpPr/>
          <p:nvPr/>
        </p:nvCxnSpPr>
        <p:spPr>
          <a:xfrm>
            <a:off x="3285000" y="1357200"/>
            <a:ext cx="1080" cy="25012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TextBox 9"/>
          <p:cNvSpPr/>
          <p:nvPr/>
        </p:nvSpPr>
        <p:spPr>
          <a:xfrm>
            <a:off x="2786040" y="3786120"/>
            <a:ext cx="207180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Напр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1"/>
          <p:cNvCxnSpPr/>
          <p:nvPr/>
        </p:nvCxnSpPr>
        <p:spPr>
          <a:xfrm>
            <a:off x="3499200" y="1357200"/>
            <a:ext cx="1971000" cy="23472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3" name="TextBox 12"/>
          <p:cNvSpPr/>
          <p:nvPr/>
        </p:nvSpPr>
        <p:spPr>
          <a:xfrm>
            <a:off x="5072040" y="3786120"/>
            <a:ext cx="335772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 Заставить мыс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4"/>
          <p:cNvCxnSpPr/>
          <p:nvPr/>
        </p:nvCxnSpPr>
        <p:spPr>
          <a:xfrm>
            <a:off x="3928680" y="1357200"/>
            <a:ext cx="2786760" cy="1286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15"/>
          <p:cNvSpPr/>
          <p:nvPr/>
        </p:nvSpPr>
        <p:spPr>
          <a:xfrm>
            <a:off x="6786720" y="2643120"/>
            <a:ext cx="164304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 Пом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26"/>
          <p:cNvCxnSpPr/>
          <p:nvPr/>
        </p:nvCxnSpPr>
        <p:spPr>
          <a:xfrm flipH="1">
            <a:off x="2357280" y="1356840"/>
            <a:ext cx="643320" cy="4001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TextBox 28"/>
          <p:cNvSpPr/>
          <p:nvPr/>
        </p:nvSpPr>
        <p:spPr>
          <a:xfrm>
            <a:off x="428760" y="5429160"/>
            <a:ext cx="8286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Научить выражать свою точку зрения и отстаивать свои взгляды, делать выводы и кратко излагать суть сво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1866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85840" y="642960"/>
            <a:ext cx="8572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мер выполненной ученицей 9 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БОУ гимназии 343 Не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учно-исследовательск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Смирновой Ангелины Серге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анотехнологии в косметической промышленност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бота вышла в финал кон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СЕРОССИЙСКОГО ФЕСТИВАЛ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ТВОРЧЕСКИХ ОТКРЫТИЙ И ИНИЦИАТИВ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«ЛЕОНАР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Финал состоится 29-31 марта 2013 г  в Москв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357120" y="50004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Работа выполнялась по  предложенной технологической к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ой  частью работы Смирновой А.С.  явилось проверка действия крема , изготовленного с использованием нанотехнологии, на кожу нескольких испытуемых. Исследование проводилось  в течение двух месяцев с фиксированием результатов с интервалом в 3-4 дня. Выводы были впечатляющ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амыми значимыми в работе явились выводы, в  которых была озвучена следующая мысль: « чтобы  утверждать, что какой-либо продукт полезен, необходимо как минимум 50 лет использования и контроль за этим использованием, поэтому о пользе данного крема, говорю с опаской… сейчас это здорово, но как будет дальше?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285840" y="3571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Спасибо за внимание! Удачи в рабо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286320" cy="533268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857160" y="9288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Если мы будем учить сегодня так, как учили вчера, мы украдем у детей завт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User\Desktop\shkola-school.jpg"/>
          <p:cNvPicPr/>
          <p:nvPr/>
        </p:nvPicPr>
        <p:blipFill>
          <a:blip r:embed="rId1"/>
          <a:stretch/>
        </p:blipFill>
        <p:spPr>
          <a:xfrm>
            <a:off x="1500120" y="2143080"/>
            <a:ext cx="57866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2"/>
          <p:cNvSpPr/>
          <p:nvPr/>
        </p:nvSpPr>
        <p:spPr>
          <a:xfrm>
            <a:off x="500040" y="6429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ременные дети значительно отличаются от тех, для которых создавалась ныне действующая система   образования. В первую очередь изменилась  социальная ситуация развития детей нынешнего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Прямая со стрелкой 4"/>
          <p:cNvCxnSpPr/>
          <p:nvPr/>
        </p:nvCxnSpPr>
        <p:spPr>
          <a:xfrm flipH="1">
            <a:off x="856440" y="1571760"/>
            <a:ext cx="200124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1" name="TextBox 5"/>
          <p:cNvSpPr/>
          <p:nvPr/>
        </p:nvSpPr>
        <p:spPr>
          <a:xfrm>
            <a:off x="142920" y="2571840"/>
            <a:ext cx="25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ко возросла информированност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7"/>
          <p:cNvCxnSpPr/>
          <p:nvPr/>
        </p:nvCxnSpPr>
        <p:spPr>
          <a:xfrm flipH="1">
            <a:off x="2857320" y="1571400"/>
            <a:ext cx="429120" cy="18579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3" name="TextBox 9"/>
          <p:cNvSpPr/>
          <p:nvPr/>
        </p:nvSpPr>
        <p:spPr>
          <a:xfrm>
            <a:off x="1143000" y="34290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ременные дети относительно мало читают, особенно классическую художественную  и научно-популярную литера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11"/>
          <p:cNvCxnSpPr/>
          <p:nvPr/>
        </p:nvCxnSpPr>
        <p:spPr>
          <a:xfrm>
            <a:off x="3571560" y="1571400"/>
            <a:ext cx="1786680" cy="5720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5" name="TextBox 12"/>
          <p:cNvSpPr/>
          <p:nvPr/>
        </p:nvSpPr>
        <p:spPr>
          <a:xfrm>
            <a:off x="5429160" y="1928880"/>
            <a:ext cx="328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сформированность произвольности поведения, мотивационной сферы, разных типов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14"/>
          <p:cNvCxnSpPr/>
          <p:nvPr/>
        </p:nvCxnSpPr>
        <p:spPr>
          <a:xfrm>
            <a:off x="3427920" y="1571760"/>
            <a:ext cx="2500920" cy="26438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7" name="TextBox 15"/>
          <p:cNvSpPr/>
          <p:nvPr/>
        </p:nvSpPr>
        <p:spPr>
          <a:xfrm>
            <a:off x="5143680" y="428616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граниченность общения со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214200" y="5072040"/>
            <a:ext cx="8715600" cy="1557000"/>
          </a:xfrm>
          <a:prstGeom prst="rect">
            <a:avLst/>
          </a:prstGeom>
          <a:noFill/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  <a:ea typeface="Times New Roman"/>
              </a:rPr>
              <a:t>И в настоящее время учитель должен и решает очень сложные задачи переосмысления своего педагогического опыта, ищет     ответ на вопросы «Как обучать в новых условиях? Как заставить мыслить ? Как вызвать интерес к предмету?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" descr=""/>
          <p:cNvPicPr/>
          <p:nvPr/>
        </p:nvPicPr>
        <p:blipFill>
          <a:blip r:embed="rId1"/>
          <a:stretch/>
        </p:blipFill>
        <p:spPr>
          <a:xfrm>
            <a:off x="2143080" y="4143240"/>
            <a:ext cx="5286600" cy="2571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357120" y="71424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изна современного российского образования требует личностного начала учителя, которое позволяет ему либо урочить, наполняя учеников знаниями умениями и навыками, либо давать урок, развивая понимание этих знаний, умений, навыков, создавая условия для порождения их ценностей и смы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571680" y="285840"/>
            <a:ext cx="81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Технологическая карта </a:t>
            </a:r>
            <a:br>
              <a:rPr sz="2800"/>
            </a:b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для выполнения научно-исследовательских работ, соответствующая требованиям ФГО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57120" y="1928880"/>
          <a:ext cx="8501040" cy="47149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2286000"/>
                <a:gridCol w="264312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сновные этапы организации  и подгот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ель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бор темы.   Постановка         зад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здание проблемной ситуации. Фиксация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ганизовывает погружение в тему, проблему, создает ситуацию разры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ытаются решить задачу известным способом. Слушают советы учителя. Фиксируют проблему . Сохраняют учебную цель, понимают зада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85840" y="1000080"/>
          <a:ext cx="8715240" cy="5357880"/>
        </p:xfrm>
        <a:graphic>
          <a:graphicData uri="http://schemas.openxmlformats.org/drawingml/2006/table">
            <a:tbl>
              <a:tblPr/>
              <a:tblGrid>
                <a:gridCol w="1928880"/>
                <a:gridCol w="2143080"/>
                <a:gridCol w="2286000"/>
                <a:gridCol w="2357280"/>
              </a:tblGrid>
              <a:tr h="58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местное исследование проблем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бота по составлению плана 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иск решения поставленной  задачи, составление плана научно- исследовательск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ганизовывает анализ задачи. Фиксирует выдвинутые учениками гипотезы, организует их обсуждение. Направляет учеников к  составлению  плана работы над выбранной тем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ализируют, доказывают, аргументируют свою точку зрения, обсуждают способы  построения работы над темой. Составляет первый набросок  по работе над темой, с помощью учителя корректирует план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85840" y="214200"/>
          <a:ext cx="8643960" cy="6558120"/>
        </p:xfrm>
        <a:graphic>
          <a:graphicData uri="http://schemas.openxmlformats.org/drawingml/2006/table">
            <a:tbl>
              <a:tblPr/>
              <a:tblGrid>
                <a:gridCol w="2143080"/>
                <a:gridCol w="1722240"/>
                <a:gridCol w="2178360"/>
                <a:gridCol w="2600280"/>
              </a:tblGrid>
              <a:tr h="36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ксация основных направлений изучаемого объе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ует учебное взаимодействие  с учениками  и последующее обсуждение основных направлений работы, помогает в коррекции пла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нимают и сохраняют  поставленную цель и задачу. Выделяют главное. Работают  по созданному плану. Находят новые и интересные  факты. Дополняют 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8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Конструирование нового способа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роение ориентированной основы нового способа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ует учебное исследование для выделения  главной темы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одят коллективное исследование. Участвуют в обсуждении содержания материала и проводимого ис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28760" y="428760"/>
          <a:ext cx="8501040" cy="6072120"/>
        </p:xfrm>
        <a:graphic>
          <a:graphicData uri="http://schemas.openxmlformats.org/drawingml/2006/table">
            <a:tbl>
              <a:tblPr/>
              <a:tblGrid>
                <a:gridCol w="1865160"/>
                <a:gridCol w="1936800"/>
                <a:gridCol w="2141640"/>
                <a:gridCol w="2557440"/>
              </a:tblGrid>
              <a:tr h="32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Переход к этапу решения част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ичный контроль за правильностью выполнения способа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агностирует  ход работы на каждом этапе, оценивает выполнение каждой опер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тся выражать свою точку зрения при работе над темой, последовательно работая над каждым поставленным вопрос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8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Применение общего способа действия для решения частных зад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рекция отработки способ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рекция отработки способа. Обсуждение и исправление ошибок. Поиск перспектив в изучаемой т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работка операций, в которых допущены ошибки. Осуществление пошагового контроля  за выполнением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14200" y="285840"/>
          <a:ext cx="8715600" cy="6173640"/>
        </p:xfrm>
        <a:graphic>
          <a:graphicData uri="http://schemas.openxmlformats.org/drawingml/2006/table">
            <a:tbl>
              <a:tblPr/>
              <a:tblGrid>
                <a:gridCol w="1857600"/>
                <a:gridCol w="2071440"/>
                <a:gridCol w="2214720"/>
                <a:gridCol w="2571840"/>
              </a:tblGrid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. Контр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этапе окончания учебной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верка результатов . Обсуждение и выв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ализирует, оценивает результат, направляет на создание презентации по выполненной 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амоанализ работы, выделение главного, составление отчета по работе, самооценка. Подготовка к научно-практической конферен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.Научно-  практическая конфере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 своей работы  и рефлек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ценивает качество выполненной работы, предлагает учащимся найти практическое применение своей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ступает на конференции с представлением выполненной работы, заинтересовывает слушателей в выбранной 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05:42Z</dcterms:created>
  <dc:creator>User</dc:creator>
  <dc:description/>
  <dc:language>en-US</dc:language>
  <cp:lastModifiedBy>User</cp:lastModifiedBy>
  <dcterms:modified xsi:type="dcterms:W3CDTF">2013-03-11T19:35:00Z</dcterms:modified>
  <cp:revision>9</cp:revision>
  <dc:subject/>
  <dc:title>Научно-исследовательские работы учащихся  на основе ФГОС</dc:title>
</cp:coreProperties>
</file>