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CC6-A618-418E-B3C2-ECDCD137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B31-9094-4CF6-BE4D-0DAF0D93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8AC-C2E5-4A73-94CE-89687D63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129-EA71-43E9-9F8A-7E37D894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6EA6-EF2F-42C3-948F-663BB0DE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8BD-4C04-42B5-AFD8-E53BA43A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0232-5E37-4746-B61F-AE275038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9C98-19F4-4577-8973-5F25D2D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B1EB-E4F0-41AE-BE56-E4EAB826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FDF6-35EC-4303-9672-7C78D513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9785-9AB9-4249-8D79-B116B20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53C-5B7E-4762-800C-76EA9B4E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C2BC-F275-4265-AF57-384579DB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4AAC-846E-4FF1-87C4-CB9E687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ACF3-F61F-4521-ACBC-63FBE317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358F-8A89-44DA-AB59-1563BFBF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A48D-B09A-4657-B1BB-3CDF10EC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922-39D0-4147-AF4F-23AB062A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4FF-2B75-4180-B38E-E53F3823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BCA-FE98-415B-B0A5-C9293F9C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E0B-0067-4A2D-BEAB-47D073B8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3F7-7441-4151-9303-CA272B1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182-B843-4DD6-804E-3FF48725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ACF-BE24-4717-AE56-13559B8E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E535-C26F-42B7-851A-43C5EE57E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E9D5-0E13-4A25-9C0D-50CE65A11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IMG_0568"/>
          <p:cNvPicPr/>
          <p:nvPr/>
        </p:nvPicPr>
        <p:blipFill>
          <a:blip r:embed="rId1"/>
          <a:stretch/>
        </p:blipFill>
        <p:spPr>
          <a:xfrm>
            <a:off x="285840" y="1714680"/>
            <a:ext cx="4822560" cy="3400200"/>
          </a:xfrm>
          <a:prstGeom prst="rect">
            <a:avLst/>
          </a:prstGeom>
          <a:ln w="0">
            <a:noFill/>
          </a:ln>
        </p:spPr>
      </p:pic>
      <p:sp>
        <p:nvSpPr>
          <p:cNvPr id="83" name="WordArt 9"/>
          <p:cNvSpPr txBox="1"/>
          <p:nvPr/>
        </p:nvSpPr>
        <p:spPr>
          <a:xfrm>
            <a:off x="395280" y="260280"/>
            <a:ext cx="79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зделия из те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105520" y="2465280"/>
            <a:ext cx="4038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рок-презентация по С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БС(К)ОУ шк-интернат1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-103471"/>
          <p:cNvPicPr/>
          <p:nvPr/>
        </p:nvPicPr>
        <p:blipFill>
          <a:blip r:embed="rId1"/>
          <a:stretch/>
        </p:blipFill>
        <p:spPr>
          <a:xfrm>
            <a:off x="5148360" y="4371840"/>
            <a:ext cx="3671640" cy="2313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28760" y="1499760"/>
            <a:ext cx="82864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 —'прекрасный, красивый; радостный, приятный'. Изба — бревенчатый крестьянский дом. Угол — здесь: часть избы, которая находится в углу, где сходятся две стены. Каждый угол имел своё назначение и название, в частности, был в избе и красный (передний) угол — парадный, лучший, куда приглашали сесть почётных гостей. Пирог — изделие из тонко раскатанного теста с разной начинкой (с капустой, морковью, с мясом, рыбой, с рисом, грибами; пироги сладкие — с яблоками, ягодами, вареньем и т. п.). Пироги издавна являются одним из любимых кушаний русских людей. Дом приятен не богатством и красотой, а гостеприимством и хлебосольством хозяев. Говорится, когда придают большее значение гостеприимству и приветливости хозяев, чем внешнему виду жил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684360" y="333360"/>
            <a:ext cx="81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43" name="WordArt 9" descr="Белый мрамор"/>
          <p:cNvPicPr/>
          <p:nvPr/>
        </p:nvPicPr>
        <p:blipFill>
          <a:blip r:embed="rId4"/>
          <a:stretch/>
        </p:blipFill>
        <p:spPr>
          <a:xfrm>
            <a:off x="378000" y="244440"/>
            <a:ext cx="80708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IMG_0568"/>
          <p:cNvPicPr/>
          <p:nvPr/>
        </p:nvPicPr>
        <p:blipFill>
          <a:blip r:embed="rId1"/>
          <a:stretch/>
        </p:blipFill>
        <p:spPr>
          <a:xfrm>
            <a:off x="642960" y="642960"/>
            <a:ext cx="7488360" cy="26431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71680" y="3857760"/>
            <a:ext cx="807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ироги — истинно русское, не имеющее себе подобных по разнообразию ни в одной из кухонь мира изделие. Пироги различаются не только по вкусу, но и по форме: открытые и закрытые, круглые и прямоугольные, большие и маленькие. Исстари на Руси готовили праздничные пироги, которые славились своей начинкой. Без пирога не обходилось на Руси никакое праздничное застолье, никакой п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колосья пшеницы  пшеница"/>
          <p:cNvPicPr/>
          <p:nvPr/>
        </p:nvPicPr>
        <p:blipFill>
          <a:blip r:embed="rId1"/>
          <a:srcRect l="0" t="0" r="0" b="18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 Руси пироги любили и любят все. Их подавали даже на придворных обедах. Слово «пирог» произошло от древнерусского слова «пыро»- пшеница. Первоначально писали и произносили «пырог», что означало праздничных хлеб. А затем «ы» изменили на «и», так появился «пирог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428760" y="612720"/>
            <a:ext cx="8286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Было время, когда их подавали как самостоятельное блюдо, но в середине 19 века стали употреблять с бульонами или чаем. В нашем быту они стали символом домовитости. Они были ритуальными блюдами: о пшеничных пирогах, как и о молочных реках и кисельных берегах, рассказывается в сказках и былинах, поется в песнях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Когда-то пироги служили своеобразным приглашениями на именины, рассылали родным и близким. За праздничным столом разламывался специальный пирог над головой именинника. При этом начинка (обычно это был изюм или какие-то ягоды) сыпались прямо ему на голову, а гости в это время приговаривали: «Чтобы на тебя так сыпалось золото и серебро»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557360"/>
            <a:ext cx="732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ши пирог, вспомни и сухую корочк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шь пироги с грибами, а язык держи за зу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боку лежучи не пекутся кал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пирога именинника под стол саж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 бы пирог, найдется и е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на красна цветами, а осень пирог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971640" y="62064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лови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51436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на Колины име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пекли мы карав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такой вы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такой ниж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 такой уж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т такой ши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равай, карав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го любишь –выбир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571680" y="428760"/>
            <a:ext cx="807228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Русская народная игра-хоровод «Каравай-каравай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286160" y="5143680"/>
            <a:ext cx="51436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Я люблю,конечно,все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у, а … больше всех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ма пироги печ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инька не отст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«печь пирожки»-сверху то одна ладошка,то друг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льчики стараю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юшки получ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дощечке нет уж места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развести руками в сторо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ма снова месит тес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Отдохни, - сказала мама.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«месить тесто»,сжимая пальцы в кулак то на одной руке, то на друг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инька твердит упрямо: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отрицательно качать голо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слоненка день рожде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чень любит он печенье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прижать ладони друг к друг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ыбку любит кошка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волнообразные движения кистями р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блики – Матрешка.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соединить большие и указательные паль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я это испеку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«печь пирожк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лько не жалей муку.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В. Миряс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14240" y="260280"/>
            <a:ext cx="7929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альчиковая игра «Пирожки и плюшк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9144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В каких сказках упоминаются пирог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:\Users\ТОША\Downloads\32.jpg"/>
          <p:cNvPicPr/>
          <p:nvPr/>
        </p:nvPicPr>
        <p:blipFill>
          <a:blip r:embed="rId1"/>
          <a:stretch/>
        </p:blipFill>
        <p:spPr>
          <a:xfrm>
            <a:off x="2495520" y="257184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расная ша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уси- леб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аша и 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асни Кры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казка про Ин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адила мама в п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оги с капустой п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Наташи, Маши, Та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, Оли, Гали, В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оги уже гот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ещё один пи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 под лавку ув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же пир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екла м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 задач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Users\ТОША\Desktop\табакокурение\pirozhki-na-kefire.jpg"/>
          <p:cNvPicPr/>
          <p:nvPr/>
        </p:nvPicPr>
        <p:blipFill>
          <a:blip r:embed="rId1"/>
          <a:stretch/>
        </p:blipFill>
        <p:spPr>
          <a:xfrm>
            <a:off x="5357880" y="2357280"/>
            <a:ext cx="3357360" cy="3143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Колоски пшеницы"/>
          <p:cNvPicPr/>
          <p:nvPr/>
        </p:nvPicPr>
        <p:blipFill>
          <a:blip r:embed="rId1"/>
          <a:srcRect l="-30319" t="0" r="0" b="10830"/>
          <a:stretch/>
        </p:blipFill>
        <p:spPr>
          <a:xfrm>
            <a:off x="5435640" y="2205000"/>
            <a:ext cx="339228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1915920"/>
            <a:ext cx="6610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знакомить учащихся с историей мучных изделий; составом дрожжевого теста и способами его приготовления; с инструментами и приспособлениями, необходимыми для приготовления мучных издел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оспитательна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воспитывать  бережное отношение к хлебу; внимательность во время занятия, доброжелательное отношение при  работе в коман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азвивать логическое мышление и творческие способности при создании схем. УУД: Развитие регулятивных компетен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-103472"/>
          <p:cNvPicPr/>
          <p:nvPr/>
        </p:nvPicPr>
        <p:blipFill>
          <a:blip r:embed="rId2"/>
          <a:stretch/>
        </p:blipFill>
        <p:spPr>
          <a:xfrm>
            <a:off x="6227640" y="150840"/>
            <a:ext cx="2521080" cy="1922400"/>
          </a:xfrm>
          <a:prstGeom prst="rect">
            <a:avLst/>
          </a:prstGeom>
          <a:ln w="0">
            <a:noFill/>
          </a:ln>
        </p:spPr>
      </p:pic>
      <p:sp>
        <p:nvSpPr>
          <p:cNvPr id="88" name="WordArt 12"/>
          <p:cNvSpPr txBox="1"/>
          <p:nvPr/>
        </p:nvSpPr>
        <p:spPr>
          <a:xfrm>
            <a:off x="900000" y="476280"/>
            <a:ext cx="4243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Цели и задачи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делия из м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IMG_0568"/>
          <p:cNvPicPr/>
          <p:nvPr/>
        </p:nvPicPr>
        <p:blipFill>
          <a:blip r:embed="rId1"/>
          <a:stretch/>
        </p:blipFill>
        <p:spPr>
          <a:xfrm>
            <a:off x="1071720" y="1230480"/>
            <a:ext cx="70722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57120" y="4287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елия из теста – важнейший продукт питания человека. Хлеб и хлебобулочные изделия содержат минеральные вещества – это белки, жиры, углеводы; витамины, аминокислоты. Например: в пшеничном хлебе есть витамины В1 и Р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орийность их колеблется в пределах 200-400 ккал на 100 г. продукта, усвояемость – 9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8584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новные продукты для приготовления мучных издел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ка – порошкообразный продукт, который получается в результате измельчения зерен пшеницы, ржи, кукуру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чество муки определяют по цвету, запаху и вку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зависимости от вида теста используют различные жидкости – вода, молоко, кефир и др. Наличие в тесте молока повышает питательную ценность изделия, простокваша и кефир разрыхляют т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рожжи могут быть прессованные, сухие и жидкие. От качества дрожжей зависит длительность процесса брожения теста и его разрыхл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ль поваренная пищевая влияет на процессы, происходящие в тесте при брожении, используется как вкусовое ве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ополнительные продукты: жиры, сахар, яй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14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те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5840" y="928800"/>
            <a:ext cx="8400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ное (слоеное, песочное,бисквит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евое(опарное,безопар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истенц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жидкое, крут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итарно-гигиенически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щательно мыть руки с мы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лосы убрать под косынку, одеть спец. одеж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бочее место и инвентарь должны быть чист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работе с пищевыми продуктами не допускаются учащиеся с ожогами, порезами на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разделки те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доска, скалка, формочки для печенья, дисковый но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выпечки те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тивень, формочки, жарочный шкаф, электровафельниц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цепт « Пироги с капуст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ожжевое тест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ст.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гр. сухих дрож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ч.л. сах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ч.л.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\2ст. растит.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ст. м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уста, яйца,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ТОША\Desktop\табакокурение\pirozhki-na-kefire.jpg"/>
          <p:cNvPicPr/>
          <p:nvPr/>
        </p:nvPicPr>
        <p:blipFill>
          <a:blip r:embed="rId1"/>
          <a:stretch/>
        </p:blipFill>
        <p:spPr>
          <a:xfrm>
            <a:off x="4143240" y="2214720"/>
            <a:ext cx="4429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:\Users\ТОША\Desktop\Новая папка (4)\100_4591.JPG"/>
          <p:cNvPicPr/>
          <p:nvPr/>
        </p:nvPicPr>
        <p:blipFill>
          <a:blip r:embed="rId1"/>
          <a:stretch/>
        </p:blipFill>
        <p:spPr>
          <a:xfrm>
            <a:off x="0" y="0"/>
            <a:ext cx="5000760" cy="374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Users\ТОША\Desktop\Новая папка (4)\100_4592.JPG"/>
          <p:cNvPicPr/>
          <p:nvPr/>
        </p:nvPicPr>
        <p:blipFill>
          <a:blip r:embed="rId2"/>
          <a:stretch/>
        </p:blipFill>
        <p:spPr>
          <a:xfrm>
            <a:off x="4187880" y="3144960"/>
            <a:ext cx="49561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ТОША\Desktop\Новая папка (4)\100_4597.JPG"/>
          <p:cNvPicPr/>
          <p:nvPr/>
        </p:nvPicPr>
        <p:blipFill>
          <a:blip r:embed="rId2"/>
          <a:stretch/>
        </p:blipFill>
        <p:spPr>
          <a:xfrm>
            <a:off x="0" y="0"/>
            <a:ext cx="4357800" cy="3263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ТОША\Desktop\Новая папка (4)\100_4612.JP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ТОША\Desktop\Новая папка (4)\100_4615.JPG"/>
          <p:cNvPicPr/>
          <p:nvPr/>
        </p:nvPicPr>
        <p:blipFill>
          <a:blip r:embed="rId4"/>
          <a:stretch/>
        </p:blipFill>
        <p:spPr>
          <a:xfrm>
            <a:off x="0" y="3357720"/>
            <a:ext cx="4357800" cy="3500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Users\ТОША\Desktop\Новая папка (4)\100_4616.JPG"/>
          <p:cNvPicPr/>
          <p:nvPr/>
        </p:nvPicPr>
        <p:blipFill>
          <a:blip r:embed="rId5"/>
          <a:stretch/>
        </p:blipFill>
        <p:spPr>
          <a:xfrm>
            <a:off x="4500720" y="3379680"/>
            <a:ext cx="46432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Users\ТОША\Desktop\Новая папка (4)\100_4626.JPG"/>
          <p:cNvPicPr/>
          <p:nvPr/>
        </p:nvPicPr>
        <p:blipFill>
          <a:blip r:embed="rId2"/>
          <a:stretch/>
        </p:blipFill>
        <p:spPr>
          <a:xfrm>
            <a:off x="0" y="0"/>
            <a:ext cx="4429080" cy="331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:\Users\ТОША\Desktop\Новая папка (4)\100_4645.JPG"/>
          <p:cNvPicPr/>
          <p:nvPr/>
        </p:nvPicPr>
        <p:blipFill>
          <a:blip r:embed="rId3"/>
          <a:stretch/>
        </p:blipFill>
        <p:spPr>
          <a:xfrm>
            <a:off x="4660920" y="0"/>
            <a:ext cx="4483080" cy="3357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C:\Users\ТОША\Desktop\Новая папка (4)\100_4650.JPG"/>
          <p:cNvPicPr/>
          <p:nvPr/>
        </p:nvPicPr>
        <p:blipFill>
          <a:blip r:embed="rId4"/>
          <a:stretch/>
        </p:blipFill>
        <p:spPr>
          <a:xfrm>
            <a:off x="0" y="3500280"/>
            <a:ext cx="4429080" cy="331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:\Users\ТОША\Desktop\Новая папка (4)\100_4658.JPG"/>
          <p:cNvPicPr/>
          <p:nvPr/>
        </p:nvPicPr>
        <p:blipFill>
          <a:blip r:embed="rId5"/>
          <a:stretch/>
        </p:blipFill>
        <p:spPr>
          <a:xfrm>
            <a:off x="4643280" y="3486240"/>
            <a:ext cx="4500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28760" y="92844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ще издавна считалось самым почетным занятием учить, лечить и кормить. Во Франции в прошлом веке ремесленник не мог стать дворянином, но для поваров было сделано исключение, так как труд его был приравнен к искусству. Труд талантливого повара близок к творчеству живописца и скульптора, требует художественного вкуса, особенно чувства света и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read.tj/histor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elax.mignews.com.ua/articles/10812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schooltask.ru/xleb-genialnoe-tvorenie-chelovechestv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hl.ua/_site/src/result_page.aspx?p=14&amp;_keyword_name=колосья%20пшеницы&amp;_int_segment=1&amp;_int_mod_segment_id=3&amp;_sorting=4&amp;rtn4p=5&amp;pmc=3&amp;__utmb=209362003.1.10.1242155721&amp;__utmc=209362003&amp;p_bac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hl.ua/_site/src/result.aspx?p=1&amp;_keyword_name=&amp;_author_idd=&amp;_int_mod_source_id=&amp;_rubric_id=1008&amp;_rubric_child=1&amp;_country_id=&amp;period_type=&amp;_date_from=&amp;_df=&amp;_mf=&amp;_yf=&amp;_date_to=&amp;_dt=&amp;_mt=&amp;_yt=&amp;period_site_type=&amp;_date_site_from=&amp;_dsf=&amp;_msf=&amp;_ysf=&amp;_date_site_to=&amp;_dst=&amp;_mst=&amp;_yst=&amp;_ratio_vh=&amp;img_size=&amp;_sorting=6&amp;_int_segment=1&amp;_order_type=1&amp;_int_mod_segment_id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900000" y="333360"/>
            <a:ext cx="69343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4996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учащиеся должны овладеть технологической компетентностью – готовностью к пониманию инструкции, описанию технологии, алгоритма деятельности;  коммуникативной – получать в диалоге необходимую информацию. Учащиеся должны знать виды теста и разрыхлители, ознакомиться с составом пресного теста и способами его приготовления; с инструментами и приспособлениями, необходимыми для приготовления мучных издел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13"/>
          <p:cNvSpPr txBox="1"/>
          <p:nvPr/>
        </p:nvSpPr>
        <p:spPr>
          <a:xfrm>
            <a:off x="428760" y="1428840"/>
            <a:ext cx="828648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p-103471"/>
          <p:cNvPicPr/>
          <p:nvPr/>
        </p:nvPicPr>
        <p:blipFill>
          <a:blip r:embed="rId1"/>
          <a:stretch/>
        </p:blipFill>
        <p:spPr>
          <a:xfrm>
            <a:off x="5148360" y="4643280"/>
            <a:ext cx="3671640" cy="2041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У каждого народа, особенно у народа – землепашца, всегда особо почитались зерно и продукты его переработки. Это находило отражение в мифах, сказках, верованиях. Достаточно суровые природные условия в России не способствовали широкому возделыванию овощных и фруктовых культур. Поэтому в питании русских людей именно хлеб и изделия из муки всегда играли важную ро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84360" y="333360"/>
            <a:ext cx="81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8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знаете ли вы, что дарить хлеб значило желать благополучия и богатства? Издавна хлеб и все хлебные растения считались священными. К хлебу надлежало относиться с особенным почтением.. У наших предков славян было принято держать буханку хлеба в красном углу. Хлеб, лежащий перед Иконами, символизировал связь между людьми и Бо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1908000" y="404640"/>
            <a:ext cx="590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наете ли в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пшеница  колоски"/>
          <p:cNvPicPr/>
          <p:nvPr/>
        </p:nvPicPr>
        <p:blipFill>
          <a:blip r:embed="rId1"/>
          <a:srcRect l="0" t="0" r="0" b="15861"/>
          <a:stretch/>
        </p:blipFill>
        <p:spPr>
          <a:xfrm>
            <a:off x="5076720" y="2133720"/>
            <a:ext cx="3672000" cy="290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первые слово хлеб появилось в Древней Греции. Там применяли для выпечки горшки специальной формы – «клибанос». Оно созвучно с нашим словом «хле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2014560" y="0"/>
            <a:ext cx="511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лово хле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493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музее истории Санкт – Петербурга хранится кусочек заплесневелого хлеба, величиной с мизинец. Таков был в зимние месяцы блокады дневной паек для жителей осажденного немцами города. А людям нужно было жить, работать, нужно было выжить – назло бомбежкам и обстр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кус хлеб"/>
          <p:cNvPicPr/>
          <p:nvPr/>
        </p:nvPicPr>
        <p:blipFill>
          <a:blip r:embed="rId1"/>
          <a:srcRect l="52707" t="-23509" r="-2911" b="0"/>
          <a:stretch/>
        </p:blipFill>
        <p:spPr>
          <a:xfrm>
            <a:off x="5219640" y="1197000"/>
            <a:ext cx="2879640" cy="52941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>
            <a:off x="1619280" y="69228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сочек хле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0"/>
          <p:cNvGrpSpPr/>
          <p:nvPr/>
        </p:nvGrpSpPr>
        <p:grpSpPr>
          <a:xfrm>
            <a:off x="1198440" y="4779720"/>
            <a:ext cx="3052080" cy="1411920"/>
            <a:chOff x="1198440" y="4779720"/>
            <a:chExt cx="3052080" cy="1411920"/>
          </a:xfrm>
        </p:grpSpPr>
        <p:sp>
          <p:nvSpPr>
            <p:cNvPr id="102" name="Text Box 11"/>
            <p:cNvSpPr/>
            <p:nvPr/>
          </p:nvSpPr>
          <p:spPr>
            <a:xfrm rot="56400">
              <a:off x="1207080" y="5097600"/>
              <a:ext cx="3034800" cy="10688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cc"/>
                  </a:solidFill>
                  <a:latin typeface="Tahoma"/>
                </a:rPr>
                <a:t>Берегите хлеб,друзья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2"/>
            <p:cNvGrpSpPr/>
            <p:nvPr/>
          </p:nvGrpSpPr>
          <p:grpSpPr>
            <a:xfrm>
              <a:off x="2159640" y="4779720"/>
              <a:ext cx="661680" cy="331920"/>
              <a:chOff x="2159640" y="4779720"/>
              <a:chExt cx="661680" cy="331920"/>
            </a:xfrm>
          </p:grpSpPr>
          <p:sp>
            <p:nvSpPr>
              <p:cNvPr id="104" name="Oval 13"/>
              <p:cNvSpPr/>
              <p:nvPr/>
            </p:nvSpPr>
            <p:spPr>
              <a:xfrm rot="1302600">
                <a:off x="2344320" y="4807080"/>
                <a:ext cx="177120" cy="144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4"/>
              <p:cNvSpPr/>
              <p:nvPr/>
            </p:nvSpPr>
            <p:spPr>
              <a:xfrm flipH="1">
                <a:off x="2159640" y="4879800"/>
                <a:ext cx="272880" cy="20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5"/>
              <p:cNvSpPr/>
              <p:nvPr/>
            </p:nvSpPr>
            <p:spPr>
              <a:xfrm>
                <a:off x="2432880" y="4879800"/>
                <a:ext cx="388440" cy="231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6"/>
          <p:cNvGrpSpPr/>
          <p:nvPr/>
        </p:nvGrpSpPr>
        <p:grpSpPr>
          <a:xfrm>
            <a:off x="748440" y="2378520"/>
            <a:ext cx="4984560" cy="2331360"/>
            <a:chOff x="748440" y="2378520"/>
            <a:chExt cx="4984560" cy="2331360"/>
          </a:xfrm>
        </p:grpSpPr>
        <p:sp>
          <p:nvSpPr>
            <p:cNvPr id="108" name="Text Box 17"/>
            <p:cNvSpPr/>
            <p:nvPr/>
          </p:nvSpPr>
          <p:spPr>
            <a:xfrm rot="20353800">
              <a:off x="679320" y="3268440"/>
              <a:ext cx="5122080" cy="55080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00cc"/>
                  </a:solidFill>
                  <a:latin typeface="Tahoma"/>
                </a:rPr>
                <a:t>Хлеб наш уважайте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8"/>
            <p:cNvGrpSpPr/>
            <p:nvPr/>
          </p:nvGrpSpPr>
          <p:grpSpPr>
            <a:xfrm>
              <a:off x="2155680" y="3009960"/>
              <a:ext cx="1055520" cy="606600"/>
              <a:chOff x="2155680" y="3009960"/>
              <a:chExt cx="1055520" cy="606600"/>
            </a:xfrm>
          </p:grpSpPr>
          <p:sp>
            <p:nvSpPr>
              <p:cNvPr id="110" name="Oval 19"/>
              <p:cNvSpPr/>
              <p:nvPr/>
            </p:nvSpPr>
            <p:spPr>
              <a:xfrm>
                <a:off x="2308320" y="3009960"/>
                <a:ext cx="298800" cy="241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0"/>
              <p:cNvSpPr/>
              <p:nvPr/>
            </p:nvSpPr>
            <p:spPr>
              <a:xfrm flipH="1">
                <a:off x="2155680" y="3131640"/>
                <a:ext cx="301680" cy="48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1"/>
              <p:cNvSpPr/>
              <p:nvPr/>
            </p:nvSpPr>
            <p:spPr>
              <a:xfrm>
                <a:off x="2457360" y="3131640"/>
                <a:ext cx="75384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22"/>
          <p:cNvGrpSpPr/>
          <p:nvPr/>
        </p:nvGrpSpPr>
        <p:grpSpPr>
          <a:xfrm>
            <a:off x="5750280" y="1510560"/>
            <a:ext cx="3358080" cy="1935720"/>
            <a:chOff x="5750280" y="1510560"/>
            <a:chExt cx="3358080" cy="1935720"/>
          </a:xfrm>
        </p:grpSpPr>
        <p:sp>
          <p:nvSpPr>
            <p:cNvPr id="114" name="Text Box 23"/>
            <p:cNvSpPr/>
            <p:nvPr/>
          </p:nvSpPr>
          <p:spPr>
            <a:xfrm rot="1064400">
              <a:off x="5827680" y="1974600"/>
              <a:ext cx="3203280" cy="10076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00cc"/>
                  </a:solidFill>
                  <a:latin typeface="Tahoma"/>
                </a:rPr>
                <a:t>Хлебом не сорите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24"/>
            <p:cNvGrpSpPr/>
            <p:nvPr/>
          </p:nvGrpSpPr>
          <p:grpSpPr>
            <a:xfrm>
              <a:off x="7025040" y="1583640"/>
              <a:ext cx="667440" cy="477360"/>
              <a:chOff x="7025040" y="1583640"/>
              <a:chExt cx="667440" cy="477360"/>
            </a:xfrm>
          </p:grpSpPr>
          <p:sp>
            <p:nvSpPr>
              <p:cNvPr id="116" name="Oval 25"/>
              <p:cNvSpPr/>
              <p:nvPr/>
            </p:nvSpPr>
            <p:spPr>
              <a:xfrm rot="2310600">
                <a:off x="7280280" y="1623960"/>
                <a:ext cx="186840" cy="160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6"/>
              <p:cNvSpPr/>
              <p:nvPr/>
            </p:nvSpPr>
            <p:spPr>
              <a:xfrm flipH="1">
                <a:off x="7025040" y="1704960"/>
                <a:ext cx="348480" cy="135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7"/>
              <p:cNvSpPr/>
              <p:nvPr/>
            </p:nvSpPr>
            <p:spPr>
              <a:xfrm>
                <a:off x="7373520" y="1704960"/>
                <a:ext cx="318960" cy="356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28"/>
          <p:cNvGrpSpPr/>
          <p:nvPr/>
        </p:nvGrpSpPr>
        <p:grpSpPr>
          <a:xfrm>
            <a:off x="3822120" y="3354840"/>
            <a:ext cx="3490560" cy="1580760"/>
            <a:chOff x="3822120" y="3354840"/>
            <a:chExt cx="3490560" cy="1580760"/>
          </a:xfrm>
        </p:grpSpPr>
        <p:sp>
          <p:nvSpPr>
            <p:cNvPr id="120" name="Text Box 29"/>
            <p:cNvSpPr/>
            <p:nvPr/>
          </p:nvSpPr>
          <p:spPr>
            <a:xfrm rot="21398400">
              <a:off x="3850200" y="3766680"/>
              <a:ext cx="3433680" cy="10688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cc"/>
                  </a:solidFill>
                  <a:latin typeface="Tahoma"/>
                </a:rPr>
                <a:t>Хлеб наш берегите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0"/>
            <p:cNvGrpSpPr/>
            <p:nvPr/>
          </p:nvGrpSpPr>
          <p:grpSpPr>
            <a:xfrm>
              <a:off x="5142600" y="3354840"/>
              <a:ext cx="861120" cy="453960"/>
              <a:chOff x="5142600" y="3354840"/>
              <a:chExt cx="861120" cy="453960"/>
            </a:xfrm>
          </p:grpSpPr>
          <p:sp>
            <p:nvSpPr>
              <p:cNvPr id="122" name="Oval 31"/>
              <p:cNvSpPr/>
              <p:nvPr/>
            </p:nvSpPr>
            <p:spPr>
              <a:xfrm rot="1044600">
                <a:off x="5371200" y="3384000"/>
                <a:ext cx="228240" cy="204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2"/>
              <p:cNvSpPr/>
              <p:nvPr/>
            </p:nvSpPr>
            <p:spPr>
              <a:xfrm flipH="1">
                <a:off x="5142600" y="3487320"/>
                <a:ext cx="342000" cy="321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3"/>
              <p:cNvSpPr/>
              <p:nvPr/>
            </p:nvSpPr>
            <p:spPr>
              <a:xfrm>
                <a:off x="5484600" y="3487320"/>
                <a:ext cx="51912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34"/>
          <p:cNvGrpSpPr/>
          <p:nvPr/>
        </p:nvGrpSpPr>
        <p:grpSpPr>
          <a:xfrm>
            <a:off x="4968720" y="4239000"/>
            <a:ext cx="3540600" cy="2296440"/>
            <a:chOff x="4968720" y="4239000"/>
            <a:chExt cx="3540600" cy="2296440"/>
          </a:xfrm>
        </p:grpSpPr>
        <p:sp>
          <p:nvSpPr>
            <p:cNvPr id="126" name="Text Box 35"/>
            <p:cNvSpPr/>
            <p:nvPr/>
          </p:nvSpPr>
          <p:spPr>
            <a:xfrm rot="20353800">
              <a:off x="5071320" y="4791240"/>
              <a:ext cx="3335040" cy="11912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Tahoma"/>
                </a:rPr>
                <a:t>С хлебом не играйте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6"/>
            <p:cNvGrpSpPr/>
            <p:nvPr/>
          </p:nvGrpSpPr>
          <p:grpSpPr>
            <a:xfrm>
              <a:off x="5816160" y="4724280"/>
              <a:ext cx="687240" cy="232200"/>
              <a:chOff x="5816160" y="4724280"/>
              <a:chExt cx="687240" cy="232200"/>
            </a:xfrm>
          </p:grpSpPr>
          <p:sp>
            <p:nvSpPr>
              <p:cNvPr id="128" name="Oval 37"/>
              <p:cNvSpPr/>
              <p:nvPr/>
            </p:nvSpPr>
            <p:spPr>
              <a:xfrm>
                <a:off x="5915520" y="4724280"/>
                <a:ext cx="194400" cy="92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8"/>
              <p:cNvSpPr/>
              <p:nvPr/>
            </p:nvSpPr>
            <p:spPr>
              <a:xfrm flipH="1">
                <a:off x="5816160" y="4770720"/>
                <a:ext cx="196560" cy="185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9"/>
              <p:cNvSpPr/>
              <p:nvPr/>
            </p:nvSpPr>
            <p:spPr>
              <a:xfrm>
                <a:off x="6012720" y="4770720"/>
                <a:ext cx="490680" cy="4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42"/>
          <p:cNvGrpSpPr/>
          <p:nvPr/>
        </p:nvGrpSpPr>
        <p:grpSpPr>
          <a:xfrm>
            <a:off x="307080" y="1067760"/>
            <a:ext cx="5146560" cy="2758320"/>
            <a:chOff x="307080" y="1067760"/>
            <a:chExt cx="5146560" cy="2758320"/>
          </a:xfrm>
        </p:grpSpPr>
        <p:sp>
          <p:nvSpPr>
            <p:cNvPr id="132" name="Text Box 43"/>
            <p:cNvSpPr/>
            <p:nvPr/>
          </p:nvSpPr>
          <p:spPr>
            <a:xfrm rot="20353800">
              <a:off x="318960" y="1942920"/>
              <a:ext cx="5122080" cy="100764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00cc"/>
                  </a:solidFill>
                  <a:latin typeface="Tahoma"/>
                </a:rPr>
                <a:t>Хлеб выбрасывать нельзя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44"/>
            <p:cNvGrpSpPr/>
            <p:nvPr/>
          </p:nvGrpSpPr>
          <p:grpSpPr>
            <a:xfrm>
              <a:off x="1715400" y="1700280"/>
              <a:ext cx="1055520" cy="606240"/>
              <a:chOff x="1715400" y="1700280"/>
              <a:chExt cx="1055520" cy="606240"/>
            </a:xfrm>
          </p:grpSpPr>
          <p:sp>
            <p:nvSpPr>
              <p:cNvPr id="134" name="Oval 45"/>
              <p:cNvSpPr/>
              <p:nvPr/>
            </p:nvSpPr>
            <p:spPr>
              <a:xfrm>
                <a:off x="1868040" y="1700280"/>
                <a:ext cx="298800" cy="241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6"/>
              <p:cNvSpPr/>
              <p:nvPr/>
            </p:nvSpPr>
            <p:spPr>
              <a:xfrm flipH="1">
                <a:off x="1715400" y="1821960"/>
                <a:ext cx="301680" cy="484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7"/>
              <p:cNvSpPr/>
              <p:nvPr/>
            </p:nvSpPr>
            <p:spPr>
              <a:xfrm>
                <a:off x="2017080" y="1821960"/>
                <a:ext cx="75384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WordArt 49"/>
          <p:cNvSpPr txBox="1"/>
          <p:nvPr/>
        </p:nvSpPr>
        <p:spPr>
          <a:xfrm>
            <a:off x="53964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ерегите хлеб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571680"/>
            <a:ext cx="500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хлеба значенье особ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авные держит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так повелось это исста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а – пирогами кр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Users\ТОША\Downloads\images (1).jpg"/>
          <p:cNvPicPr/>
          <p:nvPr/>
        </p:nvPicPr>
        <p:blipFill>
          <a:blip r:embed="rId1"/>
          <a:stretch/>
        </p:blipFill>
        <p:spPr>
          <a:xfrm>
            <a:off x="5072040" y="1000080"/>
            <a:ext cx="3436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9:47:17Z</dcterms:created>
  <dc:creator>фам</dc:creator>
  <dc:description/>
  <dc:language>en-US</dc:language>
  <cp:lastModifiedBy>ТОША</cp:lastModifiedBy>
  <dcterms:modified xsi:type="dcterms:W3CDTF">2013-02-13T15:02:45Z</dcterms:modified>
  <cp:revision>36</cp:revision>
  <dc:subject/>
  <dc:title>Слайд 1</dc:title>
</cp:coreProperties>
</file>