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E0EC-60E2-4235-9703-D4D6B0BA7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9C4D-B422-402B-80D9-F7524FC3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B1C2-6AA8-46D1-8B42-3F5C146C7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F182-0E92-4224-8275-06813D3A7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B5B1-6A1E-4B6C-9EA7-DD0F19054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A297-4888-4842-BB51-52AB8D92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4382-2BA8-450B-A2B7-8C2ED2FD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C7D7-DE42-4B01-87B8-82376239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9D4A-D6B0-4C76-8838-C2DEC1A2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77F1-02B8-4C7B-B3EF-C8471E5E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378E-46FD-40AB-873E-DABACC9F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87BC-25E5-48ED-A83F-19DD5233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25DA-7B3D-4276-B91B-297655C8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76D3-E8EB-4631-8125-D30A2EA2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49D3-625F-4CE0-BECA-AEE91BD4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ABF7-0D7E-4CCE-B0BE-2BCFA064F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5090-EFE6-4416-A986-91F608290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EFCF-983D-46D2-BDFE-471261E0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88BD-96A1-4D28-BCB4-33BBA0EE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F646-BA92-4CAF-AB5F-9A099F0B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D601-710F-42F7-B464-2321E591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299E-55EE-46B0-B2A8-26D37FEC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7D70-BD5B-4939-9788-13C45B2D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786D-C04F-4A48-8B4D-9BB12FAD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982"/>
            </a:gs>
            <a:gs pos="100000">
              <a:srgbClr val="57586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74757e"/>
                </a:gs>
                <a:gs pos="100000">
                  <a:srgbClr val="5758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97EF-775F-49AA-AB3A-1B47786E3F8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982"/>
            </a:gs>
            <a:gs pos="100000">
              <a:srgbClr val="57586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74757e"/>
                </a:gs>
                <a:gs pos="100000">
                  <a:srgbClr val="5758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E3DC-527D-48A8-927E-665CF1509D2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5.jpeg"/><Relationship Id="rId3" Type="http://schemas.openxmlformats.org/officeDocument/2006/relationships/image" Target="../media/image23.jpeg"/><Relationship Id="rId4" Type="http://schemas.openxmlformats.org/officeDocument/2006/relationships/image" Target="../media/image22.jpeg"/><Relationship Id="rId5" Type="http://schemas.openxmlformats.org/officeDocument/2006/relationships/image" Target="../media/image21.jpeg"/><Relationship Id="rId6" Type="http://schemas.openxmlformats.org/officeDocument/2006/relationships/image" Target="../media/image24.jpeg"/><Relationship Id="rId7" Type="http://schemas.openxmlformats.org/officeDocument/2006/relationships/image" Target="../media/image20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982"/>
            </a:gs>
            <a:gs pos="100000">
              <a:srgbClr val="57586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79280" y="2133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2411280" y="1890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4572000" y="115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6732720" y="1890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2340000" y="22050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250920" y="42210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4427640" y="22050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9"/>
          <a:stretch/>
        </p:blipFill>
        <p:spPr>
          <a:xfrm>
            <a:off x="6732720" y="22766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0"/>
          <a:stretch/>
        </p:blipFill>
        <p:spPr>
          <a:xfrm>
            <a:off x="2340000" y="4365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1"/>
          <a:stretch/>
        </p:blipFill>
        <p:spPr>
          <a:xfrm>
            <a:off x="6659640" y="4365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2"/>
          <a:stretch/>
        </p:blipFill>
        <p:spPr>
          <a:xfrm>
            <a:off x="4500720" y="450864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982"/>
            </a:gs>
            <a:gs pos="100000">
              <a:srgbClr val="57586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-46836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403280" y="1413000"/>
          <a:ext cx="5545080" cy="5270400"/>
        </p:xfrm>
        <a:graphic>
          <a:graphicData uri="http://schemas.openxmlformats.org/drawingml/2006/table">
            <a:tbl>
              <a:tblPr/>
              <a:tblGrid>
                <a:gridCol w="576360"/>
                <a:gridCol w="576360"/>
                <a:gridCol w="576000"/>
                <a:gridCol w="503280"/>
                <a:gridCol w="505080"/>
                <a:gridCol w="502920"/>
                <a:gridCol w="576360"/>
                <a:gridCol w="576360"/>
                <a:gridCol w="576360"/>
                <a:gridCol w="5760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233" name=""/>
          <p:cNvSpPr txBox="1"/>
          <p:nvPr/>
        </p:nvSpPr>
        <p:spPr>
          <a:xfrm>
            <a:off x="1619280" y="260280"/>
            <a:ext cx="5113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re you lucky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982"/>
            </a:gs>
            <a:gs pos="100000">
              <a:srgbClr val="57586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116000" y="2133720"/>
            <a:ext cx="748836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hank you very much!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982"/>
            </a:gs>
            <a:gs pos="100000">
              <a:srgbClr val="57586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619280" y="1844640"/>
            <a:ext cx="655308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SPORT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982"/>
            </a:gs>
            <a:gs pos="100000">
              <a:srgbClr val="57586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Arial"/>
              </a:rPr>
              <a:t>The motto of our lesson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8000" y="1915920"/>
            <a:ext cx="90360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harlemagne Std"/>
              </a:rPr>
              <a:t>Winners never quit,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harlemagne Std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Charlemagne Std"/>
              </a:rPr>
              <a:t>quitters never win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427640" y="4292640"/>
            <a:ext cx="2520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982"/>
            </a:gs>
            <a:gs pos="100000">
              <a:srgbClr val="57586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How many words do you know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Footbal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Badmint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Basebal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Sail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Swimm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Hocke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Tenn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Crick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Basketbal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Volleybal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SzPct val="11755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Fenc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11280" y="907920"/>
            <a:ext cx="374508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Figure skat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Che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Cycl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Box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Athletic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Wrestl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Gymnastic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Table tenn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Ski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Skat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Row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982"/>
            </a:gs>
            <a:gs pos="100000">
              <a:srgbClr val="57586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Summer  sports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69850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982"/>
            </a:gs>
            <a:gs pos="100000">
              <a:srgbClr val="57586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Winter  sports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58920" y="1341360"/>
            <a:ext cx="6553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982"/>
            </a:gs>
            <a:gs pos="100000">
              <a:srgbClr val="57586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-3877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Match the words with the pictur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cccc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Wrestl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cc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Crick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cc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Row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cc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Cycl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cc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Sail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cc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Basebal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cc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Fenc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cc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Verdana"/>
              </a:rPr>
              <a:t>Badmint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2843280" y="1125000"/>
            <a:ext cx="630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292720" y="1197000"/>
            <a:ext cx="1201680" cy="12016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492360" y="1197000"/>
            <a:ext cx="1202040" cy="12016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4934160" y="12682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950160" y="25653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7164360" y="1125360"/>
            <a:ext cx="1346400" cy="13464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7236000" y="2708280"/>
            <a:ext cx="1130040" cy="11304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3492360" y="2637000"/>
            <a:ext cx="1274760" cy="12747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6"/>
          <a:stretch/>
        </p:blipFill>
        <p:spPr>
          <a:xfrm>
            <a:off x="5292720" y="2637000"/>
            <a:ext cx="1297080" cy="12967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134160" y="148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05800" y="112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112920" y="25844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934160" y="256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7"/>
          <a:stretch/>
        </p:blipFill>
        <p:spPr>
          <a:xfrm>
            <a:off x="6227640" y="4076640"/>
            <a:ext cx="1368720" cy="13683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5921280" y="40244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8"/>
          <a:stretch/>
        </p:blipFill>
        <p:spPr>
          <a:xfrm>
            <a:off x="4067280" y="414972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689280" y="4097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982"/>
            </a:gs>
            <a:gs pos="100000">
              <a:srgbClr val="57586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hecking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cccc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cc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cc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cc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cc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cc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cc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cc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907640" y="691920"/>
            <a:ext cx="7488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419640" y="836640"/>
            <a:ext cx="1346040" cy="13460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126880" y="24210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) cri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419640" y="2349360"/>
            <a:ext cx="1274760" cy="12747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052000" y="105264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) wrest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3419640" y="3789360"/>
            <a:ext cx="1274760" cy="12747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124720" y="378936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3) r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3419640" y="5157720"/>
            <a:ext cx="1296720" cy="12970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249280" y="524844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4) cyc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7164360" y="76500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868360" y="83664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5) sai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6"/>
          <a:stretch/>
        </p:blipFill>
        <p:spPr>
          <a:xfrm>
            <a:off x="7020000" y="220500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5418000" y="222408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6) baseb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7"/>
          <a:stretch/>
        </p:blipFill>
        <p:spPr>
          <a:xfrm>
            <a:off x="7093080" y="364500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633640" y="388152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7) fenc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8"/>
          <a:stretch/>
        </p:blipFill>
        <p:spPr>
          <a:xfrm>
            <a:off x="7164360" y="5084640"/>
            <a:ext cx="1297080" cy="12970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775480" y="517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417280" y="517680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8) badmin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982"/>
            </a:gs>
            <a:gs pos="100000">
              <a:srgbClr val="57586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an you find the words?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908000" y="1413000"/>
          <a:ext cx="5328000" cy="517500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  <a:gridCol w="530280"/>
                <a:gridCol w="533160"/>
                <a:gridCol w="533520"/>
                <a:gridCol w="533520"/>
                <a:gridCol w="533160"/>
                <a:gridCol w="530280"/>
                <a:gridCol w="533520"/>
                <a:gridCol w="533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5:34:27Z</dcterms:created>
  <dc:creator>Admin</dc:creator>
  <dc:description/>
  <dc:language>en-US</dc:language>
  <cp:lastModifiedBy>Admin</cp:lastModifiedBy>
  <dcterms:modified xsi:type="dcterms:W3CDTF">2013-02-17T20:08:33Z</dcterms:modified>
  <cp:revision>8</cp:revision>
  <dc:subject/>
  <dc:title>Слайд 1</dc:title>
</cp:coreProperties>
</file>