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EEE-4BD0-4D84-B77B-430A3ABA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2B5F-5BFB-435D-9120-F4864314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946E-6EF3-466B-85F8-6823D32C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CC8-FA33-439C-97B9-EFC745CE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78EF-88DF-462F-87C6-831E07F7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D14A-9343-43D4-ABEA-476A48F1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5613-DA44-45E8-96CE-3B73F182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1FE0-C7AE-4F41-9726-02FA6886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F476-C4A0-4542-BD31-4A0B9B49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3F01-5E0E-4F65-B3F9-8A82C11B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0C22-5EB1-4B9A-818A-11FD8E7F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B1B-7DFF-4DAD-A252-F30E3431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3579-550B-4E6A-94DA-1FAB7892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7233-C400-4751-BACB-11B2320F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56E6-59E6-45B4-BBEB-B9B5CE1F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FECE-F100-4D84-96FD-E2FD9464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4FD7-D7DA-4864-B8F3-97816F89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912-E069-430C-B342-DC504774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0467-FCF4-47D6-8EBF-6B275226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568-564F-4419-9DBF-974A5FEF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618-9397-4D49-A0A7-DB17D63E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310E-BA37-4DB1-96DC-10743E05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172-EA70-4CB4-B71D-CECBFE29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3E1-1646-45E0-B805-622B6EA1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74757e"/>
                </a:gs>
                <a:gs pos="100000">
                  <a:srgbClr val="5758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0F7A-A3B2-4FE6-A9FD-251D1DA86C7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74757e"/>
                </a:gs>
                <a:gs pos="100000">
                  <a:srgbClr val="5758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AF80-7F94-4A97-A011-0D5084C9719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jpeg"/><Relationship Id="rId3" Type="http://schemas.openxmlformats.org/officeDocument/2006/relationships/image" Target="../media/image23.jpeg"/><Relationship Id="rId4" Type="http://schemas.openxmlformats.org/officeDocument/2006/relationships/image" Target="../media/image22.jpeg"/><Relationship Id="rId5" Type="http://schemas.openxmlformats.org/officeDocument/2006/relationships/image" Target="../media/image21.jpeg"/><Relationship Id="rId6" Type="http://schemas.openxmlformats.org/officeDocument/2006/relationships/image" Target="../media/image24.jpeg"/><Relationship Id="rId7" Type="http://schemas.openxmlformats.org/officeDocument/2006/relationships/image" Target="../media/image20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411280" y="189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572000" y="115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6732720" y="189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2340000" y="2205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250920" y="4221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4427640" y="2205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6732720" y="2276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2340000" y="4365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6659640" y="4365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>
            <a:off x="4500720" y="45086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468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403280" y="1413000"/>
          <a:ext cx="5545080" cy="527040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  <a:gridCol w="576000"/>
                <a:gridCol w="503280"/>
                <a:gridCol w="505080"/>
                <a:gridCol w="502920"/>
                <a:gridCol w="576360"/>
                <a:gridCol w="576360"/>
                <a:gridCol w="576360"/>
                <a:gridCol w="576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233" name=""/>
          <p:cNvSpPr txBox="1"/>
          <p:nvPr/>
        </p:nvSpPr>
        <p:spPr>
          <a:xfrm>
            <a:off x="1619280" y="260280"/>
            <a:ext cx="5113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e you lucky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16000" y="2133720"/>
            <a:ext cx="74883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ank you very much!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619280" y="1844640"/>
            <a:ext cx="6553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SPOR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The motto of our less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8000" y="1915920"/>
            <a:ext cx="90360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harlemagne Std"/>
              </a:rPr>
              <a:t>Winners never quit,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harlemagne Std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harlemagne Std"/>
              </a:rPr>
              <a:t>quitters never win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27640" y="4292640"/>
            <a:ext cx="25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How many words do you know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Foot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Badmint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Base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Sai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Swimm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Hock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Tenn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Crick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Basket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Volley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Fenc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11280" y="907920"/>
            <a:ext cx="37450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Figure skat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Ch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Cyc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Box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Athlet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Wrest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Gymnast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Table tenn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Ski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Skat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Row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Summer  sport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985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inter  sport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55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-3877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Match the words with the pictur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Wrest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Crick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Row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Cyc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Sai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Base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Fenc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Badmint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843280" y="1125000"/>
            <a:ext cx="630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1201680" cy="1201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492360" y="1197000"/>
            <a:ext cx="1202040" cy="12016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934160" y="1268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50160" y="2565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164360" y="112536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236000" y="2708280"/>
            <a:ext cx="1130040" cy="1130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3492360" y="2637000"/>
            <a:ext cx="1274760" cy="1274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5292720" y="2637000"/>
            <a:ext cx="1297080" cy="1296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13416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0580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12920" y="2584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93416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6227640" y="4076640"/>
            <a:ext cx="1368720" cy="13683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921280" y="4024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4067280" y="414972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689280" y="4097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heckin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907640" y="691920"/>
            <a:ext cx="7488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419640" y="836640"/>
            <a:ext cx="1346040" cy="13460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126880" y="2421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) cri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419640" y="2349360"/>
            <a:ext cx="1274760" cy="1274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052000" y="105264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) wrest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3419640" y="3789360"/>
            <a:ext cx="1274760" cy="12747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24720" y="378936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) r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3419640" y="515772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249280" y="524844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4) cyc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7164360" y="765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868360" y="83664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5) sai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7020000" y="220500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418000" y="22240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6) base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7093080" y="36450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633640" y="38815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7) fenc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7164360" y="508464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775480" y="517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17280" y="517680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8) badmin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an you find the words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908000" y="1413000"/>
          <a:ext cx="5328000" cy="517500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  <a:gridCol w="530280"/>
                <a:gridCol w="533160"/>
                <a:gridCol w="533520"/>
                <a:gridCol w="533520"/>
                <a:gridCol w="533160"/>
                <a:gridCol w="530280"/>
                <a:gridCol w="533520"/>
                <a:gridCol w="533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5:34:27Z</dcterms:created>
  <dc:creator>Admin</dc:creator>
  <dc:description/>
  <dc:language>en-US</dc:language>
  <cp:lastModifiedBy>Admin</cp:lastModifiedBy>
  <dcterms:modified xsi:type="dcterms:W3CDTF">2013-02-17T20:08:33Z</dcterms:modified>
  <cp:revision>8</cp:revision>
  <dc:subject/>
  <dc:title>Слайд 1</dc:title>
</cp:coreProperties>
</file>