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895F-41F9-4E62-B6AE-031A17A58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1FC6-9718-42B8-870E-4D3889E59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D4A-F9C8-46A3-AAC2-4C7D4AC0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33B-6BA7-45C6-BB01-07CD1121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F81-0D3A-4A24-B5D3-6F5B41CA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4D8-C1DB-4223-B059-1CCAE123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4B79-197F-46EE-A637-CF9094CF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EE8B-1CF3-428F-8911-A772C41F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3756-958C-42C4-A3D5-662149BC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7CEC-D2B2-4586-A076-1EED49A9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FD00-2133-4C47-9742-2722141A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14EA-46AB-4F53-8E28-3EE8686D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A996-C2AB-4A6F-B219-9A68196E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6A7-1DC5-4949-9F55-16572289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A67E-E982-43F8-B28B-9FF420BE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8439-4E2A-49EA-B597-809FE0D9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333F-7D8C-42A1-B2B9-2E663931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144B-D68B-4275-8741-28297AB5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18BD-4B60-40BE-84F8-29A7EDA2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CE3-1C7A-4FFA-B0FA-8770B28E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DEE-03F8-49AD-9CC7-1F171BB0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89F-981C-4354-BC90-31B527B9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CBF-1869-4C99-B92B-101E3CC3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F8F-048E-45B5-AB37-F24BA0D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0C9-9A5B-422E-B9A4-D7EAA9B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FA5-076B-4DB8-9CD8-69A03B5D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E0BD-2A42-41B8-93DD-DE193F3D0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FDC8-0275-48A4-AE82-B255DD148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928680" y="5084640"/>
            <a:ext cx="478620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у выполнил: Яхненко Алекс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Варяникова Виктория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26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ЕС ШКОЛЬНОГО ПОРТФЕЛЯ И ЕГО ВЛИЯНИЕ НА ЗДОРОВЬЕ ШКОЛЬНИКА</a:t>
            </a:r>
            <a:br>
              <a:rPr sz="48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Picture 2" descr="C:\Users\Ольга\Pictures\250PX-~1.JPG"/>
          <p:cNvPicPr/>
          <p:nvPr/>
        </p:nvPicPr>
        <p:blipFill>
          <a:blip r:embed="rId1"/>
          <a:stretch/>
        </p:blipFill>
        <p:spPr>
          <a:xfrm>
            <a:off x="285840" y="392904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 всё есть нормы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Гигиенические требования к изданиям учебников для общего и начального профессионального образования», в которых регламентирован вес учебного пособия для каждой возрастной группы. Он не должен превышать для учащих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–4-х классов – 300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–6-х классов – 400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–8-х классов – 500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–11-х классов – 60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books07.jpg"/>
          <p:cNvPicPr/>
          <p:nvPr/>
        </p:nvPicPr>
        <p:blipFill>
          <a:blip r:embed="rId1"/>
          <a:stretch/>
        </p:blipFill>
        <p:spPr>
          <a:xfrm>
            <a:off x="7000920" y="3500280"/>
            <a:ext cx="1670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Отчего портится осанка?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4572000" cy="4690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Documents and Settings\Loner\Мои документы\Мои рисунки\шк откр\25231255.jpg"/>
          <p:cNvPicPr/>
          <p:nvPr/>
        </p:nvPicPr>
        <p:blipFill>
          <a:blip r:embed="rId2"/>
          <a:stretch/>
        </p:blipFill>
        <p:spPr>
          <a:xfrm>
            <a:off x="5572080" y="2000160"/>
            <a:ext cx="32148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6429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Проанализировав личные карточки учеников</a:t>
            </a:r>
            <a:br>
              <a:rPr sz="2400"/>
            </a:b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с медицинским работником школы, мы увидели,</a:t>
            </a:r>
            <a:br>
              <a:rPr sz="2400"/>
            </a:b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что проблема с опорно-двигательной системой у</a:t>
            </a:r>
            <a:br>
              <a:rPr sz="2400"/>
            </a:b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нас в классе стоит очень ост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00080" y="2214720"/>
          <a:ext cx="7000920" cy="3240000"/>
        </p:xfrm>
        <a:graphic>
          <a:graphicData uri="http://schemas.openxmlformats.org/drawingml/2006/table">
            <a:tbl>
              <a:tblPr/>
              <a:tblGrid>
                <a:gridCol w="2540160"/>
                <a:gridCol w="446076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БОЛЕВАНИЯ 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общему числу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еоз 0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еоз I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еоз II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фо-сколеоз 0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фо-сколеоз I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оса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остоп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Итоги эксперимент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6114960" cy="3508200"/>
        </p:xfrm>
        <a:graphic>
          <a:graphicData uri="http://schemas.openxmlformats.org/drawingml/2006/table">
            <a:tbl>
              <a:tblPr/>
              <a:tblGrid>
                <a:gridCol w="3057480"/>
                <a:gridCol w="30574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df58d"/>
                          </a:solidFill>
                          <a:latin typeface="Times New Roman"/>
                          <a:ea typeface="Times New Roman"/>
                        </a:rPr>
                        <a:t>Самый правильный ранец до 0,6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df58d"/>
                          </a:solidFill>
                          <a:latin typeface="Times New Roman"/>
                          <a:ea typeface="Times New Roman"/>
                        </a:rPr>
                        <a:t>3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легкий порт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кг – 2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тяжелый порт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кг – 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тяжелый портфель с принадлеж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 кг – 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легкий портфель с принадлеж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 – 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тяжелый учеб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«тяжелый» учеб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«легкий» учеб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3" descr="C:\Documents and Settings\Loner\Мои документы\Мои рисунки\шк откр\25230352.jpg"/>
          <p:cNvPicPr/>
          <p:nvPr/>
        </p:nvPicPr>
        <p:blipFill>
          <a:blip r:embed="rId1"/>
          <a:stretch/>
        </p:blipFill>
        <p:spPr>
          <a:xfrm>
            <a:off x="6643800" y="3929040"/>
            <a:ext cx="2286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2844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а что обращают внимание при покупке портфеля</a:t>
            </a:r>
            <a:br>
              <a:rPr sz="3600"/>
            </a:b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08000" y="965160"/>
          <a:ext cx="4038480" cy="2497320"/>
        </p:xfrm>
        <a:graphic>
          <a:graphicData uri="http://schemas.openxmlformats.org/drawingml/2006/table">
            <a:tbl>
              <a:tblPr/>
              <a:tblGrid>
                <a:gridCol w="617400"/>
                <a:gridCol w="1668600"/>
                <a:gridCol w="771480"/>
                <a:gridCol w="981000"/>
              </a:tblGrid>
              <a:tr h="371520">
                <a:tc rowSpan="2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 rowSpan="2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ОРТФ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1872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 gridSpan="2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1872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b7b7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b7b7"/>
                    </a:solidFill>
                  </a:tcPr>
                </a:tc>
              </a:tr>
              <a:tr h="3715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6397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АРМ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  <p:pic>
        <p:nvPicPr>
          <p:cNvPr id="181" name="Рисунок 5" descr="IMG_0644.jpg"/>
          <p:cNvPicPr/>
          <p:nvPr/>
        </p:nvPicPr>
        <p:blipFill>
          <a:blip r:embed="rId1"/>
          <a:stretch/>
        </p:blipFill>
        <p:spPr>
          <a:xfrm>
            <a:off x="5435640" y="1295280"/>
            <a:ext cx="2905200" cy="217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2" descr="F:\Документы\др школы\DSC_9593.JPG"/>
          <p:cNvPicPr/>
          <p:nvPr/>
        </p:nvPicPr>
        <p:blipFill>
          <a:blip r:embed="rId3"/>
          <a:stretch/>
        </p:blipFill>
        <p:spPr>
          <a:xfrm>
            <a:off x="1547640" y="3421080"/>
            <a:ext cx="4753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пить второй набор учебников для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ть в школе места для хранения личных вещ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ить один комплект учебников на пар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оставлении школьного расписания необходимо учитывать вес учебных комплектов, так как в один день портфель может быть тяжелый, а в другой – лег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еника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осите лишнего в ран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йте ранец ежедневно и не забывай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тащить из него  ненужные 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N:\Фотографии портфель - копия\IMG_0188.JPG"/>
          <p:cNvPicPr/>
          <p:nvPr/>
        </p:nvPicPr>
        <p:blipFill>
          <a:blip r:embed="rId1"/>
          <a:stretch/>
        </p:blipFill>
        <p:spPr>
          <a:xfrm>
            <a:off x="2000160" y="271476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род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им вас: не покупайте тяжелые ранцы! Врачи рекомендуют средний вес пустого ранца для ученика начальной школы – 30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 ваших детей от тяжелых нагрузок портится ос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аши дети быстрее устают, таская за своей спиной тяжелове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жалуйста, позаботьтесь о ваших детях и об их здоров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endParaRPr b="1" lang="en-US" sz="9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2" name="Picture 6" descr="PE03166_"/>
          <p:cNvPicPr/>
          <p:nvPr/>
        </p:nvPicPr>
        <p:blipFill>
          <a:blip r:embed="rId1"/>
          <a:stretch/>
        </p:blipFill>
        <p:spPr>
          <a:xfrm>
            <a:off x="285840" y="4643280"/>
            <a:ext cx="20001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Цель работы:</a:t>
            </a: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возможность снижения веса портфеля школьника и разработать  рекомендации по  улучшению сложившейся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ить внимание учеников на необходимость  контроля веса портфеля с целью охраны собственн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Задачи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ить вес школьных портфелей, вес школьных учебников (на примере 4«В»класса школы№8 г. Елизово), установить соответствие весов санитарным нормам для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причины нарушений санитарных н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 влияние тяжелых портф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здоровье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комиться с опытом зарубежных стран по решению указ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ть рекомендации по снижению веса портф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едмет исследован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ый портфель ученика 4 класса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 исследован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ники школы №8 г. Елиз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Гипотез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редполагаем, что тяжелый ранец вредит здо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58080" y="208080"/>
            <a:ext cx="828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ля того чтобы узнать, как влияет ношение тяжелого ранца на здоровье школьника,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дил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ирал информацию из книг, журналов, газ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дил эксперимен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ировал да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ес ранц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 ранца должен быть меньше 10% веса учени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.е. вес ученика (в килограммах) надо умножить на 10 и разделить  на 10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564000" y="3860640"/>
            <a:ext cx="19447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Ольга\Pictures\31b507392961.jpg"/>
          <p:cNvPicPr/>
          <p:nvPr/>
        </p:nvPicPr>
        <p:blipFill>
          <a:blip r:embed="rId1"/>
          <a:stretch/>
        </p:blipFill>
        <p:spPr>
          <a:xfrm>
            <a:off x="214200" y="3214800"/>
            <a:ext cx="2786040" cy="351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:\Лешин проект\P1040572.JPG"/>
          <p:cNvPicPr/>
          <p:nvPr/>
        </p:nvPicPr>
        <p:blipFill>
          <a:blip r:embed="rId2"/>
          <a:srcRect l="14079" t="17434" r="20807" b="0"/>
          <a:stretch/>
        </p:blipFill>
        <p:spPr>
          <a:xfrm>
            <a:off x="5954760" y="3097080"/>
            <a:ext cx="2073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44280"/>
          <a:ext cx="8229600" cy="6675480"/>
        </p:xfrm>
        <a:graphic>
          <a:graphicData uri="http://schemas.openxmlformats.org/drawingml/2006/table">
            <a:tbl>
              <a:tblPr/>
              <a:tblGrid>
                <a:gridCol w="3178080"/>
                <a:gridCol w="2089080"/>
                <a:gridCol w="1800360"/>
                <a:gridCol w="1162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Список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ес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ес портф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ы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юк Владисл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енко Вале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данов Констан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ярова Ма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сев 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иденко Татья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на Анаста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ильников Де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ман 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инова Веро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 Вл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цова Елиза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кулина Кс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щина По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сонов Макс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ченко Андр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орова Со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5280" y="260280"/>
          <a:ext cx="8229600" cy="3338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Список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ес учащего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ес портф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ы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фимович Анато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нкевич Ник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юрин 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оров Владисл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мных Ин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бровкин Дани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бровкин Кири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хненко Алекс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ес ранца с учебным комплектом должен весить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-2 классы 1,5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-4 классы 2,5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-6 классы 3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-8 классы 3,5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-11 классы 3,5-4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D:\Лешин проект\P1040574.JPG"/>
          <p:cNvPicPr/>
          <p:nvPr/>
        </p:nvPicPr>
        <p:blipFill>
          <a:blip r:embed="rId1"/>
          <a:srcRect l="24086" t="13425" r="20973" b="0"/>
          <a:stretch/>
        </p:blipFill>
        <p:spPr>
          <a:xfrm>
            <a:off x="6237360" y="1496880"/>
            <a:ext cx="25113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5:32:31Z</dcterms:created>
  <dc:creator>Admin</dc:creator>
  <dc:description/>
  <dc:language>en-US</dc:language>
  <cp:lastModifiedBy>user</cp:lastModifiedBy>
  <dcterms:modified xsi:type="dcterms:W3CDTF">2013-03-12T07:37:31Z</dcterms:modified>
  <cp:revision>74</cp:revision>
  <dc:subject/>
  <dc:title>Сколько весит здоровье ученика?</dc:title>
</cp:coreProperties>
</file>