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229-0B50-4957-BC12-31953F993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6956-9E68-4994-BBD0-F794C07A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A28-BA4E-4D95-A0AD-E72D048D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C35-741E-4BCE-8E8A-8BBB18D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7CC-36E9-4EB2-B7E4-A98E1D73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1EC-98D5-4624-89CA-9A7632F1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23BD-F437-4660-9CFA-7B6E5FD2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699-7051-4CD6-8D6F-23FB2ED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F586-135C-4911-A369-527BB141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679-E057-41CF-A44D-F6FF7E64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3D11-27F7-4D66-99F7-56BB267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B14A-6C37-40BA-A8F2-1E3303F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979E-EBE4-4379-8867-1FF0E9B7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98F-5B7B-4833-80A7-2E60D0E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B4D3-FE25-442E-8DB4-E5220F9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B688-5AC7-4E21-8541-9EF11F3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761B-0F6D-445D-AE53-7C15F9E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32AC-8C63-4D87-B35A-AEE7C486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27C-1160-4F4E-9D3F-0CE68978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05D-E62C-4F88-82AC-5C8221A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C44-F296-46A8-AC54-7DA5B49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7CA-354D-4268-B73C-02E18CD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AAC-A4E1-4A91-B57C-8DD0CB37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180-788E-4626-AED9-B15641F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2AB-AB27-40F3-86C5-AE42740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558-78D7-42DD-96E3-AA7B6D37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AC63-744B-4372-A02F-ECCD60D14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16D-8967-4345-8158-A926760C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28680" y="5084640"/>
            <a:ext cx="47862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: Яхненко Алек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Варяникова Виктория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26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ЕС ШКОЛЬНОГО ПОРТФЕЛЯ И ЕГО ВЛИЯНИЕ НА ЗДОРОВЬЕ ШКОЛЬНИКА</a:t>
            </a:r>
            <a:br>
              <a:rPr sz="48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2" descr="C:\Users\Ольга\Pictures\250PX-~1.JPG"/>
          <p:cNvPicPr/>
          <p:nvPr/>
        </p:nvPicPr>
        <p:blipFill>
          <a:blip r:embed="rId1"/>
          <a:stretch/>
        </p:blipFill>
        <p:spPr>
          <a:xfrm>
            <a:off x="285840" y="392904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всё есть нормы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игиенические требования к изданиям учебников для общего и начального профессионального образования», в которых регламентирован вес учебного пособия для каждой возрастной группы. Он не должен превышать для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–4-х классов – 3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–6-х классов – 400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–8-х классов – 500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–11-х классов – 6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books07.jpg"/>
          <p:cNvPicPr/>
          <p:nvPr/>
        </p:nvPicPr>
        <p:blipFill>
          <a:blip r:embed="rId1"/>
          <a:stretch/>
        </p:blipFill>
        <p:spPr>
          <a:xfrm>
            <a:off x="7000920" y="3500280"/>
            <a:ext cx="1670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чего портится осанка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4572000" cy="4690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Documents and Settings\Loner\Мои документы\Мои рисунки\шк откр\25231255.jpg"/>
          <p:cNvPicPr/>
          <p:nvPr/>
        </p:nvPicPr>
        <p:blipFill>
          <a:blip r:embed="rId2"/>
          <a:stretch/>
        </p:blipFill>
        <p:spPr>
          <a:xfrm>
            <a:off x="5572080" y="2000160"/>
            <a:ext cx="3214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Проанализировав личные карточки учеников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с медицинским работником школы, мы увидели,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что проблема с опорно-двигательной системой у</a:t>
            </a:r>
            <a:br>
              <a:rPr sz="2400"/>
            </a:br>
            <a:r>
              <a:rPr b="1" lang="ru-RU" sz="2400" spc="-1" strike="noStrike">
                <a:solidFill>
                  <a:srgbClr val="992600"/>
                </a:solidFill>
                <a:latin typeface="Arial"/>
              </a:rPr>
              <a:t>нас в классе стоит очень ост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00080" y="2214720"/>
          <a:ext cx="7000920" cy="3240000"/>
        </p:xfrm>
        <a:graphic>
          <a:graphicData uri="http://schemas.openxmlformats.org/drawingml/2006/table">
            <a:tbl>
              <a:tblPr/>
              <a:tblGrid>
                <a:gridCol w="2540160"/>
                <a:gridCol w="4460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БОЛЕВАНИЯ 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общему числу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еоз I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0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фо-сколеоз I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са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оп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тоги эксперимент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6114960" cy="350820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Самый правильный ранец до 0,6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df58d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 – 2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кг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егкий портфель с принадлеж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– 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тяжелый учеб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тяжелы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«легкий» учеб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3" descr="C:\Documents and Settings\Loner\Мои документы\Мои рисунки\шк откр\25230352.jpg"/>
          <p:cNvPicPr/>
          <p:nvPr/>
        </p:nvPicPr>
        <p:blipFill>
          <a:blip r:embed="rId1"/>
          <a:stretch/>
        </p:blipFill>
        <p:spPr>
          <a:xfrm>
            <a:off x="6643800" y="3929040"/>
            <a:ext cx="2286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2844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а что обращают внимание при покупке портфеля</a:t>
            </a:r>
            <a:br>
              <a:rPr sz="3600"/>
            </a:b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8000" y="965160"/>
          <a:ext cx="4038480" cy="2497320"/>
        </p:xfrm>
        <a:graphic>
          <a:graphicData uri="http://schemas.openxmlformats.org/drawingml/2006/table">
            <a:tbl>
              <a:tblPr/>
              <a:tblGrid>
                <a:gridCol w="617400"/>
                <a:gridCol w="1668600"/>
                <a:gridCol w="771480"/>
                <a:gridCol w="981000"/>
              </a:tblGrid>
              <a:tr h="371520"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row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РТФ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1872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gridSpan="2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1872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b7b7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6397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АРМ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pic>
        <p:nvPicPr>
          <p:cNvPr id="181" name="Рисунок 5" descr="IMG_0644.jpg"/>
          <p:cNvPicPr/>
          <p:nvPr/>
        </p:nvPicPr>
        <p:blipFill>
          <a:blip r:embed="rId1"/>
          <a:stretch/>
        </p:blipFill>
        <p:spPr>
          <a:xfrm>
            <a:off x="5435640" y="1295280"/>
            <a:ext cx="2905200" cy="217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2" descr="F:\Документы\др школы\DSC_9593.JPG"/>
          <p:cNvPicPr/>
          <p:nvPr/>
        </p:nvPicPr>
        <p:blipFill>
          <a:blip r:embed="rId3"/>
          <a:stretch/>
        </p:blipFill>
        <p:spPr>
          <a:xfrm>
            <a:off x="1547640" y="3421080"/>
            <a:ext cx="4753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второй набор учебников дл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ть в школе места для хранения личных в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ить один комплект учебников на па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школьного расписания необходимо учитывать вес учебных комплектов, так как в один день портфель может быть тяжелый, а в другой – лег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еника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осите лишнего в ран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йте ранец ежедневно и не забывай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тащить из него  ненужные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N:\Фотографии портфель - копия\IMG_0188.JPG"/>
          <p:cNvPicPr/>
          <p:nvPr/>
        </p:nvPicPr>
        <p:blipFill>
          <a:blip r:embed="rId1"/>
          <a:stretch/>
        </p:blipFill>
        <p:spPr>
          <a:xfrm>
            <a:off x="2000160" y="27147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род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вас: не покупайте тяжелые ранцы! Врачи рекомендуют средний вес пустого ранца для ученика начальной школы – 30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 ваших детей от тяжелых нагрузок портится ос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аши дети быстрее устают, таская за своей спиной тяжелове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жалуйста, позаботьтесь о ваших детях и об их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1" lang="en-US" sz="9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2" name="Picture 6" descr="PE03166_"/>
          <p:cNvPicPr/>
          <p:nvPr/>
        </p:nvPicPr>
        <p:blipFill>
          <a:blip r:embed="rId1"/>
          <a:stretch/>
        </p:blipFill>
        <p:spPr>
          <a:xfrm>
            <a:off x="285840" y="4643280"/>
            <a:ext cx="20001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возможность снижения веса портфеля школьника и разработать  рекомендации по  улучшению сложившейся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ь внимание учеников на необходимость  контроля веса портфеля с целью охраны собственн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ить вес школьных портфелей, вес школьных учебников (на примере 4«В»класса школы№8 г. Елизово), установить соответствие весов санитарным нормам дл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причины нарушений санитарных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 влияние тяжелых портф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здоровь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иться с опытом зарубежных стран по решению указ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рекомендации по снижению веса порт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едме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й портфель ученика 4 класса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ъект исследова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ники школы №8 г. Елиз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редполагаем, что тяжелый ранец вредит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080" y="208080"/>
            <a:ext cx="828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ля того чтобы узнать, как влияет ношение тяжелого ранца на здоровье школьника,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ирал информацию из книг, журналов, газ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л эксперимен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овал да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 ранца должен быть меньше 10% веса учен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вес ученика (в килограммах) надо умножить на 10 и разделить  на 10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564000" y="3860640"/>
            <a:ext cx="1944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Ольга\Pictures\31b507392961.jpg"/>
          <p:cNvPicPr/>
          <p:nvPr/>
        </p:nvPicPr>
        <p:blipFill>
          <a:blip r:embed="rId1"/>
          <a:stretch/>
        </p:blipFill>
        <p:spPr>
          <a:xfrm>
            <a:off x="214200" y="3214800"/>
            <a:ext cx="2786040" cy="351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:\Лешин проект\P1040572.JPG"/>
          <p:cNvPicPr/>
          <p:nvPr/>
        </p:nvPicPr>
        <p:blipFill>
          <a:blip r:embed="rId2"/>
          <a:srcRect l="14079" t="17434" r="20807" b="0"/>
          <a:stretch/>
        </p:blipFill>
        <p:spPr>
          <a:xfrm>
            <a:off x="5954760" y="3097080"/>
            <a:ext cx="2073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44280"/>
          <a:ext cx="8229600" cy="6675480"/>
        </p:xfrm>
        <a:graphic>
          <a:graphicData uri="http://schemas.openxmlformats.org/drawingml/2006/table">
            <a:tbl>
              <a:tblPr/>
              <a:tblGrid>
                <a:gridCol w="3178080"/>
                <a:gridCol w="2089080"/>
                <a:gridCol w="1800360"/>
                <a:gridCol w="1162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Список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портф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юк Владис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енко Вале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данов Констан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ярова М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ев 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иденко Татья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на Анаста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ильников Де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ман 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инова Веро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 Вл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цова Елиза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улина Кс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щина По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сонов Макс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ченко Андр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орова Со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60280"/>
          <a:ext cx="8229600" cy="3338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Список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учащего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ес портф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df58d"/>
                          </a:solidFill>
                          <a:latin typeface="Arial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фимович Анато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кевич Ник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юрин 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оров Владисл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мных Ин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бровкин Дани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х 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бровкин Кири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хненко Алекс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ес ранца с учебным комплектом должен весить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2 классы 1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-4 классы 2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-6 классы 3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8 классы 3,5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-11 классы 3,5-4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D:\Лешин проект\P1040574.JPG"/>
          <p:cNvPicPr/>
          <p:nvPr/>
        </p:nvPicPr>
        <p:blipFill>
          <a:blip r:embed="rId1"/>
          <a:srcRect l="24086" t="13425" r="20973" b="0"/>
          <a:stretch/>
        </p:blipFill>
        <p:spPr>
          <a:xfrm>
            <a:off x="6237360" y="1496880"/>
            <a:ext cx="25113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32:31Z</dcterms:created>
  <dc:creator>Admin</dc:creator>
  <dc:description/>
  <dc:language>en-US</dc:language>
  <cp:lastModifiedBy>user</cp:lastModifiedBy>
  <dcterms:modified xsi:type="dcterms:W3CDTF">2013-03-12T07:37:31Z</dcterms:modified>
  <cp:revision>74</cp:revision>
  <dc:subject/>
  <dc:title>Сколько весит здоровье ученика?</dc:title>
</cp:coreProperties>
</file>