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11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959-472E-42F4-855C-AF1450FA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D94-E645-4FA1-85C4-676D0500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C3A-D811-45C6-822F-5397BC30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DF2-6F26-4E8A-A2B9-36F47045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B5D-DE91-4E6F-8B09-4A2C719B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81F-D479-4532-81B9-E82E2F6B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615-F4CD-408A-BCB8-470F5B36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17D-22A7-4797-98CD-17EAC482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F3C-94A4-4651-8EE9-9FB6AA62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D1C-F8AC-48D1-8683-5DC81E39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378-2D8A-424F-8ECB-54C17B21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F6A-3D9F-4041-9CFC-5F9C119E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5B54-F5A9-4DD3-8AD2-3A0E193BE5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25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2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13000"/>
            <a:ext cx="9144000" cy="32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19280" y="260280"/>
            <a:ext cx="583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е проекты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808000" cy="22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3192480" cy="2341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651640" y="765000"/>
            <a:ext cx="3120840" cy="234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651640" y="27813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2736720" cy="185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916360" y="83664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2987640" y="292428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5003640" y="2060640"/>
            <a:ext cx="1992600" cy="149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5724360" y="429264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2987640" y="4516560"/>
            <a:ext cx="3121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50920" y="836640"/>
            <a:ext cx="835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492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2400" spc="1" strike="noStrike">
              <a:ln w="34920">
                <a:solidFill>
                  <a:srgbClr val="0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6237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.Усть-Кут,2013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1269000"/>
            <a:ext cx="302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проекта – педагогическая технология, ориентированная не на интеграцию фактических знаний, а на их применение и приобретение новых знаний путем самообразов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1126440"/>
            <a:ext cx="3922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про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одна из личностно-ориентированных технологий, в основе которой лежит развитие познавательных навыков учащихся, умений самостоятельно конструировать свои знания, ориентироваться в информационном пространстве, развитие критического и творческого мышления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8900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: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489320"/>
            <a:ext cx="3560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 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ководителем проекта является учитель, координирующий проект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Темы проектов могут предлагаться как учителем, так и ученикам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3. Проект может быть индивидуальным или групповы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2520" y="18828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проек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09000" y="548640"/>
            <a:ext cx="24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зависимости от мет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минирующего в проек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562760"/>
            <a:ext cx="352764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ый проект – направлен на сбор информации об объек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сследовательский проект – проект, в котором дети проходят все этапы исследований (формулировка проблемы, обзор источников информации по теме исследования, выдвижение гипотез, постановка эксперимента, формулировка выводов, защита). Цель проекта – ответ на поставленный вопрос исслед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ворческий проект – проект, похожий на исследовательский, но носит более творческий и изобретательский характер. Цель проекта – конкретные предложения по решению поставленной проблемы и (если возможно) их реализ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46908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презентации проек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1333440"/>
            <a:ext cx="6840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Деловая игр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Демонстрация видеофильма – продукта, выполненного на основе информационных технологи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Диалог исторических или литературных персонаже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Игра с зало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Иллюстративное сопоставление фактов, документов, событий, эпох, цивилизаци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Инсценировк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Конференц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Отчет исследовательской экспедици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Путешестви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Реклам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Ролевая игр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Соревнован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Спектакль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Телепередач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 Экскурсия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245916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21160800">
            <a:off x="203040" y="691920"/>
            <a:ext cx="2536920" cy="3587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591000">
            <a:off x="1979280" y="549000"/>
            <a:ext cx="2467080" cy="3487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95280" y="333360"/>
            <a:ext cx="4465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ренко Наталья 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ександровна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ИЗО,черчения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333360"/>
            <a:ext cx="2484360" cy="3398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987640" y="2852640"/>
            <a:ext cx="2052720" cy="15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68360" y="3297240"/>
            <a:ext cx="2517840" cy="3560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843280" y="4437000"/>
            <a:ext cx="1800000" cy="2421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4500720" y="3429000"/>
            <a:ext cx="24588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6659640" y="3429000"/>
            <a:ext cx="2484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835280" y="333360"/>
            <a:ext cx="583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е проекты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311640" cy="4608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1746360" cy="250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08720" y="2924280"/>
            <a:ext cx="2879640" cy="1679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364000" y="4221000"/>
            <a:ext cx="1395720" cy="19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35640" y="907920"/>
            <a:ext cx="29527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692360" y="189000"/>
            <a:ext cx="583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е проекты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48360" y="981000"/>
            <a:ext cx="3384360" cy="511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3116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92360" y="189000"/>
            <a:ext cx="583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е проекты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2472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32360" y="3573360"/>
            <a:ext cx="3672000" cy="2735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4057920" cy="3043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692360" y="189000"/>
            <a:ext cx="583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е проекты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3556080" cy="474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535200" y="2421000"/>
            <a:ext cx="21164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2:06:05Z</dcterms:created>
  <dc:creator>user</dc:creator>
  <dc:description/>
  <dc:language>en-US</dc:language>
  <cp:lastModifiedBy>user</cp:lastModifiedBy>
  <dcterms:modified xsi:type="dcterms:W3CDTF">2013-03-12T02:27:26Z</dcterms:modified>
  <cp:revision>7</cp:revision>
  <dc:subject/>
  <dc:title>PowerPoint Presentation</dc:title>
</cp:coreProperties>
</file>