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49B-DDF8-43C4-A322-25AA0EA8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9901-0B13-4AB7-92F7-54F71A7E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2E72-0557-4529-8529-4815EDB0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FAD1-A911-430F-BB1F-A70BF954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3EBE-4EF6-4334-996B-390C697B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6224-D521-4438-93FF-39BDD512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3B6E-6EEA-4538-A88F-85B4E6EC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C827-2E6C-4249-999F-B5C02BB7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6537-7E7F-41F6-BF3F-94779424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26B3-25B2-46F0-8546-D23AAEBF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F684-53FF-4128-AAD5-98F01135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976F-0F7F-48EC-A205-8689C2AD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1307-96B9-4938-93DC-C8434E46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4EAE-173C-4A64-949C-136D829B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C6E3-D5F0-4FBD-A581-04D1AA53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487A-79DF-4E3B-9088-BE155435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2187-1CE5-44A9-9085-5009627D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0FD4-A889-4973-BCE9-B0FEFCFE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92EA-DD6E-4C17-A3D7-2A4E03AF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4FEB-117A-4BA3-B97F-62557EE6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E89D-1C86-48E0-BD96-575F46C7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8CD6-D31A-43ED-8C23-BEA8FCB9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6D1F-2765-4126-AD58-C4FEE2E6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DEBB-C8C8-4D14-BCBF-E20B499B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1757-4DFA-41FE-BED0-F3711B2C3291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6FA9-D96A-4553-8C3A-9484B01644C0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ahoma"/>
              </a:rPr>
              <a:t>ПРОСТЫЕ ПРЕДЛОЖЕНИЯ С ОБОСОБЛЕННЫМИ ЧЛЕН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Рисунок 214" descr="pic"/>
          <p:cNvPicPr/>
          <p:nvPr/>
        </p:nvPicPr>
        <p:blipFill>
          <a:blip r:embed="rId1"/>
          <a:stretch/>
        </p:blipFill>
        <p:spPr>
          <a:xfrm>
            <a:off x="1258920" y="3645000"/>
            <a:ext cx="2952720" cy="2012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356000" y="4292280"/>
            <a:ext cx="34164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ВАРИАНТ 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2" name="Дата 6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Найдите определение, стоящее после определяемого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Мягкие губы лошади торопливо подбирают брошенное наземь сено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Даша ждала всего но только не этой покорно  склонённой головы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Ганин взволнованный и одинокий пошёл домой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За столом рылся в книгах приехавший недавно из станицы счетовод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9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Ганин,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зволнованный и одинокий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, пошёл домой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1" name="i-main-pic" descr="Картинка 207 из 479"/>
          <p:cNvPicPr/>
          <p:nvPr/>
        </p:nvPicPr>
        <p:blipFill>
          <a:blip r:embed="rId1"/>
          <a:stretch/>
        </p:blipFill>
        <p:spPr>
          <a:xfrm>
            <a:off x="4859280" y="2997360"/>
            <a:ext cx="2017800" cy="3024000"/>
          </a:xfrm>
          <a:prstGeom prst="rect">
            <a:avLst/>
          </a:prstGeom>
          <a:ln w="0">
            <a:noFill/>
          </a:ln>
        </p:spPr>
      </p:pic>
      <p:sp>
        <p:nvSpPr>
          <p:cNvPr id="142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I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Найдите предложение с определением, не требующим обособ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Между тучами и морем гордо реет Буревестник чёрной молнии подобный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 Белозёрске  сел на пароход молодой ещё лётчик с седыми висками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Молодой казак стройный и красивый налил мне стакан простого вина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Меня давит эта жизнь нищая скучная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5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 Белозёрске  сел на пароход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молодой ещё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 лётчик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седыми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исками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7" name="i-main-pic" descr="Картинка 153 из 479"/>
          <p:cNvPicPr/>
          <p:nvPr/>
        </p:nvPicPr>
        <p:blipFill>
          <a:blip r:embed="rId1"/>
          <a:stretch/>
        </p:blipFill>
        <p:spPr>
          <a:xfrm>
            <a:off x="5796000" y="2997360"/>
            <a:ext cx="1728720" cy="2447640"/>
          </a:xfrm>
          <a:prstGeom prst="rect">
            <a:avLst/>
          </a:prstGeom>
          <a:ln w="0">
            <a:noFill/>
          </a:ln>
        </p:spPr>
      </p:pic>
      <p:sp>
        <p:nvSpPr>
          <p:cNvPr id="148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678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II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Укажите предложение, в котором несогласованное определение обособлено верн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Яблоневый сад весь в солнечных пятнах, спускался по склону холма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олодя, в белой майке, покрытый до пояса простынёй, полулежал на постели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 белом платье с нерасплетёнными косами по плечам, она тихонько подошла к столу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Предо мной в синей долгополой шинели стоял старик среднего роста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1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8f8f8"/>
                </a:solidFill>
                <a:uFillTx/>
                <a:latin typeface="Tahoma"/>
              </a:rPr>
              <a:t>Володя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,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 белой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майке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, покрытый до пояса простынёй, полулежал на постели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3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III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Найдите предложение с пунктуационной ошиб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Шёпот ветвей раздавался отчётливо и близко, ничем не отдалённый и не прикрытый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И мгновенно где-то за лесом стоящие зенитки, начинают обстреливать вражеский самолёт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Дорога вилась по косогорам, густо заросшим дубняком и клёном, ещё хранившими багряную листву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Ферапонтов, в жилете, в ситцевой рубахе, стоял у лавки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6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И мгновенно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где-то за лесом стоящие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400" spc="-1" strike="noStrike" u="sng">
                <a:solidFill>
                  <a:srgbClr val="f8f8f8"/>
                </a:solidFill>
                <a:uFillTx/>
                <a:latin typeface="Tahoma"/>
              </a:rPr>
              <a:t>зенитки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 начинают обстреливать вражеский самолёт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58" name="Рисунок 139" descr="pic"/>
          <p:cNvPicPr/>
          <p:nvPr/>
        </p:nvPicPr>
        <p:blipFill>
          <a:blip r:embed="rId1"/>
          <a:stretch/>
        </p:blipFill>
        <p:spPr>
          <a:xfrm>
            <a:off x="4427640" y="4005360"/>
            <a:ext cx="2857320" cy="1904760"/>
          </a:xfrm>
          <a:prstGeom prst="rect">
            <a:avLst/>
          </a:prstGeom>
          <a:ln w="0">
            <a:noFill/>
          </a:ln>
        </p:spPr>
      </p:pic>
      <p:sp>
        <p:nvSpPr>
          <p:cNvPr id="159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X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Найдите ошибку в употреблении опреде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От всей этой стены людей, молчаливой и неподвижной, на рабочих веяло холодом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Залитые солнцем, стлались за рекой гречаные и пшеничные нивы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Узкая дорога была покрыта проваливающимся снегом под ногами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Павел устроился на приспособленном  под сиденье чурбане и закурил.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2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Узкая дорога была покрыта </a:t>
            </a:r>
            <a:r>
              <a:rPr b="1" lang="ru-RU" sz="2400" spc="-1" strike="noStrike" u="sng">
                <a:solidFill>
                  <a:srgbClr val="f8f8f8"/>
                </a:solidFill>
                <a:uFillTx/>
                <a:latin typeface="Tahoma"/>
              </a:rPr>
              <a:t>снегом,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роваливающимся под ногами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4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189000"/>
            <a:ext cx="8512200" cy="10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кажите предложение, в котором обособленные члены отсутствуют (знаки не расставлен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3640" y="1295280"/>
            <a:ext cx="856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Солнце поднялось над горами и сгоняло ещё лежавший в тени иней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Мне нравится его спокойствие и ровная речь простая и ясная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Тучи редея лениво разошлись по небу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Она встретила сына с радостью неожиданной для него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5" name="Дата 6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Найдите неверно выделенное прилож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Это была немецкая лошадь-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тяжеловес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Настоящим же моим воспитателем был наш мальчик-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одмастерье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 народе её называют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чудо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-ягодой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Тут петух-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драчун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, и курица-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ахетинка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, и скворец-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говорец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, и соловей-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евец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7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Настоящим же моим воспитателем был наш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мальчик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-подмастерье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9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XI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Укажите предложение, в котором оборот с союзом КАК следует обособи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Смола как дерево смолистое с трудом поддаётся гниению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Читающая публика успела привыкнуть к Чехову как к юмористу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Наш двор как сад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Я читал, что алоэ принимают как лекарство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2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23640" y="1295280"/>
            <a:ext cx="835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Смола, </a:t>
            </a: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как дерево смолистое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, с трудом поддаётся гниению (сравнительный оборот)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4" name="Рисунок 211" descr="pic"/>
          <p:cNvPicPr/>
          <p:nvPr/>
        </p:nvPicPr>
        <p:blipFill>
          <a:blip r:embed="rId1"/>
          <a:stretch/>
        </p:blipFill>
        <p:spPr>
          <a:xfrm>
            <a:off x="5724360" y="3716280"/>
            <a:ext cx="1513080" cy="2192400"/>
          </a:xfrm>
          <a:prstGeom prst="rect">
            <a:avLst/>
          </a:prstGeom>
          <a:ln w="0">
            <a:noFill/>
          </a:ln>
        </p:spPr>
      </p:pic>
      <p:sp>
        <p:nvSpPr>
          <p:cNvPr id="175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X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йдите предложен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 обособленным несогласованным определе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Ко мне вошёл офицер невысокого роста, с лицом смуглым и отменно некрасивым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Офицер, ехавший верхом, натянул поводья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Самовар уже стоял на столе, шипя и курлыкая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Приехали все, кроме старшей сестры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8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1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Ко мне вошёл офицер невысокого роста, </a:t>
            </a: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с лицом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смуглым и отменно некрасивым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0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487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XIII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Найдите предложение с правильной расстановкой знаков препинания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13420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друг я заметил двух птиц летевших прямо к водопою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Мне часто снятся те ребята: друзья моих военных лет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Любовь же и дружба, разрастаясь  и распространяясь на многое, обретают новые силы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Иван Андреевич был, огромного роста, худой, молчаливый и весьма медлительный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3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Любовь же и дружба,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разрастаясь  и распространяясь на многое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, обретают новые силы (деепричастие + деепричастный оборот)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5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XIV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Найдите предложение с обстоятельством, не требующим обособления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друг хлынул студёным косым серебром сбивая тяжёлые яблоки ливень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Листья падая шепчутся прощаясь навек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округ нашего дома стояли задумавшись огромные каштаны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Татьяна любит не шутя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8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Татьяна любит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не шутя 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(деепричастие выступает в роли наречия)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0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Солнце поднялось над горами и сгоняло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ещё лежавший в тени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400" spc="-1" strike="noStrike" u="sng">
                <a:solidFill>
                  <a:srgbClr val="f8f8f8"/>
                </a:solidFill>
                <a:uFillTx/>
                <a:latin typeface="Tahoma"/>
              </a:rPr>
              <a:t>иней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7" name="i-main-pic" descr="Картинка 396 из 479"/>
          <p:cNvPicPr/>
          <p:nvPr/>
        </p:nvPicPr>
        <p:blipFill>
          <a:blip r:embed="rId1"/>
          <a:stretch/>
        </p:blipFill>
        <p:spPr>
          <a:xfrm>
            <a:off x="1187280" y="2565360"/>
            <a:ext cx="2232360" cy="1814400"/>
          </a:xfrm>
          <a:prstGeom prst="rect">
            <a:avLst/>
          </a:prstGeom>
          <a:ln w="0">
            <a:noFill/>
          </a:ln>
        </p:spPr>
      </p:pic>
      <p:sp>
        <p:nvSpPr>
          <p:cNvPr id="118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XV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Какое из данных обстоятельств не будет обособлять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читали желая запомнить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спешу к вам голову сломя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остановился не доезжая до аллеи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углублялась поворачивая вправо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3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спешу к вам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голову сломя 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(устойчивое сочетание)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95" name="Рисунок 157" descr="pic"/>
          <p:cNvPicPr/>
          <p:nvPr/>
        </p:nvPicPr>
        <p:blipFill>
          <a:blip r:embed="rId1"/>
          <a:stretch/>
        </p:blipFill>
        <p:spPr>
          <a:xfrm>
            <a:off x="6084720" y="3141720"/>
            <a:ext cx="1932120" cy="1787400"/>
          </a:xfrm>
          <a:prstGeom prst="rect">
            <a:avLst/>
          </a:prstGeom>
          <a:ln w="0">
            <a:noFill/>
          </a:ln>
        </p:spPr>
      </p:pic>
      <p:sp>
        <p:nvSpPr>
          <p:cNvPr id="196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VI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 Как правильно начать предложен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                                   … 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живя в монастыре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Какие мечты преследовали Мцыри…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Чувствуется сила Мцыри…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О чём мечтал Мцыри…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Нас поражает характер Мцыри…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9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0)"/>
                                      </p:to>
                                    </p:set>
                                    <p:set>
                                      <p:cBhvr>
                                        <p:cTn id="53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0)"/>
                                      </p:to>
                                    </p:set>
                                    <p:set>
                                      <p:cBhvr>
                                        <p:cTn id="53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О чём мечтал Мцыри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, живя в монастыре?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1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Найдите правильно построенное предлож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Писатель должен показывать жизнь такой, какая она есть, не приукрашивая и не ухудшая её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Прочитав эту роль, в первый момент мне стало даже смешно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Чувствуется ширь, взглянув на Волгу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Приехав в колхоз, улучшились условия быта.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4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440" y="907560"/>
            <a:ext cx="80629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Писатель должен показывать жизнь такой, какая она есть, не приукрашивая и не ухудшая её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Прочитав эту роль,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я сначала даже рассмеялся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зглянув на Волгу,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я почувствовал её ширь и красоту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Приехав в колхоз,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новый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директор улучшил условия быта сельчан.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6" name="Дата 4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Найдите ошибку в оформлении обособленного обстоятель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Лодка промчалась, бесшумно и легко вертясь среди судов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Чеченец взглянул на Лукашку и медленно отвернувшись, стал смотреть на тот берег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Морозка вышел на прогалину и, заложив два пальца в рот, свистнул три раза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Родители очень обрадовались, получив после длительного перерыва письмо от сына.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9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Чеченец взглянул на Лукашку и,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медленно отвернувшись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, стал смотреть на тот берег (обособление деепричастного оборота)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1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спользованные источни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http://stopforum.ru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http://xeniumfor.narod.ru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http://cdttblag.narod.ru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http://fantasyflash.ru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http://horrormedia.narod.ru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http://komputer.net.ua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http://www.welldes.com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4" name="Дата 3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Укажите условие, при котором определение не обособляе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находится между подлежащим и сказуемым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относится к личному местоимению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имеет добавочное обстоятельственное значение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находится перед определяемым словом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1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находится перед определяемым словом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3" name="i-main-pic" descr="Картинка 406 из 479"/>
          <p:cNvPicPr/>
          <p:nvPr/>
        </p:nvPicPr>
        <p:blipFill>
          <a:blip r:embed="rId1"/>
          <a:stretch/>
        </p:blipFill>
        <p:spPr>
          <a:xfrm>
            <a:off x="5508720" y="4221000"/>
            <a:ext cx="2230200" cy="1584360"/>
          </a:xfrm>
          <a:prstGeom prst="rect">
            <a:avLst/>
          </a:prstGeom>
          <a:ln w="0">
            <a:noFill/>
          </a:ln>
        </p:spPr>
      </p:pic>
      <p:sp>
        <p:nvSpPr>
          <p:cNvPr id="124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Укажите предложение с обособленным согласованным определе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еличественно вышла мать в сиреневом платье в кружевах с длинной нитью жемчуга на шее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есь мир с листвой с весенним громом с нелёгким каждым днём своим для радости открылся нам.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Мне часто вспоминается теперь эта тёмная река затенённая скалистыми горами и этот живой огонёк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Мересьеву сквозь стеклянную дверь был виден весь затемнённый коридор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Мне часто вспоминается теперь эта тёмная </a:t>
            </a:r>
            <a:r>
              <a:rPr b="1" lang="ru-RU" sz="2400" spc="-1" strike="noStrike" u="sng">
                <a:solidFill>
                  <a:srgbClr val="f8f8f8"/>
                </a:solidFill>
                <a:uFillTx/>
                <a:latin typeface="Tahoma"/>
              </a:rPr>
              <a:t>река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,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затенённая скалистыми горами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, и этот живой огонёк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9" name="Рисунок 13" descr="pic"/>
          <p:cNvPicPr/>
          <p:nvPr/>
        </p:nvPicPr>
        <p:blipFill>
          <a:blip r:embed="rId1"/>
          <a:stretch/>
        </p:blipFill>
        <p:spPr>
          <a:xfrm>
            <a:off x="4140360" y="2637000"/>
            <a:ext cx="3246120" cy="2663640"/>
          </a:xfrm>
          <a:prstGeom prst="rect">
            <a:avLst/>
          </a:prstGeom>
          <a:ln w="0">
            <a:noFill/>
          </a:ln>
        </p:spPr>
      </p:pic>
      <p:sp>
        <p:nvSpPr>
          <p:cNvPr id="130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359560" cy="9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Укажите предложение, в котором определение относится к личному местоимению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Как я люблю его спокойный вид когда душой в минувшем погружённый он летопись свою ведёт.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И навестим поля пустые леса недавно столь густые и берег милый для меня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Луна взошла сильно багровая и хмурая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Море у его ног лежало безмолвное и белое от облачного дыма.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3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95280" y="1295280"/>
            <a:ext cx="8353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1) Как я люблю его спокойный вид, 2) когда,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душой в минувшем погружённый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, </a:t>
            </a:r>
            <a:r>
              <a:rPr b="1" lang="ru-RU" sz="2400" spc="-1" strike="noStrike" u="sng">
                <a:solidFill>
                  <a:srgbClr val="f8f8f8"/>
                </a:solidFill>
                <a:uFillTx/>
                <a:latin typeface="Tahoma"/>
              </a:rPr>
              <a:t>он 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летопись свою ведёт.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5" name="i-main-pic" descr="Картинка 162 из 479"/>
          <p:cNvPicPr/>
          <p:nvPr/>
        </p:nvPicPr>
        <p:blipFill>
          <a:blip r:embed="rId1"/>
          <a:stretch/>
        </p:blipFill>
        <p:spPr>
          <a:xfrm>
            <a:off x="3995640" y="3573360"/>
            <a:ext cx="3384720" cy="2637000"/>
          </a:xfrm>
          <a:prstGeom prst="rect">
            <a:avLst/>
          </a:prstGeom>
          <a:ln w="0">
            <a:noFill/>
          </a:ln>
        </p:spPr>
      </p:pic>
      <p:sp>
        <p:nvSpPr>
          <p:cNvPr id="136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4:43:17Z</dcterms:created>
  <dc:creator>User</dc:creator>
  <dc:description/>
  <dc:language>en-US</dc:language>
  <cp:lastModifiedBy>Ирина</cp:lastModifiedBy>
  <dcterms:modified xsi:type="dcterms:W3CDTF">2013-03-12T12:54:27Z</dcterms:modified>
  <cp:revision>4</cp:revision>
  <dc:subject/>
  <dc:title>ПРОСТЫЕ ПРЕДЛОЖЕНИЯ С ОБОСОБЛЕННЫМИ ЧЛЕНАМИ</dc:title>
</cp:coreProperties>
</file>