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995C-AC53-414D-8493-DCC988B13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2E44-B279-4D42-85CD-1EB9CFF1E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EE9E-962E-4A6D-B668-459712ED0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89B4-B9D9-47FA-908D-A820EA5A1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5A11A-2900-4507-8F58-95940B9D1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AC726-89EB-4834-B315-7490B1145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E30C4-03EB-43E2-965A-7F9EFA8B6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1CCCF-1A88-42BD-BC07-B70082727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825EA-B218-4C7F-81C1-EE03CE167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066AC-9E47-4161-8A22-AAFADCC3D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4C8AC-3054-4A22-9A0C-764449DB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F2B6-60AB-45DA-91FA-C0DA520F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BB2B3-57D5-4DB7-B91E-00ECB090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1DF00-BE97-47B4-912B-B7CAFFE4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90E61-AE3E-4125-8E8A-E38F10D6A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F70D9-F875-4FB1-A366-28CC07B65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9F97C-AD18-4E04-91E5-116765593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79AF-C96D-4926-A10B-B1071DF9E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0B80-881F-46B3-A3C7-27F838C4B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A3A3-1EA2-4EB4-A7C0-7A8331726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B85B-526A-4B38-885F-76BC3C788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E619-3BF0-47EE-A8E9-434A90F4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4C15-D5A4-4CF5-AA28-79262A2B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37C0-B0B9-40D9-A9DB-52CCD87C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Андреянова И. Э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C4BE0-89A1-4CD5-9789-5836ED11602A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Group 16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Rectangle 17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Group 19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Rectangle 20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4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5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7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8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9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10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11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2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3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Rectangle 14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5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Андреянова И. Э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FD326-B329-4681-949F-6230F11C17F3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Tahoma"/>
              </a:rPr>
              <a:t>ПРОСТЫЕ ПРЕДЛОЖЕНИЯ С ОБОСОБЛЕННЫМИ ЧЛЕНА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Рисунок 214" descr="pic"/>
          <p:cNvPicPr/>
          <p:nvPr/>
        </p:nvPicPr>
        <p:blipFill>
          <a:blip r:embed="rId1"/>
          <a:stretch/>
        </p:blipFill>
        <p:spPr>
          <a:xfrm>
            <a:off x="1258920" y="3645000"/>
            <a:ext cx="2952720" cy="20127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356000" y="4292280"/>
            <a:ext cx="34164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ВАРИАНТ </a:t>
            </a: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2" name="Дата 6"/>
          <p:cNvSpPr/>
          <p:nvPr/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Андреянова И. 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. Найдите определение, стоящее после определяемого сл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Мягкие губы лошади торопливо подбирают брошенное наземь сено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597240" indent="-59724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Даша ждала всего но только не этой покорно  склонённой головы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597240" indent="-59724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Ганин взволнованный и одинокий пошёл домой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597240" indent="-59724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За столом рылся в книгах приехавший недавно из станицы счетовод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9" name="Дата 5"/>
          <p:cNvSpPr/>
          <p:nvPr/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Андреянова И. 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Ганин,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взволнованный и одинокий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, пошёл домой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41" name="i-main-pic" descr="Картинка 207 из 479"/>
          <p:cNvPicPr/>
          <p:nvPr/>
        </p:nvPicPr>
        <p:blipFill>
          <a:blip r:embed="rId1"/>
          <a:stretch/>
        </p:blipFill>
        <p:spPr>
          <a:xfrm>
            <a:off x="4859280" y="2997360"/>
            <a:ext cx="2017800" cy="3024000"/>
          </a:xfrm>
          <a:prstGeom prst="rect">
            <a:avLst/>
          </a:prstGeom>
          <a:ln w="0">
            <a:noFill/>
          </a:ln>
        </p:spPr>
      </p:pic>
      <p:sp>
        <p:nvSpPr>
          <p:cNvPr id="142" name="Дата 5"/>
          <p:cNvSpPr/>
          <p:nvPr/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Андреянова И. 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VI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. Найдите предложение с определением, не требующим обособл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Между тучами и морем гордо реет Буревестник чёрной молнии подобный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В Белозёрске  сел на пароход молодой ещё лётчик с седыми висками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Молодой казак стройный и красивый налил мне стакан простого вина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Меня давит эта жизнь нищая скучная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5" name="Дата 5"/>
          <p:cNvSpPr/>
          <p:nvPr/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Андреянова И. 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9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В Белозёрске  сел на пароход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молодой ещё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 лётчик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с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ffff"/>
                </a:solidFill>
                <a:latin typeface="Tahoma"/>
              </a:rPr>
              <a:t>седыми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висками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47" name="i-main-pic" descr="Картинка 153 из 479"/>
          <p:cNvPicPr/>
          <p:nvPr/>
        </p:nvPicPr>
        <p:blipFill>
          <a:blip r:embed="rId1"/>
          <a:stretch/>
        </p:blipFill>
        <p:spPr>
          <a:xfrm>
            <a:off x="5796000" y="2997360"/>
            <a:ext cx="1728720" cy="2447640"/>
          </a:xfrm>
          <a:prstGeom prst="rect">
            <a:avLst/>
          </a:prstGeom>
          <a:ln w="0">
            <a:noFill/>
          </a:ln>
        </p:spPr>
      </p:pic>
      <p:sp>
        <p:nvSpPr>
          <p:cNvPr id="148" name="Дата 5"/>
          <p:cNvSpPr/>
          <p:nvPr/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Андреянова И. 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6784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VII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. Укажите предложение, в котором несогласованное определение обособлено верно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Яблоневый сад весь в солнечных пятнах, спускался по склону холма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591120" indent="-59112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Володя, в белой майке, покрытый до пояса простынёй, полулежал на постели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591120" indent="-59112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В белом платье с нерасплетёнными косами по плечам, она тихонько подошла к столу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591120" indent="-59112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Предо мной в синей долгополой шинели стоял старик среднего роста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1" name="Дата 5"/>
          <p:cNvSpPr/>
          <p:nvPr/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Андреянова И. 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0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5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8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1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4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8f8f8"/>
                </a:solidFill>
                <a:uFillTx/>
                <a:latin typeface="Tahoma"/>
              </a:rPr>
              <a:t>Володя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,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в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 белой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майке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, покрытый до пояса простынёй, полулежал на постели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3" name="Дата 5"/>
          <p:cNvSpPr/>
          <p:nvPr/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Андреянова И. 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VIII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. Найдите предложение с пунктуационной ошибк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Шёпот ветвей раздавался отчётливо и близко, ничем не отдалённый и не прикрытый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И мгновенно где-то за лесом стоящие зенитки, начинают обстреливать вражеский самолёт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Дорога вилась по косогорам, густо заросшим дубняком и клёном, ещё хранившими багряную листву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Ферапонтов, в жилете, в ситцевой рубахе, стоял у лавки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6" name="Дата 5"/>
          <p:cNvSpPr/>
          <p:nvPr/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Андреянова И. 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2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5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И мгновенно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где-то за лесом стоящие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ru-RU" sz="2400" spc="-1" strike="noStrike" u="sng">
                <a:solidFill>
                  <a:srgbClr val="f8f8f8"/>
                </a:solidFill>
                <a:uFillTx/>
                <a:latin typeface="Tahoma"/>
              </a:rPr>
              <a:t>зенитки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 начинают обстреливать вражеский самолёт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58" name="Рисунок 139" descr="pic"/>
          <p:cNvPicPr/>
          <p:nvPr/>
        </p:nvPicPr>
        <p:blipFill>
          <a:blip r:embed="rId1"/>
          <a:stretch/>
        </p:blipFill>
        <p:spPr>
          <a:xfrm>
            <a:off x="4427640" y="4005360"/>
            <a:ext cx="2857320" cy="1904760"/>
          </a:xfrm>
          <a:prstGeom prst="rect">
            <a:avLst/>
          </a:prstGeom>
          <a:ln w="0">
            <a:noFill/>
          </a:ln>
        </p:spPr>
      </p:pic>
      <p:sp>
        <p:nvSpPr>
          <p:cNvPr id="159" name="Дата 5"/>
          <p:cNvSpPr/>
          <p:nvPr/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Андреянова И. 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X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. Найдите ошибку в употреблении определ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От всей этой стены людей, молчаливой и неподвижной, на рабочих веяло холодом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597240" indent="-59724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Залитые солнцем, стлались за рекой гречаные и пшеничные нивы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597240" indent="-59724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Узкая дорога была покрыта проваливающимся снегом под ногами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597240" indent="-59724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Павел устроился на приспособленном  под сиденье чурбане и закурил.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2" name="Дата 5"/>
          <p:cNvSpPr/>
          <p:nvPr/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Андреянова И. 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4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Узкая дорога была покрыта </a:t>
            </a:r>
            <a:r>
              <a:rPr b="1" lang="ru-RU" sz="2400" spc="-1" strike="noStrike" u="sng">
                <a:solidFill>
                  <a:srgbClr val="f8f8f8"/>
                </a:solidFill>
                <a:uFillTx/>
                <a:latin typeface="Tahoma"/>
              </a:rPr>
              <a:t>снегом,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проваливающимся под ногами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4" name="Дата 5"/>
          <p:cNvSpPr/>
          <p:nvPr/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Андреянова И. 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189000"/>
            <a:ext cx="8512200" cy="103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Укажите предложение, в котором обособленные члены отсутствуют (знаки не расставлены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3640" y="1295280"/>
            <a:ext cx="856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Солнце поднялось над горами и сгоняло ещё лежавший в тени иней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Мне нравится его спокойствие и ровная речь простая и ясная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Тучи редея лениво разошлись по небу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Она встретила сына с радостью неожиданной для него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5" name="Дата 6"/>
          <p:cNvSpPr/>
          <p:nvPr/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Андреянова И. 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. Найдите неверно выделенное приложе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Это была немецкая лошадь-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тяжеловес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Настоящим же моим воспитателем был наш мальчик-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подмастерье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В народе её называют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чудо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-ягодой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Тут петух-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драчун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, и курица-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кахетинка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, и скворец-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говорец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, и соловей-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певец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7" name="Дата 5"/>
          <p:cNvSpPr/>
          <p:nvPr/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Андреянова И. 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1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Настоящим же моим воспитателем был наш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мальчик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-подмастерье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9" name="Дата 5"/>
          <p:cNvSpPr/>
          <p:nvPr/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Андреянова И. 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XI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. Укажите предложение, в котором оборот с союзом КАК следует обособи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Смола как дерево смолистое с трудом поддаётся гниению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Читающая публика успела привыкнуть к Чехову как к юмористу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Наш двор как сад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Я читал, что алоэ принимают как лекарство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2" name="Дата 5"/>
          <p:cNvSpPr/>
          <p:nvPr/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Андреянова И. 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5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5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0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5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0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23640" y="1295280"/>
            <a:ext cx="8351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Смола, </a:t>
            </a:r>
            <a:r>
              <a:rPr b="1" lang="ru-RU" sz="2400" spc="-1" strike="noStrike">
                <a:solidFill>
                  <a:srgbClr val="00ffff"/>
                </a:solidFill>
                <a:latin typeface="Tahoma"/>
              </a:rPr>
              <a:t>как дерево смолистое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, с трудом поддаётся гниению (сравнительный оборот)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74" name="Рисунок 211" descr="pic"/>
          <p:cNvPicPr/>
          <p:nvPr/>
        </p:nvPicPr>
        <p:blipFill>
          <a:blip r:embed="rId1"/>
          <a:stretch/>
        </p:blipFill>
        <p:spPr>
          <a:xfrm>
            <a:off x="5724360" y="3716280"/>
            <a:ext cx="1513080" cy="2192400"/>
          </a:xfrm>
          <a:prstGeom prst="rect">
            <a:avLst/>
          </a:prstGeom>
          <a:ln w="0">
            <a:noFill/>
          </a:ln>
        </p:spPr>
      </p:pic>
      <p:sp>
        <p:nvSpPr>
          <p:cNvPr id="175" name="Дата 5"/>
          <p:cNvSpPr/>
          <p:nvPr/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Андреянова И. 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XI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айдите предложени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 обособленным несогласованным определение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Ко мне вошёл офицер невысокого роста, с лицом смуглым и отменно некрасивым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Офицер, ехавший верхом, натянул поводья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Самовар уже стоял на столе, шипя и курлыкая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Приехали все, кроме старшей сестры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8" name="Дата 5"/>
          <p:cNvSpPr/>
          <p:nvPr/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Андреянова И. 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7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1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6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1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6" dur="5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Ко мне вошёл офицер невысокого роста, </a:t>
            </a:r>
            <a:r>
              <a:rPr b="1" lang="ru-RU" sz="2400" spc="-1" strike="noStrike">
                <a:solidFill>
                  <a:srgbClr val="00ffff"/>
                </a:solidFill>
                <a:latin typeface="Tahoma"/>
              </a:rPr>
              <a:t>с лицом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ffff"/>
                </a:solidFill>
                <a:latin typeface="Tahoma"/>
              </a:rPr>
              <a:t>смуглым и отменно некрасивым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80" name="Дата 5"/>
          <p:cNvSpPr/>
          <p:nvPr/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Андреянова И. 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7487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XIII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. Найдите предложение с правильной расстановкой знаков препинания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134200" cy="515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Вдруг я заметил двух птиц летевших прямо к водопою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3360" indent="-60336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Мне часто снятся те ребята: друзья моих военных лет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3360" indent="-60336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Любовь же и дружба, разрастаясь  и распространяясь на многое, обретают новые силы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3360" indent="-60336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Иван Андреевич был, огромного роста, худой, молчаливый и весьма медлительный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83" name="Дата 5"/>
          <p:cNvSpPr/>
          <p:nvPr/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Андреянова И. 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Любовь же и дружба,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разрастаясь  и распространяясь на многое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, обретают новые силы (деепричастие + деепричастный оборот)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85" name="Дата 5"/>
          <p:cNvSpPr/>
          <p:nvPr/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Андреянова И. 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XIV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. Найдите предложение с обстоятельством, не требующим обособления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Вдруг хлынул студёным косым серебром сбивая тяжёлые яблоки ливень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Листья падая шепчутся прощаясь навек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Вокруг нашего дома стояли задумавшись огромные каштаны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Татьяна любит не шутя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88" name="Дата 5"/>
          <p:cNvSpPr/>
          <p:nvPr/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Андреянова И. 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2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3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8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3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8" dur="5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Татьяна любит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не шутя 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(деепричастие выступает в роли наречия)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90" name="Дата 5"/>
          <p:cNvSpPr/>
          <p:nvPr/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Андреянова И. 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Солнце поднялось над горами и сгоняло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ещё лежавший в тени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ru-RU" sz="2400" spc="-1" strike="noStrike" u="sng">
                <a:solidFill>
                  <a:srgbClr val="f8f8f8"/>
                </a:solidFill>
                <a:uFillTx/>
                <a:latin typeface="Tahoma"/>
              </a:rPr>
              <a:t>иней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7" name="i-main-pic" descr="Картинка 396 из 479"/>
          <p:cNvPicPr/>
          <p:nvPr/>
        </p:nvPicPr>
        <p:blipFill>
          <a:blip r:embed="rId1"/>
          <a:stretch/>
        </p:blipFill>
        <p:spPr>
          <a:xfrm>
            <a:off x="1187280" y="2565360"/>
            <a:ext cx="2232360" cy="1814400"/>
          </a:xfrm>
          <a:prstGeom prst="rect">
            <a:avLst/>
          </a:prstGeom>
          <a:ln w="0">
            <a:noFill/>
          </a:ln>
        </p:spPr>
      </p:pic>
      <p:sp>
        <p:nvSpPr>
          <p:cNvPr id="118" name="Дата 5"/>
          <p:cNvSpPr/>
          <p:nvPr/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Андреянова И. 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XV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. Какое из данных обстоятельств не будет обособлять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читали желая запомнить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спешу к вам голову сломя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остановился не доезжая до аллеи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углублялась поворачивая вправо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93" name="Дата 5"/>
          <p:cNvSpPr/>
          <p:nvPr/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Андреянова И. 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5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спешу к вам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голову сломя 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(устойчивое сочетание)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95" name="Рисунок 157" descr="pic"/>
          <p:cNvPicPr/>
          <p:nvPr/>
        </p:nvPicPr>
        <p:blipFill>
          <a:blip r:embed="rId1"/>
          <a:stretch/>
        </p:blipFill>
        <p:spPr>
          <a:xfrm>
            <a:off x="6084720" y="3141720"/>
            <a:ext cx="1932120" cy="1787400"/>
          </a:xfrm>
          <a:prstGeom prst="rect">
            <a:avLst/>
          </a:prstGeom>
          <a:ln w="0">
            <a:noFill/>
          </a:ln>
        </p:spPr>
      </p:pic>
      <p:sp>
        <p:nvSpPr>
          <p:cNvPr id="196" name="Дата 5"/>
          <p:cNvSpPr/>
          <p:nvPr/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Андреянова И. 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VI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. Как правильно начать предложени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                                   … 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живя в монастыре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Какие мечты преследовали Мцыри…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Чувствуется сила Мцыри…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О чём мечтал Мцыри…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Нас поражает характер Мцыри…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99" name="Дата 5"/>
          <p:cNvSpPr/>
          <p:nvPr/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Андреянова И. 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3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36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0)"/>
                                      </p:to>
                                    </p:set>
                                    <p:set>
                                      <p:cBhvr>
                                        <p:cTn id="53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-1,0)"/>
                                      </p:to>
                                    </p:set>
                                    <p:set>
                                      <p:cBhvr>
                                        <p:cTn id="53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О чём мечтал Мцыри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, живя в монастыре?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1" name="Дата 5"/>
          <p:cNvSpPr/>
          <p:nvPr/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Андреянова И. 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XVII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. Найдите правильно построенное предложе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Писатель должен показывать жизнь такой, какая она есть, не приукрашивая и не ухудшая её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597240" indent="-59724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Прочитав эту роль, в первый момент мне стало даже смешно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597240" indent="-59724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Чувствуется ширь, взглянув на Волгу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597240" indent="-59724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Приехав в колхоз, улучшились условия быта.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4" name="Дата 5"/>
          <p:cNvSpPr/>
          <p:nvPr/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Андреянова И. 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6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685440" y="907560"/>
            <a:ext cx="806292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Писатель должен показывать жизнь такой, какая она есть, не приукрашивая и не ухудшая её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Прочитав эту роль,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я сначала даже рассмеялся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Взглянув на Волгу,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я почувствовал её ширь и красоту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Приехав в колхоз,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новый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директор улучшил условия быта сельчан.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6" name="Дата 4"/>
          <p:cNvSpPr/>
          <p:nvPr/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Андреянова И. 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0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XVIII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. Найдите ошибку в оформлении обособленного обстоятель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5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Лодка промчалась, бесшумно и легко вертясь среди судов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Чеченец взглянул на Лукашку и медленно отвернувшись, стал смотреть на тот берег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Морозка вышел на прогалину и, заложив два пальца в рот, свистнул три раза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Родители очень обрадовались, получив после длительного перерыва письмо от сына.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9" name="Дата 5"/>
          <p:cNvSpPr/>
          <p:nvPr/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Андреянова И. 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0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Чеченец взглянул на Лукашку и,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медленно отвернувшись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, стал смотреть на тот берег (обособление деепричастного оборота)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11" name="Дата 5"/>
          <p:cNvSpPr/>
          <p:nvPr/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Андреянова И. 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Использованные источник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http://stopforum.ru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http://xeniumfor.narod.ru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http://cdttblag.narod.ru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http://fantasyflash.ru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http://horrormedia.narod.ru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http://komputer.net.ua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http://www.welldes.com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14" name="Дата 3"/>
          <p:cNvSpPr/>
          <p:nvPr/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Андреянова И. 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. Укажите условие, при котором определение не обособляетс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находится между подлежащим и сказуемым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относится к личному местоимению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имеет добавочное обстоятельственное значение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находится перед определяемым словом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1" name="Дата 5"/>
          <p:cNvSpPr/>
          <p:nvPr/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Андреянова И. 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находится перед определяемым словом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23" name="i-main-pic" descr="Картинка 406 из 479"/>
          <p:cNvPicPr/>
          <p:nvPr/>
        </p:nvPicPr>
        <p:blipFill>
          <a:blip r:embed="rId1"/>
          <a:stretch/>
        </p:blipFill>
        <p:spPr>
          <a:xfrm>
            <a:off x="5508720" y="4221000"/>
            <a:ext cx="2230200" cy="1584360"/>
          </a:xfrm>
          <a:prstGeom prst="rect">
            <a:avLst/>
          </a:prstGeom>
          <a:ln w="0">
            <a:noFill/>
          </a:ln>
        </p:spPr>
      </p:pic>
      <p:sp>
        <p:nvSpPr>
          <p:cNvPr id="124" name="Дата 5"/>
          <p:cNvSpPr/>
          <p:nvPr/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Андреянова И. 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. Укажите предложение с обособленным согласованным определени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Величественно вышла мать в сиреневом платье в кружевах с длинной нитью жемчуга на шее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Весь мир с листвой с весенним громом с нелёгким каждым днём своим для радости открылся нам.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Мне часто вспоминается теперь эта тёмная река затенённая скалистыми горами и этот живой огонёк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Мересьеву сквозь стеклянную дверь был виден весь затемнённый коридор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Дата 5"/>
          <p:cNvSpPr/>
          <p:nvPr/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Андреянова И. 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Мне часто вспоминается теперь эта тёмная </a:t>
            </a:r>
            <a:r>
              <a:rPr b="1" lang="ru-RU" sz="2400" spc="-1" strike="noStrike" u="sng">
                <a:solidFill>
                  <a:srgbClr val="f8f8f8"/>
                </a:solidFill>
                <a:uFillTx/>
                <a:latin typeface="Tahoma"/>
              </a:rPr>
              <a:t>река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,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затенённая скалистыми горами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, и этот живой огонёк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29" name="Рисунок 13" descr="pic"/>
          <p:cNvPicPr/>
          <p:nvPr/>
        </p:nvPicPr>
        <p:blipFill>
          <a:blip r:embed="rId1"/>
          <a:stretch/>
        </p:blipFill>
        <p:spPr>
          <a:xfrm>
            <a:off x="4140360" y="2637000"/>
            <a:ext cx="3246120" cy="2663640"/>
          </a:xfrm>
          <a:prstGeom prst="rect">
            <a:avLst/>
          </a:prstGeom>
          <a:ln w="0">
            <a:noFill/>
          </a:ln>
        </p:spPr>
      </p:pic>
      <p:sp>
        <p:nvSpPr>
          <p:cNvPr id="130" name="Дата 5"/>
          <p:cNvSpPr/>
          <p:nvPr/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Андреянова И. 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359560" cy="98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V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. Укажите предложение, в котором определение относится к личному местоимению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Как я люблю его спокойный вид когда душой в минувшем погружённый он летопись свою ведёт.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597240" indent="-59724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И навестим поля пустые леса недавно столь густые и берег милый для меня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597240" indent="-59724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Луна взошла сильно багровая и хмурая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597240" indent="-59724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Море у его ног лежало безмолвное и белое от облачного дыма.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3" name="Дата 5"/>
          <p:cNvSpPr/>
          <p:nvPr/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Андреянова И. 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95280" y="1295280"/>
            <a:ext cx="8353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1) Как я люблю его спокойный вид, 2) когда,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душой в минувшем погружённый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, </a:t>
            </a:r>
            <a:r>
              <a:rPr b="1" lang="ru-RU" sz="2400" spc="-1" strike="noStrike" u="sng">
                <a:solidFill>
                  <a:srgbClr val="f8f8f8"/>
                </a:solidFill>
                <a:uFillTx/>
                <a:latin typeface="Tahoma"/>
              </a:rPr>
              <a:t>он 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летопись свою ведёт.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35" name="i-main-pic" descr="Картинка 162 из 479"/>
          <p:cNvPicPr/>
          <p:nvPr/>
        </p:nvPicPr>
        <p:blipFill>
          <a:blip r:embed="rId1"/>
          <a:stretch/>
        </p:blipFill>
        <p:spPr>
          <a:xfrm>
            <a:off x="3995640" y="3573360"/>
            <a:ext cx="3384720" cy="2637000"/>
          </a:xfrm>
          <a:prstGeom prst="rect">
            <a:avLst/>
          </a:prstGeom>
          <a:ln w="0">
            <a:noFill/>
          </a:ln>
        </p:spPr>
      </p:pic>
      <p:sp>
        <p:nvSpPr>
          <p:cNvPr id="136" name="Дата 5"/>
          <p:cNvSpPr/>
          <p:nvPr/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Андреянова И. 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9T14:43:17Z</dcterms:created>
  <dc:creator>User</dc:creator>
  <dc:description/>
  <dc:language>en-US</dc:language>
  <cp:lastModifiedBy>Ирина</cp:lastModifiedBy>
  <dcterms:modified xsi:type="dcterms:W3CDTF">2013-03-12T12:54:27Z</dcterms:modified>
  <cp:revision>4</cp:revision>
  <dc:subject/>
  <dc:title>ПРОСТЫЕ ПРЕДЛОЖЕНИЯ С ОБОСОБЛЕННЫМИ ЧЛЕНАМИ</dc:title>
</cp:coreProperties>
</file>