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0.png" ContentType="image/png"/>
  <Override PartName="/ppt/media/image27.jpeg" ContentType="image/jpeg"/>
  <Override PartName="/ppt/media/image9.gif" ContentType="image/gif"/>
  <Override PartName="/ppt/media/image8.jpeg" ContentType="image/jpeg"/>
  <Override PartName="/ppt/media/image2.gif" ContentType="image/gif"/>
  <Override PartName="/ppt/media/image25.gif" ContentType="image/gif"/>
  <Override PartName="/ppt/media/image12.gif" ContentType="image/gif"/>
  <Override PartName="/ppt/media/image24.jpeg" ContentType="image/jpeg"/>
  <Override PartName="/ppt/media/image7.gif" ContentType="image/gif"/>
  <Override PartName="/ppt/media/image6.gif" ContentType="image/gif"/>
  <Override PartName="/ppt/media/image5.gif" ContentType="image/gif"/>
  <Override PartName="/ppt/media/image28.gif" ContentType="image/gif"/>
  <Override PartName="/ppt/media/image13.gif" ContentType="image/gif"/>
  <Override PartName="/ppt/media/image4.jpeg" ContentType="image/jpeg"/>
  <Override PartName="/ppt/media/image22.jpeg" ContentType="image/jpeg"/>
  <Override PartName="/ppt/media/image26.png" ContentType="image/png"/>
  <Override PartName="/ppt/media/image23.gif" ContentType="image/gif"/>
  <Override PartName="/ppt/media/image20.jpeg" ContentType="image/jpeg"/>
  <Override PartName="/ppt/media/image15.jpeg" ContentType="image/jpeg"/>
  <Override PartName="/ppt/media/image14.gif" ContentType="image/gif"/>
  <Override PartName="/ppt/media/image18.jpeg" ContentType="image/jpeg"/>
  <Override PartName="/ppt/media/image3.gif" ContentType="image/gif"/>
  <Override PartName="/ppt/media/image17.gif" ContentType="image/gif"/>
  <Override PartName="/ppt/media/image16.gif" ContentType="image/gif"/>
  <Override PartName="/ppt/media/image21.gif" ContentType="image/gif"/>
  <Override PartName="/ppt/media/image19.gif" ContentType="image/gif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A295-FFE6-45E2-B350-79ECEB8A8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169F-1464-4623-97B9-0F6B2169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E2C7-3A52-476F-BFAB-894B6E43E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E94C-D5E5-491A-8D5F-D4B2ECE30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5665-51D2-46A0-8B16-C4CCA5F7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D5E6-37EF-47F4-AB6C-3A7CE0C6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0812-1374-4C9B-95EE-BD977A80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58DB-83A9-4D04-AE95-7FA7DCF2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E165-D623-4F9B-85BB-21E914FC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2356-1D9C-4D1B-B1BB-EFAF25CA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8620-81BF-4A91-B117-1617257C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0D4C-F6D9-4C03-B656-C9F2A0BE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6210-AA8A-47BC-B98F-4580600E6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image" Target="../media/image25.gif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79280" y="3213000"/>
            <a:ext cx="2506680" cy="3272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419640" y="3586320"/>
            <a:ext cx="2506320" cy="3271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443640" y="3213000"/>
            <a:ext cx="2506680" cy="3272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0" y="189000"/>
            <a:ext cx="1698480" cy="2871720"/>
          </a:xfrm>
          <a:prstGeom prst="rect">
            <a:avLst/>
          </a:prstGeom>
          <a:ln w="0">
            <a:noFill/>
          </a:ln>
        </p:spPr>
      </p:pic>
    </p:spTree>
  </p:cSld>
  <p:transition advTm="9000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00360" y="1125360"/>
            <a:ext cx="4464000" cy="4053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50920" y="0"/>
            <a:ext cx="3570120" cy="2678040"/>
          </a:xfrm>
          <a:prstGeom prst="rect">
            <a:avLst/>
          </a:prstGeom>
          <a:ln w="0">
            <a:noFill/>
          </a:ln>
        </p:spPr>
      </p:pic>
    </p:spTree>
  </p:cSld>
  <p:transition advTm="2000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3278520" cy="4067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-396720" y="4187880"/>
            <a:ext cx="2519280" cy="2670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340000" y="0"/>
            <a:ext cx="3562200" cy="3686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519280" cy="2670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7308720" y="0"/>
            <a:ext cx="2519640" cy="2670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6877080" y="4187880"/>
            <a:ext cx="2519280" cy="2670120"/>
          </a:xfrm>
          <a:prstGeom prst="rect">
            <a:avLst/>
          </a:prstGeom>
          <a:ln w="0">
            <a:noFill/>
          </a:ln>
        </p:spPr>
      </p:pic>
    </p:spTree>
  </p:cSld>
  <p:transition advTm="9000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7164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556000" y="260280"/>
            <a:ext cx="6298920" cy="6348600"/>
          </a:xfrm>
          <a:prstGeom prst="rect">
            <a:avLst/>
          </a:prstGeom>
          <a:ln w="0">
            <a:noFill/>
          </a:ln>
        </p:spPr>
      </p:pic>
    </p:spTree>
  </p:cSld>
  <p:transition advTm="8000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708360" y="1557360"/>
            <a:ext cx="2062080" cy="2273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826920" y="1268280"/>
            <a:ext cx="2265480" cy="2449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156360" y="1773360"/>
            <a:ext cx="2496960" cy="2700360"/>
          </a:xfrm>
          <a:prstGeom prst="rect">
            <a:avLst/>
          </a:prstGeom>
          <a:ln w="0">
            <a:noFill/>
          </a:ln>
        </p:spPr>
      </p:pic>
    </p:spTree>
  </p:cSld>
  <p:transition advTm="3000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835280" y="2852640"/>
            <a:ext cx="5195880" cy="2102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7157880" y="4468680"/>
            <a:ext cx="1986120" cy="2389320"/>
          </a:xfrm>
          <a:prstGeom prst="rect">
            <a:avLst/>
          </a:prstGeom>
          <a:ln w="0">
            <a:noFill/>
          </a:ln>
        </p:spPr>
      </p:pic>
    </p:spTree>
  </p:cSld>
  <p:transition advTm="2000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348000" y="1700280"/>
            <a:ext cx="3032280" cy="4432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032280" cy="4432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6516720" y="0"/>
            <a:ext cx="3031920" cy="4432320"/>
          </a:xfrm>
          <a:prstGeom prst="rect">
            <a:avLst/>
          </a:prstGeom>
          <a:ln w="0">
            <a:noFill/>
          </a:ln>
        </p:spPr>
      </p:pic>
    </p:spTree>
  </p:cSld>
  <p:transition advTm="4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492360" y="1268280"/>
            <a:ext cx="2421000" cy="4840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95280" y="907920"/>
            <a:ext cx="2421000" cy="48405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6372360" y="981000"/>
            <a:ext cx="2420640" cy="4840200"/>
          </a:xfrm>
          <a:prstGeom prst="rect">
            <a:avLst/>
          </a:prstGeom>
          <a:ln w="0">
            <a:noFill/>
          </a:ln>
        </p:spPr>
      </p:pic>
    </p:spTree>
  </p:cSld>
  <p:transition advTm="3000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348000" y="404640"/>
            <a:ext cx="2835360" cy="3289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0" y="2133720"/>
            <a:ext cx="2835360" cy="3289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2835360" cy="3289320"/>
          </a:xfrm>
          <a:prstGeom prst="rect">
            <a:avLst/>
          </a:prstGeom>
          <a:ln w="0">
            <a:noFill/>
          </a:ln>
        </p:spPr>
      </p:pic>
    </p:spTree>
  </p:cSld>
  <p:transition advTm="2000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3570120" cy="26780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5573880" y="0"/>
            <a:ext cx="3570120" cy="26780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619280" y="2924280"/>
            <a:ext cx="3570120" cy="26780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2627280" y="-243000"/>
            <a:ext cx="3570480" cy="26784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4500720" y="1628640"/>
            <a:ext cx="3570120" cy="26784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539640" y="5950080"/>
            <a:ext cx="424080" cy="304560"/>
          </a:xfrm>
          <a:prstGeom prst="rect">
            <a:avLst/>
          </a:prstGeom>
          <a:ln w="0">
            <a:noFill/>
          </a:ln>
        </p:spPr>
      </p:pic>
    </p:spTree>
  </p:cSld>
  <p:transition advTm="2000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5:03:14Z</dcterms:created>
  <dc:creator>Солнышко</dc:creator>
  <dc:description/>
  <dc:language>en-US</dc:language>
  <cp:lastModifiedBy>1</cp:lastModifiedBy>
  <dcterms:modified xsi:type="dcterms:W3CDTF">2013-03-12T10:38:25Z</dcterms:modified>
  <cp:revision>12</cp:revision>
  <dc:subject/>
  <dc:title>Слайд 1</dc:title>
</cp:coreProperties>
</file>