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27.jpeg" ContentType="image/jpeg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6.gif" ContentType="image/gif"/>
  <Override PartName="/ppt/media/image5.gif" ContentType="image/gif"/>
  <Override PartName="/ppt/media/image28.gif" ContentType="image/gif"/>
  <Override PartName="/ppt/media/image13.gif" ContentType="image/gif"/>
  <Override PartName="/ppt/media/image4.jpeg" ContentType="image/jpeg"/>
  <Override PartName="/ppt/media/image22.jpeg" ContentType="image/jpeg"/>
  <Override PartName="/ppt/media/image26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8.jpeg" ContentType="image/jpeg"/>
  <Override PartName="/ppt/media/image3.gif" ContentType="image/gif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274-6C4A-4765-9528-5DE3B885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B24-598A-4EA8-85D9-0A010334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C0F-FF38-4C77-97B2-35FC2C8B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ED0-BEE3-469A-86EF-B1D1416E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23B-BD77-4B59-8AC7-B8FD15C5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1A7-0521-4199-9A21-92C5A94D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3FA-7438-45B9-BFE7-CD40F329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A5B-8E83-42C1-BA36-7B83C93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C46-D96F-42C5-ADD2-3B21B28E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2B5-FF69-4F88-80BF-A6525CF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55F-0B58-4628-AC6A-695138F2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26B-EE29-4E79-AA64-62BDE1B2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DE74-3FB7-4EE9-827B-D268944A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2506680" cy="327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19640" y="3586320"/>
            <a:ext cx="2506320" cy="32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443640" y="3213000"/>
            <a:ext cx="2506680" cy="327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189000"/>
            <a:ext cx="1698480" cy="2871720"/>
          </a:xfrm>
          <a:prstGeom prst="rect">
            <a:avLst/>
          </a:prstGeom>
          <a:ln w="0">
            <a:noFill/>
          </a:ln>
        </p:spPr>
      </p:pic>
    </p:spTree>
  </p:cSld>
  <p:transition advTm="9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464000" cy="4053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3570120" cy="267804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278520" cy="406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396720" y="4187880"/>
            <a:ext cx="2519280" cy="267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340000" y="0"/>
            <a:ext cx="3562200" cy="3686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519280" cy="267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2519640" cy="267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877080" y="4187880"/>
            <a:ext cx="2519280" cy="2670120"/>
          </a:xfrm>
          <a:prstGeom prst="rect">
            <a:avLst/>
          </a:prstGeom>
          <a:ln w="0">
            <a:noFill/>
          </a:ln>
        </p:spPr>
      </p:pic>
    </p:spTree>
  </p:cSld>
  <p:transition advTm="9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56000" y="260280"/>
            <a:ext cx="6298920" cy="634860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2062080" cy="227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2265480" cy="244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56360" y="1773360"/>
            <a:ext cx="2496960" cy="270036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5195880" cy="210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157880" y="4468680"/>
            <a:ext cx="1986120" cy="238932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3032280" cy="4432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32280" cy="4432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3031920" cy="443232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2421000" cy="484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2421000" cy="4840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372360" y="981000"/>
            <a:ext cx="2420640" cy="484020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348000" y="404640"/>
            <a:ext cx="2835360" cy="328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2835360" cy="328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2835360" cy="328932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570120" cy="2678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573880" y="0"/>
            <a:ext cx="3570120" cy="2678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3570120" cy="2678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627280" y="-243000"/>
            <a:ext cx="3570480" cy="2678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500720" y="1628640"/>
            <a:ext cx="3570120" cy="2678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39640" y="5950080"/>
            <a:ext cx="424080" cy="30456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5:03:14Z</dcterms:created>
  <dc:creator>Солнышко</dc:creator>
  <dc:description/>
  <dc:language>en-US</dc:language>
  <cp:lastModifiedBy>1</cp:lastModifiedBy>
  <dcterms:modified xsi:type="dcterms:W3CDTF">2013-03-12T10:38:25Z</dcterms:modified>
  <cp:revision>12</cp:revision>
  <dc:subject/>
  <dc:title>Слайд 1</dc:title>
</cp:coreProperties>
</file>