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B0B-3747-49D1-8F99-828D1BC2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8A7-5590-46F4-AB7A-297D82B7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461-CAB1-4699-8BAB-48B2E5F3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B8C-F000-4E33-8B3B-EBB37843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B97-F25B-4FD4-B358-99DB4CF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60D-1E39-47BD-8969-89D19B9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1E5-9080-41C5-967A-5C6BE566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FCA-AD7D-44EE-9238-7168D0A5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00E-E019-43AC-A80C-3C9C83A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F42-BADE-495F-A266-3427728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D8C-D0E3-4C95-A49F-101EE95C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A16-C735-4031-B20A-1251B06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2B7-8FE9-445A-8A0A-1F8CFA636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10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5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51640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863640" cy="78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308160" cy="76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00720" y="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364000" y="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443640" y="0"/>
            <a:ext cx="308160" cy="76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187280" y="5942160"/>
            <a:ext cx="1008360" cy="91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340000" y="6054840"/>
            <a:ext cx="884160" cy="80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276720" y="594360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356000" y="59421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508720" y="6008760"/>
            <a:ext cx="934920" cy="8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588000" y="5994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96360" y="5950080"/>
            <a:ext cx="365040" cy="90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25092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5:03:14Z</dcterms:created>
  <dc:creator>Солнышко</dc:creator>
  <dc:description/>
  <dc:language>en-US</dc:language>
  <cp:lastModifiedBy>1</cp:lastModifiedBy>
  <dcterms:modified xsi:type="dcterms:W3CDTF">2013-03-12T10:25:08Z</dcterms:modified>
  <cp:revision>20</cp:revision>
  <dc:subject/>
  <dc:title>Слайд 1</dc:title>
</cp:coreProperties>
</file>