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E66-0518-47CB-B758-C01E669D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54F-FDE3-4266-8DBF-25F58D4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6F8-6C78-4CD8-8318-0503B9EB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780-1E7F-4FAC-92D4-BEFF999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C0-EC65-4653-AC98-DB33CBA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8A2-0F71-4721-8C12-CDBCD80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493-5671-4C2F-B45A-A8DB5A3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55C-E97B-425F-83D6-DEE5D3C2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6FC-D7BE-43E2-A11F-633CA5EE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401-E72C-40A8-9F3E-16590A4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40F-5A83-40C1-8AB1-DB4248D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F22-5AC2-4B23-BB76-CE47973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436-9CC7-45D1-8CA7-D7372AD6A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10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5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51640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863640" cy="78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308160" cy="76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00720" y="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364000" y="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443640" y="0"/>
            <a:ext cx="308160" cy="76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187280" y="5942160"/>
            <a:ext cx="1008360" cy="91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340000" y="6054840"/>
            <a:ext cx="884160" cy="80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276720" y="594360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356000" y="59421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508720" y="6008760"/>
            <a:ext cx="934920" cy="8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588000" y="5994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96360" y="5950080"/>
            <a:ext cx="365040" cy="90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25092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5:03:14Z</dcterms:created>
  <dc:creator>Солнышко</dc:creator>
  <dc:description/>
  <dc:language>en-US</dc:language>
  <cp:lastModifiedBy>1</cp:lastModifiedBy>
  <dcterms:modified xsi:type="dcterms:W3CDTF">2013-03-12T10:25:08Z</dcterms:modified>
  <cp:revision>20</cp:revision>
  <dc:subject/>
  <dc:title>Слайд 1</dc:title>
</cp:coreProperties>
</file>