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E7C-CC53-4F2E-BBD7-B902C309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902-9723-4DC9-B638-4AA36DB9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2CD-5A86-4668-8116-F3D08516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AD5-BDA8-4C99-9EF6-3FC7AD17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0442-3ED6-4708-B1A0-96701A84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1DFB-B864-477B-8FE1-B92F320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220-3D28-4BC7-A5C5-D5A3D3D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C8D-B688-4833-A8AC-80FDA72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2AEA-A5A4-4872-A0B3-AD4FE73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256-164F-4199-AB7F-6708FFBC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325-EA76-4492-BFF9-B83D056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668-FC36-4C41-9A5C-37D6469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1B8-FF0E-47A5-AF07-BAEAA8A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368-DC5F-4497-972B-00C9684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54B1-F4D2-431C-9950-2E07C8B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E116-69E0-4ADA-9A0A-590B93DE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4D4F-CA2A-43C6-B80C-EB49CD8F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0E7-778D-4375-9D64-4DAB236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AB3-B34E-4DE1-8116-A978817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44F-AB2A-43C0-AEA0-DC30A2FB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EAB-681C-4AE8-9D25-1CADE014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19E-130E-499A-8095-01CB9E5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51E-346A-4912-917B-2B9A874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295-5728-4A3D-98D7-9FCF785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57240" y="-27000"/>
            <a:ext cx="9259920" cy="6969240"/>
            <a:chOff x="-57240" y="-27000"/>
            <a:chExt cx="9259920" cy="6969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57240" y="-27000"/>
              <a:ext cx="9259920" cy="69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49976" t="0" r="0" b="0"/>
            <a:stretch/>
          </p:blipFill>
          <p:spPr>
            <a:xfrm>
              <a:off x="0" y="2637000"/>
              <a:ext cx="3056040" cy="41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B16-85E2-4214-93C2-4E7B10F0E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57240" y="-27000"/>
            <a:ext cx="9259920" cy="6969240"/>
            <a:chOff x="-57240" y="-27000"/>
            <a:chExt cx="9259920" cy="6969240"/>
          </a:xfrm>
        </p:grpSpPr>
        <p:grpSp>
          <p:nvGrpSpPr>
            <p:cNvPr id="45" name=""/>
            <p:cNvGrpSpPr/>
            <p:nvPr/>
          </p:nvGrpSpPr>
          <p:grpSpPr>
            <a:xfrm>
              <a:off x="-57240" y="-27000"/>
              <a:ext cx="9259920" cy="6969240"/>
              <a:chOff x="-57240" y="-27000"/>
              <a:chExt cx="9259920" cy="696924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57240" y="-27000"/>
                <a:ext cx="9259920" cy="696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rcRect l="49976" t="0" r="0" b="0"/>
              <a:stretch/>
            </p:blipFill>
            <p:spPr>
              <a:xfrm>
                <a:off x="0" y="2637000"/>
                <a:ext cx="3056040" cy="4163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" descr=""/>
            <p:cNvPicPr/>
            <p:nvPr/>
          </p:nvPicPr>
          <p:blipFill>
            <a:blip r:embed="rId4"/>
            <a:srcRect l="0" t="0" r="14734" b="0"/>
            <a:stretch/>
          </p:blipFill>
          <p:spPr>
            <a:xfrm>
              <a:off x="5867280" y="128520"/>
              <a:ext cx="324180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E4A-0B7A-4194-BC74-9B400B2D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СЕМИНАР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1916280"/>
            <a:ext cx="6624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«Формирование связной реч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Цель: Систематизировать знания педагогов по проблеме. Вооружить практическими навыками рабо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581360"/>
            <a:ext cx="5977080" cy="2016360"/>
          </a:xfrm>
          <a:prstGeom prst="rect">
            <a:avLst/>
          </a:prstGeom>
          <a:solidFill>
            <a:srgbClr val="8deb47"/>
          </a:solidFill>
          <a:ln w="9360">
            <a:solidFill>
              <a:srgbClr val="8deb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Выполнил заместитель заведу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 воспитательно - образователь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МДОУ Детский сад комбинированного вида № 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Ачкас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ля монолога характерны: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тературная лекс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ернутость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ч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ическая заверш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Эти две формы речи отличаются и мотивами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онологическ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имулируется внутренними мотивами, и её содержание выбирает сам говор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алогическ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имулируется не только внутренними, но и внешними мотивами (ситуация, в которой происходит диалог, реплики собеседни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5157720"/>
            <a:ext cx="7416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ледовательно, монологическая речь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лее сложным, производным, более организованным в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чи и поэтому требует специального речев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Связная речь может быть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ситуативной и контекстной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туативная речь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ана с конкретной наглядной ситуацией и не отражает полностью содержание мысли в речевых формах. Она понятна только при учете той ситуации, о которой рассказ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онтекстной речи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ржание понятно из самого контекста. Сложность данной речи состоит в том, что здесь требуется построение высказывания без учета конкретной ситуации, с опорой только на языков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f2"/>
                </a:solidFill>
                <a:latin typeface="Times New Roman"/>
              </a:rPr>
              <a:t>Развитие обоих форм связной речи играет ведущую роль в процессе речевого развития ребенка и занимает центральное место в общей системе работы по развитию речи в детском саду.</a:t>
            </a:r>
            <a:endParaRPr b="1" lang="en-US" sz="2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и подчеркивают, что в связной речи отчетливо выступает тесная связь речевого и умственн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ная речь выполняет важнейшие социальные  функции: помогает ребенку устанавливать связи с окружающими людьми, определяет и регулирует нормы поведения в обществе, является решающим условием для развития его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Особенности развития связной речи в дошкольном детстве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ительный период развития речи, происходит 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вом году жизни ребенк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непосредственно-эмоционального общения со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имание речи- начальный этап в развитии функци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рождается намеренность голосовой реакции, формируется речевой слух,. Произвольное произ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К концу первого – началу второго года жизни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бенок начинает использовать слова для обращения к взросл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являются первые предложения из дву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являются первые осмысленные сл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ечь выступает как средство познания и как средство установления конт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На третьем году жизни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ыми темпами развивается как понимание речи, так и актив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растает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ложняется структура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и начинают использовать самую простую диалогическую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ечь  связана с непосредственным опытом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ети 4-5 лет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вступаю в разговор, могут поддержать бес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казывают сказки и короткие расс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и рассказывают по игрушкам и картин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ют формулирова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ы в большинстве копируют образец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98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Дети старшего дошкольного возраста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участвуют в разговоре, бес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 и точно отвечают на вопросы, формулируют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аточно хорошо участвуют в диа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ологическая речь развивается: дети осваивают разные типы связных высказываний(описание, повествование, рассуждение) с опорой на наглядный материал и без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жняется синтаксическая структура детских рассказов, увеличивается количество сложносочиненных и сложноподчиненны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Задачи, содержание обучение связной речи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детского сада предусматривает обучение диалогической и монологической речи. Работа по развитию диалогической речи направлена на формирование умений, необходимых для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Первое занятие: Методика связной речи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связной речи  и её значение для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зной речь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 смысловое развернутое высказывание, обеспечивающее общение и взаимо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зность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.С. Рубенштей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это «адекватность речевого оформления мысли говорящего или пишущего с точки зрения её понятности для слушателя или читате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основной характеристикой связной речи является её понятность для собеседник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Пять основных групп диалогических умений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бственно речевые ум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вступать в общение, поддерживать и завершать общение, говорить выра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речевого этик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щение, знакомство, приветствие, просьба и т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общатьс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аре, коллектив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общаться для планирования совмест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речевые (невербальные) ум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мимики, же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98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98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505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выражать просьбы и желания словом, отвечать на вопросы взрослых (кто это?, что делает? Какая?) Побуждают обращаться к взросл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адший дошколь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чтобы каждый малыш легко вступал в общение со взрослым и детьми, выражал свои мысли словами, понятно отвечал на вопросы, делился своими впечатлениями, прививать привычку пользовать речевым этикетом, здороваться, говорить спасибо, стимулировать попытки детей задавать вопросы (кто?, где? ,что делаешь, зачем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до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приучают охотно вступать в общение со взрослыми и сверстниками, отвечать на вопросы и задавать их по поведу предметов, их качества, действий с ними; педагог поддерживает стремление рассказывать  о своих наблюдениях, переживаниях; педагог больше внимания уделяет качеству ответов детей: учит отвечать, как в краткой, так и в распространенн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приучает детей к участию коллективной беседе, продолжается воспитание культуры общения детей: приветствовать знакомых и родных с применением разных форм речевого этик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до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ет учить более точно отвечать на вопросы, отвечать на один и тот же вопрос по разному; закреплять умение участвовать в общей беседе, внимательно слушать собеседника, не перебивая его и не отвлекаясь; особое внимание следует уделить умению ребенка формулировать вопрос; следует поощрять разговоры детей по поводу вещей, не находящихся в поле зрения ребенка, содержательное общение детей по поводу игр, прочитанных книг, просмотренных кинофиль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на данном этапе должны овладеть речевым этикетом общения, через образец педагог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Задачи и содержание монологической речи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детском саду детей обучают двум основным типам монологов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сказу и пересказ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и отличаются друг от друга тем, что в первом случае ребенок отбирает содержание для высказывания и оформляет его самостоятельно, в во втором материалом для высказывания служит художествен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ска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осмысленное воспроизведение литературного образца в устной речи. При пересказе ребенок передает готовое авторское содержание и заимствует готовые речевые формы (словарь, грамматические конструкции, связ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каз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амостоятельное развернутое изложение ребенком определенного содержания. В методике традиционно термином «рассказ» принято обозначать самостоятельно созданные детьми монологи разного типа (описание, повествование,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сякое связное монологическое высказывание характеризуется рядом признаков: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остность (единство т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ное оформление (начало, середина и коне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высказ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язность (логические связки между предложениями и частями моноло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вность (отсутствие длительных пауз в процессе рассказы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98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98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98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98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Для достижения связной речи необходим ряд умений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понимать и осмысливать тему, определять ее гра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бирать необходим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агать материал в нужной последова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оваться средствами языка в соответствии с литературными нормами задачами высказы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ь речь преднамеренно и произво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98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98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98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98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98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В языке сложились типичные способы соединения фраз в тексте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епная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иболее распространенная связь при которой основными средствами являются местоимения и синонимическая 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ая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данной связи предложения не сцепляются, а а сопоставляются или противопостав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учевая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ая связь чаще всего используется в описании, когда называется, а затем характеризуется объ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вязанные высказывания детей можно охарактеризовать с разных точек зрения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15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ункции (назначени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ств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аминацию (смешанные текс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у высказы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арт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грушкам и предме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ие расск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ущему психическому процессу, на который опирается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ос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ам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оображ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СВЯЗНАЯ РЕЧЬ - ЭТО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Я РЕЧЬ, КОТОРАЯ ОТРАЖАЕТ ВСЕ СУЩЕСТВЕННЫЕ  СТОРОНЫ ПРЕДМЕТНОГО СОДЕРЖ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чь может быть несвязной по двум причин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потому, что эти связи не осознаны и не представлены в мысли говорящ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эти связи не выявлены надлежащим образом в его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 зависимости от функции (назначения) выделяют четыре типа монологов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637000"/>
            <a:ext cx="2160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3500280"/>
            <a:ext cx="2016000" cy="8654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4581360"/>
            <a:ext cx="2160720" cy="792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89720"/>
            <a:ext cx="230328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ами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 зависимости от ведущего психического процесса выделяют три типа монолога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4" name="_s51213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51212"/>
            <p:cNvCxnSpPr>
              <a:stCxn id="188" idx="0"/>
              <a:endCxn id="186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51211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5120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120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восприят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20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памя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121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воображен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36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ются предпосылки для развития монологической речи. Детей учат слышать и понимать доступные им по содержанию рассказы и сказки и повторять отдельные реплики и фразы. В двух фразах рассказывать по картине или об увиденном на ули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ая млад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пересказывать хорошо знакомые им сказки и рассказы, а также рассказывать по наглядному материалу (описание игрушки, рассказывание по картине с близким детскому опыту сюжету).Детей подводят к составлению коротких описаний игрушек и карт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пересказывают содержание сказок и рассказов не только знакомых, но и впервые услышанных. Рассказыванию по картине учатся сначала по вопросам воспитателя, затем самостоятельно стоить высказывания описательного и повествовательного расск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обращать внимание на структурное оформление описаний и повествовании, дается представление о разных значениях рассказов («Однажды, «Как то раз») средствах связи между предложе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00200"/>
          <a:ext cx="8218440" cy="45259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ая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связно, последовательно пересказывают литературные произведения без помощи воспитателя, выразительно передавая диалоги героев. По серии сюжетных картинок, по игрушкам учатся составлять повествовательные рассказы: указывать место и время действия, развивать сюжет, соблюдать композицию и последовательность изложения, а в рассказах по одной картине –придумывать последующие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ая к школе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строить разные типы текстов (описание,, повествование, рассуждение) с соблюдением их структуры, с использованием разных типов внутритекстовых связ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жняются задачи и содержание обучения рассказыванию по игрушкам и картинкам, на темы из личного опыта, творческому рассказыванию без наглядного материала. Дети сами анализируют и оценивают рассказы с точки зрения из содержания, структуры, связан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imes New Roman"/>
              </a:rPr>
              <a:t>Желаю творческих успехов в работе над развитие связной речи у дет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В методике термин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«связная речь» употребляется в нескольких значениях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, деятельность говорящ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кт, результат этой деятельности, текст, высказы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раздела этой деятельности по развитию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язная речь- единое смысловое и структурное целое, включающее между собой и тематические объединения, законченные отре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Основная функция связной речи-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коммуникативная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844640"/>
            <a:ext cx="612144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ункция связно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двух направл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869000"/>
            <a:ext cx="2376360" cy="1008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4941720"/>
            <a:ext cx="230328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н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32000" y="393372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3933720"/>
            <a:ext cx="1727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ингвистической и психологической литературе диалогическая и монологическая речь рассматриваются в плане их противопо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аются они и по своей коммуникативно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48320" y="1600200"/>
            <a:ext cx="4100400" cy="4525920"/>
            <a:chOff x="4648320" y="1600200"/>
            <a:chExt cx="4100400" cy="45259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100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4648320" y="1600200"/>
              <a:ext cx="41004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f2"/>
                </a:solidFill>
                <a:latin typeface="Arial"/>
              </a:rPr>
              <a:t>Диалогическая речь представляет собой особенно яркое проявление коммуникативной функции языка</a:t>
            </a:r>
            <a:endParaRPr b="1" lang="en-US" sz="36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000" y="2637000"/>
            <a:ext cx="7127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ой особенностью диалога является чередование говорения одного собеседника с прослушиванием и последующим говорением другого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ажно, что в диалоге собеседники всегда знают, о чем идет речь, и не нуждаются в развертывании мысли и высказы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ля диалога характерны: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1773360"/>
            <a:ext cx="3970440" cy="4352760"/>
            <a:chOff x="457200" y="1773360"/>
            <a:chExt cx="3970440" cy="43527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7200" y="1773360"/>
              <a:ext cx="397044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57200" y="1773360"/>
              <a:ext cx="3970440" cy="43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оворная лекс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з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гово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ывис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ые и сложные бессоюз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временное предварительное обдум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f2"/>
                </a:solidFill>
                <a:latin typeface="Times New Roman"/>
              </a:rPr>
              <a:t>Монологическая речь - связное, логически последовательное высказывание, протекающее относительно долго во времени, не рассчитанное на немедленную реакцию слушателей.</a:t>
            </a:r>
            <a:endParaRPr b="1" lang="en-US" sz="28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2421000"/>
            <a:ext cx="6635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имеет несравненно сложное строение, выражает мысль одного человека, которая неизвестна слушателям. Поэтому высказывание содержит более полную формулировку информации, оно и более развернуто, требует длительного предварительного обду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0:46:56Z</dcterms:created>
  <dc:creator>Customer</dc:creator>
  <dc:description/>
  <dc:language>en-US</dc:language>
  <cp:lastModifiedBy>Customer</cp:lastModifiedBy>
  <dcterms:modified xsi:type="dcterms:W3CDTF">2010-11-05T15:22:18Z</dcterms:modified>
  <cp:revision>6</cp:revision>
  <dc:subject/>
  <dc:title>СЕМИНАР</dc:title>
</cp:coreProperties>
</file>