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5.jpeg" ContentType="image/jpeg"/>
  <Override PartName="/ppt/media/image8.jpeg" ContentType="image/jpeg"/>
  <Override PartName="/ppt/media/image2.gif" ContentType="image/gif"/>
  <Override PartName="/ppt/media/image4.png" ContentType="image/png"/>
  <Override PartName="/ppt/media/image3.png" ContentType="image/png"/>
  <Override PartName="/ppt/media/image26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7.gif" ContentType="image/gif"/>
  <Override PartName="/ppt/media/image1.jpeg" ContentType="image/jpeg"/>
  <Override PartName="/ppt/media/image10.png" ContentType="image/png"/>
  <Override PartName="/ppt/media/image22.png" ContentType="image/png"/>
  <Override PartName="/ppt/media/image17.gif" ContentType="image/gif"/>
  <Override PartName="/ppt/media/image16.png" ContentType="image/png"/>
  <Override PartName="/ppt/media/image15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4AFC-1859-4B98-A355-56D520035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F127-00EC-46DC-92DF-EC6B1547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6446-06BD-4065-A210-140FC1319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F880-CEE0-40EC-969B-061084B6C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527C-0A29-4A92-8860-8FD3371B5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8507-F63C-4411-85EF-998E1E78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127F-E181-4A9E-B138-59EF0921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A5CA-75C4-4881-A7C3-42C08920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A570-3F86-4A70-8656-57707F48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B171-5E39-4F8A-A7E2-CF1C7381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0E1A-A2BA-4CD7-BFE0-6DCE8110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B26F-1502-4CE7-AB88-96848083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19AB-5FC1-4859-A5EF-29591B4B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4FB7-71AD-4170-82D5-4D0F7697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2C25-04FC-40D8-A9EC-94095803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9BD8-8337-4DEC-91C4-A2EDFBAEB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4B53-A38C-4C76-A38A-37AA1C749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DA0F3E-5BB1-480A-98BF-76603950C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4652E9-9843-4A75-87A2-04EC0DA1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D0F66A-6E32-4AD9-8F60-2EBD12CE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9C729A-647C-4953-9A42-0FCF23A1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B0C58C-0FBF-4FDE-BE11-B44E8A4D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6FB9-CA42-41FF-B74F-93AC1483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BF1DE4-A462-4570-B19E-3E6846B4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CD1398-B7A2-4340-A4D1-B4C82DDE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BFE9ED-C6B5-4F0B-90BE-57AC3458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A9743D-6AB2-4694-B7E3-FC4DC67D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56D06A-D2F0-482E-96BD-12EF33A2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02694E-D2C5-4D8E-96D1-0322D7B9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40294E-1CC5-4790-AE68-BB32E2C6E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99A3F-8922-475D-8CA4-F9FD9C52F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B1A4A-6C9E-478A-BAC1-0CBD9413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F0040-2530-4D3D-8DFD-79C2D8D4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4AF0-3E2C-4493-A5B9-C05EF2A7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E9E06-16D1-4E1B-A335-70333715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1ED3E-B73A-4601-A359-B6388501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335F3-02DC-47AE-9BB3-3C147161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A80C5-FEB0-4001-B753-F998AB3E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C1520-6DCD-47D5-B473-926A63AC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4325D-FB96-4B56-AD74-5165CB17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D6E18-935A-494D-90F7-F26B9EEF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1E5E5-3905-444A-AEA6-5653EACFF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1D1C3-5914-4465-9580-6710AF1CC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CEDCE7-DC10-43E9-A3EB-2CBE4A895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BCFA-E710-48B6-A98E-E72C44FA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D41CA2-AF1B-44FC-8B38-F8B241E9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67499B-525E-451F-BC04-34BD447A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DD4402-85A7-4CF7-9FC7-780F2716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084C1D-DD2A-4AF8-955D-18DB75F6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10F405-862F-4D36-8721-BDD60895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A4E224-0257-4B29-A0D5-03272877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76BB61-E007-4685-BC21-571FC3DC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15FA55-F04E-4B59-9D5B-8DDD4432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9AF56A-F496-453C-A36A-FB6FEF7A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142044-091C-48FB-8249-530CEC8DA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BE1F-418E-4BEE-8347-946D6914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18A1B9-B6B1-4F0B-A9CE-87CD6D5F3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40F5D2-5709-4FAC-84FB-0129E5E9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D3B2CD-7A71-4449-AA36-16522C86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CCEBF5-CF2D-4E94-BB10-773BFE34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632C28-5181-4F4C-A3FC-375952A4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84B59C-54E7-46C8-9350-828B646B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587605-89F7-4D87-A9C7-AFE8B3ED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FF606B-BE92-4B89-B455-0800E988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3F7589-BBB7-4531-9A3B-7773F38B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7BDE0E-1454-4664-945F-3651E90B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EAA7-DB02-4CC3-B9F5-C7D03D8A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51A928-1FF0-4190-86B2-3BD4463D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4F28CE-72BD-46DC-9D03-9BE0CD6AE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3E3372-0DF9-415C-842A-DB9EDED3D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814A17-47CF-49D6-BC1D-1A8167C04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9B50C0-101A-4267-89D6-75AA45DB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6AA88D-A9D6-41AF-9365-64642D2C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40B6E4-6556-4BB2-B96C-38D75895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2D7A1B-02CE-4BDC-BD7C-82968F21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019AB1-B2D6-4ECE-ADAC-7509F6CE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FD0C52-F9C1-472A-9D16-A719174C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0449-4497-4F69-AB51-7799278D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51D6EC-993F-4DC2-A3E8-01302CA1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9AF048-D757-464C-9A60-E9813C1F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4C3E5F-29BC-469A-B4BB-160B5E99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2AB563-91D8-4F19-80AE-718AEC780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C0ECC1-23EF-479D-8B75-9218463FB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3427-F018-4415-A1AC-B4D52FDB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0B5B-0950-400B-9EC6-DA0E6F4F014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FC33-CFD6-40AA-8B3C-123FD3B1A23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DF78-BC94-4559-9940-85081832D78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48A3-FB49-4723-B02B-2FCD66BB4E1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21BD-3A13-4B9B-9727-09CAF5A5D12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20FC-0AD0-4B80-98E6-73B6A1C8378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7EAE-D288-440E-A8D6-D7AD4E95FFB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bio.info/page.php?id" TargetMode="External"/><Relationship Id="rId2" Type="http://schemas.openxmlformats.org/officeDocument/2006/relationships/hyperlink" Target="http://ru.wikipedia.org/wiki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1"/>
          <p:cNvSpPr/>
          <p:nvPr/>
        </p:nvSpPr>
        <p:spPr>
          <a:xfrm>
            <a:off x="857160" y="285840"/>
            <a:ext cx="70725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образовательное учреждение г.Москвы средняя общеобразовательная школа № 1103 имени Героя Российской Федерации А.В.Солома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2"/>
          <p:cNvSpPr/>
          <p:nvPr/>
        </p:nvSpPr>
        <p:spPr>
          <a:xfrm>
            <a:off x="500040" y="1857240"/>
            <a:ext cx="792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СИНТЕТИЧЕСКАЯ ТЕОРИЯ ЭВОЛЮ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я 9 - 10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3"/>
          <p:cNvSpPr/>
          <p:nvPr/>
        </p:nvSpPr>
        <p:spPr>
          <a:xfrm>
            <a:off x="2286000" y="439884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 Гончарь Анжелика Георги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 ВВК би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Прямоугольник 1"/>
          <p:cNvGrpSpPr/>
          <p:nvPr/>
        </p:nvGrpSpPr>
        <p:grpSpPr>
          <a:xfrm>
            <a:off x="139680" y="49320"/>
            <a:ext cx="8589960" cy="1895400"/>
            <a:chOff x="139680" y="49320"/>
            <a:chExt cx="8589960" cy="1895400"/>
          </a:xfrm>
        </p:grpSpPr>
        <p:pic>
          <p:nvPicPr>
            <p:cNvPr id="395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39680" y="49320"/>
              <a:ext cx="858996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285840" y="214200"/>
              <a:ext cx="835812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Вид существует как целостное и замкнутое образование. Целостность вида поддерживается миграциями особей из одной популяции в другую, при которых наблюдается обмен аллелями («поток генов»)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Прямоугольник 2"/>
          <p:cNvGrpSpPr/>
          <p:nvPr/>
        </p:nvGrpSpPr>
        <p:grpSpPr>
          <a:xfrm>
            <a:off x="66600" y="1822320"/>
            <a:ext cx="8778960" cy="2975040"/>
            <a:chOff x="66600" y="1822320"/>
            <a:chExt cx="8778960" cy="2975040"/>
          </a:xfrm>
        </p:grpSpPr>
        <p:pic>
          <p:nvPicPr>
            <p:cNvPr id="398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66600" y="1822320"/>
              <a:ext cx="8778960" cy="29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214200" y="2000160"/>
              <a:ext cx="8429760" cy="27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Макроэволюция на более высоком уровне, чем вид идет путем микроэволюции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Согласно синтетической теории эволюции, не существует закономерностей макроэволюции, отличных от микроэволюции. Для эволюции групп видов живых организмов характерны те же предпосылки и движущие силы, что и для микроэволюции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Прямоугольник 3"/>
          <p:cNvGrpSpPr/>
          <p:nvPr/>
        </p:nvGrpSpPr>
        <p:grpSpPr>
          <a:xfrm>
            <a:off x="66600" y="4834080"/>
            <a:ext cx="8212320" cy="1968480"/>
            <a:chOff x="66600" y="4834080"/>
            <a:chExt cx="8212320" cy="1968480"/>
          </a:xfrm>
        </p:grpSpPr>
        <p:pic>
          <p:nvPicPr>
            <p:cNvPr id="401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66600" y="4834080"/>
              <a:ext cx="821232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214200" y="4929120"/>
              <a:ext cx="800100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Любой реальный (а не сборный) таксон имеет монофилетическое происхождение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Эволюция имеет ненаправленный характер, т. е. не идет в направлении какой-либо конечной цели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"/>
          <p:cNvSpPr/>
          <p:nvPr/>
        </p:nvSpPr>
        <p:spPr>
          <a:xfrm>
            <a:off x="571680" y="-733320"/>
            <a:ext cx="78580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Monotype Corsiva"/>
                <a:ea typeface="Times New Roman"/>
              </a:rPr>
              <a:t>Синтетическая  теория  эволюции  вскрыла глубинные  механизмы  эволюционного  процесса, накопила  множество  новых  фактов  и доказательств  эволюции  живых  организмов, объединила  данные  многих  биологических  наук. Тем  не  менее  синтетическая  теор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Monotype Corsiva"/>
                <a:ea typeface="Times New Roman"/>
              </a:rPr>
              <a:t>эволюции (или неодарвинизм) находится  в  русле тех  идей  и  направлений,  которые  были заложены  Ч.  Дарвин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3" descr="&amp;Acy;&amp;ncy;&amp;icy;&amp;mcy;&amp;acy;&amp;shcy;&amp;kcy;&amp;icy; &amp;Kcy;&amp;ncy;&amp;icy;&amp;gcy;&amp;icy;"/>
          <p:cNvPicPr/>
          <p:nvPr/>
        </p:nvPicPr>
        <p:blipFill>
          <a:blip r:embed="rId1"/>
          <a:stretch/>
        </p:blipFill>
        <p:spPr>
          <a:xfrm>
            <a:off x="6000840" y="5072040"/>
            <a:ext cx="22143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оугольник 1"/>
          <p:cNvSpPr/>
          <p:nvPr/>
        </p:nvSpPr>
        <p:spPr>
          <a:xfrm>
            <a:off x="714240" y="64296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писок использованной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"/>
          <p:cNvSpPr/>
          <p:nvPr/>
        </p:nvSpPr>
        <p:spPr>
          <a:xfrm>
            <a:off x="785880" y="1720800"/>
            <a:ext cx="7072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.В.Чебышев, Г.Г.Гринева, Г.С. Гузик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логия.-Москва: Издательский центр «Академия», 2008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сок использованных материалов, Интернет-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2611c"/>
                </a:solidFill>
                <a:uFillTx/>
                <a:latin typeface="Arial"/>
                <a:hlinkClick r:id="rId1"/>
              </a:rPr>
              <a:t>http://www.sbio.info/page.php?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3"/>
          <p:cNvSpPr/>
          <p:nvPr/>
        </p:nvSpPr>
        <p:spPr>
          <a:xfrm>
            <a:off x="857160" y="3244680"/>
            <a:ext cx="515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2611c"/>
                </a:solidFill>
                <a:uFillTx/>
                <a:latin typeface="Arial"/>
                <a:hlinkClick r:id="rId2"/>
              </a:rPr>
              <a:t>http://ru.wikipedia.org/wik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14320" y="1428840"/>
            <a:ext cx="742932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entury Schoolbook"/>
              </a:rPr>
              <a:t>СИНТЕТИЧЕСКАЯ ТЕОРИЯ</a:t>
            </a:r>
            <a:r>
              <a:rPr b="1" lang="en-US" sz="2800" spc="-1" strike="noStrike">
                <a:solidFill>
                  <a:srgbClr val="00b05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b050"/>
                </a:solidFill>
                <a:latin typeface="Century Schoolbook"/>
              </a:rPr>
              <a:t>ЭВОЛЮЦИИ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5" name="Picture 4" descr="&amp;Kcy;&amp;acy;&amp;rcy;&amp;tcy;&amp;icy;&amp;ncy;&amp;kcy;&amp;acy; 5 &amp;icy;&amp;zcy; 154057"/>
          <p:cNvPicPr/>
          <p:nvPr/>
        </p:nvPicPr>
        <p:blipFill>
          <a:blip r:embed="rId1"/>
          <a:srcRect l="0" t="0" r="0" b="9316"/>
          <a:stretch/>
        </p:blipFill>
        <p:spPr>
          <a:xfrm>
            <a:off x="3571920" y="4071960"/>
            <a:ext cx="50767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1"/>
          <p:cNvSpPr/>
          <p:nvPr/>
        </p:nvSpPr>
        <p:spPr>
          <a:xfrm>
            <a:off x="3857760" y="320400"/>
            <a:ext cx="47862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5c01"/>
                </a:solidFill>
                <a:latin typeface="Monotype Corsiva"/>
                <a:ea typeface="Calibri"/>
              </a:rPr>
              <a:t>В первой  половине  ХХ  ве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5c01"/>
                </a:solidFill>
                <a:latin typeface="Monotype Corsiva"/>
                <a:ea typeface="Calibri"/>
              </a:rPr>
              <a:t>на  основе  синте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5c01"/>
                </a:solidFill>
                <a:latin typeface="Monotype Corsiva"/>
                <a:ea typeface="Calibri"/>
              </a:rPr>
              <a:t>имевшихся ранее  и  новых научных  данных   была создана новая теория – С Т 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5c01"/>
                </a:solidFill>
                <a:latin typeface="Monotype Corsiva"/>
                <a:ea typeface="Calibri"/>
              </a:rPr>
              <a:t>Она  основана  на </a:t>
            </a:r>
            <a:r>
              <a:rPr b="1" lang="en-US" sz="2800" spc="-1" strike="noStrike">
                <a:solidFill>
                  <a:srgbClr val="e75c01"/>
                </a:solidFill>
                <a:latin typeface="Monotype Corsiva"/>
                <a:ea typeface="Calibri"/>
              </a:rPr>
              <a:t> </a:t>
            </a:r>
            <a:r>
              <a:rPr b="1" lang="ru-RU" sz="2800" spc="-1" strike="noStrike">
                <a:solidFill>
                  <a:srgbClr val="e75c01"/>
                </a:solidFill>
                <a:latin typeface="Monotype Corsiva"/>
                <a:ea typeface="Calibri"/>
              </a:rPr>
              <a:t>достижениях  общей генетики 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5c01"/>
                </a:solidFill>
                <a:latin typeface="Monotype Corsiva"/>
                <a:ea typeface="Calibri"/>
              </a:rPr>
              <a:t>генетики популяций популяционной экологии</a:t>
            </a:r>
            <a:r>
              <a:rPr b="1" lang="en-US" sz="2800" spc="-1" strike="noStrike">
                <a:solidFill>
                  <a:srgbClr val="e75c01"/>
                </a:solidFill>
                <a:latin typeface="Monotype Corsiva"/>
                <a:ea typeface="Calibri"/>
              </a:rPr>
              <a:t> </a:t>
            </a:r>
            <a:r>
              <a:rPr b="1" lang="ru-RU" sz="2800" spc="-1" strike="noStrike">
                <a:solidFill>
                  <a:srgbClr val="e75c01"/>
                </a:solidFill>
                <a:latin typeface="Monotype Corsiva"/>
                <a:ea typeface="Calibri"/>
              </a:rPr>
              <a:t>дарвин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3" descr="http://www.krassota.com/i/priroda/08.gif"/>
          <p:cNvPicPr/>
          <p:nvPr/>
        </p:nvPicPr>
        <p:blipFill>
          <a:blip r:embed="rId1"/>
          <a:stretch/>
        </p:blipFill>
        <p:spPr>
          <a:xfrm>
            <a:off x="357120" y="285840"/>
            <a:ext cx="32148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"/>
          <p:cNvSpPr/>
          <p:nvPr/>
        </p:nvSpPr>
        <p:spPr>
          <a:xfrm>
            <a:off x="0" y="-32760"/>
            <a:ext cx="8715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Calibri"/>
              </a:rPr>
              <a:t>      </a:t>
            </a:r>
            <a:r>
              <a:rPr b="1" lang="ru-RU" sz="3200" spc="-1" strike="noStrike">
                <a:solidFill>
                  <a:srgbClr val="e75c01"/>
                </a:solidFill>
                <a:latin typeface="Monotype Corsiva"/>
                <a:ea typeface="Calibri"/>
              </a:rPr>
              <a:t>В </a:t>
            </a:r>
            <a:r>
              <a:rPr b="1" lang="en-US" sz="3200" spc="-1" strike="noStrike">
                <a:solidFill>
                  <a:srgbClr val="e75c01"/>
                </a:solidFill>
                <a:latin typeface="Monotype Corsiva"/>
                <a:ea typeface="Calibri"/>
              </a:rPr>
              <a:t> </a:t>
            </a:r>
            <a:r>
              <a:rPr b="1" lang="ru-RU" sz="3200" spc="-1" strike="noStrike">
                <a:solidFill>
                  <a:srgbClr val="e75c01"/>
                </a:solidFill>
                <a:latin typeface="Monotype Corsiva"/>
                <a:ea typeface="Calibri"/>
              </a:rPr>
              <a:t>разработке </a:t>
            </a:r>
            <a:r>
              <a:rPr b="1" lang="en-US" sz="3200" spc="-1" strike="noStrike">
                <a:solidFill>
                  <a:srgbClr val="e75c01"/>
                </a:solidFill>
                <a:latin typeface="Monotype Corsiva"/>
                <a:ea typeface="Calibri"/>
              </a:rPr>
              <a:t> </a:t>
            </a:r>
            <a:r>
              <a:rPr b="1" lang="ru-RU" sz="3200" spc="-1" strike="noStrike">
                <a:solidFill>
                  <a:srgbClr val="e75c01"/>
                </a:solidFill>
                <a:latin typeface="Monotype Corsiva"/>
                <a:ea typeface="Calibri"/>
              </a:rPr>
              <a:t>участвовали </a:t>
            </a:r>
            <a:r>
              <a:rPr b="1" lang="en-US" sz="3200" spc="-1" strike="noStrike">
                <a:solidFill>
                  <a:srgbClr val="e75c01"/>
                </a:solidFill>
                <a:latin typeface="Monotype Corsiva"/>
                <a:ea typeface="Calibri"/>
              </a:rPr>
              <a:t> </a:t>
            </a:r>
            <a:r>
              <a:rPr b="1" lang="ru-RU" sz="3200" spc="-1" strike="noStrike">
                <a:solidFill>
                  <a:srgbClr val="e75c01"/>
                </a:solidFill>
                <a:latin typeface="Monotype Corsiva"/>
                <a:ea typeface="Calibri"/>
              </a:rPr>
              <a:t>русск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5c01"/>
                </a:solidFill>
                <a:latin typeface="Monotype Corsiva"/>
                <a:ea typeface="Calibri"/>
              </a:rPr>
              <a:t>                                                         </a:t>
            </a:r>
            <a:r>
              <a:rPr b="1" lang="ru-RU" sz="3200" spc="-1" strike="noStrike">
                <a:solidFill>
                  <a:srgbClr val="e75c01"/>
                </a:solidFill>
                <a:latin typeface="Monotype Corsiva"/>
                <a:ea typeface="Calibri"/>
              </a:rPr>
              <a:t>и зарубежные </a:t>
            </a:r>
            <a:r>
              <a:rPr b="1" lang="en-US" sz="3200" spc="-1" strike="noStrike">
                <a:solidFill>
                  <a:srgbClr val="e75c01"/>
                </a:solidFill>
                <a:latin typeface="Monotype Corsiva"/>
                <a:ea typeface="Calibri"/>
              </a:rPr>
              <a:t> </a:t>
            </a:r>
            <a:r>
              <a:rPr b="1" lang="ru-RU" sz="3200" spc="-1" strike="noStrike">
                <a:solidFill>
                  <a:srgbClr val="e75c01"/>
                </a:solidFill>
                <a:latin typeface="Monotype Corsiva"/>
                <a:ea typeface="Calibri"/>
              </a:rPr>
              <a:t>уче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Рисунок 2" descr="http://yusupovpalace.ru/images/vavilov.png"/>
          <p:cNvPicPr/>
          <p:nvPr/>
        </p:nvPicPr>
        <p:blipFill>
          <a:blip r:embed="rId1"/>
          <a:srcRect l="0" t="0" r="0" b="9788"/>
          <a:stretch/>
        </p:blipFill>
        <p:spPr>
          <a:xfrm>
            <a:off x="428760" y="1643040"/>
            <a:ext cx="3071520" cy="357192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pic>
        <p:nvPicPr>
          <p:cNvPr id="360" name="Прямоугольник 3" descr=""/>
          <p:cNvPicPr/>
          <p:nvPr/>
        </p:nvPicPr>
        <p:blipFill>
          <a:blip r:embed="rId2"/>
          <a:stretch/>
        </p:blipFill>
        <p:spPr>
          <a:xfrm>
            <a:off x="311040" y="4932360"/>
            <a:ext cx="3237120" cy="126036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4" descr="http://www.nkj.ru/upload/iblock/53c/53c888595925f3f98f4fbeddd0eb0c81.jpg"/>
          <p:cNvPicPr/>
          <p:nvPr/>
        </p:nvPicPr>
        <p:blipFill>
          <a:blip r:embed="rId3"/>
          <a:stretch/>
        </p:blipFill>
        <p:spPr>
          <a:xfrm>
            <a:off x="5000760" y="2786040"/>
            <a:ext cx="2876400" cy="336240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pic>
        <p:nvPicPr>
          <p:cNvPr id="362" name="Прямоугольник 5" descr=""/>
          <p:cNvPicPr/>
          <p:nvPr/>
        </p:nvPicPr>
        <p:blipFill>
          <a:blip r:embed="rId4"/>
          <a:stretch/>
        </p:blipFill>
        <p:spPr>
          <a:xfrm>
            <a:off x="3713040" y="1487520"/>
            <a:ext cx="485784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Рисунок 1" descr="Dubinin NP.jpg"/>
          <p:cNvPicPr/>
          <p:nvPr/>
        </p:nvPicPr>
        <p:blipFill>
          <a:blip r:embed="rId1"/>
          <a:stretch/>
        </p:blipFill>
        <p:spPr>
          <a:xfrm>
            <a:off x="714240" y="642960"/>
            <a:ext cx="2714760" cy="335772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pic>
        <p:nvPicPr>
          <p:cNvPr id="364" name="Рисунок 2" descr="http://www.bionet.nsc.ru/vogis/pict_pdf/1999/8/8_2_4.jpg"/>
          <p:cNvPicPr/>
          <p:nvPr/>
        </p:nvPicPr>
        <p:blipFill>
          <a:blip r:embed="rId2"/>
          <a:stretch/>
        </p:blipFill>
        <p:spPr>
          <a:xfrm>
            <a:off x="4714920" y="2786040"/>
            <a:ext cx="2857320" cy="337176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pic>
        <p:nvPicPr>
          <p:cNvPr id="365" name="Прямоугольник 3" descr=""/>
          <p:cNvPicPr/>
          <p:nvPr/>
        </p:nvPicPr>
        <p:blipFill>
          <a:blip r:embed="rId3"/>
          <a:stretch/>
        </p:blipFill>
        <p:spPr>
          <a:xfrm>
            <a:off x="407880" y="4127400"/>
            <a:ext cx="3402000" cy="858960"/>
          </a:xfrm>
          <a:prstGeom prst="rect">
            <a:avLst/>
          </a:prstGeom>
          <a:ln w="0">
            <a:noFill/>
          </a:ln>
        </p:spPr>
      </p:pic>
      <p:pic>
        <p:nvPicPr>
          <p:cNvPr id="366" name="Прямоугольник 4" descr=""/>
          <p:cNvPicPr/>
          <p:nvPr/>
        </p:nvPicPr>
        <p:blipFill>
          <a:blip r:embed="rId4"/>
          <a:stretch/>
        </p:blipFill>
        <p:spPr>
          <a:xfrm>
            <a:off x="3571920" y="1487520"/>
            <a:ext cx="499896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Рисунок 1" descr="Ghhardy@72.jpg"/>
          <p:cNvPicPr/>
          <p:nvPr/>
        </p:nvPicPr>
        <p:blipFill>
          <a:blip r:embed="rId1"/>
          <a:stretch/>
        </p:blipFill>
        <p:spPr>
          <a:xfrm>
            <a:off x="285840" y="214200"/>
            <a:ext cx="2643120" cy="307188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pic>
        <p:nvPicPr>
          <p:cNvPr id="368" name="Рисунок 2" descr="Ernst Mayr PLoS.jpg"/>
          <p:cNvPicPr/>
          <p:nvPr/>
        </p:nvPicPr>
        <p:blipFill>
          <a:blip r:embed="rId2"/>
          <a:stretch/>
        </p:blipFill>
        <p:spPr>
          <a:xfrm>
            <a:off x="4643280" y="428760"/>
            <a:ext cx="3643560" cy="264312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pic>
        <p:nvPicPr>
          <p:cNvPr id="369" name="Прямоугольник 3" descr=""/>
          <p:cNvPicPr/>
          <p:nvPr/>
        </p:nvPicPr>
        <p:blipFill>
          <a:blip r:embed="rId3"/>
          <a:stretch/>
        </p:blipFill>
        <p:spPr>
          <a:xfrm>
            <a:off x="274680" y="2998800"/>
            <a:ext cx="7942320" cy="1262160"/>
          </a:xfrm>
          <a:prstGeom prst="rect">
            <a:avLst/>
          </a:prstGeom>
          <a:ln w="0">
            <a:noFill/>
          </a:ln>
        </p:spPr>
      </p:pic>
      <p:pic>
        <p:nvPicPr>
          <p:cNvPr id="370" name="Рисунок 4" descr="Hux-Oxon-72.jpg"/>
          <p:cNvPicPr/>
          <p:nvPr/>
        </p:nvPicPr>
        <p:blipFill>
          <a:blip r:embed="rId4"/>
          <a:srcRect l="0" t="0" r="0" b="14552"/>
          <a:stretch/>
        </p:blipFill>
        <p:spPr>
          <a:xfrm>
            <a:off x="2571840" y="3429000"/>
            <a:ext cx="2666880" cy="321480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pic>
        <p:nvPicPr>
          <p:cNvPr id="371" name="Прямоугольник 5" descr=""/>
          <p:cNvPicPr/>
          <p:nvPr/>
        </p:nvPicPr>
        <p:blipFill>
          <a:blip r:embed="rId5"/>
          <a:stretch/>
        </p:blipFill>
        <p:spPr>
          <a:xfrm>
            <a:off x="4711680" y="5986440"/>
            <a:ext cx="371952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Рисунок 1" descr="Hux-Oxon-72.jpg"/>
          <p:cNvPicPr/>
          <p:nvPr/>
        </p:nvPicPr>
        <p:blipFill>
          <a:blip r:embed="rId1"/>
          <a:stretch/>
        </p:blipFill>
        <p:spPr>
          <a:xfrm>
            <a:off x="731880" y="3017880"/>
            <a:ext cx="3058920" cy="34621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3"/>
          <p:cNvSpPr/>
          <p:nvPr/>
        </p:nvSpPr>
        <p:spPr>
          <a:xfrm>
            <a:off x="1000080" y="274680"/>
            <a:ext cx="7358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75c01"/>
                </a:solidFill>
                <a:latin typeface="Monotype Corsiva"/>
                <a:ea typeface="Calibri"/>
              </a:rPr>
              <a:t>Основы  С Т Э  изложены  в  книг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75c01"/>
                </a:solidFill>
                <a:latin typeface="Monotype Corsiva"/>
                <a:ea typeface="Calibri"/>
              </a:rPr>
              <a:t>Дж.  Хаксли  </a:t>
            </a:r>
            <a:r>
              <a:rPr b="1" lang="ru-RU" sz="3600" spc="-1" strike="noStrike">
                <a:solidFill>
                  <a:srgbClr val="e75c01"/>
                </a:solidFill>
                <a:latin typeface="Calibri"/>
                <a:ea typeface="Calibri"/>
              </a:rPr>
              <a:t>«</a:t>
            </a:r>
            <a:r>
              <a:rPr b="1" lang="ru-RU" sz="3600" spc="-1" strike="noStrike">
                <a:solidFill>
                  <a:srgbClr val="e75c01"/>
                </a:solidFill>
                <a:latin typeface="Monotype Corsiva"/>
                <a:ea typeface="Calibri"/>
              </a:rPr>
              <a:t>Современный синтез</a:t>
            </a:r>
            <a:r>
              <a:rPr b="1" lang="ru-RU" sz="3600" spc="-1" strike="noStrike">
                <a:solidFill>
                  <a:srgbClr val="e75c01"/>
                </a:solidFill>
                <a:latin typeface="Calibri"/>
                <a:ea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5" descr="&amp;Acy;&amp;ncy;&amp;icy;&amp;mcy;&amp;acy;&amp;shcy;&amp;kcy;&amp;icy; &amp;Kcy;&amp;ncy;&amp;icy;&amp;gcy;&amp;icy;"/>
          <p:cNvPicPr/>
          <p:nvPr/>
        </p:nvPicPr>
        <p:blipFill>
          <a:blip r:embed="rId2"/>
          <a:stretch/>
        </p:blipFill>
        <p:spPr>
          <a:xfrm>
            <a:off x="5143680" y="3643200"/>
            <a:ext cx="22860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"/>
          <p:cNvSpPr/>
          <p:nvPr/>
        </p:nvSpPr>
        <p:spPr>
          <a:xfrm>
            <a:off x="285840" y="-311400"/>
            <a:ext cx="821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  <a:ea typeface="Times New Roman"/>
              </a:rPr>
              <a:t>Основные  положения  синтетической  теории эволюции  в  общих  чертах  можно  выразить следующим  образом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Прямоугольник 2"/>
          <p:cNvGrpSpPr/>
          <p:nvPr/>
        </p:nvGrpSpPr>
        <p:grpSpPr>
          <a:xfrm>
            <a:off x="3071880" y="1579680"/>
            <a:ext cx="5675400" cy="1839960"/>
            <a:chOff x="3071880" y="1579680"/>
            <a:chExt cx="5675400" cy="1839960"/>
          </a:xfrm>
        </p:grpSpPr>
        <p:pic>
          <p:nvPicPr>
            <p:cNvPr id="377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3071880" y="1579680"/>
              <a:ext cx="5675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3214800" y="1844640"/>
              <a:ext cx="5357880" cy="14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Материалом для эволюции служат наследственные изменения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мутации ( генные) и их комбинац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Прямоугольник 3"/>
          <p:cNvGrpSpPr/>
          <p:nvPr/>
        </p:nvGrpSpPr>
        <p:grpSpPr>
          <a:xfrm>
            <a:off x="139680" y="3408480"/>
            <a:ext cx="7139160" cy="1535040"/>
            <a:chOff x="139680" y="3408480"/>
            <a:chExt cx="7139160" cy="1535040"/>
          </a:xfrm>
        </p:grpSpPr>
        <p:pic>
          <p:nvPicPr>
            <p:cNvPr id="380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39680" y="3408480"/>
              <a:ext cx="713916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285840" y="3571920"/>
              <a:ext cx="692928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Основным движущим фактором эволюции является естественный отбор, возникающий на основе борьбы за существование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Прямоугольник 6"/>
          <p:cNvGrpSpPr/>
          <p:nvPr/>
        </p:nvGrpSpPr>
        <p:grpSpPr>
          <a:xfrm>
            <a:off x="1925640" y="4979880"/>
            <a:ext cx="4919760" cy="1481400"/>
            <a:chOff x="1925640" y="4979880"/>
            <a:chExt cx="4919760" cy="1481400"/>
          </a:xfrm>
        </p:grpSpPr>
        <p:pic>
          <p:nvPicPr>
            <p:cNvPr id="383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925640" y="4979880"/>
              <a:ext cx="4919760" cy="148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2071800" y="5214960"/>
              <a:ext cx="47149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Наименьшей единице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эволюции является популяция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Прямоугольник 1"/>
          <p:cNvGrpSpPr/>
          <p:nvPr/>
        </p:nvGrpSpPr>
        <p:grpSpPr>
          <a:xfrm>
            <a:off x="139680" y="-73080"/>
            <a:ext cx="5780160" cy="2212920"/>
            <a:chOff x="139680" y="-73080"/>
            <a:chExt cx="5780160" cy="2212920"/>
          </a:xfrm>
        </p:grpSpPr>
        <p:pic>
          <p:nvPicPr>
            <p:cNvPr id="386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39680" y="-73080"/>
              <a:ext cx="5780160" cy="22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285840" y="142920"/>
              <a:ext cx="557208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Эволюция носит в большинстве случаев дивергентный характер, т. е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один таксон может стать предко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нескольких дочерних таксонов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Прямоугольник 2"/>
          <p:cNvGrpSpPr/>
          <p:nvPr/>
        </p:nvGrpSpPr>
        <p:grpSpPr>
          <a:xfrm>
            <a:off x="639720" y="1755720"/>
            <a:ext cx="8066160" cy="2571840"/>
            <a:chOff x="639720" y="1755720"/>
            <a:chExt cx="8066160" cy="2571840"/>
          </a:xfrm>
        </p:grpSpPr>
        <p:pic>
          <p:nvPicPr>
            <p:cNvPr id="389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639720" y="1755720"/>
              <a:ext cx="806616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785880" y="2000160"/>
              <a:ext cx="7858080" cy="221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Эволюция носит постепенный и длительный характер. Видообразование как этап эволюционного процесса представляет собой последовательную смену одной временной популяции чередой последующих временных популяций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Прямоугольник 3"/>
          <p:cNvGrpSpPr/>
          <p:nvPr/>
        </p:nvGrpSpPr>
        <p:grpSpPr>
          <a:xfrm>
            <a:off x="66600" y="4181400"/>
            <a:ext cx="7351920" cy="2579760"/>
            <a:chOff x="66600" y="4181400"/>
            <a:chExt cx="7351920" cy="2579760"/>
          </a:xfrm>
        </p:grpSpPr>
        <p:pic>
          <p:nvPicPr>
            <p:cNvPr id="392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66600" y="4181400"/>
              <a:ext cx="735192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214200" y="4500720"/>
              <a:ext cx="7143840" cy="20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Вид состоит из множества соподчиненных, морфологически, физиологически, экологически, биохимически и генетически отличных, но репродуктивно не изолированных единиц — подвидов и популяций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3T14:28:42Z</dcterms:created>
  <dc:creator>Admin</dc:creator>
  <dc:description/>
  <dc:language>en-US</dc:language>
  <cp:lastModifiedBy>user</cp:lastModifiedBy>
  <dcterms:modified xsi:type="dcterms:W3CDTF">2013-03-12T12:01:36Z</dcterms:modified>
  <cp:revision>21</cp:revision>
  <dc:subject/>
  <dc:title>СИНТЕТИЧЕСКАЯ ТЕОРИЯ ЭВОЛЮЦИИ</dc:title>
</cp:coreProperties>
</file>