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881-7D92-4C2D-AF14-2A8F789F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6A8-5847-41BA-8E32-51A41389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F62-4C35-4825-90EE-884E1AA7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314-BFDD-4EC4-9F38-83ECB1A4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4B8B-0E5F-47F5-8412-24A141B6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9508-891A-4FE6-9D09-61CB5C71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E931-1C08-434E-862A-5481F8A0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FAE7-A5EB-4F0E-9D15-0DE00A9A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77F1-1FE7-4E63-BEEB-5BFFC02D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2767-DD65-475A-BAED-E823A95D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4AF9-E0D7-44D9-9179-D1D092D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74E-A4A1-4213-AB8F-4ED1BD36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DDC5-2C48-4828-B5C4-4374F5C4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C417-258D-4691-8A81-6B384A69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723F-4B3C-4F56-80A2-6C2BD811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9740-D6F8-4B09-B662-BD4FE03A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2D70-E665-4464-8F53-1683D433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EE5A2-E5D9-40EC-A3AB-8ED2D070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DA352-AF24-48A5-9FC7-6CF49627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40DFE-A601-4DE5-9115-A7F2B462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80494-9D7E-40FE-8DC2-81CC85A4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A579E-DE71-4A44-867F-7AA646B9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888-BB53-476E-B34C-97943E68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E89A2-9C30-4486-B3F4-FE764702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A8C53-CE77-43CB-A050-81C0D15F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063D7-8BEB-401B-A7E5-29C6876F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8A37E-663B-49DC-B70A-8E0F07D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FD38F-C4C4-4D00-8E05-0AB396CB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95EAA-3FD5-4759-9B56-7A7315A9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A5D88-A097-4F4A-B3AE-F2CC26F9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F8CC1-A127-49BB-8FE8-F0C51E78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AB69-4305-46E5-B6AB-E28941F9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8F81-D4D9-48F1-9409-A8994BB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968-CFB4-4A59-8EB1-E6BF85B9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88B50-2401-4C45-9D7B-ED7759AB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14025-DE90-4B83-A549-F1C79F6A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E48F-8057-46AE-BC44-BEDE9534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A0F38-B973-4C9B-840B-91ECA91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4FD8-9E65-4198-9158-B9C982D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75CFA-3BC5-4DA7-BDF0-539250F5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8A4F-328E-4F31-A1D2-1199771B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FE21-6755-4177-82FE-5CDFB815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CE96-0588-43AA-AB23-856FA46A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E8D-C47A-402A-84BF-59D798D6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FC3-8A46-4981-BD66-0288712E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D0C-11F9-40A3-958B-66165F3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48B-B403-4908-A57A-4585F614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54E-5E97-4D83-BC9F-6826843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576-42AF-4635-BC7B-45566D077B0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2697-988C-421D-9BC3-2139306B759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8198-F40A-4D99-A366-B76E7238FAF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861C-AA0E-47C3-884F-5B92758DAD1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 подготовки к ЕГЭ по русскому языку 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русского языка и литературы МБОУ «Дабанская СОШ» Жирохова В.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фемы, их типы и функци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фемный анализ. Различение нулевого окончания  и отсутствия окончания. Разграничение омонимичных морфем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оформы, оканчивающиеся на –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й, -ий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язанные корни. Определение семантики приставок и суффиксов. Суффикс –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й(-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-)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дование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//оч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ообразовательный анализ. Способы словообразования. Безаффиксный  способ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фолого-синтаксический способ. Лексико-синтаксический способ. Лексико-семантический способ. Суффиксальное образование имен существительных и прилагательных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рфология и культура речи.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Georgia"/>
              </a:rPr>
              <a:t>совершенствовать умения анализировать, классифицировать слова различных частей реч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Georgia"/>
              </a:rPr>
              <a:t>совершенствовать умения оценивать морфологические формы с точки зрения нормативност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Georgia"/>
              </a:rPr>
              <a:t>повторить  словообразование наречий, непроизводные и производные предлог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Род имен существительных и прилагатель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Формообразование имен существительных и прилагательных. Окончания И.п. мн.ч имен существительных. Формы степеней сравнения имен прилагатель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клонение и особенности сочетаемости числитель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Функциональные омонимы. Разграничение функциональных омоним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интаксис и культура речи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синтаксические нормы, типы связи слов в словосочетан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сведения  простых осложненных предложен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лубить знания о сложноподчиненных предложениях с несколькими придаточными, о типах  придаточных предложе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осочетание, способы подчинительной связи. Трудные случаи управл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осоставное предложение с главным членом-сказуемы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жноподчиненное предложение. Типы придаточ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нтаксические нормы. Имена собственные в предложении. Предложения с причастным оборотом. Употребление деепричастного оборота. Форма  сказуемого при  подлежащем-местоимении. Замена придаточной определительной части СПП причастным оборот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нктуация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вторить и обобщить знания  пунктуационных прави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овершенствовать пунктуационные навы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85880"/>
            <a:ext cx="8229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в простом и сложном предложен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в предложениях с  обособленными членам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при вводных конструкция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при однородных члена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Двоеточие и тире в простом и сложном предложения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в СПП с одним придаточным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в сложном предложении с несколькими придаточным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бота с текстом.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Georgia"/>
              </a:rPr>
              <a:t>совершенствовать умения использовать основные приемы информационной переработки текста, выявлять средства связи предложений в тексте, определять функциональный стиль и тип текста, выявлять выразительные средст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 и его строение. Смысловые отношения между предложениями. Средства связи между предложениями текста. Виды связи между предложениями в текст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иональные стили и типы текс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зительные средства  текста. Лексические средства(тропы).Синтаксические средства(стилистические фигуры). Сравнение. Эпитет и метафора. Эпитет и олицетворение. Что такое парцелляция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писание сочинения.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 с основными требованиями к сочинению и критериями его провер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авильно оформлять сочин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Цели:  психологически подготовить к ЕГЭ;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ознакомить с типологией заданий, с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основными требованиями к сочине-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нию, со структурой  КИМов;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углубить знания о системе языка;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совершенствовать учебно-языковые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и коммуникативные умения.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 работы с текст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а текста. Категории(виды) пробл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ентарий проблемы и выявление авторской пози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гументация собственной позиции. Виды аргументов (естественные доказательства, ссылка на общезначимый опыт, свидетельства самого автора, ссылки на авторитет, пословицы, поговорки, примеры из художественной литературы, логические доказательства и др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пользованная литература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А.Г. Нарушевич «Методика подготовки к ЕГЭ по русскому языку: планирование занятий, организация урока, система упражнений».Москва «Педагогический университет «Первое сентября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Н.А.Гырдымова, Н.В.Слаутина, Е.М.Ткаченко и др. «Русский язык. Универсальный справочник»,Москва «Эксмо»2010г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А.А.Лыткина, А.П.Минаева, Е.Н.Чегаева «Подготовка к ЕГЭ по русскому языку», Москва «Чистые пруды», 2009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А.В.Дудников, А.И.Арбузова,И.И.Ворожбицкая «Русский язык» .Москва «Высшая школа»,1981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85688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фография.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24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и обобщить правила правописания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сить  орфографическую  зоркость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57132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писание приставок, корней, суффиксов и окончаний имен существительных и прилагательных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писание –Н- и –НН- в суффиксах различных частей реч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писание суффиксов и окончаний глаголов и глагольных фор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писание НЕ с различными частями реч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итное, дефисное и раздельное написание сло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фоэпия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углубить знания об орфоэп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вторить правила произноше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выработать умение соблюдать орфоэпические нормы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785880"/>
            <a:ext cx="8229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арение. Роль ударения в сло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центологические нор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арение в кратких формах прилагательных и страдательных причастий прошедшего времени, в глаголах прошедшего времен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ировочные упражнения, предполагающие чтение текстов с соблюдением орфоэпических нор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 орфоэпическими словаря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ексика и фразеология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вторить сведения об основных лексических понятиях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ершенствовать умения работы с  толковым словаре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гащать словарный запас выпускник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ксика русского языка как систе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лексические единицы (синонимы, антонимы, омонимы). Контекстуальные синонимы и антонимы. Лексический и морфологический способы разграничения многозначности и омоними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онимы и парономаз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зеологизмы. Типы фразеологизмов по стилистической окраск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фемика и словообразование.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вторить основные сведения по морфемике и словообразованию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овершенствовать навыки  морфемного и словообразовательного анализов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7:29:05Z</dcterms:created>
  <dc:creator>Валентина</dc:creator>
  <dc:description/>
  <dc:language>en-US</dc:language>
  <cp:lastModifiedBy>Пользователь</cp:lastModifiedBy>
  <dcterms:modified xsi:type="dcterms:W3CDTF">2013-03-06T09:30:59Z</dcterms:modified>
  <cp:revision>20</cp:revision>
  <dc:subject/>
  <dc:title>Методика   подготовки к ЕГЭ по русскому языку</dc:title>
</cp:coreProperties>
</file>