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6E4-0C41-4831-951B-DA6A3A0B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089-C78A-46E6-926E-48993937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E7F-5A44-4107-B13B-681804B5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D15-BDAD-477A-B8F1-35F4B553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2055-22ED-41E6-A1B1-26EA3DED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485-62AC-4D44-AE47-498C7A7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C72D-61AF-4CF2-8142-3A877B6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5F8A-B664-4CF5-A536-3E14126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807A-F477-4F02-A6B9-61B4B9BD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A725-6E42-4842-9B76-7862FE86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D42F-B615-47D6-8A0C-F4D8164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B26-17E1-4079-8BB6-2C3044E6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31FF-2C34-4058-9AC1-8332A988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9A20-89A6-4FE2-ADED-31CAE7F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9592-5B77-421A-A3C1-2FBB681E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8BD-B243-4B9F-A8FB-4E39166C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8E8A-88D6-438D-BE19-6882E6AF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690E6-A54E-4808-ACE4-B1F5511B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CB1AF-4BDB-4F36-AF2E-645605A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8B468-99B8-4352-B4D0-7010E4C8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779A5-FBA7-4745-8BDE-B1A7D070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C34A1-8561-473C-859B-D866B464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1D7-4201-4554-8076-D8379442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2E9AB-6529-4D9B-B45B-E08478F4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AE84B-C427-4937-B4B9-A9882AC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B35FD-270C-4ED9-8A00-6953AF0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0630F-5C8A-48EB-9AC0-E630E50A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3325C-8BA1-4F25-9C9F-DDFBD1D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039C2-56C8-4360-9A50-7C2AE336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E6D9A-D15A-4311-B116-985984FB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6FFBC-5A8B-44CC-AFFD-772C2EF6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02AB-2E7B-4F34-A577-C88B7861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8B63-28C5-42E5-B8F7-B97A18CD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6AE-395A-412E-A95C-8F803C20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5913-E62A-4E55-8EBD-875C8924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CB374-7716-4BF8-AD7F-B3E4968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493D-960B-4F93-9D2B-FBCDD8F3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78EB-A499-4215-BCA1-D2500A2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1F75-158F-4091-BF44-4F1EAD69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BA4A-B3FE-48C9-BE76-C4299BC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6AE2-3F2D-4989-8242-45156780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0802-412F-4CF5-BCE6-DEEA05B1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FD6F-987A-491F-969B-FE3654B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157-4C56-4E3F-995C-882C0DF5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90B-0D63-4FF8-B067-65D99A5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D4A-65FB-4A57-B68C-065DB26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1C2-0A6A-4197-AC5E-6A5B6A2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1DC-2F4E-4749-86D7-F220EC7E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879F-39CB-4CE5-92AC-233A7DCC44F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B9FD-3D33-4F97-ACF4-D2C4250C2A2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667F-F822-43DF-9327-9A30323DED7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0F0B-CCF0-47EA-871E-D1F08324617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 подготовки к ЕГЭ по русскому языку 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русского языка и литературы МБОУ «Дабанская СОШ» Жирохова В.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емы, их типы и функци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емный анализ. Различение нулевого окончания  и отсутствия окончания. Разграничение омонимичных морфе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формы, оканчивающиеся на –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й, -ий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анные корни. Определение семантики приставок и суффиксов. Суффикс –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й(-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-)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дование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//оч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образовательный анализ. Способы словообразования. Безаффиксный  способ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олого-синтаксический способ. Лексико-синтаксический способ. Лексико-семантический способ. Суффиксальное образование имен существительных и прилагательных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рфология и культура речи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совершенствовать умения анализировать, классифицировать слова различных частей реч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совершенствовать умения оценивать морфологические формы с точки зрения норматив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повторить  словообразование наречий, непроизводные и производные предлог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Род имен существительных и прилага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Формообразование имен существительных и прилагательных. Окончания И.п. мн.ч имен существительных. Формы степеней сравнения имен прилага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клонение и особенности сочетаемости числи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Функциональные омонимы. Разграничение функциональных омоним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интаксис и культура реч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синтаксические нормы, типы связи слов в словосочетан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сведения  простых осложненных предложен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лубить знания о сложноподчиненных предложениях с несколькими придаточными, о типах  придаточных предлож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сочетание, способы подчинительной связи. Трудные случаи управ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составное предложение с главным членом-сказуемы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жноподчиненное предложение. Типы придаточ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таксические нормы. Имена собственные в предложении. Предложения с причастным оборотом. Употребление деепричастного оборота. Форма  сказуемого при  подлежащем-местоимении. Замена придаточной определительной части СПП причастным оборот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нктуаци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вторить и обобщить знания  пунктуационных прави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овершенствовать пунктуационные навы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85880"/>
            <a:ext cx="8229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простом и сложном предложен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предложениях с  обособленными членам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при вводных конструкция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при однородных члена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Двоеточие и тире в простом и сложном предложения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СПП с одним придаточны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Georgia"/>
              </a:rPr>
              <a:t>Знаки препинания в сложном предложении с несколькими придаточным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бота с текстом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Georgia"/>
              </a:rPr>
              <a:t>совершенствовать умения использовать основные приемы информационной переработки текста, выявлять средства связи предложений в тексте, определять функциональный стиль и тип текста, выявлять выразительные средс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 и его строение. Смысловые отношения между предложениями. Средства связи между предложениями текста. Виды связи между предложениями в текст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иональные стили и типы текс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зительные средства  текста. Лексические средства(тропы).Синтаксические средства(стилистические фигуры). Сравнение. Эпитет и метафора. Эпитет и олицетворение. Что такое парцелляция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писание сочинения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 с основными требованиями к сочинению и критериями его прове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вильно оформлять сочи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и:  психологически подготовить к ЕГЭ;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ознакомить с типологией заданий, с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основными требованиями к сочине-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нию, со структурой  КИМов;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углубить знания о системе языка;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совершенствовать учебно-языковые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и коммуникативные умения.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работы с текст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а текста. Категории(виды) пробл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ентарий проблемы и выявление авторской пози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гументация собственной позиции. Виды аргументов (естественные доказательства, ссылка на общезначимый опыт, свидетельства самого автора, ссылки на авторитет, пословицы, поговорки, примеры из художественной литературы, логические доказательства и др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пользованная литература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.Г. Нарушевич «Методика подготовки к ЕГЭ по русскому языку: планирование занятий, организация урока, система упражнений».Москва «Педагогический университет «Первое сентября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Н.А.Гырдымова, Н.В.Слаутина, Е.М.Ткаченко и др. «Русский язык. Универсальный справочник»,Москва «Эксмо»2010г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.А.Лыткина, А.П.Минаева, Е.Н.Чегаева «Подготовка к ЕГЭ по русскому языку», Москва «Чистые пруды», 2009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.В.Дудников, А.И.Арбузова,И.И.Ворожбицкая «Русский язык» .Москва «Высшая школа»,1981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85688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фография.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и обобщить правила правописания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сить  орфографическую  зоркость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57132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приставок, корней, суффиксов и окончаний имен существительных и прилагательных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–Н- и –НН- в суффиксах различных частей реч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суффиксов и окончаний глаголов и глагольных фор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писание НЕ с различными частями реч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итное, дефисное и раздельное написание сл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фоэпия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углубить знания об орфоэп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вторить правила произноше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выработать умение соблюдать орфоэпические нормы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785880"/>
            <a:ext cx="8229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арение. Роль ударения в сло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центологические нор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арение в кратких формах прилагательных и страдательных причастий прошедшего времени, в глаголах прошедшего времен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ровочные упражнения, предполагающие чтение текстов с соблюдением орфоэпических нор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 орфоэпическими словаря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ексика и фразеологи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вторить сведения об основных лексических понятиях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ершенствовать умения работы с  толковым словаре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гащать словарный запас выпускник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ксика русского языка как систе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лексические единицы (синонимы, антонимы, омонимы). Контекстуальные синонимы и антонимы. Лексический и морфологический способы разграничения многозначности и омоними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онимы и парономаз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азеологизмы. Типы фразеологизмов по стилистической окраск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фемика и словообразование.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вторить основные сведения по морфемике и словообразованию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овершенствовать навыки  морфемного и словообразовательного анализов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7:29:05Z</dcterms:created>
  <dc:creator>Валентина</dc:creator>
  <dc:description/>
  <dc:language>en-US</dc:language>
  <cp:lastModifiedBy>Пользователь</cp:lastModifiedBy>
  <dcterms:modified xsi:type="dcterms:W3CDTF">2013-03-06T09:30:59Z</dcterms:modified>
  <cp:revision>20</cp:revision>
  <dc:subject/>
  <dc:title>Методика   подготовки к ЕГЭ по русскому языку</dc:title>
</cp:coreProperties>
</file>