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BCCE8-E772-42C8-A299-1993034E9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2C706-6B74-4D40-A82C-9DE986C42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ED35D-831D-4F30-95C1-72FB5400D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41CAD-C2F0-4EB1-81CC-FA0F1D9D3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EAEE5-53A9-4585-A071-CEF95DEFE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D1C8B-9726-42D2-AE1C-5B9D74349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1FBF6-98D5-4165-ADD8-D8B42F581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0702D-67B1-49FD-B4A9-B4772A1A1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E9087-24F3-47C1-B71F-754E092AA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0CC31-2D64-497D-85BC-0457858F5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8AADD-9852-4DB1-9B93-D2B88F7BF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76979-562B-421F-8F01-A0E5F13E8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47BBF-1B5F-4A0F-82F4-6B4F20071D0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360" y="2133720"/>
            <a:ext cx="8893080" cy="14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Тема урока: «Технология обработки графической информации»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2050920" y="189000"/>
            <a:ext cx="720720" cy="4316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835280" y="2565360"/>
            <a:ext cx="3024000" cy="3589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3284640"/>
            <a:ext cx="8209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ыполнить команду  в строке мен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ставк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 выпадающем мен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сновная надпис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4500720" y="4869000"/>
            <a:ext cx="1439640" cy="215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356000" y="5157720"/>
            <a:ext cx="1008000" cy="3589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50920" y="5300640"/>
            <a:ext cx="1800000" cy="1224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1403280" y="1268280"/>
            <a:ext cx="7416720" cy="16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в нижней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троке текущего состояния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можно выбрать шрифт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ввести фамилию учителя и учащегося в штамп чертеж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ввести дату выполнения чертеж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979640" y="5805360"/>
            <a:ext cx="5545080" cy="5032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332000" y="4292640"/>
            <a:ext cx="2303280" cy="8650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332000" y="1413000"/>
            <a:ext cx="75549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с помощью лупы можно увеличить масштаб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с помощью инструмента перемести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чтобы снять перемещение и другие инструменты нужно нажать стоп     в строке текущего состоя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6948360" y="907920"/>
            <a:ext cx="997200" cy="11257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6084720" y="1916280"/>
            <a:ext cx="792360" cy="6793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4"/>
          <a:stretch/>
        </p:blipFill>
        <p:spPr>
          <a:xfrm>
            <a:off x="6877080" y="3068640"/>
            <a:ext cx="695160" cy="695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5076720" y="404640"/>
            <a:ext cx="1366920" cy="3603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5734080"/>
            <a:ext cx="358560" cy="3589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539640" y="5589720"/>
            <a:ext cx="2737080" cy="14857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907920"/>
            <a:ext cx="2124000" cy="9367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5229360"/>
            <a:ext cx="395280" cy="2872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2276640"/>
            <a:ext cx="712764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для активации инструментальной панели нужно выбрать кнопку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Геометри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для построения прямоугольной детали выбираем кнопку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ямоугольн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0" y="5084640"/>
            <a:ext cx="2195640" cy="10083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4211640" y="1989000"/>
            <a:ext cx="1297080" cy="7192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8360" y="3357720"/>
            <a:ext cx="8280360" cy="19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на рабочем поле нажимаем ЛКМ фиксируем, и мышкой раздвигаем до нужного нам размер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размер указан прямо около курсор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постройте прямоугольник  сразу с осями размером (высота 90, ширина11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796000" y="5805360"/>
            <a:ext cx="288720" cy="432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61160" y="1628640"/>
            <a:ext cx="738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ля перехода к следующей команде нужно с помощью ЛК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ыбрать кнопку сто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3708360" y="2133720"/>
            <a:ext cx="798480" cy="8650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 flipH="1">
            <a:off x="684000" y="2708280"/>
            <a:ext cx="3166920" cy="3168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Растровая и векторная графи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Растровая график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астровые графические изображения формируются в процессе сканирования существующих на бумаге или фотоплёнке рисунков и фотографий, а также при использовании цифровых фото- и видеокамер. Можно создать растровое графическое изображение непосредственно на компьютере с использованием графического редакто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астровое изображение создается с использованием точек различного цвета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пикселей)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которые образуют строки и столбц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астровые изображения очень чувствительны к масштабированию (увеличению или уменьшению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227640" y="3716280"/>
            <a:ext cx="1800360" cy="53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533160" y="1844640"/>
            <a:ext cx="6456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 помощью отрезков мы можем продолжить чертёж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ля продолжения нажать ЛК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735120" y="1647720"/>
            <a:ext cx="8084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Чтобы заштриховать деталь нужно ЛКМ выбрать -штриховк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в строке текущего состояния (металл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5805360"/>
            <a:ext cx="395280" cy="2876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258920" y="3068640"/>
            <a:ext cx="2233440" cy="5047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395280" y="3213000"/>
            <a:ext cx="813744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ледующие задание нам надо выставить размеры детал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в строке меню выбираем Инструмент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в выпадающем меню Размеры - Авторазме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585000" y="3855960"/>
            <a:ext cx="691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 помощью ЛКМ выставляем основные размеры дета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512280" y="4071960"/>
            <a:ext cx="498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анесите  на чертёж основные разме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295560" y="2847960"/>
            <a:ext cx="533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е забудем сохранить свой первый чертё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439560" y="4071960"/>
            <a:ext cx="782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охраняем как всегда на рабочий стол. Имя файла  «Чертёж 1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Векторная граф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екторные графические изображения используются для хранения высокоточных графических объектов (чертежей и схем), для которых имеет значение сохранение четких и ясных контур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екторные изображения формируются из объектов (точка, линия, окружность, прямоугольник и др.) которые называются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графическими примитив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остоинством векторной графики является то, что векторные графические изображения могут быть увеличены или уменьшены без потери каче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Растровые и векторные графические редакторы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836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ля обработки изображений на компьютере используются специальные программы –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графические редакторы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Графические редакторы можно использовать для просмотр и редактирования готовых изображений, а также для создания рисунков и чертежей с использованием мыши или графического планше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Графический редакто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это программа создания, редактирования и просмотра графических изображе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860640"/>
            <a:ext cx="936720" cy="935280"/>
          </a:xfrm>
          <a:prstGeom prst="lightningBolt">
            <a:avLst/>
          </a:prstGeom>
          <a:solidFill>
            <a:srgbClr val="ff0000"/>
          </a:solidFill>
          <a:ln w="936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8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Графические редакторы можно разделить на две категории растровые и векторны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9528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реди растровых графических редакторов есть простые, например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int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стандартное приложение операционной системы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ndows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rOffice Image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компонент интегрированного офисного приложения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StarOffice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а также мощные профессиональные графические системы, наприме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dobe Photoshop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стые векторные графические редакторы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rOffice Draw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ходящий в состав интегрированного офисного приложения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rOffice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удобный векторный редактор встроен в текстовый редактор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icrosoft Word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для создания чертежей и схем можно использовать систему компьютерного черчения КОМПАС, среди профессиональных векторных графических систем наиболее распространен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CorelDRAW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7308720" y="260280"/>
            <a:ext cx="1563840" cy="15066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Системы компьютерного черчения КОМПА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8360" y="2491920"/>
            <a:ext cx="8229600" cy="37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 качестве примера системы компьютерного черчения рассмотрим систему КОМПАС, которая специально предназначена для обучения компьютерному черчению в школах. КОМПАС можно использовать для выполнения геометрических построений с помощью циркуля и линейки, а также при создании чертежей детал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7272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169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Запуск системы КОМПАС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68000" y="2708280"/>
            <a:ext cx="5543640" cy="34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ходим в Пуск        – Все програм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ходим программу АСКОН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ыбираем КОМПАС –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3D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выпадающем меню выбирае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484360" y="4221000"/>
            <a:ext cx="6191280" cy="10083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4067280" y="2708280"/>
            <a:ext cx="1152360" cy="3938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4"/>
          <a:stretch/>
        </p:blipFill>
        <p:spPr>
          <a:xfrm>
            <a:off x="5435640" y="2708280"/>
            <a:ext cx="2449440" cy="3938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5"/>
          <a:stretch/>
        </p:blipFill>
        <p:spPr>
          <a:xfrm>
            <a:off x="5292720" y="3068640"/>
            <a:ext cx="1511280" cy="4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2124000" y="1989000"/>
            <a:ext cx="576360" cy="8636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211640" y="4869000"/>
            <a:ext cx="865080" cy="4316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468360" y="1773360"/>
            <a:ext cx="7920000" cy="261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оздание и редактирование чертежа выполняется с помощью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инструментальной панел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которая размещается в левом верхнем углу окна прилож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нструментальная панель включает в себя панель переключения, которая обеспечивает переходы между пятью различными рабочими панеля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9T14:33:50Z</dcterms:created>
  <dc:creator>Информатика</dc:creator>
  <dc:description/>
  <dc:language>en-US</dc:language>
  <cp:lastModifiedBy>Информатика</cp:lastModifiedBy>
  <dcterms:modified xsi:type="dcterms:W3CDTF">2013-03-12T11:09:05Z</dcterms:modified>
  <cp:revision>31</cp:revision>
  <dc:subject/>
  <dc:title>Тема урока: «Технология обработки графической информации» </dc:title>
</cp:coreProperties>
</file>