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6CC5-59BD-415E-A459-7514E61E9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D395-766E-448E-9AEC-05D72509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5994-CD95-4C68-BC2F-58E98B39B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71AB-73E9-458E-AF51-06F01CCAC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1E4D-5C8E-4A4B-BB14-88A62D97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2273-9782-4347-A5A7-B0A2601D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8A55-0987-4FAC-AD77-A2BCC5B5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E20E-7F61-482F-AC92-8AE63609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A772-0B89-488C-B88F-46849C4A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5A40-7559-4260-8880-3F95AD87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FC4C-EFD0-4AFC-B4E8-4E0934A5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3059-E63A-43BE-BA4C-AE721382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E6C3-F801-4C4E-A408-7467796E0F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133720"/>
            <a:ext cx="889308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Тема урока: «Технология обработки графической информации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050920" y="189000"/>
            <a:ext cx="720720" cy="431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35280" y="2565360"/>
            <a:ext cx="3024000" cy="35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3284640"/>
            <a:ext cx="820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полнить команду  в строке мен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тав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выпадающем мен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новная над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00720" y="4869000"/>
            <a:ext cx="1439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56000" y="5157720"/>
            <a:ext cx="1008000" cy="358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5300640"/>
            <a:ext cx="1800000" cy="12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403280" y="1268280"/>
            <a:ext cx="74167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в нижне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роке текущего состоя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можно выбрать шриф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ввести фамилию учителя и учащегося в штамп чертеж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ввести дату выполнения чертеж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79640" y="5805360"/>
            <a:ext cx="554508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32000" y="4292640"/>
            <a:ext cx="2303280" cy="865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332000" y="1413000"/>
            <a:ext cx="7554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с помощью лупы можно увеличить масшта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с помощью инструмента перемест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чтобы снять перемещение и другие инструменты нужно нажать стоп     в строке текущего состоя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948360" y="907920"/>
            <a:ext cx="997200" cy="1125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084720" y="1916280"/>
            <a:ext cx="792360" cy="679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877080" y="3068640"/>
            <a:ext cx="695160" cy="695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076720" y="404640"/>
            <a:ext cx="136692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734080"/>
            <a:ext cx="358560" cy="358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2737080" cy="1485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907920"/>
            <a:ext cx="2124000" cy="93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229360"/>
            <a:ext cx="395280" cy="287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2276640"/>
            <a:ext cx="7127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для активации инструментальной панели нужно выбрать кнопк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еометр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для построения прямоугольной детали выбираем кнопк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ямо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5084640"/>
            <a:ext cx="2195640" cy="1008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211640" y="1989000"/>
            <a:ext cx="1297080" cy="71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3357720"/>
            <a:ext cx="8280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на рабочем поле нажимаем ЛКМ фиксируем, и мышкой раздвигаем до нужного нам размер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размер указан прямо около курсор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остройте прямоугольник  сразу с осями размером (высота 90, ширина11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0" y="5805360"/>
            <a:ext cx="288720" cy="43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61160" y="1628640"/>
            <a:ext cx="73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перехода к следующей команде нужно с помощью ЛК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брать кнопку ст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708360" y="2133720"/>
            <a:ext cx="798480" cy="865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H="1">
            <a:off x="684000" y="2708280"/>
            <a:ext cx="3166920" cy="316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стровая и векторная граф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стровая графи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тровые графические изображения формируются в процессе сканирования существующих на бумаге или фотоплёнке рисунков и фотографий, а также при использовании цифровых фото- и видеокамер. Можно создать растровое графическое изображение непосредственно на компьютере с использованием графического редакт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тровое изображение создается с использованием точек различного цвет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пикселей)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которые образуют строки и столб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тровые изображения очень чувствительны к масштабированию (увеличению или уменьшени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227640" y="3716280"/>
            <a:ext cx="180036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3160" y="1844640"/>
            <a:ext cx="645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помощью отрезков мы можем продолжить чертё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продолжения нажать Л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35120" y="1647720"/>
            <a:ext cx="808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обы заштриховать деталь нужно ЛКМ выбрать -штрихов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в строке текущего состояния (метал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805360"/>
            <a:ext cx="395280" cy="287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58920" y="3068640"/>
            <a:ext cx="2233440" cy="504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95280" y="3213000"/>
            <a:ext cx="8137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ующие задание нам надо выставить размеры дета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в строке меню выбираем Инструмен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в выпадающем меню Размеры - Автораз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85000" y="3855960"/>
            <a:ext cx="69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помощью ЛКМ выставляем основные размеры дет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12280" y="4071960"/>
            <a:ext cx="49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несите  на чертёж основные разм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95560" y="2847960"/>
            <a:ext cx="533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забудем сохранить свой первый чертё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39560" y="4071960"/>
            <a:ext cx="782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храняем как всегда на рабочий стол. Имя файла  «Чертёж 1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кто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екторные графические изображения используются для хранения высокоточных графических объектов (чертежей и схем), для которых имеет значение сохранение четких и ясных конту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екторные изображения формируются из объектов (точка, линия, окружность, прямоугольник и др.) которые называютс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афическими примитив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стоинством векторной графики является то, что векторные графические изображения могут быть увеличены или уменьшены без потери ка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стровые и векторные графические редакторы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обработки изображений на компьютере используются специальные программы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афические редакторы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рафические редакторы можно использовать для просмотр и редактирования готовых изображений, а также для создания рисунков и чертежей с использованием мыши или графического планш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афический редак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это программа создания, редактирования и просмотра графических изобра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860640"/>
            <a:ext cx="936720" cy="93528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рафические редакторы можно разделить на две категории растровые и вектор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и растровых графических редакторов есть простые, наприме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t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тандартное приложение операционной систем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Office Imag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компонент интегрированного офисного прилож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tarOffic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а также мощные профессиональные графические системы, наприм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obe Photosho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тые векторные графические редактор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Office Draw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ходящий в состав интегрированного офисного приложен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Offic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удобный векторный редактор встроен в текстовый редакто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crosoft Wor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для создания чертежей и схем можно использовать систему компьютерного черчения КОМПАС, среди профессиональных векторных графических систем наиболее распростран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CorelDRA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08720" y="260280"/>
            <a:ext cx="1563840" cy="1506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истемы компьютерного черчения КОМПА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качестве примера системы компьютерного черчения рассмотрим систему КОМПАС, которая специально предназначена для обучения компьютерному черчению в школах. КОМПАС можно использовать для выполнения геометрических построений с помощью циркуля и линейки, а также при создании чертежей дета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727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Запуск системы КОМПА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68000" y="2708280"/>
            <a:ext cx="554364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ходим в Пуск        – Все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ходим программу АСК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бираем КОМПАС 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3D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выпадающем меню выбира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484360" y="4221000"/>
            <a:ext cx="6191280" cy="1008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067280" y="2708280"/>
            <a:ext cx="1152360" cy="393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5435640" y="2708280"/>
            <a:ext cx="2449440" cy="393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5292720" y="3068640"/>
            <a:ext cx="151128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124000" y="1989000"/>
            <a:ext cx="576360" cy="86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11640" y="4869000"/>
            <a:ext cx="865080" cy="431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68360" y="1773360"/>
            <a:ext cx="7920000" cy="26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здание и редактирование чертежа выполняется с помощью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нструментальной пане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которая размещается в левом верхнем углу окна при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струментальная панель включает в себя панель переключения, которая обеспечивает переходы между пятью различными рабочими пан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4:33:50Z</dcterms:created>
  <dc:creator>Информатика</dc:creator>
  <dc:description/>
  <dc:language>en-US</dc:language>
  <cp:lastModifiedBy>Информатика</cp:lastModifiedBy>
  <dcterms:modified xsi:type="dcterms:W3CDTF">2013-03-12T11:09:05Z</dcterms:modified>
  <cp:revision>31</cp:revision>
  <dc:subject/>
  <dc:title>Тема урока: «Технология обработки графической информации» </dc:title>
</cp:coreProperties>
</file>