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FE23-7F67-44AF-B1E8-01B2F27B2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6F19-4054-4654-A3A0-2CB433ABFC7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426CDE-B63C-4AB1-909A-FE37C1CFD13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E1980-FA76-4DFD-803C-06481982378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C6B5B3-6B6A-4046-A5FF-DC3F480528F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31FB36-18AC-4C31-9485-05972DBDDC2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47469-9E87-48C5-A099-C390EE9F9C7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A70A7-CA33-4856-B064-B6FDD2E1D2E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1F3C89-C3B9-40AF-9F5A-4438824EF14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A75FEF-4719-4888-BD52-D5D47128C43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D331C7-741E-4450-8295-BAF0DA21242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B0221-8E97-4BF0-86C2-3C0E444D2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6025-8C34-474E-A1B7-B0AA4B4BF70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34152-9898-4405-83DF-6F132D6CBDD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EAF69-4AAB-4A3B-B03E-4A8B9D0892D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89ADA-588C-4A8B-8B46-2E88E1AC2C6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363779-8DF7-4ECE-9409-AE278D95C82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540EE-418B-4913-8FFD-871DA17AB8D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019F9-FBBD-4AC5-96D3-73600B8CB58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D6ABFF-223B-4F28-A205-3A572C96351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E3C96F-D6FC-409A-9137-E2A15491481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660AC0-4485-4C46-B94C-515DEE27E15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57C670-C275-4DF4-92F3-ABFCAC279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E135-CEFA-475A-8C03-153BD25F8FB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D37259-FF65-459A-9FD5-0B9576BD041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624CE-A7EA-42E6-8F5A-5CBA4AF284B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EE955-6EE4-4873-892E-B80B10FCB05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DE212-1A33-4DC5-9830-38E5D63A7EF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89610-1718-4D9E-8B12-937E0B78331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A9A80-EC58-4A9D-8A3F-3D384D2E143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3C157-7B44-4A32-81E3-1D6274BDAD4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0A813-1275-46B4-AA5B-374FF047D50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4DC3B-3A99-4484-9B3F-6270586D9C8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77390-D5A2-4C1C-9AC9-2D24E3258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203A-81C6-43EC-BFB1-F9EA026AF8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A322F-B002-4F69-B1E6-26DE5E1C1C3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AF4BA-1357-414F-9C0F-F9B901D20FE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8474C-3824-4F53-AB64-C454B76C7CF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D64118-708A-4616-AE7E-6EBED77329C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252D21-6A8D-407A-A81F-6A0CCCD8882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1E7DD1-E04C-4221-8672-CA5BA4CF29C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7138D3-F281-4727-8997-AA403BACE4F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479236-FBD4-4186-A274-A9E63CB7F24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D8BE2C-F961-4B1B-9D96-658031D6A6F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830BBF-04EF-40AC-9F07-75E227335B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9E8-AEBF-44D6-86B2-00CBFE4D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B199D1-324D-4A79-A524-4A4D65D65F7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A81CC0-61E2-4B55-BEEC-58A8CE53A8C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FACC46-983A-47DF-9678-11373CBFB16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E8F76B-C897-4A9F-A2F8-A4872AE7371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7C68A5-EDEE-4549-95AB-9601C1FA665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945AA-F15B-4D7D-94D9-9E46FAB6907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8D700-76C2-4C9C-86E0-CCCAE92EF84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D149B1-E5DD-42CD-AF54-414A610CD1B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83D5C-EB65-4AED-8D02-7403C2983C2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5599A-96D4-4FCD-8C2F-E284CCDD95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13F-7181-4717-BE06-9CF79219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2CE1B-AF82-453D-BB11-C53BCF5BB66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D42D8-D3A8-4CD3-A6F8-41542A39A33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FF0EB-8D57-4AAD-A3F6-05B9053CC46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1BF50D-7EC0-4EB2-A6DF-14C245A3582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CC1E79-7FBC-40BA-81D0-B472BF6C16C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BEDB0-15B6-4DA6-B1B9-68BA923A67D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A8465-BB93-4EFD-A7A9-F3FCE1F60F6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5C9459-DEC9-4176-AA41-6D6DFF2AFB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B4A6F0-3450-4197-991B-A73495B5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1F1745-D1D8-418C-B4B3-1CB82F76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D2B-9552-40A7-879E-2EB1C49F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B07ED5-F727-4900-8884-B632972A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B500DE-C97E-4D6A-9E5E-D7E43A8F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375CA2-722C-493F-B1FB-E1291F8D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480EAB-3D7F-4302-95DC-3C9BAA5A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E7725F-D446-4EE6-BA78-01B4D6D8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4C7ACE-31D4-4994-9A82-C9F5FA82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3EC1B9-56B0-4D3D-89A8-6CDFB5E4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E09D23-3A40-4219-A007-8FFE314D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55C3A8-7C73-457F-9944-E6AF15C3C5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BB819-33D4-41DE-BC36-FB41F528A2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5F22-43C0-4335-B68A-11E62226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63643-06C9-4BDB-B7DB-4EDDC892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5A8FB-F4E0-4BBD-8028-FA358AB4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A9C41-676E-4B99-BCAB-028A0E30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AFD21-D0C7-47A0-B9CD-E48F758D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4524A-BE58-4FE3-BE60-B439D9B4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F8AA3-9249-49B9-AAA8-014AB9F1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D3160-A40E-4CEF-9EAD-F2F436E7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22435-4E66-4B62-92DD-AB7E2EF5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9ACE3-A213-43AF-91F4-FEBB0E37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E12B3-E242-477B-B638-9D203E31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9CD-627A-4984-8787-9E25364A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20BE8-AAE7-49A8-803D-FD334D91FC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FC935F-5859-4269-B9A7-E7A1620976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DF8DC4-B006-4082-91FD-9FCBB5C9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98EF72-027C-4011-B5EB-F0D89F2A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243367-CBC2-4DC3-87E6-86D8B9A5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D0F1DD-0C6C-488B-8755-91AFD341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509598-E050-41A9-A115-75DA76FE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4B4DD2-0F93-4E85-BC63-4F8441E8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2DD3EA-A1A6-44B0-8D96-257CF49F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9783D6-34FE-4ECE-9071-7F6CC0FA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03F-5BE7-495E-8CE4-CEFE7681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ECAFBD-9EAA-414B-9AF6-260444DA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CD738-F285-4C97-B05A-DFEEE5AE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DF36C-6504-4199-82F3-A80B6D1FC7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169EAE-1F9A-4D00-8776-D854A91A28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2298CD-8022-4CC8-BFD6-45C3D3B3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679C5A-FB75-4812-8FD0-6052D025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A73A51-31FB-402E-B70E-A5869142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DE583C-816B-4BBA-AFBC-D0B1D63F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E336EA-2DD8-4A7C-B050-180735FD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B7521A-B2BB-46CB-A8B3-AA43C9BE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62C2-EDF1-450D-9D71-A87286ED9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FA6-DC5F-48C6-9729-0E95D6AA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7DF664-93CD-4D10-B0BD-7A060744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E4FD1E-B160-4E4A-9F64-33E924A2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6C06A7-3C40-4331-994C-EF864BF1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FAD9E7-2407-4944-A0E1-2C10BA46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D36793-3DF4-4BC4-BE25-8C1D104D4C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C8C40-7C43-444C-8D23-17C0D8C3FA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8F17E-412A-484D-AA02-23887822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920F5-555B-4592-B63B-4AFF4CBE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CF810-7E30-4F58-B11B-A6C91E49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5B7C5-456D-4921-88B8-BC180FB4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59A-E26F-4BAC-A73B-F9304A41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4D790-1644-432A-99D6-E56CB445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AAAD5-128E-4E48-A90C-CB2F7063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A69DC-34B4-4650-93F6-F60E6959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696CA-0F5C-4AE9-A3D8-C4D91B34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03525-B922-4157-B4F7-FC8DB949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F924A-98CC-4E43-BA65-B1C03FB4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EDAB9-5175-45A6-B807-0EAB813D59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9886C9-436D-4FE7-A75C-C102200B65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44FEF8-73A2-49F8-AAF8-7B6C1273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527C74-EDF3-41EA-B136-67681927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D05-E75B-43D9-A11A-5BEB5F82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7815D2-B6C1-44A0-A33D-F38CEB67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D1520A-6EC7-4009-82BB-6F870AF2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BF8CE3-AFB6-4A1A-9BE9-991E2F64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839FE2-CDAC-433C-AF4A-230EBE62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5CF227-2793-4638-A3DF-C761E298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F9BEC5-DC0D-4F7E-8421-60D3D91D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B78531-60AD-4D7E-90E2-091E2E21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8A5C18-77FD-4AA2-AD7C-7F26C0BA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F5692E-D347-47AE-9AE7-E25C342786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BC596-93F1-4AFA-8DE8-852BBADE7B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9D8-55D1-46F8-ACF9-D88D4CBD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BDAD3-C312-4E2A-91FB-3966EE0E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9C9889-2B8F-4848-BD92-29E6E155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A8797-421A-4F51-99A3-98DFF16C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3603F-FC2F-4EA1-B015-3EB0C67E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FC50DB-9044-4DE9-9879-C240627B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D2108-5082-42EF-9DC8-667576AA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8642C-91D8-40AD-BBDD-E8DAE843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CCB679-1EE2-460C-B7CD-63BA4206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D94FB-4054-4DF8-B4D4-B33EF683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150F8-A662-463B-8C44-9769C47B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CD3-2885-4E1A-8284-1610D7F631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50075-7260-4ACB-A8E0-DCF4CC220C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80BEA-13D3-431B-818B-E089C58C2A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02BF1-BD9A-4369-828F-A3F0C1B1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5695B-5E29-4565-ABFC-629B9E83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BC413-56BA-496B-AA6B-A4DE5D18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A0A09-8EF0-4821-99DE-7A4EEAC4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7B8D8-954A-4B7F-AD3D-FA06B39E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84E59-DB0C-4E66-A6EC-6BE3C6D1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500E0-4E2C-4D2E-87CA-E6D08877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A9252-6A09-4820-A9D3-BC162C8B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221CD-23B4-4446-882D-92301649927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38760-CE7C-4FD9-9840-2F4A085D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55B26-67A7-4EBF-8178-1EF41208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B6131-74F0-4B5E-A856-31F11ABF81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99B33D-D90A-437C-AE38-D8BFB2D06A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9488B8-A5C8-4B24-B9AA-A3AB4B43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B427CD-F8D0-4005-AF53-DF329348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891D29-1E02-4812-BFDC-DE5F32BA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DBB2A6-0694-4D42-9DB6-590DF71B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36E44A-56F1-4471-A19C-FC922E10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7BD736-AE4E-4587-B098-CF41D493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A7558-092D-4E9C-B03F-C2450743CDA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006CB0-3B39-49AD-B4D6-C7098E72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5A49CC-AB27-427D-89DD-9C4E7227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3750F7-AB16-4BD6-90CB-C01253C4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845D6A-0E71-47DD-A0D1-9876CD32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A8367D-0D70-4700-9145-AD333F73E3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7D343-86DA-415F-8AED-525F0C8703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A2DCD-3DEA-4A9E-8A3F-8084AE1B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3675E-5ABE-4594-8663-A20C4A68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9F22E-0E73-4637-B9D6-608511D9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6B25C-88A9-474F-B108-13E2062F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54262-7F5F-43F8-99A2-F6E31690EB5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198FF-191E-4DAC-82D8-4FEBDEB9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09D43-6607-4BA0-859E-0C77901B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896B3-661B-41CB-866F-5CD979E5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21B73-98EF-459E-9673-25D94E53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0DBAA-D42D-4531-BF5C-CCE1E221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03795-4B34-450C-9521-FC859AC6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E014A-9DA0-4F9C-A8FA-B78E1B61CA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21462-EA94-408C-AD4E-60251CCB8E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7358A-A6CB-4DAC-83A0-9714CFCF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E0155-FACF-4564-93D1-91FCAC44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D54F6-A665-49C0-BF80-9FCD9FD05AF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197CA-3149-431D-880A-CC7BAD88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E259C-AE5A-44B3-BBFF-BC721982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1E19A-5108-4540-88F2-3A407C3A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9EA82-8AAF-4AE6-A9A9-158CBFD7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C599E-C36A-40D4-857B-F02DB833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4A2E8-B512-4386-AEBE-807A3D40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BD7C9-4F27-4EB4-8E67-8C377C54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A8EF8-6D5D-456B-AA2D-70E66B48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8784B-4F94-4235-8684-CD4E329973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F5E65-2FBC-414E-8903-C304752F79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FE4C-997E-4788-A7E3-85D7442031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86791-BB84-44CD-B473-13DBA562BB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7DE99-18E2-4807-B172-593C974C1B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B5D58-DC32-4F2D-B406-1B5BC412BF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CEBA8-3592-4970-A55E-397B4EC327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89D10-EB18-4E4A-AFB9-5B8DFA4525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EBDCF-3728-491A-829F-5468201BE6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DB3F7-6F0B-4F0D-A765-E69C24C6BA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7A37E-4BC5-4D43-A92A-B8D6FD31A4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7477A-8989-4F9C-A55B-040EF694F3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67E6B-E15B-40B6-BEA4-C1926A220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8D3F-21CA-4385-B7B8-00FAB1D36E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6F297-0304-404B-B098-94907BCFEF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0774F-AF78-40D8-BB3E-6B41A5E64E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BA3EA-E6B5-4CC7-9595-FF6F4C0532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6F400-0F2E-4A0F-BA8B-59A665AD79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845E3-3808-4C5B-9540-B5088989D3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74A54-BAA5-45D6-8554-DD78997B43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372BF-AD59-48EF-B589-7828632281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DB89F-A9F9-4096-AE56-8927E444517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E9930-DB40-47C7-B14C-756C5489570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4F48-86E7-4391-AEA9-C0BF3F4F3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55C5-D8B4-4DE0-AC45-D05A212372D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637D-51F4-44A2-8CE2-95DC7F382BA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CA92-2356-47EF-AEF9-F4B27FCAACE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6C0F-6A76-427A-8667-1053DDFF1AE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DC95-F6FF-4D76-AFC9-E0DEFFE72B5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2C7F-3A60-41D0-9B66-B593990F56E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EED6-6474-46C7-A35B-A8959C310ED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0B04-3EC2-44C9-8CAF-4A3AB9EA2F9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65F0-6A64-4DF0-A813-1C9AEBB22CF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00FF-C3A3-4019-A499-FD2405746E0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CFCA-7F6F-43D8-A2C5-92AD24F79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D67C-05DA-4679-AB7E-BDACF53230D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BE44-CD4A-4F73-9DD4-8013D425A90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A164DC-FF2D-46AA-AFF3-79D69E7CA72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7F3328-8A6D-45DA-848E-4BFDA15A48E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DB0675-FD1C-4F8F-AE24-94E5EB17429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B866B9-141E-445C-8D4F-25DB49C3B25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5D78F9-E4C0-4624-A373-8515B906830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94F131-BB7F-44A0-8915-F631D367610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E978B8-E720-4CFA-AE91-1C013D0B7D1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A6AB43-B375-4F94-90DA-3E0137220C7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8AFB7B-E8FF-4036-83D9-70FD93141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9732-D933-4B6D-B5E9-12D5075B466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695C4E-32CF-45FF-85A9-69076861305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B1C89-F101-49B4-9C92-683FBE3512D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1B6D51-5E5D-4D87-98DE-B29CC83344B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E8709-E114-4DDB-A5A7-3C8B66485EF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46D60-F1D8-404D-9794-80BAB3829B2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36023-DD12-4691-8CEF-AB85F76B91F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C96E4-972D-42D9-9AE0-F977616A5D8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2F8F7-AD65-4712-91B1-35ECE2570C4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E74CA-A86F-453B-B7E1-183FE26E11C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A7961-10F7-40A4-B887-3EFB5A0A8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E020-1B16-477E-A761-57034DEF699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5A974-47C6-47B4-A467-3397DC6A9FE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98E27-E607-4B8E-90BF-027978DA7AD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88E5C-A69A-49DA-BC77-11AAA532022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E1B07-C83C-414D-9C4E-1498237C183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5953F-1996-4F3E-94CA-882B77F59F2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96D9-B6F5-40AA-B081-E7119662D5F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D8A7C-A18F-4310-8B86-886430A51AB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900DD-23F7-49C8-A8AF-F3B3DBDE4B8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A961-5441-4E31-A155-2D76DB71C4E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45E79-684A-4240-98F5-CC96D732F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2A9D-43CF-4671-9A17-44CD81BA1DC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6B7B-A137-4D7C-929A-63384EB9B7D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EDDD-2B5F-4829-8F9B-4BCEEE3174C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207E0-9925-4CF2-8B24-FEFE7EA2773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B416A-EBC0-45CD-9967-F549FB9E47A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AB371-A99B-4620-A357-D764A876042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8A179-37F9-41DD-816E-49F5734D2E7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24378-4EE5-4CB8-B60E-6C1786AA717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322A5B-6865-4F23-AEDA-221FDEDE5ED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984447-520D-4ED3-803C-24F3EAC72A8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C46F01-6810-4B0F-B104-67DF0B3EA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1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1"/>
          </p:nvPr>
        </p:nvSpPr>
        <p:spPr>
          <a:xfrm>
            <a:off x="6553080" y="627840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E985D-CC91-4CBD-8780-8564B17640F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650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5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Num" idx="11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E60E40E-1582-404E-8E70-0EFD668F8D9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726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sldNum" idx="12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B5BE27-44A1-403E-BF05-E68F0A140E6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802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7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sldNum" idx="13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DEFF8F6-0CD3-472E-A324-F4BB66B4626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878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3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14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3BA628-7F2A-4A0F-9D06-317FF33410A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BBB3544-B59E-42F2-BDDE-19B9F3DD6E10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17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1CE5AE9-F607-4D2C-A515-BC021AFAF700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 type="dt" idx="19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sldNum" idx="20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EF97A42-D9CC-4884-B0E4-8517EC2E1577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2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sldNum" idx="2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2779107-052E-415F-9EF2-BAEEDF007E8B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2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sldNum" idx="2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B7F91DB-9301-48E3-8CC5-EF1749F84B8E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2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sldNum" idx="2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31779DD-0AD6-44E0-A50E-41B2712C5F12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2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29E9B7F-6BF3-46CC-81F3-623E6941868D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27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sldNum" idx="28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3C23CDF-8FD5-4EAB-BDCC-481B8F549010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 type="dt" idx="29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53CA75D-16F0-4FFD-94DD-3968CE156676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dt" idx="3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 type="sldNum" idx="3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51257A9-84B5-4EF6-A1C0-FE0DCBAED1A5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3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 type="sldNum" idx="3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6AAB883-D775-41CD-8B90-FEA7FF0F6FE8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81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 type="dt" idx="3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 type="sldNum" idx="3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0E77792-7CE4-4508-9A46-4DE19D4AE82A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118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4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623D1B-2BA6-4C5B-88F9-1B13E3E1468C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194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5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7A71D24-3EDB-4BBA-8E6D-E258D6B4F787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270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6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DE49A29-40ED-42C0-9ED6-4C7DF0B8A381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346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7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0188D6-D1AF-4AE7-93AA-961A18F0756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422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8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6E94A35-559E-46FF-88CF-7212DD0F4C7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498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3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Num" idx="9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CC52F9B-69C1-4EBC-8A43-975526CC6120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800520" y="1789200"/>
            <a:ext cx="5374800" cy="5052960"/>
            <a:chOff x="3800520" y="1789200"/>
            <a:chExt cx="5374800" cy="5052960"/>
          </a:xfrm>
        </p:grpSpPr>
        <p:sp>
          <p:nvSpPr>
            <p:cNvPr id="574" name=""/>
            <p:cNvSpPr/>
            <p:nvPr/>
          </p:nvSpPr>
          <p:spPr>
            <a:xfrm>
              <a:off x="6728400" y="2166840"/>
              <a:ext cx="310320" cy="158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38200" y="18813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020000">
              <a:off x="8285040" y="2374920"/>
              <a:ext cx="6480" cy="32875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750440" y="5568840"/>
              <a:ext cx="10188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20000">
              <a:off x="8732880" y="2436480"/>
              <a:ext cx="6480" cy="31687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0640000">
              <a:off x="8976240" y="2417760"/>
              <a:ext cx="6480" cy="13953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0460000">
              <a:off x="5472000" y="2882880"/>
              <a:ext cx="6480" cy="32241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140000">
              <a:off x="4380840" y="2890440"/>
              <a:ext cx="6480" cy="3360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40000">
              <a:off x="4824000" y="2968560"/>
              <a:ext cx="6480" cy="3022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372000" y="4795920"/>
              <a:ext cx="990000" cy="2444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75120" y="5700600"/>
              <a:ext cx="1584360" cy="19692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613640" y="5786280"/>
              <a:ext cx="1545840" cy="38592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42440" y="5700600"/>
              <a:ext cx="1517040" cy="13968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60720" y="2446200"/>
              <a:ext cx="159120" cy="24300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60720" y="268272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860720" y="280656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704440" y="1913040"/>
              <a:ext cx="159120" cy="2444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715600" y="2141640"/>
              <a:ext cx="130320" cy="1490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704440" y="22748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637480" y="5595840"/>
              <a:ext cx="101520" cy="1494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794120" y="1789200"/>
              <a:ext cx="4147560" cy="7016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62000" y="5989680"/>
              <a:ext cx="130320" cy="14760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08760" y="6146640"/>
              <a:ext cx="140040" cy="1684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09880" y="6146640"/>
              <a:ext cx="111240" cy="1400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79720" y="6093000"/>
              <a:ext cx="2197440" cy="61416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00520" y="6086520"/>
              <a:ext cx="2391120" cy="453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75040" y="6127920"/>
              <a:ext cx="2268720" cy="34596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51160" y="6013440"/>
              <a:ext cx="140040" cy="1494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627760" y="5719680"/>
              <a:ext cx="111240" cy="1684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41360" y="2814480"/>
              <a:ext cx="272160" cy="402768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20560" y="2452680"/>
              <a:ext cx="117360" cy="378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710760" y="2766960"/>
              <a:ext cx="322920" cy="7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49360" y="2427120"/>
              <a:ext cx="398160" cy="24987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29760" y="2255760"/>
              <a:ext cx="502920" cy="2160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10"/>
          </p:nvPr>
        </p:nvSpPr>
        <p:spPr>
          <a:xfrm>
            <a:off x="6553080" y="6273360"/>
            <a:ext cx="2130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1BB8C8D-C331-4E6C-82A5-90C66E3A244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2340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роект для учащихся 6 класса, МБУ школы № 94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250920" y="765000"/>
            <a:ext cx="8497800" cy="225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ебный проект "Чудесные дроби"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/>
          <p:nvPr/>
        </p:nvSpPr>
        <p:spPr>
          <a:xfrm>
            <a:off x="395280" y="68400"/>
            <a:ext cx="3008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потеза : 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Легко ли составлять задачи?»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575160" y="260280"/>
            <a:ext cx="5367240" cy="5904000"/>
            <a:chOff x="3575160" y="260280"/>
            <a:chExt cx="5367240" cy="5904000"/>
          </a:xfrm>
        </p:grpSpPr>
        <p:pic>
          <p:nvPicPr>
            <p:cNvPr id="1444" name="" descr=""/>
            <p:cNvPicPr/>
            <p:nvPr/>
          </p:nvPicPr>
          <p:blipFill>
            <a:blip r:embed="rId1"/>
            <a:stretch/>
          </p:blipFill>
          <p:spPr>
            <a:xfrm>
              <a:off x="3575160" y="260280"/>
              <a:ext cx="536724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5" name=""/>
            <p:cNvSpPr/>
            <p:nvPr/>
          </p:nvSpPr>
          <p:spPr>
            <a:xfrm>
              <a:off x="3575160" y="260280"/>
              <a:ext cx="5367240" cy="59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457200" y="1434960"/>
            <a:ext cx="300816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лан работы вашей группы  будет таким: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Вам надо найти ответ на вопрос: «Какой образ вы видите за обозначением дроби?»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Познакомиться со старинными задачами, в которых главное действующие лицо – дроби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Самим придумать интересные задачи.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 Обработать полученные результаты и оформить в виде стенной газеты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/>
          <p:nvPr/>
        </p:nvSpPr>
        <p:spPr>
          <a:xfrm>
            <a:off x="324000" y="0"/>
            <a:ext cx="8227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 пожаловать в проект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826920" y="1154160"/>
            <a:ext cx="7270920" cy="5702400"/>
            <a:chOff x="826920" y="1154160"/>
            <a:chExt cx="7270920" cy="5702400"/>
          </a:xfrm>
        </p:grpSpPr>
        <p:pic>
          <p:nvPicPr>
            <p:cNvPr id="1449" name="" descr=""/>
            <p:cNvPicPr/>
            <p:nvPr/>
          </p:nvPicPr>
          <p:blipFill>
            <a:blip r:embed="rId1"/>
            <a:stretch/>
          </p:blipFill>
          <p:spPr>
            <a:xfrm>
              <a:off x="826920" y="1154160"/>
              <a:ext cx="7270920" cy="57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0" name=""/>
            <p:cNvSpPr/>
            <p:nvPr/>
          </p:nvSpPr>
          <p:spPr>
            <a:xfrm>
              <a:off x="826920" y="1154160"/>
              <a:ext cx="7270920" cy="57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/>
          <p:nvPr/>
        </p:nvSpPr>
        <p:spPr>
          <a:xfrm>
            <a:off x="250920" y="103320"/>
            <a:ext cx="381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мок кроссвордны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ь свои знания!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1"/>
          <a:srcRect l="11225" t="21730" r="63972" b="34815"/>
          <a:stretch/>
        </p:blipFill>
        <p:spPr>
          <a:xfrm>
            <a:off x="4716360" y="189000"/>
            <a:ext cx="4010040" cy="439236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/>
          <p:cNvPicPr/>
          <p:nvPr/>
        </p:nvPicPr>
        <p:blipFill>
          <a:blip r:embed="rId2"/>
          <a:srcRect l="36627" t="21730" r="1954" b="49922"/>
          <a:stretch/>
        </p:blipFill>
        <p:spPr>
          <a:xfrm>
            <a:off x="0" y="4697280"/>
            <a:ext cx="914400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9" name=""/>
          <p:cNvGrpSpPr/>
          <p:nvPr/>
        </p:nvGrpSpPr>
        <p:grpSpPr>
          <a:xfrm>
            <a:off x="177840" y="277920"/>
            <a:ext cx="8504280" cy="6046560"/>
            <a:chOff x="177840" y="277920"/>
            <a:chExt cx="8504280" cy="6046560"/>
          </a:xfrm>
        </p:grpSpPr>
        <p:sp>
          <p:nvSpPr>
            <p:cNvPr id="1410" name=""/>
            <p:cNvSpPr/>
            <p:nvPr/>
          </p:nvSpPr>
          <p:spPr>
            <a:xfrm>
              <a:off x="3154320" y="277920"/>
              <a:ext cx="2549520" cy="241596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Arial Unicode MS"/>
                </a:rPr>
                <a:t>Что больше </a:t>
              </a:r>
              <a:endParaRPr b="0" lang="en-US" sz="2500" spc="-1" strike="noStrike">
                <a:solidFill>
                  <a:srgbClr val="ffffff"/>
                </a:solidFill>
                <a:latin typeface="Arial Unicode MS"/>
              </a:endParaRPr>
            </a:p>
            <a:p>
              <a:pPr algn="ctr">
                <a:spcBef>
                  <a:spcPts val="1562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Arial Unicode MS"/>
                </a:rPr>
                <a:t>целого?</a:t>
              </a:r>
              <a:endParaRPr b="0" lang="en-US" sz="2500" spc="-1" strike="noStrike">
                <a:solidFill>
                  <a:srgbClr val="ffffff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77840" y="3908520"/>
              <a:ext cx="2549520" cy="241596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 Unicode MS"/>
                </a:rPr>
                <a:t>Как возникли </a:t>
              </a:r>
              <a:endParaRPr b="0" lang="en-US" sz="2200" spc="-1" strike="noStrike">
                <a:solidFill>
                  <a:srgbClr val="ffffff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 Unicode MS"/>
                </a:rPr>
                <a:t>дроби?</a:t>
              </a:r>
              <a:endParaRPr b="0" lang="en-US" sz="22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154320" y="3908520"/>
              <a:ext cx="2549520" cy="241596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 Unicode MS"/>
                </a:rPr>
                <a:t>Как дроби </a:t>
              </a:r>
              <a:endParaRPr b="0" lang="en-US" sz="2200" spc="-1" strike="noStrike">
                <a:solidFill>
                  <a:srgbClr val="ffffff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 Unicode MS"/>
                </a:rPr>
                <a:t>применяются </a:t>
              </a:r>
              <a:endParaRPr b="0" lang="en-US" sz="2200" spc="-1" strike="noStrike">
                <a:solidFill>
                  <a:srgbClr val="ffffff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 Unicode MS"/>
                </a:rPr>
                <a:t>в других науках</a:t>
              </a:r>
              <a:r>
                <a:rPr b="0" lang="ru-RU" sz="2200" spc="-1" strike="noStrike">
                  <a:solidFill>
                    <a:srgbClr val="000000"/>
                  </a:solidFill>
                  <a:latin typeface="Arial Unicode MS"/>
                </a:rPr>
                <a:t>?</a:t>
              </a:r>
              <a:endParaRPr b="0" lang="en-US" sz="22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132600" y="3908520"/>
              <a:ext cx="2549520" cy="241596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 Unicode MS"/>
                </a:rPr>
                <a:t>Так ли </a:t>
              </a:r>
              <a:endParaRPr b="0" lang="en-US" sz="2200" spc="-1" strike="noStrike">
                <a:solidFill>
                  <a:srgbClr val="ffffff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 Unicode MS"/>
                </a:rPr>
                <a:t>просты дроби?</a:t>
              </a:r>
              <a:endParaRPr b="0" lang="en-US" sz="22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уппы.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5" name=""/>
          <p:cNvSpPr/>
          <p:nvPr/>
        </p:nvSpPr>
        <p:spPr>
          <a:xfrm>
            <a:off x="32400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6" name=""/>
          <p:cNvSpPr/>
          <p:nvPr/>
        </p:nvSpPr>
        <p:spPr>
          <a:xfrm>
            <a:off x="1187280" y="3357720"/>
            <a:ext cx="2376720" cy="2280960"/>
          </a:xfrm>
          <a:prstGeom prst="octagon">
            <a:avLst>
              <a:gd name="adj" fmla="val 23148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Юные историки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7" name=""/>
          <p:cNvSpPr/>
          <p:nvPr/>
        </p:nvSpPr>
        <p:spPr>
          <a:xfrm>
            <a:off x="3635280" y="1844640"/>
            <a:ext cx="2232000" cy="2211480"/>
          </a:xfrm>
          <a:prstGeom prst="octagon">
            <a:avLst>
              <a:gd name="adj" fmla="val 23148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Юные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исследователи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8" name=""/>
          <p:cNvSpPr/>
          <p:nvPr/>
        </p:nvSpPr>
        <p:spPr>
          <a:xfrm>
            <a:off x="5867280" y="3573360"/>
            <a:ext cx="2519640" cy="2160720"/>
          </a:xfrm>
          <a:prstGeom prst="octagon">
            <a:avLst>
              <a:gd name="adj" fmla="val 23148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Юные философы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/>
          <p:nvPr/>
        </p:nvSpPr>
        <p:spPr>
          <a:xfrm>
            <a:off x="457200" y="272880"/>
            <a:ext cx="4691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 для юных историков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1420" name=""/>
          <p:cNvGrpSpPr/>
          <p:nvPr/>
        </p:nvGrpSpPr>
        <p:grpSpPr>
          <a:xfrm>
            <a:off x="5294160" y="1071720"/>
            <a:ext cx="3657600" cy="4732200"/>
            <a:chOff x="5294160" y="1071720"/>
            <a:chExt cx="3657600" cy="4732200"/>
          </a:xfrm>
        </p:grpSpPr>
        <p:pic>
          <p:nvPicPr>
            <p:cNvPr id="1421" name="" descr=""/>
            <p:cNvPicPr/>
            <p:nvPr/>
          </p:nvPicPr>
          <p:blipFill>
            <a:blip r:embed="rId1"/>
            <a:stretch/>
          </p:blipFill>
          <p:spPr>
            <a:xfrm>
              <a:off x="5294160" y="1071720"/>
              <a:ext cx="3657600" cy="47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"/>
            <p:cNvSpPr/>
            <p:nvPr/>
          </p:nvSpPr>
          <p:spPr>
            <a:xfrm>
              <a:off x="5294160" y="1071720"/>
              <a:ext cx="3657600" cy="47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457200" y="1484280"/>
            <a:ext cx="469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облемный вопрос: А как возникли дроби?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ебный вопрос №1: Почему целое делят на равные части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ебный вопрос №2: Почему дробь так называют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ебный вопрос №3: Как раньше записывали дроби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23640" y="234936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 работы вашей группы будет та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187280" y="115920"/>
            <a:ext cx="62755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ята, я предлагаю вам гипотезу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"/>
          <p:cNvSpPr/>
          <p:nvPr/>
        </p:nvSpPr>
        <p:spPr>
          <a:xfrm>
            <a:off x="1403280" y="112536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жем ли мы сегодня записывать дроби так, как раньше?»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7" name=""/>
          <p:cNvSpPr/>
          <p:nvPr/>
        </p:nvSpPr>
        <p:spPr>
          <a:xfrm>
            <a:off x="2031840" y="4075200"/>
            <a:ext cx="5061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8" name=""/>
          <p:cNvSpPr/>
          <p:nvPr/>
        </p:nvSpPr>
        <p:spPr>
          <a:xfrm>
            <a:off x="1692360" y="3573360"/>
            <a:ext cx="590544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Узнать историю возникновения дробей, как формировалось понятие дроби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Какие жизненные ситуации заставили людей придумать дроби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Сравнить, как писали дроби в давние времена и как пишут сейчас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Проанализировать рекомендованную вам математическую литературу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Результат работы оформить в виде презентации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"/>
          <p:cNvSpPr/>
          <p:nvPr/>
        </p:nvSpPr>
        <p:spPr>
          <a:xfrm>
            <a:off x="457200" y="272880"/>
            <a:ext cx="4691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 для юных исследователей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5148360" y="765000"/>
            <a:ext cx="3743280" cy="4380120"/>
            <a:chOff x="5148360" y="765000"/>
            <a:chExt cx="3743280" cy="4380120"/>
          </a:xfrm>
        </p:grpSpPr>
        <p:pic>
          <p:nvPicPr>
            <p:cNvPr id="1431" name="" descr=""/>
            <p:cNvPicPr/>
            <p:nvPr/>
          </p:nvPicPr>
          <p:blipFill>
            <a:blip r:embed="rId1"/>
            <a:stretch/>
          </p:blipFill>
          <p:spPr>
            <a:xfrm>
              <a:off x="5148360" y="765000"/>
              <a:ext cx="3743280" cy="438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2" name=""/>
            <p:cNvSpPr/>
            <p:nvPr/>
          </p:nvSpPr>
          <p:spPr>
            <a:xfrm>
              <a:off x="5148360" y="765000"/>
              <a:ext cx="3743280" cy="43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433" name=""/>
          <p:cNvSpPr/>
          <p:nvPr/>
        </p:nvSpPr>
        <p:spPr>
          <a:xfrm>
            <a:off x="457200" y="1484280"/>
            <a:ext cx="469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облемный вопрос: Как применяют дроби в других науках?? В искусстве?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ебный вопрос №1: Какие величины могут быть в записи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ебный вопрос №2: Какие науки могут использовать дроби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ебный вопрос №3: Как в искусстве используются дроби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468360" y="260280"/>
            <a:ext cx="2459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потеза.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5" name=""/>
          <p:cNvSpPr/>
          <p:nvPr/>
        </p:nvSpPr>
        <p:spPr>
          <a:xfrm>
            <a:off x="108000" y="1125360"/>
            <a:ext cx="4176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ез дробей можно обойтись?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533520" indent="-53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533520" indent="-53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лан работы группы.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533520" indent="-532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знайте о решении задач на дроби по – египетски. 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533520" indent="-532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йдите неизвестные ранее способы сравнения дробей. 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533520" indent="-532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оведите исследование: «Дроби на заметку хозяйке.» 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533520" indent="-532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работайте полученные материалы и результат оформите в виде коллажа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436" name="" descr=""/>
          <p:cNvPicPr/>
          <p:nvPr/>
        </p:nvPicPr>
        <p:blipFill>
          <a:blip r:embed="rId1"/>
          <a:stretch/>
        </p:blipFill>
        <p:spPr>
          <a:xfrm>
            <a:off x="4492800" y="907920"/>
            <a:ext cx="465120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9" name=""/>
          <p:cNvSpPr/>
          <p:nvPr/>
        </p:nvSpPr>
        <p:spPr>
          <a:xfrm>
            <a:off x="179280" y="20520"/>
            <a:ext cx="300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для юных философов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40" name=""/>
          <p:cNvSpPr/>
          <p:nvPr/>
        </p:nvSpPr>
        <p:spPr>
          <a:xfrm>
            <a:off x="179280" y="1052640"/>
            <a:ext cx="300852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блемный вопрос: Так ли просты дроби?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ебный вопрос №1: Как в целом мире выделить его части?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ебный вопрос №2: Как обозначить эти части?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ебный вопрос №3: Я-часть мира или целый мир?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441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5002200" cy="5473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3:20:07Z</dcterms:created>
  <dc:creator>k17-06-2</dc:creator>
  <dc:description/>
  <dc:language>en-US</dc:language>
  <cp:lastModifiedBy>Аня</cp:lastModifiedBy>
  <dcterms:modified xsi:type="dcterms:W3CDTF">2012-03-03T15:03:23Z</dcterms:modified>
  <cp:revision>23</cp:revision>
  <dc:subject/>
  <dc:title>Слайд 1</dc:title>
</cp:coreProperties>
</file>