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9876-019A-49FA-BED2-05EB9EA2C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B030-5E42-48C5-B1BC-253D26E65F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39C95-7D06-4EF4-8216-BD608B4B70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77730-47CB-4012-9A40-F3275AA775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898FD-4FF6-49D1-97B1-3D1CCCD961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929AF-D5BA-471E-8876-CBD293039F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C573E-1400-4E33-A16E-97225A7058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647B8-E8BB-415C-9E34-EBDD300BB7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EAD70-21B0-4685-AB5B-E58BA296A9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2FDAE-3283-441E-946E-7EC82FF2C4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E4D9D-D004-4856-9052-43BFFF5513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082BC-DA3F-46BB-8D83-772095BB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6626-C04D-401F-9FEF-4308D378BA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84B01-1360-4E32-9009-948F507FFC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6453F-58FC-41A5-A7A3-C3C5636E6E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6CEE4-7FE6-4A0E-A34C-A2DF3DBC0C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06AE3-8C0D-40D2-B295-8B7282FB52B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61451-D64F-4700-8A6A-C316DAFE29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56136-760E-4933-99DD-CEC5A27E25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9188C-ECAA-49C4-B34F-BE8A4ADB3C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39F8F-62C3-4776-9FF7-0482280E38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0A68A-4170-41F3-820A-02C672763E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C649D-0913-45C8-84D4-819DD94F6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FEBD-29C3-475B-B669-9EE82EAA08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0983A-245D-40B8-A886-C802D7990D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CB48-E17C-494B-A07A-A0B750849A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34B8-4AEA-4BA0-8B03-03331D07DA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28F2F-AD08-4F84-8646-98C63002C7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9503-7E1A-4C33-8D6B-5501B15B57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E5E6-05B2-4634-ACB5-7B4E8A9245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C8ED-84FD-4DEF-B815-38B4C5EFC1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B6B6-07AA-4CC5-9F6D-501D443F70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32FF-EF62-46A2-9A0C-1E4F94514D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1C93-E942-4F3D-ACDB-208EBF81B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347-1637-4D30-8BC8-ED9BCA768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3828-3197-4D6B-B322-1BC400A53D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17DC-8FEF-428C-8940-675B64D90E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AADB-C3DF-479E-9D04-6AD2EB8881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9F4BE-D6E7-4E43-B2BB-A8F5AE399A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036A9-0EAB-44C6-AEB4-953B5DF7A9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5F295-C801-4ADA-93BF-333DC3EF24E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8BDB6-A7FC-4259-83F6-6FA9300863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8D594-8C3C-40ED-9B3D-036D383C6C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95086-14F0-4B03-8D1A-DB2970F21B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1EF5E-6E1A-4643-9E03-98F05911F0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916-DFE9-45CB-8D19-FC4959B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99415-8319-44F6-A1B5-9DD86EEB4E3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B3B19-ED83-49C0-A949-F888174D4D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72DED-A812-4A14-B9D7-4677759C8F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334B6-E443-437E-9BAA-B426021FC2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7BD48-650E-4B6E-8103-781694D45FD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BE7A7-D0BC-4578-AA30-A2498C6A7D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71AAE-A616-4945-9A29-657D003B7B5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EE771-92DE-4161-8765-12FFF420F4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94EE6-A9B6-46CE-A648-0BE3D888BE5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5130C-EDBD-429B-9F45-A705EA57CD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A19-4C97-43C9-B1A9-E84EE117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05D52-C657-4FF0-8864-7DDB9F620A2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0B397-B212-4642-97A3-C224B225F85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62F50-B32F-47C8-8BFC-A85DD3295A0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0E866-8176-4ACE-AA47-16E5D6E0CE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AB3AC-D51E-4ECD-BD2C-636674D76DD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3102C-315D-4187-ADB9-C659F04E35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388FA-C0D9-4C9A-981D-573A5DBDE3C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2E485-28A6-41ED-A0AC-22D35D20DF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98307-D9A7-44EA-AA1E-F0B5EDE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BF068-43CF-4C5D-B2C4-C52C7A7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22B-D8E6-432A-8B19-5838792C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26E4B-4224-479F-BCF7-24409F7C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50A61-95D0-4061-B0D4-FDAEE2D9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23C60A-50AA-40A4-BE09-C4E3206A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843B5-BFFF-427C-8148-2F724865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DC7A5E-24A0-4E1B-B592-8954891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54CAF-628C-44EF-AE9D-AB1D18CF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EF4CCC-2D9A-496F-AB3A-90D30FD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44769-0C5D-4F62-86F9-B3B7586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024C8-28B6-4640-891F-CD0539BA7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3A7AB-763E-4B4E-A05E-2A9269BB2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CD9-B399-468D-B768-3596AE42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978E-6230-4EC5-9CCE-60202B87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6871-3C37-461A-AF3E-671DC29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EDC46-025D-4906-BBC4-5A772B5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7E87-709C-4B35-8B02-53169BB1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56FAF-FF02-4BEF-A3DB-F8765640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8FD4-68EB-4DB2-B58F-C63FFA4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1FDE-60FE-470E-A1D9-F6ADFAE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3E9CB-09B3-4E08-8328-5262C764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6314-D63C-4F7E-AE60-167087F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34F9-A284-4D82-8EFC-55F29307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7BF-C184-40CE-93BD-38EAC9B2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7D4D-9D70-406E-AB29-C50CB508B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928BC-886C-4453-8555-79CF41CAD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89C4E-5584-4DDE-A14A-D7577C7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1491E-CC5E-4C7D-9A6F-E68A1298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0F4A4-F0A3-4DB0-9A85-190BAA8C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8D4FB-35F9-4994-A84B-D17F2672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25591-B1EF-48D7-876F-D8DAF1BA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36CEC-A02C-4C44-BE05-8B9BE0E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81A20-96B6-4F1F-91AD-288A9D6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FFE5A-8DC7-40E6-BD08-C1549F2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F25-6F9C-4EAC-839D-145DD165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58F08-1B39-480C-BE25-5E5CC436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197DD-2497-4F67-99D8-9CA4A7F3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62819-AFFB-4B55-BCF6-266D054DC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CC7A03-E68C-4700-A240-DBED86741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86285-B567-45CF-98E3-EA82D61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45AF2-0E27-4753-9641-6D527F16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96CFA-BC9C-4722-96CF-F35334B7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BA281-34C1-4CD9-BB40-E2ED4AE3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CAE82-C159-4F1A-A512-E094D41B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238EC-5B67-430A-B6BE-BB17CCF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0DBB-2B01-4606-99EA-A6E63B587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A16-1190-496C-A101-25C85EA9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B4720-6BB6-4273-AF1C-37D225DF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127B4-634C-45D1-8E23-00F134B2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529D12-9EE3-4E00-8A97-B582FAFA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7035B1-5B9D-484F-A6C0-5AF5851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61D02E-4897-49DD-AD67-B08D1C042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26749-6E87-4AAB-89EC-FFDDF15AE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D8968-F73E-4F1A-9305-1AEE19E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49767-8018-45DE-B70E-D938DE2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C1838-82D6-4CB0-B782-994DD5B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556C-6B69-427B-90BE-8CAF5210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697-7762-4E31-92A5-ACCD4040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6E92-6D85-47F6-8E1F-820EB780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54FE-19A8-4DAC-A1E2-8A51B69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F865-7543-4963-9E27-4B17E5FD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9A4A-771E-49E1-8646-CC3BB37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A02FD-EE51-4CDB-889F-5E50C57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8C87-51EC-4A9A-9A50-C614912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9E6F4-4021-4591-AE3A-E78C20E5E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06E24-E57E-4D48-A653-5B051D49B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A334C-A381-4A30-AD16-50B545C0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962DD7-04FD-4EBB-A100-E0B4C8A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75C-F06C-4408-B4F2-FC211FA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7EFCE-7FCA-4628-B2C9-62986E1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13937-99B2-4F5F-8635-F82E71A5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48EEC7-4916-4625-827F-D25BBA32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C1BC5-8F0F-4785-8324-A638892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E2492-79BC-4EE8-B0BB-0853020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9EA3B-9193-456A-BC34-D848290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5401C-30FF-4034-9F09-E44D029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247D49-25DD-4461-BEEE-26403B0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7D9AD-B939-4AA8-A59D-9C7E70DC7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B9BD1-918F-413C-B737-AB3602686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8AC-6B53-458A-BFCD-0530FCF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885F7-86BF-4F31-A3C5-D0813413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E368F-2843-4E9F-A402-99036D0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B0CAF-A86A-4679-8B45-1EB3A43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6E0FB-8A9B-438E-925B-8554061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E5DFA-EA95-4DB1-860D-4A01AD7B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6902A-8D40-4470-A488-F471FDF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CBA97-027B-4B3F-B1BF-D3066B7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EDB21-D7DA-4539-93D1-A210A25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65B35-74F6-400E-955D-2B976AAD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84DBB-CD06-400E-AD05-52E64F4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4A5-309A-4C8A-911C-103BD3FDF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D1EF4-7936-4613-AE2E-1EA45DE35A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A3EA5-ADF0-4E3C-8CF4-7C6890E7C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8265C-471B-461B-B993-4636D721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020F9-2DB6-4B1B-B783-23EC2A7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E830-FE12-46F1-B996-58441B8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FFD9-9963-49E1-9EEB-AF74F02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B02B4-0DDB-4291-A727-C1CA2ED4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4C0E-A8EA-45F5-A9BC-BBCD152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D49C9-31E0-48F2-8032-BD357125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98394-A566-4BBD-AE80-921091F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BBAD2-4B2E-4C38-8CCB-F1C42E947B1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3985-04EE-40F9-B0EB-859C03CD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9BF16-85DA-4FE5-900F-052EC55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23392-8DF4-4B68-90EF-54D350DEF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B8938F-A61B-45BC-964E-A45C4F903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BDC138-8509-4917-97CE-60B33E7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033B86-F46F-4177-B3F5-6AEDB34F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C83D7A-9031-4757-95A1-94868804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9C9201-502A-4AAE-9CCC-84CDB085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CCD68-0B3E-4C0D-B20A-352A42AF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52537-97C9-4B78-9C64-DBABE44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29445-D71D-468B-AFE7-45CC398786E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63B69B-95A9-493C-AC23-50812C7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FD5E5D-D55D-4601-8C63-C7870809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59656-9693-46FA-B46A-1ADCB66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E5AAA8-DD03-4416-B25B-98A54E3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93495F-581C-4FAD-9DCC-65F358B285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345F8-0CBC-4158-A0C2-855068DF7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6C092-6D54-4122-B045-D7074131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D441A-7299-41EA-A447-E56FDD7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D2FBD-C26E-4D99-8485-52FCA31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D64C0-DF7A-4822-90EC-2603A747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187E-2557-4441-ABAA-56374469699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D6295-1360-4CBB-A744-2BB60F48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ED542-ABDD-4EC3-8224-A86C8B5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42EB2-D1C0-4570-A761-CB843B3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B00EC-3116-425B-890B-D9B59895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E0ACA-6342-48FB-B47D-9CB4F48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EC769-D9F9-4427-9D93-808E1E7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93019-36F5-49A5-B67C-62E8AF94D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7B1F8-B938-427A-A5C6-EFF21B29B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383B7-5836-455E-A6A4-2A55085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EBD5D-3EB1-40FB-93A5-E6CCAAE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225F8-BB0D-494F-AD5F-DCAB2926665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23FAF-D7E6-4EBD-B720-942769A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1AA95-019D-4FA4-8024-49AC3312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424C5-70F8-4993-856A-224AA9A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55E9A-B554-4786-AB89-A9A0EC5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7F9D-46E7-404E-A196-A747CF82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7538-B810-4DB8-B6B4-19C3C734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03016-6313-4AC3-B51F-5B4FF07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5302A-A2EC-467B-BA10-5DE77BC5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C1A5D-6DAD-41EE-BBA1-4BB952CD1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CF8E-97FC-4E84-B56D-919A49E57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0536-444F-411A-B041-DBAD2F719F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536A6-332C-49D2-8070-217937FD7A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A1C6C-B0B2-44D4-AFBB-54D167E790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FAF84-6ACB-4C59-9516-86E016A673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2F0FC-848F-4AAC-AE88-8635456DB1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6E298-F5CC-41B6-81FF-4EEDDC8D09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A5EBA-76F4-40E9-84FD-1B61B948CD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A5D3-6C5B-4933-B42D-49B8856315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CA73E-668C-4826-B1AB-AAB3CF7A60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5A6E3-CFA1-4FA0-94E2-E5232CEA49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9B988-01E5-47F7-9ADE-A40E99B30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AC74-0DE4-4266-B565-FB0B6C9BCC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3344D-191F-45E4-9284-99EE47E1D8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744D-5CA6-465C-BF4A-921DCD7C4E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D88E-470F-46E4-B802-48BE49D189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875F-2DDA-42E2-B52C-5EDD2E58F9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74F1D-ACC8-48B2-A9AC-C70F904762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D4FCC-6323-4EE7-B25C-9D972B3211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A4C1-8E43-4A29-96F7-0E3934F2D2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FE7D3-E939-455A-AA86-509B8FD53F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44DEE-6863-45D4-AF52-E7D5A97C08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9450-2F45-48CD-AB2E-8930AEF5A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F73E-8C14-4357-9A21-A12B53DD0C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D33-4A99-4092-B143-F09B16EF24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7311-18EF-4445-A0D4-B9AB360EF3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6014-80A0-42CB-93B2-BCE3E4BB24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98FE-6F94-4500-9480-D71728C34D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8B0-428B-475E-9CAE-02098A63FB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433D-AB59-485B-9D4B-3CC565A2B8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260D-2C41-4B15-9EC3-97D3B4FDF7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88C-A8E9-4D48-85CA-12BD3B99D1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2E9-E83E-4667-B691-0769298C8B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A3F0-D6AC-435C-817A-3F494CEF2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95DA-DFC0-4B8E-84A2-701168741B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114-02AE-4769-A95E-AAD43E6E84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A3CD8-8532-43D2-B83A-CD3EE1BA22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C603C-D288-46F4-8C0B-B7F5BFF5800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52704-732D-4EEE-8768-9B277B24F0B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1554A-E91C-4818-B359-5F6636A950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03FCC-C57A-4382-A3AE-07E4535B69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F22B1-8472-4B3C-8CFD-A9953C761C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F907F-9BB6-4F39-88C5-69E64A0CD5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E7777-1AAD-42F6-87C9-080F7F23C0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93523-8055-461D-8867-988058318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7CAD-DBD9-454F-BC3F-2832D4CC11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E1CB3-89A5-4A45-9BD5-0AE3548C37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41CB0-0C9B-4323-9324-AD0D9029D9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99CF9-155A-4347-92EC-A486D1FB19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F9C7B-3C6B-4069-8315-094AE3FD53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80058-4A4B-4108-B5C3-DEDC2E7B59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B5C3A-5CFF-4CDE-AFC3-50E65E81E6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607E-AC9E-4C2D-8B42-C8A6FCFB8C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63D42-A7D6-4CAD-820F-DE9F28BCDD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572AC-B5F1-45F9-BAC1-0A23CF5DA7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074A9-43FC-47FD-B404-A45FEC6CC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AEFB-D808-40E7-AF92-6AB1B28A8F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3B4CF-9D53-48D2-BF69-39044E5F279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C085F-5BF3-4AD1-A074-6EB58FB2D7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6903D-7B79-41AD-931B-0A82AF7355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846DA-485F-4EBD-B1E2-A87F70E84E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A67F7-8E80-4C58-89AC-5221415D2D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902C-34B6-4298-B45A-65BECF6F90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0D35-93A0-4557-B264-961470B54B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5A86-AC13-4C68-8AAD-822F6A5602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91C7-38EA-4773-88A3-43D8671F5F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4F80-8AC2-4B7F-B3BA-BC83DFC50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1A28-F141-430B-B674-B107EE64242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3280-BDD5-40F0-9246-0D41269F20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9368-A7E2-4560-A434-34E2F19B30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CB8E-500A-4FD7-BBEE-D558214272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9744-C94E-4583-BDE1-276D154324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B0AE-B2F4-4941-B1B5-EFB4C572AC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F68E-3542-401A-AC94-808E48E1E1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7A1C-6BFF-48BA-B5BC-D57731EADF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0BC33-5DCD-4814-893F-0F15089C0C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3F2FD-FC7F-483B-A6E7-384B15BB45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C2339-B38C-44B8-9F2D-749E3FD7A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840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D1DE-A6EE-403F-B09E-F17FC5AF744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650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11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2EDA57-1534-4DFF-9D05-0C22719BE3D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726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B244A2-3488-4402-A28D-B3986D9E639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802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Num" idx="13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940AF4-D7B1-42D0-8617-FB5A104F9C2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87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14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DB7979-FD67-427D-8FF9-889BBFC910B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B43B82-3A01-4800-9FD7-F08163DF9B2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1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47D2672-3C35-4263-A739-71A4FCC954E9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1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20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B73E99-4A5D-4CA7-82DE-58707762FA1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2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2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E428F9-8E18-4C13-8630-775F0B7C6C3A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2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0ECC785-84FB-499F-8037-007E1C3BA1BF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2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2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1E8B0A0-5347-4E44-A7F3-6B59BAE27CCF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2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31AF20-6F93-45AB-8F31-532746CA9CB8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2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sldNum" idx="2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CD6EDEB-088F-4F44-B5E2-8FCB91A8C0CC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2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CC19BE-B606-40B8-B627-6F0BA86CA5B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3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sldNum" idx="3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89F921-E7E5-421C-A726-9918222BC75F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3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sldNum" idx="3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CB42E0-3A4B-4FA1-B6F1-E6EF2AFA1BDA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dt" idx="3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5B3346-C8BA-46F0-96D4-D50F0FFF7F7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1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4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C7B85A-7890-40F1-A0FD-37AA36F100C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94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5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8AE5BA-8956-4332-9647-5A817528772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270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1BF745-5084-44B2-8B71-9C0FBDAF7F8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346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7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A14FA8-6ABD-4D16-965F-C4E50DF6ADA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422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8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4B54C3-A29D-46C4-81F8-676C2DD9BFB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49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9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534F80-AFFB-4B93-B98E-8EAE05414E2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574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0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22784A-F0A9-4494-8300-E926A0A5C03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40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ект для учащихся 6 класса, МБУ школы № 94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250920" y="765000"/>
            <a:ext cx="8497800" cy="225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й проект "Чудесные дроби"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395280" y="68400"/>
            <a:ext cx="3008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а :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гко ли составлять задачи?»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575160" y="260280"/>
            <a:ext cx="5367240" cy="5904000"/>
            <a:chOff x="3575160" y="260280"/>
            <a:chExt cx="5367240" cy="5904000"/>
          </a:xfrm>
        </p:grpSpPr>
        <p:pic>
          <p:nvPicPr>
            <p:cNvPr id="1444" name="" descr=""/>
            <p:cNvPicPr/>
            <p:nvPr/>
          </p:nvPicPr>
          <p:blipFill>
            <a:blip r:embed="rId1"/>
            <a:stretch/>
          </p:blipFill>
          <p:spPr>
            <a:xfrm>
              <a:off x="3575160" y="260280"/>
              <a:ext cx="536724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3575160" y="260280"/>
              <a:ext cx="5367240" cy="59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57200" y="1434960"/>
            <a:ext cx="300816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ан работы вашей группы  будет таким: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Вам надо найти ответ на вопрос: «Какой образ вы видите за обозначением дроби?»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Познакомиться со старинными задачами, в которых главное действующие лицо –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Самим придумать интересные задачи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Обработать полученные результаты и оформить в виде стенной газеты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324000" y="0"/>
            <a:ext cx="8227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в проект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826920" y="1154160"/>
            <a:ext cx="7270920" cy="5702400"/>
            <a:chOff x="826920" y="1154160"/>
            <a:chExt cx="7270920" cy="5702400"/>
          </a:xfrm>
        </p:grpSpPr>
        <p:pic>
          <p:nvPicPr>
            <p:cNvPr id="1449" name="" descr=""/>
            <p:cNvPicPr/>
            <p:nvPr/>
          </p:nvPicPr>
          <p:blipFill>
            <a:blip r:embed="rId1"/>
            <a:stretch/>
          </p:blipFill>
          <p:spPr>
            <a:xfrm>
              <a:off x="826920" y="1154160"/>
              <a:ext cx="7270920" cy="57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"/>
            <p:cNvSpPr/>
            <p:nvPr/>
          </p:nvSpPr>
          <p:spPr>
            <a:xfrm>
              <a:off x="826920" y="1154160"/>
              <a:ext cx="7270920" cy="57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250920" y="103320"/>
            <a:ext cx="381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мок кроссвордны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 свои знания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rcRect l="11225" t="21730" r="63972" b="34815"/>
          <a:stretch/>
        </p:blipFill>
        <p:spPr>
          <a:xfrm>
            <a:off x="4716360" y="189000"/>
            <a:ext cx="4010040" cy="439236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"/>
          <a:srcRect l="36627" t="21730" r="1954" b="49922"/>
          <a:stretch/>
        </p:blipFill>
        <p:spPr>
          <a:xfrm>
            <a:off x="0" y="4697280"/>
            <a:ext cx="9144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9" name=""/>
          <p:cNvGrpSpPr/>
          <p:nvPr/>
        </p:nvGrpSpPr>
        <p:grpSpPr>
          <a:xfrm>
            <a:off x="177840" y="277920"/>
            <a:ext cx="8504280" cy="6046560"/>
            <a:chOff x="177840" y="277920"/>
            <a:chExt cx="8504280" cy="6046560"/>
          </a:xfrm>
        </p:grpSpPr>
        <p:sp>
          <p:nvSpPr>
            <p:cNvPr id="1410" name=""/>
            <p:cNvSpPr/>
            <p:nvPr/>
          </p:nvSpPr>
          <p:spPr>
            <a:xfrm>
              <a:off x="3154320" y="2779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 Unicode MS"/>
                </a:rPr>
                <a:t>Что больше </a:t>
              </a: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 Unicode MS"/>
                </a:rPr>
                <a:t>целого?</a:t>
              </a: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7784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Как возникл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дроби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15432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Как дроб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применяются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в других науках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 Unicode MS"/>
                </a:rPr>
                <a:t>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13260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Так л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просты дроби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5" name=""/>
          <p:cNvSpPr/>
          <p:nvPr/>
        </p:nvSpPr>
        <p:spPr>
          <a:xfrm>
            <a:off x="32400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6" name=""/>
          <p:cNvSpPr/>
          <p:nvPr/>
        </p:nvSpPr>
        <p:spPr>
          <a:xfrm>
            <a:off x="1187280" y="3357720"/>
            <a:ext cx="2376720" cy="228096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 историк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7" name=""/>
          <p:cNvSpPr/>
          <p:nvPr/>
        </p:nvSpPr>
        <p:spPr>
          <a:xfrm>
            <a:off x="3635280" y="1844640"/>
            <a:ext cx="2232000" cy="221148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исследовател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8" name=""/>
          <p:cNvSpPr/>
          <p:nvPr/>
        </p:nvSpPr>
        <p:spPr>
          <a:xfrm>
            <a:off x="5867280" y="3573360"/>
            <a:ext cx="2519640" cy="216072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 философы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457200" y="272880"/>
            <a:ext cx="4691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юных историков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5294160" y="1071720"/>
            <a:ext cx="3657600" cy="4732200"/>
            <a:chOff x="5294160" y="1071720"/>
            <a:chExt cx="3657600" cy="4732200"/>
          </a:xfrm>
        </p:grpSpPr>
        <p:pic>
          <p:nvPicPr>
            <p:cNvPr id="1421" name="" descr=""/>
            <p:cNvPicPr/>
            <p:nvPr/>
          </p:nvPicPr>
          <p:blipFill>
            <a:blip r:embed="rId1"/>
            <a:stretch/>
          </p:blipFill>
          <p:spPr>
            <a:xfrm>
              <a:off x="5294160" y="1071720"/>
              <a:ext cx="3657600" cy="47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5294160" y="1071720"/>
              <a:ext cx="3657600" cy="47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457200" y="1484280"/>
            <a:ext cx="469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ный вопрос: А как возникли дроби?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1: Почему целое делят на равные част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2: Почему дробь так называют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3: Как раньше записывали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23640" y="23493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работы вашей группы будет та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187280" y="115920"/>
            <a:ext cx="62755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я предлагаю вам гипотезу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"/>
          <p:cNvSpPr/>
          <p:nvPr/>
        </p:nvSpPr>
        <p:spPr>
          <a:xfrm>
            <a:off x="1403280" y="1125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жем ли мы сегодня записывать дроби так, как раньше?»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7" name=""/>
          <p:cNvSpPr/>
          <p:nvPr/>
        </p:nvSpPr>
        <p:spPr>
          <a:xfrm>
            <a:off x="2031840" y="4075200"/>
            <a:ext cx="506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8" name=""/>
          <p:cNvSpPr/>
          <p:nvPr/>
        </p:nvSpPr>
        <p:spPr>
          <a:xfrm>
            <a:off x="1692360" y="3573360"/>
            <a:ext cx="590544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Узнать историю возникновения дробей, как формировалось понятие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Какие жизненные ситуации заставили людей придумать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Сравнить, как писали дроби в давние времена и как пишут сейчас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Проанализировать рекомендованную вам математическую литературу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Результат работы оформить в виде презентаци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457200" y="272880"/>
            <a:ext cx="4691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юных исследователей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5148360" y="765000"/>
            <a:ext cx="3743280" cy="4380120"/>
            <a:chOff x="5148360" y="765000"/>
            <a:chExt cx="3743280" cy="4380120"/>
          </a:xfrm>
        </p:grpSpPr>
        <p:pic>
          <p:nvPicPr>
            <p:cNvPr id="1431" name="" descr=""/>
            <p:cNvPicPr/>
            <p:nvPr/>
          </p:nvPicPr>
          <p:blipFill>
            <a:blip r:embed="rId1"/>
            <a:stretch/>
          </p:blipFill>
          <p:spPr>
            <a:xfrm>
              <a:off x="5148360" y="765000"/>
              <a:ext cx="3743280" cy="43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5148360" y="765000"/>
              <a:ext cx="3743280" cy="43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457200" y="1484280"/>
            <a:ext cx="469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ный вопрос: Как применяют дроби в других науках?? В искусстве?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1: Какие величины могут быть в запис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2: Какие науки могут использовать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3: Как в искусстве используются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468360" y="260280"/>
            <a:ext cx="2459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потеза.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5" name=""/>
          <p:cNvSpPr/>
          <p:nvPr/>
        </p:nvSpPr>
        <p:spPr>
          <a:xfrm>
            <a:off x="108000" y="1125360"/>
            <a:ext cx="4176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з дробей можно обойтись?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лан работы группы.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знайте о решении задач на дроби по – египетски.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дите неизвестные ранее способы сравнения дробей.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ведите исследование: «Дроби на заметку хозяйке.»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ботайте полученные материалы и результат оформите в виде коллажа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1"/>
          <a:stretch/>
        </p:blipFill>
        <p:spPr>
          <a:xfrm>
            <a:off x="4492800" y="907920"/>
            <a:ext cx="465120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9" name=""/>
          <p:cNvSpPr/>
          <p:nvPr/>
        </p:nvSpPr>
        <p:spPr>
          <a:xfrm>
            <a:off x="179280" y="20520"/>
            <a:ext cx="30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для юных философов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0" name=""/>
          <p:cNvSpPr/>
          <p:nvPr/>
        </p:nvSpPr>
        <p:spPr>
          <a:xfrm>
            <a:off x="179280" y="105264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блемный вопрос: Так ли просты дроб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1: Как в целом мире выделить его част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2: Как обозначить эти част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3: Я-часть мира или целый мир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50022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20:07Z</dcterms:created>
  <dc:creator>k17-06-2</dc:creator>
  <dc:description/>
  <dc:language>en-US</dc:language>
  <cp:lastModifiedBy>Аня</cp:lastModifiedBy>
  <dcterms:modified xsi:type="dcterms:W3CDTF">2012-03-03T15:03:23Z</dcterms:modified>
  <cp:revision>23</cp:revision>
  <dc:subject/>
  <dc:title>Слайд 1</dc:title>
</cp:coreProperties>
</file>