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935-FEC1-41BF-81F1-1FFB9B28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1A3-D5E2-44F7-B8F0-EBBF652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79E-9279-4E3B-9185-0C000370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BE3-ADEC-4DED-ACBE-1021EB27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1B5-4057-431F-8633-F704562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776-34CA-4FCD-8BB3-C314D24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353-4A2A-4972-8E63-5BAA8C4A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B33-0067-4A6B-BD24-F006021B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157-ED0E-4B5D-A1AF-5CDE0599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510-1CFD-4D17-B062-63E8E04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8E8-69EA-426C-A7A6-6CC3C85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C01-8826-46AC-8F31-A1050A41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610-1D53-4157-A5B3-7FD2434EF3AB}" type="slidenum">
              <a:rPr b="0" lang="ru-RU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zmod.ru/files/8404/image.jpg&amp;imgrefurl=http://gizmod.ru/2008/04/23/naselenie_zemli_vskore_prevysit_desjat_shesterok/&amp;usg=__9Wn9uq6UfuOKCr3tQb55KNI1vyc=&amp;h=180&amp;w=180&amp;sz=27&amp;hl=ru&amp;start=2&amp;um=1&amp;tbnid=oKbsFU6ljIiPnM:&amp;tbnh=101&amp;tbnw=101&amp;prev=/images%3Fq%3D%25D0%25BD%25D0%25B0%25D1%2581%25D0%25B5%25D0%25BB%25D0%25B5%25D0%25BD%25D0%25B8%25D0%25B5%2B%25D0%25B7%25D0%25B5%25D0%25BC%25D0%25BB%25D0%25B8%26hl%3Dru%26lr%3D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oh.lv/wp-content/upload/200903/12/f5d19o7vay0j0bfbhtfo.jpg&amp;imgrefurl=http://poh.lv/2009/03/post_7540/&amp;usg=__ghRgqx0v5eKCbkkbGYqeNoZDab8=&amp;h=400&amp;w=600&amp;sz=123&amp;hl=ru&amp;start=38&amp;um=1&amp;tbnid=YP78K8py-4-sKM:&amp;tbnh=90&amp;tbnw=135&amp;prev=/images%3Fq%3D%25D0%25BD%25D0%25B0%25D1%2581%25D0%25B5%25D0%25BB%25D0%25B5%25D0%25BD%25D0%25B8%25D0%25B5%2B%25D0%25B7%25D0%25B5%25D0%25BC%25D0%25BB%25D0%25B8%26ndsp%3D20%26hl%3Dru%26lr%3D%26sa%3DN%26start%3D2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pics.utro.ru/utro_photos/2005/08/24/159big.jpg&amp;imgrefurl=http://www.utro.ru/articles/2005/08/24/470780.shtml&amp;usg=__NIq-tLS9_Uq8apCre9rqyf7gmSU=&amp;h=234&amp;w=234&amp;sz=46&amp;hl=ru&amp;start=5&amp;um=1&amp;tbnid=k9iyh_g0ATLZWM:&amp;tbnh=109&amp;tbnw=109&amp;prev=/images%3Fq%3D%25D0%25BD%25D0%25B0%25D1%2581%25D0%25B5%25D0%25BB%25D0%25B5%25D0%25BD%25D0%25B8%25D0%25B5%2B%25D0%25B7%25D0%25B5%25D0%25BC%25D0%25BB%25D0%25B8%26ndsp%3D20%26hl%3Dru%26lr%3D%26sa%3DN%26um%3D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quilibrium-healing.com/images/question_mark.jpg&amp;imgrefurl=http://www.equilibrium-healing.com/&amp;usg=__A-MaRHakJ7sJVsJNiE0fsnMDOvM=&amp;h=1000&amp;w=1000&amp;sz=178&amp;hl=ru&amp;start=13&amp;um=1&amp;tbnid=LFw_BvJJ44ACEM:&amp;tbnh=149&amp;tbnw=149&amp;prev=/images%3Fq%3D%25D0%25B7%25D0%25BD%25D0%25B0%25D0%25BA%2B%25D0%25B2%25D0%25BE%25D0%25BF%25D1%2580%25D0%25BE%25D1%2581%25D0%25B0%26hl%3Dru%26lr%3D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rzhul.ru/uploads/posts/2009-07/1247572458_94411.png&amp;imgrefurl=http://www.nerzhul.ru/tags/nerzhul.ru&amp;usg=__aBWtHIjrkijuf8f_8m1AMVx_xhs=&amp;h=256&amp;w=256&amp;sz=36&amp;hl=ru&amp;start=4&amp;um=1&amp;tbnid=5dNgIVzck4lLpM:&amp;tbnh=111&amp;tbnw=111&amp;prev=/images%3Fq%3D%25D0%25B2%25D0%25BD%25D0%25B8%25D0%25BC%25D0%25B0%25D0%25BD%25D0%25B8%25D0%25B5%26hl%3Dru%26lr%3D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odrobnosti.ua/upload/news/2009/06/02/606509_3.jpg&amp;imgrefurl=http://podrobnosti.ua/society/2009/06/02/606509.html&amp;usg=__NUWnEyaXsZvlX7_PCAKgNnRE2xg=&amp;h=288&amp;w=360&amp;sz=22&amp;hl=ru&amp;start=16&amp;um=1&amp;tbnid=RtzKzwcNvZ83gM:&amp;tbnh=97&amp;tbnw=121&amp;prev=/images%3Fq%3D%25D1%2580%25D0%25BE%25D0%25B6%25D0%25B4%25D0%25B0%25D0%25B5%25D0%25BC%25D0%25BE%25D1%2581%25D1%2582%25D1%258C%26hl%3Dru%26lr%3D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novayagazeta.spb.ru/images/2006_05/6.jpg&amp;imgrefurl=http://www.novayagazeta.spb.ru/2006/05/7&amp;usg=__AVsqWU_qI-mJXyRInIq6fFWRLek=&amp;h=450&amp;w=301&amp;sz=25&amp;hl=ru&amp;start=5&amp;um=1&amp;tbnid=rynw1ICEeSenXM:&amp;tbnh=127&amp;tbnw=85&amp;prev=/images%3Fq%3D%25D0%25BF%25D0%25B5%25D0%25BD%25D1%2581%25D0%25B8%25D0%25BE%25D0%25BD%25D0%25B5%25D1%2580%25D1%258B%26hl%3Dru%26lr%3D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ssia-today.ru/2007/no_10/pict/10_1_o40.jpg&amp;imgrefurl=http://www.russia-today.ru/2007/no_10/10_1_of_june.htm&amp;usg=__GMZTiAZy-u82Ei_Dcb3azpAs6NM=&amp;h=532&amp;w=358&amp;sz=43&amp;hl=ru&amp;start=19&amp;um=1&amp;tbnid=M-a7G-X4wyevIM:&amp;tbnh=132&amp;tbnw=89&amp;prev=/images%3Fq%3D%25D0%25B4%25D0%25B5%25D0%25BC%25D0%25BE%25D0%25B3%25D1%2580%25D0%25B0%25D1%2584%25D0%25B8%25D1%2587%25D0%25B5%25D1%2581%25D0%25BA%25D0%25B0%25D1%258F%2B%25D0%25BF%25D0%25BE%25D0%25BB%25D0%25B8%25D1%2582%25D0%25B8%25D0%25BA%25D0%25B0%26hl%3Dru%26lr%3D%26um%3D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actualcomment.ru/userdata/1250228604_1.jpg&amp;imgrefurl=http://actualcomment.ru/theme/694/&amp;usg=__WLjs9zQvKZAYvs3RNTZCpu0dACw=&amp;h=376&amp;w=250&amp;sz=29&amp;hl=ru&amp;start=26&amp;um=1&amp;tbnid=6wDrFrgP7plXgM:&amp;tbnh=122&amp;tbnw=8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20%26um%3D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admportal.tula.ru/2008/UprPressSlug/News/20081112/&#1044;&#1077;&#1090;&#1089;&#1072;&#1076;-4.jpg&amp;imgrefurl=http://www.admportal.tula.ru/news/7249.aspx&amp;usg=__zpfuPiKoTL09p3TKLRneJwMioOo=&amp;h=899&amp;w=600&amp;sz=74&amp;hl=ru&amp;start=65&amp;um=1&amp;tbnid=7Tz0B5uxfQz-hM:&amp;tbnh=146&amp;tbnw=97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demographia.ru/UserFiles/Deti4-250.jpg&amp;imgrefurl=http://www.demographia.ru/articles_N/index.html%3FidR%3D5%26idArt%3D769&amp;usg=__V7VRkY23mrCqakIshBryyPt3uRk=&amp;h=180&amp;w=250&amp;sz=17&amp;hl=ru&amp;start=78&amp;um=1&amp;tbnid=zAae2ZM_EPjQGM:&amp;tbnh=80&amp;tbnw=11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География населения мира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0000" y="2637000"/>
            <a:ext cx="1800360" cy="4597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Где?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348000" y="2637000"/>
            <a:ext cx="1800360" cy="4597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то?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940360" y="2637000"/>
            <a:ext cx="1800360" cy="4597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ак?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268360" y="5877000"/>
            <a:ext cx="4537080" cy="36828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живут  люди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6" name="Picture 9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57336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5d19o7vay0j0bfbhtf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28800" y="3786120"/>
            <a:ext cx="1717560" cy="114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159bi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36432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63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971640" y="692280"/>
            <a:ext cx="7848360" cy="5976360"/>
            <a:chOff x="971640" y="692280"/>
            <a:chExt cx="7848360" cy="5976360"/>
          </a:xfrm>
        </p:grpSpPr>
        <p:sp>
          <p:nvSpPr>
            <p:cNvPr id="98" name="Text Box 4"/>
            <p:cNvSpPr/>
            <p:nvPr/>
          </p:nvSpPr>
          <p:spPr>
            <a:xfrm>
              <a:off x="2504880" y="692280"/>
              <a:ext cx="2634840" cy="732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Исторические типы воспроизводства</a:t>
              </a:r>
              <a:endParaRPr b="0" lang="en-US" sz="20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971640" y="1729800"/>
              <a:ext cx="162900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Архитип</a:t>
              </a: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2888280" y="1729800"/>
              <a:ext cx="1676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Традиционны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5092200" y="1729800"/>
              <a:ext cx="1676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овременны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3702600" y="1424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 flipH="1">
              <a:off x="1690200" y="10584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690200" y="1058400"/>
              <a:ext cx="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5954400" y="1058400"/>
              <a:ext cx="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971640" y="2523600"/>
              <a:ext cx="1629000" cy="170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по биол.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законам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ая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ая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ЕП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- 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низки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2935800" y="2401200"/>
              <a:ext cx="1629000" cy="22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егулир.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   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мертн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ая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несколько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    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нижена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ЕП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более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</a:rPr>
                <a:t>         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и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1528920" y="4599000"/>
              <a:ext cx="1981800" cy="69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1354680" y="5209200"/>
              <a:ext cx="2251800" cy="793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 </a:t>
              </a:r>
              <a:r>
                <a:rPr b="1" lang="ru-RU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демографический переход</a:t>
              </a: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277520" y="4537800"/>
              <a:ext cx="2107800" cy="69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4085640" y="5148360"/>
              <a:ext cx="2395440" cy="79308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I </a:t>
              </a:r>
              <a:r>
                <a:rPr b="1" lang="ru-RU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демографический переход</a:t>
              </a: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 flipH="1">
              <a:off x="5140080" y="10584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7047360" y="2169720"/>
              <a:ext cx="1772640" cy="286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66cc"/>
                  </a:solidFill>
                  <a:uFillTx/>
                  <a:latin typeface="Arial"/>
                  <a:ea typeface="Times New Roman"/>
                </a:rPr>
                <a:t>Условные обозначения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: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В</a:t>
              </a:r>
              <a:r>
                <a:rPr b="0" lang="ru-RU" sz="1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особенности воспроизводства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Р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– рождаем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С 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– смертн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ЕП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– естественный прирост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5092200" y="2457000"/>
              <a:ext cx="1629000" cy="22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регулир.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р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ождаемость,  смертн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?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?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ЕП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?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1306800" y="6058440"/>
              <a:ext cx="52221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</p:grpSp>
      <p:sp>
        <p:nvSpPr>
          <p:cNvPr id="116" name="Rectangle 22"/>
          <p:cNvSpPr/>
          <p:nvPr/>
        </p:nvSpPr>
        <p:spPr>
          <a:xfrm>
            <a:off x="179280" y="144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692520" y="3948120"/>
            <a:ext cx="26416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III</a:t>
            </a: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 фаза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демографический кризис;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поощрение рождаемости (пособия, запрет абортов, поддержка одиноких матерей);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«Нам нужна трехдетная семья»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«Все лучшее - детям»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719280" y="476280"/>
            <a:ext cx="8424720" cy="6192720"/>
            <a:chOff x="719280" y="476280"/>
            <a:chExt cx="8424720" cy="6192720"/>
          </a:xfrm>
        </p:grpSpPr>
        <p:sp>
          <p:nvSpPr>
            <p:cNvPr id="120" name="Line 5"/>
            <p:cNvSpPr/>
            <p:nvPr/>
          </p:nvSpPr>
          <p:spPr>
            <a:xfrm>
              <a:off x="1363320" y="4353840"/>
              <a:ext cx="70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313640" y="409536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1313640" y="353520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3" name="Line 8"/>
            <p:cNvSpPr/>
            <p:nvPr/>
          </p:nvSpPr>
          <p:spPr>
            <a:xfrm>
              <a:off x="1313640" y="293184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4" name="Line 9"/>
            <p:cNvSpPr/>
            <p:nvPr/>
          </p:nvSpPr>
          <p:spPr>
            <a:xfrm>
              <a:off x="1313640" y="237204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1313640" y="181188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 flipV="1">
              <a:off x="1363320" y="1294560"/>
              <a:ext cx="0" cy="4394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917280" y="1251720"/>
              <a:ext cx="495360" cy="30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%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4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3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2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1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 flipV="1">
              <a:off x="3593520" y="138096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5724360" y="1294560"/>
              <a:ext cx="0" cy="30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7558200" y="1337400"/>
              <a:ext cx="0" cy="301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719280" y="476280"/>
              <a:ext cx="183348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традиционный тип воспроизводства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2" name="Text Box 17"/>
            <p:cNvSpPr/>
            <p:nvPr/>
          </p:nvSpPr>
          <p:spPr>
            <a:xfrm>
              <a:off x="7310520" y="519120"/>
              <a:ext cx="183348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овременный тип воспроизводства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1611000" y="6281280"/>
              <a:ext cx="6739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66cc"/>
                  </a:solidFill>
                  <a:latin typeface="Times New Roman"/>
                  <a:ea typeface="Times New Roman"/>
                </a:rPr>
                <a:t>Рис. 4 Ф. Ноутстайн. Теория демографического перехода</a:t>
              </a:r>
              <a:endParaRPr b="0" lang="en-US" sz="12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1710360" y="993240"/>
              <a:ext cx="396432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I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тип – «демографическая весна»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  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Африка                           Азия, Лат.Америка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5674680" y="907200"/>
              <a:ext cx="193248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тип – «демографическая зима»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НГ, Сев.Америка, Австралия, Япония, Новая Зеландия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1512000" y="4052160"/>
              <a:ext cx="4014000" cy="16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фаза                                    </a:t>
              </a:r>
              <a:r>
                <a:rPr b="0" lang="en-US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I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фаза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демографический взрыв;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ограничение рождаемости (штрафы, выселения, снижение зарплаты, пропаганда);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«Одна семья – один ребенок» - Китай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«Нас двое, нам - двоих» - Индия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5724360" y="4353840"/>
              <a:ext cx="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1363320" y="1838160"/>
              <a:ext cx="6392880" cy="19123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1363320" y="2199600"/>
              <a:ext cx="6439680" cy="17665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0" name="Text Box 25"/>
            <p:cNvSpPr/>
            <p:nvPr/>
          </p:nvSpPr>
          <p:spPr>
            <a:xfrm>
              <a:off x="817920" y="5947920"/>
              <a:ext cx="797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          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ождаемость                                     Смертность                            Естественный прирост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>
              <a:off x="966600" y="6077160"/>
              <a:ext cx="44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3791880" y="6077160"/>
              <a:ext cx="495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 flipH="1">
              <a:off x="1362960" y="1854720"/>
              <a:ext cx="29700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 flipH="1">
              <a:off x="1610640" y="1854720"/>
              <a:ext cx="3466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 flipH="1">
              <a:off x="1858680" y="1854720"/>
              <a:ext cx="3466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6" name="Line 31"/>
            <p:cNvSpPr/>
            <p:nvPr/>
          </p:nvSpPr>
          <p:spPr>
            <a:xfrm flipH="1">
              <a:off x="2106720" y="1854720"/>
              <a:ext cx="39600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7" name="Line 32"/>
            <p:cNvSpPr/>
            <p:nvPr/>
          </p:nvSpPr>
          <p:spPr>
            <a:xfrm flipH="1">
              <a:off x="2354040" y="1897920"/>
              <a:ext cx="39636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8" name="Line 33"/>
            <p:cNvSpPr/>
            <p:nvPr/>
          </p:nvSpPr>
          <p:spPr>
            <a:xfrm flipH="1">
              <a:off x="2552760" y="1941120"/>
              <a:ext cx="44568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2701440" y="2027160"/>
              <a:ext cx="495360" cy="47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 flipH="1">
              <a:off x="2750400" y="2156400"/>
              <a:ext cx="59436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 flipH="1">
              <a:off x="2849760" y="2242800"/>
              <a:ext cx="644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 flipH="1">
              <a:off x="2899080" y="2414880"/>
              <a:ext cx="693720" cy="68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 flipH="1">
              <a:off x="3047760" y="2587320"/>
              <a:ext cx="644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 flipH="1">
              <a:off x="3196440" y="2716560"/>
              <a:ext cx="644040" cy="60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 flipH="1">
              <a:off x="3394800" y="2845800"/>
              <a:ext cx="644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 flipH="1">
              <a:off x="3642840" y="2975040"/>
              <a:ext cx="54468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3890880" y="3104280"/>
              <a:ext cx="495360" cy="47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 flipH="1">
              <a:off x="4187520" y="3233520"/>
              <a:ext cx="39636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 flipH="1">
              <a:off x="4435560" y="3319560"/>
              <a:ext cx="3466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 flipH="1">
              <a:off x="4683240" y="3405960"/>
              <a:ext cx="29700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 flipH="1">
              <a:off x="4881960" y="3448800"/>
              <a:ext cx="2973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 flipH="1">
              <a:off x="5129640" y="3535200"/>
              <a:ext cx="19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3" name="Line 48"/>
            <p:cNvSpPr/>
            <p:nvPr/>
          </p:nvSpPr>
          <p:spPr>
            <a:xfrm flipH="1">
              <a:off x="5377680" y="3578400"/>
              <a:ext cx="19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4" name="Line 49"/>
            <p:cNvSpPr/>
            <p:nvPr/>
          </p:nvSpPr>
          <p:spPr>
            <a:xfrm flipH="1">
              <a:off x="5575680" y="36212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5" name="Line 50"/>
            <p:cNvSpPr/>
            <p:nvPr/>
          </p:nvSpPr>
          <p:spPr>
            <a:xfrm flipH="1">
              <a:off x="5774040" y="3621240"/>
              <a:ext cx="1980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6" name="Line 51"/>
            <p:cNvSpPr/>
            <p:nvPr/>
          </p:nvSpPr>
          <p:spPr>
            <a:xfrm flipH="1">
              <a:off x="6021720" y="36644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7" name="Line 52"/>
            <p:cNvSpPr/>
            <p:nvPr/>
          </p:nvSpPr>
          <p:spPr>
            <a:xfrm flipH="1">
              <a:off x="666612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>
              <a:off x="691380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9" name="Line 54"/>
            <p:cNvSpPr/>
            <p:nvPr/>
          </p:nvSpPr>
          <p:spPr>
            <a:xfrm flipH="1">
              <a:off x="711216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0" name="Line 55"/>
            <p:cNvSpPr/>
            <p:nvPr/>
          </p:nvSpPr>
          <p:spPr>
            <a:xfrm flipH="1">
              <a:off x="7310520" y="375048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1" name="Line 56"/>
            <p:cNvSpPr/>
            <p:nvPr/>
          </p:nvSpPr>
          <p:spPr>
            <a:xfrm flipH="1">
              <a:off x="7508520" y="375048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 flipH="1">
              <a:off x="6220080" y="36644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 flipH="1">
              <a:off x="641808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4" name="Rectangle 59"/>
            <p:cNvSpPr/>
            <p:nvPr/>
          </p:nvSpPr>
          <p:spPr>
            <a:xfrm>
              <a:off x="5873040" y="5990760"/>
              <a:ext cx="693720" cy="172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</p:grpSp>
      <p:sp>
        <p:nvSpPr>
          <p:cNvPr id="175" name="Rectangle 60"/>
          <p:cNvSpPr/>
          <p:nvPr/>
        </p:nvSpPr>
        <p:spPr>
          <a:xfrm>
            <a:off x="0" y="81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6" name="Rectangle 61"/>
          <p:cNvSpPr/>
          <p:nvPr/>
        </p:nvSpPr>
        <p:spPr>
          <a:xfrm>
            <a:off x="0" y="81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Численность населения Земли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83360" y="2204640"/>
            <a:ext cx="3850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100" spc="-1" strike="noStrike">
                <a:solidFill>
                  <a:srgbClr val="0066cc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                                                 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1" name="Picture 5" descr="рис.1.Увеличение численности на миллиард"/>
          <p:cNvPicPr/>
          <p:nvPr/>
        </p:nvPicPr>
        <p:blipFill>
          <a:blip r:embed="rId1"/>
          <a:stretch/>
        </p:blipFill>
        <p:spPr>
          <a:xfrm>
            <a:off x="571680" y="1571760"/>
            <a:ext cx="5976720" cy="4443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6012000" y="2708280"/>
            <a:ext cx="2736720" cy="9169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Быстрый рост численности населения Земли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407280" y="4724280"/>
            <a:ext cx="2736720" cy="64260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ГРОМНЫЕ ПРОБЛЕМЫ…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96360" y="3645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16000" y="6165720"/>
            <a:ext cx="4032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2006 ГОД – 6 500 000 000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solidFill>
            <a:srgbClr val="f5f59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Численность населения Земли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7" name="Picture 6" descr="Динамика численности населения"/>
          <p:cNvPicPr/>
          <p:nvPr/>
        </p:nvPicPr>
        <p:blipFill>
          <a:blip r:embed="rId1"/>
          <a:stretch/>
        </p:blipFill>
        <p:spPr>
          <a:xfrm>
            <a:off x="900000" y="620640"/>
            <a:ext cx="7345440" cy="5332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68360" y="1484280"/>
            <a:ext cx="3166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Насколько достоверны цифры, свидетельствующие о количестве населения?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0" y="6035760"/>
            <a:ext cx="88930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Monotype Corsiva"/>
              </a:rPr>
              <a:t>“</a:t>
            </a:r>
            <a:r>
              <a:rPr b="1" lang="ru-RU" sz="2400" spc="-1" strike="noStrike">
                <a:solidFill>
                  <a:srgbClr val="0066cc"/>
                </a:solidFill>
                <a:latin typeface="Monotype Corsiva"/>
              </a:rPr>
              <a:t>Зловещий смысл таит в себе стремящаяся к вертикали кривая численности населения земного шара”.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Страны-рекордсмены по численности населения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2" name="Picture 5" descr="question_ma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421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900000" y="5084640"/>
            <a:ext cx="7417080" cy="825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итай, Индия, США, Индонейзия, Бразилия, Пакистан, Бангладеш, Россия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«Золотой миллиард»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 последние годы появился термин “золотой миллиард” - это население планеты, которому сегодня всего (сырья, энергии, денег) хватает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Где же живет этот миллиард?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Это совокупное население: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США (280 млн.ч.),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Западной Европы (600 млн.ч.)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Японии (126 млн.ч.)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Энергии они потребляют 50% мирового производства и создают 75% общей массы отходов. Остальное население мира уже сегодня за бортом этого благополучия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Им уже сегодня чего-то не хватает (работы, пищи, жилья, ресурсов и т.д.)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132000" y="2781360"/>
            <a:ext cx="503280" cy="649080"/>
          </a:xfrm>
          <a:prstGeom prst="downArrow">
            <a:avLst>
              <a:gd name="adj1" fmla="val 50000"/>
              <a:gd name="adj2" fmla="val 32242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724360" y="2565360"/>
            <a:ext cx="290196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егодня в мире голодают 650 млн. человек, умирают от голода 35 тыс. человек ежедневно, 12 млн. человек - ежегодно. Голод сдерживает рост населения. 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8" name="Picture 7" descr="1247572458_944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276640"/>
            <a:ext cx="1057320" cy="1056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оспроизводство населения мира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Воспроизводство населения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– совокупность процессов рождаемости, смертности и естественного прироста, обеспечивающие непрерывную смену поколений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19280" y="4437000"/>
            <a:ext cx="5688000" cy="703440"/>
          </a:xfrm>
          <a:prstGeom prst="rect">
            <a:avLst/>
          </a:prstGeom>
          <a:solidFill>
            <a:srgbClr val="90e781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 -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прирост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убыль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На что проще повлиять?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476360" y="3573360"/>
            <a:ext cx="5688000" cy="703440"/>
          </a:xfrm>
          <a:prstGeom prst="rect">
            <a:avLst/>
          </a:prstGeom>
          <a:solidFill>
            <a:srgbClr val="90e781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 -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прирост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убыль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1280" y="2060640"/>
            <a:ext cx="2160360" cy="916920"/>
          </a:xfrm>
          <a:prstGeom prst="rect">
            <a:avLst/>
          </a:prstGeom>
          <a:solidFill>
            <a:srgbClr val="b5f5d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Социально-экономические факторы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64000" y="2060640"/>
            <a:ext cx="2160720" cy="916920"/>
          </a:xfrm>
          <a:prstGeom prst="rect">
            <a:avLst/>
          </a:prstGeom>
          <a:solidFill>
            <a:srgbClr val="b5f5d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Природно-биологические факторы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843280" y="5373720"/>
            <a:ext cx="2305080" cy="642600"/>
          </a:xfrm>
          <a:prstGeom prst="rect">
            <a:avLst/>
          </a:prstGeom>
          <a:solidFill>
            <a:srgbClr val="b5f5d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Демографические факторы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2771640" y="2565360"/>
            <a:ext cx="648000" cy="100800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H="1">
            <a:off x="4643280" y="2492280"/>
            <a:ext cx="720720" cy="100800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V="1">
            <a:off x="3924360" y="4221000"/>
            <a:ext cx="0" cy="1152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Что влияет на…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908000" y="5373720"/>
            <a:ext cx="936720" cy="764280"/>
          </a:xfrm>
          <a:prstGeom prst="rect">
            <a:avLst/>
          </a:prstGeom>
          <a:solidFill>
            <a:srgbClr val="b5f5d2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156360" y="5300640"/>
            <a:ext cx="936720" cy="764280"/>
          </a:xfrm>
          <a:prstGeom prst="rect">
            <a:avLst/>
          </a:prstGeom>
          <a:solidFill>
            <a:srgbClr val="b5f5d2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5" name="Picture 13" descr="606509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172872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1979640" y="2997360"/>
            <a:ext cx="792000" cy="2303280"/>
          </a:xfrm>
          <a:prstGeom prst="downArrow">
            <a:avLst>
              <a:gd name="adj1" fmla="val 50000"/>
              <a:gd name="adj2" fmla="val 72705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7" name="Picture 16" descr="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628640"/>
            <a:ext cx="1433520" cy="18734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7"/>
          <p:cNvSpPr/>
          <p:nvPr/>
        </p:nvSpPr>
        <p:spPr>
          <a:xfrm>
            <a:off x="6227640" y="2997360"/>
            <a:ext cx="792360" cy="2303280"/>
          </a:xfrm>
          <a:prstGeom prst="downArrow">
            <a:avLst>
              <a:gd name="adj1" fmla="val 50000"/>
              <a:gd name="adj2" fmla="val 72672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Демографическая политика - 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система мер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(административных, экономических, пропагандистских, социальных…), предпринимаемых государством для изменения рождаемости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1" name="Picture 5" descr="10_1_o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1625400" cy="24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50228604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716280"/>
            <a:ext cx="1297080" cy="195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%D0%94%D0%B5%D1%82%D1%81%D0%B0%D0%B4-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3716280"/>
            <a:ext cx="148284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eti4-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35280" y="4941720"/>
            <a:ext cx="1512720" cy="1090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320x240"/>
          <p:cNvPicPr/>
          <p:nvPr/>
        </p:nvPicPr>
        <p:blipFill>
          <a:blip r:embed="rId9"/>
          <a:stretch/>
        </p:blipFill>
        <p:spPr>
          <a:xfrm>
            <a:off x="5651640" y="4869000"/>
            <a:ext cx="1411200" cy="1065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33:24Z</dcterms:created>
  <dc:creator>USER</dc:creator>
  <dc:description/>
  <dc:language>en-US</dc:language>
  <cp:lastModifiedBy>USER</cp:lastModifiedBy>
  <dcterms:modified xsi:type="dcterms:W3CDTF">2010-09-13T10:50:41Z</dcterms:modified>
  <cp:revision>26</cp:revision>
  <dc:subject/>
  <dc:title>География населения мира</dc:title>
</cp:coreProperties>
</file>