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A2DD-43A8-411C-B8DF-49045D6A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19C1-1965-41B6-99DA-B1AB5B15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D1A5-F9F5-4332-BA89-013F1F55C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5722-B790-4113-8DCB-50BB04574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2F72-31E9-471A-B61C-E813A27E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93DD-D484-4493-B5BC-979E1E69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08E5-6A18-45B7-AE40-78677ADF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83D0-6DCB-4A18-BEC8-5EBBE218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54EB-7EB8-4F3B-86E8-89066FE6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9261-6817-46F0-A9CA-7DEC8DEC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7B5F-8DCA-4385-9710-4734FB0E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946B-3961-4692-8B86-E8527065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8104-7775-4520-85F1-6EE601CA6A11}" type="slidenum">
              <a:rPr b="0" lang="ru-RU" sz="14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izmod.ru/files/8404/image.jpg&amp;imgrefurl=http://gizmod.ru/2008/04/23/naselenie_zemli_vskore_prevysit_desjat_shesterok/&amp;usg=__9Wn9uq6UfuOKCr3tQb55KNI1vyc=&amp;h=180&amp;w=180&amp;sz=27&amp;hl=ru&amp;start=2&amp;um=1&amp;tbnid=oKbsFU6ljIiPnM:&amp;tbnh=101&amp;tbnw=101&amp;prev=/images%3Fq%3D%25D0%25BD%25D0%25B0%25D1%2581%25D0%25B5%25D0%25BB%25D0%25B5%25D0%25BD%25D0%25B8%25D0%25B5%2B%25D0%25B7%25D0%25B5%25D0%25BC%25D0%25BB%25D0%25B8%26hl%3Dru%26lr%3D%26um%3D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poh.lv/wp-content/upload/200903/12/f5d19o7vay0j0bfbhtfo.jpg&amp;imgrefurl=http://poh.lv/2009/03/post_7540/&amp;usg=__ghRgqx0v5eKCbkkbGYqeNoZDab8=&amp;h=400&amp;w=600&amp;sz=123&amp;hl=ru&amp;start=38&amp;um=1&amp;tbnid=YP78K8py-4-sKM:&amp;tbnh=90&amp;tbnw=135&amp;prev=/images%3Fq%3D%25D0%25BD%25D0%25B0%25D1%2581%25D0%25B5%25D0%25BB%25D0%25B5%25D0%25BD%25D0%25B8%25D0%25B5%2B%25D0%25B7%25D0%25B5%25D0%25BC%25D0%25BB%25D0%25B8%26ndsp%3D20%26hl%3Dru%26lr%3D%26sa%3DN%26start%3D20%26um%3D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pics.utro.ru/utro_photos/2005/08/24/159big.jpg&amp;imgrefurl=http://www.utro.ru/articles/2005/08/24/470780.shtml&amp;usg=__NIq-tLS9_Uq8apCre9rqyf7gmSU=&amp;h=234&amp;w=234&amp;sz=46&amp;hl=ru&amp;start=5&amp;um=1&amp;tbnid=k9iyh_g0ATLZWM:&amp;tbnh=109&amp;tbnw=109&amp;prev=/images%3Fq%3D%25D0%25BD%25D0%25B0%25D1%2581%25D0%25B5%25D0%25BB%25D0%25B5%25D0%25BD%25D0%25B8%25D0%25B5%2B%25D0%25B7%25D0%25B5%25D0%25BC%25D0%25BB%25D0%25B8%26ndsp%3D20%26hl%3Dru%26lr%3D%26sa%3DN%26um%3D1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quilibrium-healing.com/images/question_mark.jpg&amp;imgrefurl=http://www.equilibrium-healing.com/&amp;usg=__A-MaRHakJ7sJVsJNiE0fsnMDOvM=&amp;h=1000&amp;w=1000&amp;sz=178&amp;hl=ru&amp;start=13&amp;um=1&amp;tbnid=LFw_BvJJ44ACEM:&amp;tbnh=149&amp;tbnw=149&amp;prev=/images%3Fq%3D%25D0%25B7%25D0%25BD%25D0%25B0%25D0%25BA%2B%25D0%25B2%25D0%25BE%25D0%25BF%25D1%2580%25D0%25BE%25D1%2581%25D0%25B0%26hl%3Dru%26lr%3D%26um%3D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nerzhul.ru/uploads/posts/2009-07/1247572458_94411.png&amp;imgrefurl=http://www.nerzhul.ru/tags/nerzhul.ru&amp;usg=__aBWtHIjrkijuf8f_8m1AMVx_xhs=&amp;h=256&amp;w=256&amp;sz=36&amp;hl=ru&amp;start=4&amp;um=1&amp;tbnid=5dNgIVzck4lLpM:&amp;tbnh=111&amp;tbnw=111&amp;prev=/images%3Fq%3D%25D0%25B2%25D0%25BD%25D0%25B8%25D0%25BC%25D0%25B0%25D0%25BD%25D0%25B8%25D0%25B5%26hl%3Dru%26lr%3D%26um%3D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podrobnosti.ua/upload/news/2009/06/02/606509_3.jpg&amp;imgrefurl=http://podrobnosti.ua/society/2009/06/02/606509.html&amp;usg=__NUWnEyaXsZvlX7_PCAKgNnRE2xg=&amp;h=288&amp;w=360&amp;sz=22&amp;hl=ru&amp;start=16&amp;um=1&amp;tbnid=RtzKzwcNvZ83gM:&amp;tbnh=97&amp;tbnw=121&amp;prev=/images%3Fq%3D%25D1%2580%25D0%25BE%25D0%25B6%25D0%25B4%25D0%25B0%25D0%25B5%25D0%25BC%25D0%25BE%25D1%2581%25D1%2582%25D1%258C%26hl%3Dru%26lr%3D%26um%3D1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om/imgres?imgurl=http://www.novayagazeta.spb.ru/images/2006_05/6.jpg&amp;imgrefurl=http://www.novayagazeta.spb.ru/2006/05/7&amp;usg=__AVsqWU_qI-mJXyRInIq6fFWRLek=&amp;h=450&amp;w=301&amp;sz=25&amp;hl=ru&amp;start=5&amp;um=1&amp;tbnid=rynw1ICEeSenXM:&amp;tbnh=127&amp;tbnw=85&amp;prev=/images%3Fq%3D%25D0%25BF%25D0%25B5%25D0%25BD%25D1%2581%25D0%25B8%25D0%25BE%25D0%25BD%25D0%25B5%25D1%2580%25D1%258B%26hl%3Dru%26lr%3D%26um%3D1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russia-today.ru/2007/no_10/pict/10_1_o40.jpg&amp;imgrefurl=http://www.russia-today.ru/2007/no_10/10_1_of_june.htm&amp;usg=__GMZTiAZy-u82Ei_Dcb3azpAs6NM=&amp;h=532&amp;w=358&amp;sz=43&amp;hl=ru&amp;start=19&amp;um=1&amp;tbnid=M-a7G-X4wyevIM:&amp;tbnh=132&amp;tbnw=89&amp;prev=/images%3Fq%3D%25D0%25B4%25D0%25B5%25D0%25BC%25D0%25BE%25D0%25B3%25D1%2580%25D0%25B0%25D1%2584%25D0%25B8%25D1%2587%25D0%25B5%25D1%2581%25D0%25BA%25D0%25B0%25D1%258F%2B%25D0%25BF%25D0%25BE%25D0%25BB%25D0%25B8%25D1%2582%25D0%25B8%25D0%25BA%25D0%25B0%26hl%3Dru%26lr%3D%26um%3D1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actualcomment.ru/userdata/1250228604_1.jpg&amp;imgrefurl=http://actualcomment.ru/theme/694/&amp;usg=__WLjs9zQvKZAYvs3RNTZCpu0dACw=&amp;h=376&amp;w=250&amp;sz=29&amp;hl=ru&amp;start=26&amp;um=1&amp;tbnid=6wDrFrgP7plXgM:&amp;tbnh=122&amp;tbnw=81&amp;prev=/images%3Fq%3D%25D0%25B4%25D0%25B5%25D0%25BC%25D0%25BE%25D0%25B3%25D1%2580%25D0%25B0%25D1%2584%25D0%25B8%25D1%2587%25D0%25B5%25D1%2581%25D0%25BA%25D0%25B0%25D1%258F%2B%25D0%25BF%25D0%25BE%25D0%25BB%25D0%25B8%25D1%2582%25D0%25B8%25D0%25BA%25D0%25B0%26ndsp%3D20%26hl%3Dru%26lr%3D%26sa%3DN%26start%3D20%26um%3D1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m/imgres?imgurl=http://www.admportal.tula.ru/2008/UprPressSlug/News/20081112/&#1044;&#1077;&#1090;&#1089;&#1072;&#1076;-4.jpg&amp;imgrefurl=http://www.admportal.tula.ru/news/7249.aspx&amp;usg=__zpfuPiKoTL09p3TKLRneJwMioOo=&amp;h=899&amp;w=600&amp;sz=74&amp;hl=ru&amp;start=65&amp;um=1&amp;tbnid=7Tz0B5uxfQz-hM:&amp;tbnh=146&amp;tbnw=97&amp;prev=/images%3Fq%3D%25D0%25B4%25D0%25B5%25D0%25BC%25D0%25BE%25D0%25B3%25D1%2580%25D0%25B0%25D1%2584%25D0%25B8%25D1%2587%25D0%25B5%25D1%2581%25D0%25BA%25D0%25B0%25D1%258F%2B%25D0%25BF%25D0%25BE%25D0%25BB%25D0%25B8%25D1%2582%25D0%25B8%25D0%25BA%25D0%25B0%26ndsp%3D20%26hl%3Dru%26lr%3D%26sa%3DN%26start%3D60%26um%3D1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images.google.com/imgres?imgurl=http://www.demographia.ru/UserFiles/Deti4-250.jpg&amp;imgrefurl=http://www.demographia.ru/articles_N/index.html%3FidR%3D5%26idArt%3D769&amp;usg=__V7VRkY23mrCqakIshBryyPt3uRk=&amp;h=180&amp;w=250&amp;sz=17&amp;hl=ru&amp;start=78&amp;um=1&amp;tbnid=zAae2ZM_EPjQGM:&amp;tbnh=80&amp;tbnw=111&amp;prev=/images%3Fq%3D%25D0%25B4%25D0%25B5%25D0%25BC%25D0%25BE%25D0%25B3%25D1%2580%25D0%25B0%25D1%2584%25D0%25B8%25D1%2587%25D0%25B5%25D1%2581%25D0%25BA%25D0%25B0%25D1%258F%2B%25D0%25BF%25D0%25BE%25D0%25BB%25D0%25B8%25D1%2582%25D0%25B8%25D0%25BA%25D0%25B0%26ndsp%3D20%26hl%3Dru%26lr%3D%26sa%3DN%26start%3D60%26um%3D1" TargetMode="External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solidFill>
            <a:srgbClr val="ffff99"/>
          </a:solidFill>
          <a:ln w="9360">
            <a:solidFill>
              <a:srgbClr val="6600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Arial"/>
              </a:rPr>
              <a:t>География населения мира</a:t>
            </a: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900000" y="2637000"/>
            <a:ext cx="1800360" cy="459720"/>
          </a:xfrm>
          <a:prstGeom prst="rect">
            <a:avLst/>
          </a:prstGeom>
          <a:solidFill>
            <a:srgbClr val="e0cbe7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Где?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3348000" y="2637000"/>
            <a:ext cx="1800360" cy="459720"/>
          </a:xfrm>
          <a:prstGeom prst="rect">
            <a:avLst/>
          </a:prstGeom>
          <a:solidFill>
            <a:srgbClr val="e0cbe7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Кто?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5940360" y="2637000"/>
            <a:ext cx="1800360" cy="459720"/>
          </a:xfrm>
          <a:prstGeom prst="rect">
            <a:avLst/>
          </a:prstGeom>
          <a:solidFill>
            <a:srgbClr val="e0cbe7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Как?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2268360" y="5877000"/>
            <a:ext cx="4537080" cy="368280"/>
          </a:xfrm>
          <a:prstGeom prst="rect">
            <a:avLst/>
          </a:prstGeom>
          <a:solidFill>
            <a:srgbClr val="f5f59d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Arial"/>
              </a:rPr>
              <a:t>живут  люди</a:t>
            </a: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46" name="Picture 9" descr="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3573360"/>
            <a:ext cx="1704960" cy="1704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f5d19o7vay0j0bfbhtf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28800" y="3786120"/>
            <a:ext cx="1717560" cy="1144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159bi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15040" y="364320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63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grpSp>
        <p:nvGrpSpPr>
          <p:cNvPr id="97" name="Group 3"/>
          <p:cNvGrpSpPr/>
          <p:nvPr/>
        </p:nvGrpSpPr>
        <p:grpSpPr>
          <a:xfrm>
            <a:off x="971640" y="692280"/>
            <a:ext cx="7848360" cy="5976360"/>
            <a:chOff x="971640" y="692280"/>
            <a:chExt cx="7848360" cy="5976360"/>
          </a:xfrm>
        </p:grpSpPr>
        <p:sp>
          <p:nvSpPr>
            <p:cNvPr id="98" name="Text Box 4"/>
            <p:cNvSpPr/>
            <p:nvPr/>
          </p:nvSpPr>
          <p:spPr>
            <a:xfrm>
              <a:off x="2504880" y="692280"/>
              <a:ext cx="2634840" cy="732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99"/>
                  </a:solidFill>
                  <a:latin typeface="Arial"/>
                  <a:ea typeface="Times New Roman"/>
                </a:rPr>
                <a:t>Исторические типы воспроизводства</a:t>
              </a:r>
              <a:endParaRPr b="0" lang="en-US" sz="20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99" name="Text Box 5"/>
            <p:cNvSpPr/>
            <p:nvPr/>
          </p:nvSpPr>
          <p:spPr>
            <a:xfrm>
              <a:off x="971640" y="1729800"/>
              <a:ext cx="1629000" cy="61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Архитип</a:t>
              </a:r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00" name="Text Box 6"/>
            <p:cNvSpPr/>
            <p:nvPr/>
          </p:nvSpPr>
          <p:spPr>
            <a:xfrm>
              <a:off x="2888280" y="1729800"/>
              <a:ext cx="1676520" cy="61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Традиционный</a:t>
              </a: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01" name="Text Box 7"/>
            <p:cNvSpPr/>
            <p:nvPr/>
          </p:nvSpPr>
          <p:spPr>
            <a:xfrm>
              <a:off x="5092200" y="1729800"/>
              <a:ext cx="1676520" cy="61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Современный</a:t>
              </a: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02" name="Line 8"/>
            <p:cNvSpPr/>
            <p:nvPr/>
          </p:nvSpPr>
          <p:spPr>
            <a:xfrm>
              <a:off x="3702600" y="1424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03" name="Line 9"/>
            <p:cNvSpPr/>
            <p:nvPr/>
          </p:nvSpPr>
          <p:spPr>
            <a:xfrm flipH="1">
              <a:off x="1690200" y="1058400"/>
              <a:ext cx="81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04" name="Line 10"/>
            <p:cNvSpPr/>
            <p:nvPr/>
          </p:nvSpPr>
          <p:spPr>
            <a:xfrm>
              <a:off x="1690200" y="1058400"/>
              <a:ext cx="0" cy="67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05" name="Line 11"/>
            <p:cNvSpPr/>
            <p:nvPr/>
          </p:nvSpPr>
          <p:spPr>
            <a:xfrm>
              <a:off x="5954400" y="1058400"/>
              <a:ext cx="0" cy="67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06" name="Text Box 12"/>
            <p:cNvSpPr/>
            <p:nvPr/>
          </p:nvSpPr>
          <p:spPr>
            <a:xfrm>
              <a:off x="971640" y="2523600"/>
              <a:ext cx="1629000" cy="170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В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–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</a:rPr>
                <a:t> 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по биол.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66cc"/>
                  </a:solidFill>
                  <a:latin typeface="Arial"/>
                </a:rPr>
                <a:t>        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законам</a:t>
              </a: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Р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 –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</a:rPr>
                <a:t> 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высокая</a:t>
              </a: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С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–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</a:rPr>
                <a:t> 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высокая</a:t>
              </a: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ЕП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 - </a:t>
              </a:r>
              <a:r>
                <a:rPr b="1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низкий</a:t>
              </a: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07" name="Text Box 13"/>
            <p:cNvSpPr/>
            <p:nvPr/>
          </p:nvSpPr>
          <p:spPr>
            <a:xfrm>
              <a:off x="2935800" y="2401200"/>
              <a:ext cx="1629000" cy="225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В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 –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регулир. </a:t>
              </a: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66cc"/>
                  </a:solidFill>
                  <a:latin typeface="Arial"/>
                </a:rPr>
                <a:t>      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смертность</a:t>
              </a: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Р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 –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</a:rPr>
                <a:t> 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высокая</a:t>
              </a: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С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 –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несколько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66cc"/>
                  </a:solidFill>
                  <a:latin typeface="Arial"/>
                </a:rPr>
                <a:t>       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снижена</a:t>
              </a: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ЕП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– </a:t>
              </a:r>
              <a:r>
                <a:rPr b="1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более </a:t>
              </a: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66cc"/>
                  </a:solidFill>
                  <a:latin typeface="Arial"/>
                </a:rPr>
                <a:t>         </a:t>
              </a:r>
              <a:r>
                <a:rPr b="1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высокий</a:t>
              </a: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08" name="Freeform 14"/>
            <p:cNvSpPr/>
            <p:nvPr/>
          </p:nvSpPr>
          <p:spPr>
            <a:xfrm>
              <a:off x="1528920" y="4599000"/>
              <a:ext cx="1981800" cy="698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09" name="Text Box 15"/>
            <p:cNvSpPr/>
            <p:nvPr/>
          </p:nvSpPr>
          <p:spPr>
            <a:xfrm>
              <a:off x="1354680" y="5209200"/>
              <a:ext cx="2251800" cy="793440"/>
            </a:xfrm>
            <a:prstGeom prst="rect">
              <a:avLst/>
            </a:prstGeom>
            <a:noFill/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I </a:t>
              </a:r>
              <a:r>
                <a:rPr b="1" lang="ru-RU" sz="18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демографический переход</a:t>
              </a:r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10" name="Freeform 16"/>
            <p:cNvSpPr/>
            <p:nvPr/>
          </p:nvSpPr>
          <p:spPr>
            <a:xfrm>
              <a:off x="4277520" y="4537800"/>
              <a:ext cx="2107800" cy="698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11" name="Text Box 17"/>
            <p:cNvSpPr/>
            <p:nvPr/>
          </p:nvSpPr>
          <p:spPr>
            <a:xfrm>
              <a:off x="4085640" y="5148360"/>
              <a:ext cx="2395440" cy="793080"/>
            </a:xfrm>
            <a:prstGeom prst="rect">
              <a:avLst/>
            </a:prstGeom>
            <a:noFill/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II </a:t>
              </a:r>
              <a:r>
                <a:rPr b="1" lang="ru-RU" sz="18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демографический переход</a:t>
              </a:r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12" name="Line 18"/>
            <p:cNvSpPr/>
            <p:nvPr/>
          </p:nvSpPr>
          <p:spPr>
            <a:xfrm flipH="1">
              <a:off x="5140080" y="1058400"/>
              <a:ext cx="81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13" name="Text Box 19"/>
            <p:cNvSpPr/>
            <p:nvPr/>
          </p:nvSpPr>
          <p:spPr>
            <a:xfrm>
              <a:off x="7047360" y="2169720"/>
              <a:ext cx="1772640" cy="286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66cc"/>
                  </a:solidFill>
                  <a:uFillTx/>
                  <a:latin typeface="Arial"/>
                  <a:ea typeface="Times New Roman"/>
                </a:rPr>
                <a:t>Условные обозначения</a:t>
              </a:r>
              <a:r>
                <a:rPr b="0" lang="ru-RU" sz="14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:</a:t>
              </a:r>
              <a:endParaRPr b="0" lang="en-US" sz="1400" spc="-1" strike="noStrike">
                <a:solidFill>
                  <a:srgbClr val="0066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В</a:t>
              </a:r>
              <a:r>
                <a:rPr b="0" lang="ru-RU" sz="14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– </a:t>
              </a:r>
              <a:r>
                <a:rPr b="0" lang="ru-RU" sz="16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особенности воспроизводства</a:t>
              </a: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Р</a:t>
              </a:r>
              <a:r>
                <a:rPr b="0" lang="ru-RU" sz="16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– рождаемость</a:t>
              </a: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С </a:t>
              </a:r>
              <a:r>
                <a:rPr b="0" lang="ru-RU" sz="16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– смертность</a:t>
              </a: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ЕП</a:t>
              </a:r>
              <a:r>
                <a:rPr b="0" lang="ru-RU" sz="16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– естественный прирост</a:t>
              </a: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14" name="Text Box 20"/>
            <p:cNvSpPr/>
            <p:nvPr/>
          </p:nvSpPr>
          <p:spPr>
            <a:xfrm>
              <a:off x="5092200" y="2457000"/>
              <a:ext cx="1629000" cy="225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В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– регулир.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</a:rPr>
                <a:t>р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ождаемость,  смертность</a:t>
              </a: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Р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– ?</a:t>
              </a: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С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– ?</a:t>
              </a: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ЕП </a:t>
              </a:r>
              <a:r>
                <a:rPr b="0" lang="ru-RU" sz="16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– ?</a:t>
              </a:r>
              <a:endParaRPr b="0" lang="en-US" sz="16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15" name="Text Box 21"/>
            <p:cNvSpPr/>
            <p:nvPr/>
          </p:nvSpPr>
          <p:spPr>
            <a:xfrm>
              <a:off x="1306800" y="6058440"/>
              <a:ext cx="52221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</p:grpSp>
      <p:sp>
        <p:nvSpPr>
          <p:cNvPr id="116" name="Rectangle 22"/>
          <p:cNvSpPr/>
          <p:nvPr/>
        </p:nvSpPr>
        <p:spPr>
          <a:xfrm>
            <a:off x="179280" y="1446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692520" y="3948120"/>
            <a:ext cx="264168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66cc"/>
                </a:solidFill>
                <a:latin typeface="Arial"/>
                <a:ea typeface="Times New Roman"/>
              </a:rPr>
              <a:t>      </a:t>
            </a:r>
            <a:r>
              <a:rPr b="0" lang="en-US" sz="1100" spc="-1" strike="noStrike">
                <a:solidFill>
                  <a:srgbClr val="0066cc"/>
                </a:solidFill>
                <a:latin typeface="Arial"/>
                <a:ea typeface="Times New Roman"/>
              </a:rPr>
              <a:t>III</a:t>
            </a:r>
            <a:r>
              <a:rPr b="0" lang="ru-RU" sz="1100" spc="-1" strike="noStrike">
                <a:solidFill>
                  <a:srgbClr val="0066cc"/>
                </a:solidFill>
                <a:latin typeface="Arial"/>
                <a:ea typeface="Times New Roman"/>
              </a:rPr>
              <a:t> фаза</a:t>
            </a:r>
            <a:endParaRPr b="0" lang="en-US" sz="11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66cc"/>
                </a:solidFill>
                <a:latin typeface="Arial"/>
                <a:ea typeface="Times New Roman"/>
              </a:rPr>
              <a:t>демографический кризис;</a:t>
            </a:r>
            <a:endParaRPr b="0" lang="en-US" sz="11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66cc"/>
                </a:solidFill>
                <a:latin typeface="Arial"/>
                <a:ea typeface="Times New Roman"/>
              </a:rPr>
              <a:t>поощрение рождаемости (пособия, запрет абортов, поддержка одиноких матерей);</a:t>
            </a:r>
            <a:endParaRPr b="0" lang="en-US" sz="11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66cc"/>
                </a:solidFill>
                <a:latin typeface="Arial"/>
                <a:ea typeface="Times New Roman"/>
              </a:rPr>
              <a:t>«Нам нужна трехдетная семья»</a:t>
            </a:r>
            <a:endParaRPr b="0" lang="en-US" sz="11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66cc"/>
                </a:solidFill>
                <a:latin typeface="Arial"/>
                <a:ea typeface="Times New Roman"/>
              </a:rPr>
              <a:t>«Все лучшее - детям»</a:t>
            </a:r>
            <a:endParaRPr b="0" lang="en-US" sz="1100" spc="-1" strike="noStrike">
              <a:solidFill>
                <a:srgbClr val="0066cc"/>
              </a:solidFill>
              <a:latin typeface="Arial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719280" y="476280"/>
            <a:ext cx="8424720" cy="6192720"/>
            <a:chOff x="719280" y="476280"/>
            <a:chExt cx="8424720" cy="6192720"/>
          </a:xfrm>
        </p:grpSpPr>
        <p:sp>
          <p:nvSpPr>
            <p:cNvPr id="120" name="Line 5"/>
            <p:cNvSpPr/>
            <p:nvPr/>
          </p:nvSpPr>
          <p:spPr>
            <a:xfrm>
              <a:off x="1363320" y="4353840"/>
              <a:ext cx="703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21" name="Line 6"/>
            <p:cNvSpPr/>
            <p:nvPr/>
          </p:nvSpPr>
          <p:spPr>
            <a:xfrm>
              <a:off x="1313640" y="4095360"/>
              <a:ext cx="9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22" name="Line 7"/>
            <p:cNvSpPr/>
            <p:nvPr/>
          </p:nvSpPr>
          <p:spPr>
            <a:xfrm>
              <a:off x="1313640" y="3535200"/>
              <a:ext cx="9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23" name="Line 8"/>
            <p:cNvSpPr/>
            <p:nvPr/>
          </p:nvSpPr>
          <p:spPr>
            <a:xfrm>
              <a:off x="1313640" y="2931840"/>
              <a:ext cx="9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24" name="Line 9"/>
            <p:cNvSpPr/>
            <p:nvPr/>
          </p:nvSpPr>
          <p:spPr>
            <a:xfrm>
              <a:off x="1313640" y="2372040"/>
              <a:ext cx="9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25" name="Line 10"/>
            <p:cNvSpPr/>
            <p:nvPr/>
          </p:nvSpPr>
          <p:spPr>
            <a:xfrm>
              <a:off x="1313640" y="1811880"/>
              <a:ext cx="9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26" name="Line 11"/>
            <p:cNvSpPr/>
            <p:nvPr/>
          </p:nvSpPr>
          <p:spPr>
            <a:xfrm flipV="1">
              <a:off x="1363320" y="1294560"/>
              <a:ext cx="0" cy="4394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27" name="Text Box 12"/>
            <p:cNvSpPr/>
            <p:nvPr/>
          </p:nvSpPr>
          <p:spPr>
            <a:xfrm>
              <a:off x="917280" y="1251720"/>
              <a:ext cx="495360" cy="30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%</a:t>
              </a:r>
              <a:endParaRPr b="0" lang="en-US" sz="11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45</a:t>
              </a:r>
              <a:endParaRPr b="0" lang="en-US" sz="11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35</a:t>
              </a:r>
              <a:endParaRPr b="0" lang="en-US" sz="11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25</a:t>
              </a:r>
              <a:endParaRPr b="0" lang="en-US" sz="11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15</a:t>
              </a:r>
              <a:endParaRPr b="0" lang="en-US" sz="11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 </a:t>
              </a:r>
              <a:r>
                <a:rPr b="0" lang="ru-RU" sz="11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5</a:t>
              </a:r>
              <a:endParaRPr b="0" lang="en-US" sz="11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 flipV="1">
              <a:off x="3593520" y="1380960"/>
              <a:ext cx="0" cy="2972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29" name="Line 14"/>
            <p:cNvSpPr/>
            <p:nvPr/>
          </p:nvSpPr>
          <p:spPr>
            <a:xfrm flipV="1">
              <a:off x="5724360" y="1294560"/>
              <a:ext cx="0" cy="3058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30" name="Line 15"/>
            <p:cNvSpPr/>
            <p:nvPr/>
          </p:nvSpPr>
          <p:spPr>
            <a:xfrm flipV="1">
              <a:off x="7558200" y="1337400"/>
              <a:ext cx="0" cy="3015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31" name="Text Box 16"/>
            <p:cNvSpPr/>
            <p:nvPr/>
          </p:nvSpPr>
          <p:spPr>
            <a:xfrm>
              <a:off x="719280" y="476280"/>
              <a:ext cx="1833480" cy="4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традиционный тип воспроизводства</a:t>
              </a:r>
              <a:endParaRPr b="0" lang="en-US" sz="11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32" name="Text Box 17"/>
            <p:cNvSpPr/>
            <p:nvPr/>
          </p:nvSpPr>
          <p:spPr>
            <a:xfrm>
              <a:off x="7310520" y="519120"/>
              <a:ext cx="1833480" cy="4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современный тип воспроизводства</a:t>
              </a:r>
              <a:endParaRPr b="0" lang="en-US" sz="11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33" name="Text Box 18"/>
            <p:cNvSpPr/>
            <p:nvPr/>
          </p:nvSpPr>
          <p:spPr>
            <a:xfrm>
              <a:off x="1611000" y="6281280"/>
              <a:ext cx="673956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66cc"/>
                  </a:solidFill>
                  <a:latin typeface="Times New Roman"/>
                  <a:ea typeface="Times New Roman"/>
                </a:rPr>
                <a:t>Рис. 4 Ф. Ноутстайн. Теория демографического перехода</a:t>
              </a:r>
              <a:endParaRPr b="0" lang="en-US" sz="12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34" name="Text Box 19"/>
            <p:cNvSpPr/>
            <p:nvPr/>
          </p:nvSpPr>
          <p:spPr>
            <a:xfrm>
              <a:off x="1710360" y="993240"/>
              <a:ext cx="3964320" cy="68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II</a:t>
              </a:r>
              <a:r>
                <a:rPr b="0" lang="ru-RU" sz="14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 тип – «демографическая весна»</a:t>
              </a:r>
              <a:endParaRPr b="0" lang="en-US" sz="14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   </a:t>
              </a:r>
              <a:r>
                <a:rPr b="0" lang="ru-RU" sz="14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Африка                           Азия, Лат.Америка</a:t>
              </a:r>
              <a:endParaRPr b="0" lang="en-US" sz="14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35" name="Text Box 20"/>
            <p:cNvSpPr/>
            <p:nvPr/>
          </p:nvSpPr>
          <p:spPr>
            <a:xfrm>
              <a:off x="5674680" y="907200"/>
              <a:ext cx="1932480" cy="12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I</a:t>
              </a:r>
              <a:r>
                <a:rPr b="0" lang="ru-RU" sz="14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 тип – «демографическая зима»</a:t>
              </a:r>
              <a:endParaRPr b="0" lang="en-US" sz="14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СНГ, Сев.Америка, Австралия, Япония, Новая Зеландия</a:t>
              </a:r>
              <a:endParaRPr b="0" lang="en-US" sz="11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36" name="Text Box 21"/>
            <p:cNvSpPr/>
            <p:nvPr/>
          </p:nvSpPr>
          <p:spPr>
            <a:xfrm>
              <a:off x="1512000" y="4052160"/>
              <a:ext cx="4014000" cy="16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         </a:t>
              </a:r>
              <a:r>
                <a:rPr b="0" lang="en-US" sz="11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I</a:t>
              </a:r>
              <a:r>
                <a:rPr b="0" lang="ru-RU" sz="11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 фаза                                    </a:t>
              </a:r>
              <a:r>
                <a:rPr b="0" lang="en-US" sz="11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II</a:t>
              </a:r>
              <a:r>
                <a:rPr b="0" lang="ru-RU" sz="11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 фаза</a:t>
              </a:r>
              <a:endParaRPr b="0" lang="en-US" sz="11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демографический взрыв;</a:t>
              </a:r>
              <a:endParaRPr b="0" lang="en-US" sz="11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ограничение рождаемости (штрафы, выселения, снижение зарплаты, пропаганда);</a:t>
              </a:r>
              <a:endParaRPr b="0" lang="en-US" sz="11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«Одна семья – один ребенок» - Китай</a:t>
              </a:r>
              <a:endParaRPr b="0" lang="en-US" sz="1100" spc="-1" strike="noStrike">
                <a:solidFill>
                  <a:srgbClr val="0066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«Нас двое, нам - двоих» - Индия</a:t>
              </a:r>
              <a:endParaRPr b="0" lang="en-US" sz="11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37" name="Line 22"/>
            <p:cNvSpPr/>
            <p:nvPr/>
          </p:nvSpPr>
          <p:spPr>
            <a:xfrm>
              <a:off x="5724360" y="4353840"/>
              <a:ext cx="0" cy="137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1363320" y="1838160"/>
              <a:ext cx="6392880" cy="191232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1363320" y="2199600"/>
              <a:ext cx="6439680" cy="176652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40" name="Text Box 25"/>
            <p:cNvSpPr/>
            <p:nvPr/>
          </p:nvSpPr>
          <p:spPr>
            <a:xfrm>
              <a:off x="817920" y="5947920"/>
              <a:ext cx="7978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           </a:t>
              </a:r>
              <a:r>
                <a:rPr b="0" lang="ru-RU" sz="1100" spc="-1" strike="noStrike">
                  <a:solidFill>
                    <a:srgbClr val="0066cc"/>
                  </a:solidFill>
                  <a:latin typeface="Arial"/>
                  <a:ea typeface="Times New Roman"/>
                </a:rPr>
                <a:t>Рождаемость                                     Смертность                            Естественный прирост</a:t>
              </a:r>
              <a:endParaRPr b="0" lang="en-US" sz="11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41" name="Line 26"/>
            <p:cNvSpPr/>
            <p:nvPr/>
          </p:nvSpPr>
          <p:spPr>
            <a:xfrm>
              <a:off x="966600" y="6077160"/>
              <a:ext cx="446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3791880" y="6077160"/>
              <a:ext cx="495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43" name="Line 28"/>
            <p:cNvSpPr/>
            <p:nvPr/>
          </p:nvSpPr>
          <p:spPr>
            <a:xfrm flipH="1">
              <a:off x="1362960" y="1854720"/>
              <a:ext cx="297000" cy="3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44" name="Line 29"/>
            <p:cNvSpPr/>
            <p:nvPr/>
          </p:nvSpPr>
          <p:spPr>
            <a:xfrm flipH="1">
              <a:off x="1610640" y="1854720"/>
              <a:ext cx="34668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45" name="Line 30"/>
            <p:cNvSpPr/>
            <p:nvPr/>
          </p:nvSpPr>
          <p:spPr>
            <a:xfrm flipH="1">
              <a:off x="1858680" y="1854720"/>
              <a:ext cx="34668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46" name="Line 31"/>
            <p:cNvSpPr/>
            <p:nvPr/>
          </p:nvSpPr>
          <p:spPr>
            <a:xfrm flipH="1">
              <a:off x="2106720" y="1854720"/>
              <a:ext cx="396000" cy="38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47" name="Line 32"/>
            <p:cNvSpPr/>
            <p:nvPr/>
          </p:nvSpPr>
          <p:spPr>
            <a:xfrm flipH="1">
              <a:off x="2354040" y="1897920"/>
              <a:ext cx="396360" cy="38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48" name="Line 33"/>
            <p:cNvSpPr/>
            <p:nvPr/>
          </p:nvSpPr>
          <p:spPr>
            <a:xfrm flipH="1">
              <a:off x="2552760" y="1941120"/>
              <a:ext cx="445680" cy="43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49" name="Line 34"/>
            <p:cNvSpPr/>
            <p:nvPr/>
          </p:nvSpPr>
          <p:spPr>
            <a:xfrm flipH="1">
              <a:off x="2701440" y="2027160"/>
              <a:ext cx="495360" cy="47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50" name="Line 35"/>
            <p:cNvSpPr/>
            <p:nvPr/>
          </p:nvSpPr>
          <p:spPr>
            <a:xfrm flipH="1">
              <a:off x="2750400" y="2156400"/>
              <a:ext cx="594360" cy="55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51" name="Line 36"/>
            <p:cNvSpPr/>
            <p:nvPr/>
          </p:nvSpPr>
          <p:spPr>
            <a:xfrm flipH="1">
              <a:off x="2849760" y="2242800"/>
              <a:ext cx="644040" cy="64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52" name="Line 37"/>
            <p:cNvSpPr/>
            <p:nvPr/>
          </p:nvSpPr>
          <p:spPr>
            <a:xfrm flipH="1">
              <a:off x="2899080" y="2414880"/>
              <a:ext cx="693720" cy="68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53" name="Line 38"/>
            <p:cNvSpPr/>
            <p:nvPr/>
          </p:nvSpPr>
          <p:spPr>
            <a:xfrm flipH="1">
              <a:off x="3047760" y="2587320"/>
              <a:ext cx="644040" cy="64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54" name="Line 39"/>
            <p:cNvSpPr/>
            <p:nvPr/>
          </p:nvSpPr>
          <p:spPr>
            <a:xfrm flipH="1">
              <a:off x="3196440" y="2716560"/>
              <a:ext cx="644040" cy="60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55" name="Line 40"/>
            <p:cNvSpPr/>
            <p:nvPr/>
          </p:nvSpPr>
          <p:spPr>
            <a:xfrm flipH="1">
              <a:off x="3394800" y="2845800"/>
              <a:ext cx="644040" cy="64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56" name="Line 41"/>
            <p:cNvSpPr/>
            <p:nvPr/>
          </p:nvSpPr>
          <p:spPr>
            <a:xfrm flipH="1">
              <a:off x="3642840" y="2975040"/>
              <a:ext cx="544680" cy="55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57" name="Line 42"/>
            <p:cNvSpPr/>
            <p:nvPr/>
          </p:nvSpPr>
          <p:spPr>
            <a:xfrm flipH="1">
              <a:off x="3890880" y="3104280"/>
              <a:ext cx="495360" cy="47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58" name="Line 43"/>
            <p:cNvSpPr/>
            <p:nvPr/>
          </p:nvSpPr>
          <p:spPr>
            <a:xfrm flipH="1">
              <a:off x="4187520" y="3233520"/>
              <a:ext cx="396360" cy="38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59" name="Line 44"/>
            <p:cNvSpPr/>
            <p:nvPr/>
          </p:nvSpPr>
          <p:spPr>
            <a:xfrm flipH="1">
              <a:off x="4435560" y="3319560"/>
              <a:ext cx="34668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60" name="Line 45"/>
            <p:cNvSpPr/>
            <p:nvPr/>
          </p:nvSpPr>
          <p:spPr>
            <a:xfrm flipH="1">
              <a:off x="4683240" y="3405960"/>
              <a:ext cx="297000" cy="3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61" name="Line 46"/>
            <p:cNvSpPr/>
            <p:nvPr/>
          </p:nvSpPr>
          <p:spPr>
            <a:xfrm flipH="1">
              <a:off x="4881960" y="3448800"/>
              <a:ext cx="297360" cy="3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62" name="Line 47"/>
            <p:cNvSpPr/>
            <p:nvPr/>
          </p:nvSpPr>
          <p:spPr>
            <a:xfrm flipH="1">
              <a:off x="5129640" y="3535200"/>
              <a:ext cx="19800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63" name="Line 48"/>
            <p:cNvSpPr/>
            <p:nvPr/>
          </p:nvSpPr>
          <p:spPr>
            <a:xfrm flipH="1">
              <a:off x="5377680" y="3578400"/>
              <a:ext cx="19800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64" name="Line 49"/>
            <p:cNvSpPr/>
            <p:nvPr/>
          </p:nvSpPr>
          <p:spPr>
            <a:xfrm flipH="1">
              <a:off x="5575680" y="3621240"/>
              <a:ext cx="14832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65" name="Line 50"/>
            <p:cNvSpPr/>
            <p:nvPr/>
          </p:nvSpPr>
          <p:spPr>
            <a:xfrm flipH="1">
              <a:off x="5774040" y="3621240"/>
              <a:ext cx="19800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66" name="Line 51"/>
            <p:cNvSpPr/>
            <p:nvPr/>
          </p:nvSpPr>
          <p:spPr>
            <a:xfrm flipH="1">
              <a:off x="6021720" y="3664440"/>
              <a:ext cx="14832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67" name="Line 52"/>
            <p:cNvSpPr/>
            <p:nvPr/>
          </p:nvSpPr>
          <p:spPr>
            <a:xfrm flipH="1">
              <a:off x="6666120" y="3707640"/>
              <a:ext cx="14832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68" name="Line 53"/>
            <p:cNvSpPr/>
            <p:nvPr/>
          </p:nvSpPr>
          <p:spPr>
            <a:xfrm flipH="1">
              <a:off x="6913800" y="3707640"/>
              <a:ext cx="14832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69" name="Line 54"/>
            <p:cNvSpPr/>
            <p:nvPr/>
          </p:nvSpPr>
          <p:spPr>
            <a:xfrm flipH="1">
              <a:off x="7112160" y="3707640"/>
              <a:ext cx="14832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70" name="Line 55"/>
            <p:cNvSpPr/>
            <p:nvPr/>
          </p:nvSpPr>
          <p:spPr>
            <a:xfrm flipH="1">
              <a:off x="7310520" y="3750480"/>
              <a:ext cx="14832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71" name="Line 56"/>
            <p:cNvSpPr/>
            <p:nvPr/>
          </p:nvSpPr>
          <p:spPr>
            <a:xfrm flipH="1">
              <a:off x="7508520" y="3750480"/>
              <a:ext cx="14832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72" name="Line 57"/>
            <p:cNvSpPr/>
            <p:nvPr/>
          </p:nvSpPr>
          <p:spPr>
            <a:xfrm flipH="1">
              <a:off x="6220080" y="3664440"/>
              <a:ext cx="14832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73" name="Line 58"/>
            <p:cNvSpPr/>
            <p:nvPr/>
          </p:nvSpPr>
          <p:spPr>
            <a:xfrm flipH="1">
              <a:off x="6418080" y="3707640"/>
              <a:ext cx="14832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  <p:sp>
          <p:nvSpPr>
            <p:cNvPr id="174" name="Rectangle 59"/>
            <p:cNvSpPr/>
            <p:nvPr/>
          </p:nvSpPr>
          <p:spPr>
            <a:xfrm>
              <a:off x="5873040" y="5990760"/>
              <a:ext cx="693720" cy="172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cc"/>
                </a:solidFill>
                <a:latin typeface="Arial"/>
              </a:endParaRPr>
            </a:p>
          </p:txBody>
        </p:sp>
      </p:grpSp>
      <p:sp>
        <p:nvSpPr>
          <p:cNvPr id="175" name="Rectangle 60"/>
          <p:cNvSpPr/>
          <p:nvPr/>
        </p:nvSpPr>
        <p:spPr>
          <a:xfrm>
            <a:off x="0" y="81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76" name="Rectangle 61"/>
          <p:cNvSpPr/>
          <p:nvPr/>
        </p:nvSpPr>
        <p:spPr>
          <a:xfrm>
            <a:off x="0" y="81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5f59d"/>
          </a:solidFill>
          <a:ln w="9360">
            <a:solidFill>
              <a:srgbClr val="6600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Численность населения Земли</a:t>
            </a:r>
            <a:endParaRPr b="0" lang="en-US" sz="40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583360" y="2204640"/>
            <a:ext cx="385056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100" spc="-1" strike="noStrike">
                <a:solidFill>
                  <a:srgbClr val="0066cc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66cc"/>
                </a:solidFill>
                <a:latin typeface="Arial"/>
              </a:rPr>
              <a:t>                                                 </a:t>
            </a: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51" name="Picture 5" descr="рис.1.Увеличение численности на миллиард"/>
          <p:cNvPicPr/>
          <p:nvPr/>
        </p:nvPicPr>
        <p:blipFill>
          <a:blip r:embed="rId1"/>
          <a:stretch/>
        </p:blipFill>
        <p:spPr>
          <a:xfrm>
            <a:off x="571680" y="1571760"/>
            <a:ext cx="5976720" cy="44431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6012000" y="2708280"/>
            <a:ext cx="2736720" cy="916920"/>
          </a:xfrm>
          <a:prstGeom prst="rect">
            <a:avLst/>
          </a:prstGeom>
          <a:solidFill>
            <a:srgbClr val="e0cbe7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Arial"/>
              </a:rPr>
              <a:t>Быстрый рост численности населения Земли</a:t>
            </a: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6407280" y="4724280"/>
            <a:ext cx="2736720" cy="642600"/>
          </a:xfrm>
          <a:prstGeom prst="rect">
            <a:avLst/>
          </a:prstGeom>
          <a:solidFill>
            <a:srgbClr val="e0cbe7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ОГРОМНЫЕ ПРОБЛЕМЫ…</a:t>
            </a: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7596360" y="3645000"/>
            <a:ext cx="287280" cy="1008000"/>
          </a:xfrm>
          <a:prstGeom prst="downArrow">
            <a:avLst>
              <a:gd name="adj1" fmla="val 50000"/>
              <a:gd name="adj2" fmla="val 87719"/>
            </a:avLst>
          </a:prstGeom>
          <a:solidFill>
            <a:srgbClr val="60597b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116000" y="6165720"/>
            <a:ext cx="403236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2006 ГОД – 6 500 000 000</a:t>
            </a: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97040"/>
          </a:xfrm>
          <a:prstGeom prst="rect">
            <a:avLst/>
          </a:prstGeom>
          <a:solidFill>
            <a:srgbClr val="f5f59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Численность населения Земли</a:t>
            </a:r>
            <a:endParaRPr b="0" lang="en-US" sz="4000" spc="-1" strike="noStrike">
              <a:solidFill>
                <a:srgbClr val="6600cc"/>
              </a:solidFill>
              <a:latin typeface="Arial"/>
            </a:endParaRPr>
          </a:p>
        </p:txBody>
      </p:sp>
      <p:pic>
        <p:nvPicPr>
          <p:cNvPr id="57" name="Picture 6" descr="Динамика численности населения"/>
          <p:cNvPicPr/>
          <p:nvPr/>
        </p:nvPicPr>
        <p:blipFill>
          <a:blip r:embed="rId1"/>
          <a:stretch/>
        </p:blipFill>
        <p:spPr>
          <a:xfrm>
            <a:off x="900000" y="620640"/>
            <a:ext cx="7345440" cy="53323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468360" y="1484280"/>
            <a:ext cx="31669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Насколько достоверны цифры, свидетельствующие о количестве населения?</a:t>
            </a: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0" y="6035760"/>
            <a:ext cx="8893080" cy="119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Monotype Corsiva"/>
              </a:rPr>
              <a:t>“</a:t>
            </a:r>
            <a:r>
              <a:rPr b="1" lang="ru-RU" sz="2400" spc="-1" strike="noStrike">
                <a:solidFill>
                  <a:srgbClr val="0066cc"/>
                </a:solidFill>
                <a:latin typeface="Monotype Corsiva"/>
              </a:rPr>
              <a:t>Зловещий смысл таит в себе стремящаяся к вертикали кривая численности населения земного шара”.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5f59d"/>
          </a:solidFill>
          <a:ln w="9360">
            <a:solidFill>
              <a:srgbClr val="6600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Страны-рекордсмены по численности населения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62" name="Picture 5" descr="question_mar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242100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900000" y="5084640"/>
            <a:ext cx="7417080" cy="82548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Китай, Индия, США, Индонейзия, Бразилия, Пакистан, Бангладеш, Россия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5f59d"/>
          </a:solidFill>
          <a:ln w="9360">
            <a:solidFill>
              <a:srgbClr val="6600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Arial"/>
              </a:rPr>
              <a:t>«Золотой миллиард»</a:t>
            </a: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Arial"/>
              </a:rPr>
              <a:t>…</a:t>
            </a:r>
            <a:r>
              <a:rPr b="0" lang="ru-RU" sz="2000" spc="-1" strike="noStrike">
                <a:solidFill>
                  <a:srgbClr val="0066cc"/>
                </a:solidFill>
                <a:latin typeface="Arial"/>
              </a:rPr>
              <a:t>в последние годы появился термин “золотой миллиард” - это население планеты, которому сегодня всего (сырья, энергии, денег) хватает. </a:t>
            </a: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Arial"/>
              </a:rPr>
              <a:t>Где же живет этот миллиард? </a:t>
            </a: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Arial"/>
              </a:rPr>
              <a:t>Это совокупное население:</a:t>
            </a: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Arial"/>
              </a:rPr>
              <a:t>США (280 млн.ч.), </a:t>
            </a: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Arial"/>
              </a:rPr>
              <a:t>Западной Европы (600 млн.ч.)</a:t>
            </a: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Arial"/>
              </a:rPr>
              <a:t>Японии (126 млн.ч.). </a:t>
            </a: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Arial"/>
              </a:rPr>
              <a:t>Энергии они потребляют 50% мирового производства и создают 75% общей массы отходов. Остальное население мира уже сегодня за бортом этого благополучия. </a:t>
            </a: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Arial"/>
              </a:rPr>
              <a:t>Им уже сегодня чего-то не хватает (работы, пищи, жилья, ресурсов и т.д.). </a:t>
            </a: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3132000" y="2781360"/>
            <a:ext cx="503280" cy="649080"/>
          </a:xfrm>
          <a:prstGeom prst="downArrow">
            <a:avLst>
              <a:gd name="adj1" fmla="val 50000"/>
              <a:gd name="adj2" fmla="val 32242"/>
            </a:avLst>
          </a:prstGeom>
          <a:solidFill>
            <a:srgbClr val="60597b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724360" y="2565360"/>
            <a:ext cx="2901960" cy="228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Сегодня в мире голодают 650 млн. человек, умирают от голода 35 тыс. человек ежедневно, 12 млн. человек - ежегодно. Голод сдерживает рост населения. </a:t>
            </a: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68" name="Picture 7" descr="1247572458_944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2276640"/>
            <a:ext cx="1057320" cy="1056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5f59d"/>
          </a:solidFill>
          <a:ln w="9360">
            <a:solidFill>
              <a:srgbClr val="6600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Воспроизводство населения мира</a:t>
            </a:r>
            <a:endParaRPr b="0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cc"/>
                </a:solidFill>
                <a:uFillTx/>
                <a:latin typeface="Times New Roman"/>
              </a:rPr>
              <a:t>Воспроизводство населения</a:t>
            </a:r>
            <a:r>
              <a:rPr b="0" lang="ru-RU" sz="3200" spc="-1" strike="noStrike">
                <a:solidFill>
                  <a:srgbClr val="0066cc"/>
                </a:solidFill>
                <a:latin typeface="Times New Roman"/>
              </a:rPr>
              <a:t> – совокупность процессов рождаемости, смертности и естественного прироста, обеспечивающие непрерывную смену поколений.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619280" y="4437000"/>
            <a:ext cx="5688000" cy="703440"/>
          </a:xfrm>
          <a:prstGeom prst="rect">
            <a:avLst/>
          </a:prstGeom>
          <a:solidFill>
            <a:srgbClr val="90e781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Р</a:t>
            </a: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  -  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С </a:t>
            </a:r>
            <a:r>
              <a:rPr b="1" lang="ru-RU" sz="40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= 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cc"/>
                </a:solidFill>
                <a:latin typeface="Arial"/>
              </a:rPr>
              <a:t>прирост</a:t>
            </a: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 (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cc"/>
                </a:solidFill>
                <a:latin typeface="Arial"/>
              </a:rPr>
              <a:t>убыль</a:t>
            </a: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5f59d"/>
          </a:solidFill>
          <a:ln w="9360">
            <a:solidFill>
              <a:srgbClr val="6600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На что проще повлиять?</a:t>
            </a:r>
            <a:endParaRPr b="0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476360" y="3573360"/>
            <a:ext cx="5688000" cy="703440"/>
          </a:xfrm>
          <a:prstGeom prst="rect">
            <a:avLst/>
          </a:prstGeom>
          <a:solidFill>
            <a:srgbClr val="90e781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Р</a:t>
            </a: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  -  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С </a:t>
            </a:r>
            <a:r>
              <a:rPr b="1" lang="ru-RU" sz="40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= 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cc"/>
                </a:solidFill>
                <a:latin typeface="Arial"/>
              </a:rPr>
              <a:t>прирост</a:t>
            </a: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 (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cc"/>
                </a:solidFill>
                <a:latin typeface="Arial"/>
              </a:rPr>
              <a:t>убыль</a:t>
            </a: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11280" y="2060640"/>
            <a:ext cx="2160360" cy="916920"/>
          </a:xfrm>
          <a:prstGeom prst="rect">
            <a:avLst/>
          </a:prstGeom>
          <a:solidFill>
            <a:srgbClr val="b5f5d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Социально-экономические факторы</a:t>
            </a: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5364000" y="2060640"/>
            <a:ext cx="2160720" cy="916920"/>
          </a:xfrm>
          <a:prstGeom prst="rect">
            <a:avLst/>
          </a:prstGeom>
          <a:solidFill>
            <a:srgbClr val="b5f5d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Природно-биологические факторы</a:t>
            </a: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843280" y="5373720"/>
            <a:ext cx="2305080" cy="642600"/>
          </a:xfrm>
          <a:prstGeom prst="rect">
            <a:avLst/>
          </a:prstGeom>
          <a:solidFill>
            <a:srgbClr val="b5f5d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Демографические факторы</a:t>
            </a: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>
            <a:off x="2771640" y="2565360"/>
            <a:ext cx="648000" cy="1008000"/>
          </a:xfrm>
          <a:prstGeom prst="line">
            <a:avLst/>
          </a:prstGeom>
          <a:ln w="93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 flipH="1">
            <a:off x="4643280" y="2492280"/>
            <a:ext cx="720720" cy="1008000"/>
          </a:xfrm>
          <a:prstGeom prst="line">
            <a:avLst/>
          </a:prstGeom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 flipV="1">
            <a:off x="3924360" y="4221000"/>
            <a:ext cx="0" cy="1152720"/>
          </a:xfrm>
          <a:prstGeom prst="line">
            <a:avLst/>
          </a:prstGeom>
          <a:ln w="93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5f59d"/>
          </a:solidFill>
          <a:ln w="9360">
            <a:solidFill>
              <a:srgbClr val="6600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Arial"/>
              </a:rPr>
              <a:t>Что влияет на…</a:t>
            </a: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908000" y="5373720"/>
            <a:ext cx="936720" cy="764280"/>
          </a:xfrm>
          <a:prstGeom prst="rect">
            <a:avLst/>
          </a:prstGeom>
          <a:solidFill>
            <a:srgbClr val="b5f5d2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6156360" y="5300640"/>
            <a:ext cx="936720" cy="764280"/>
          </a:xfrm>
          <a:prstGeom prst="rect">
            <a:avLst/>
          </a:prstGeom>
          <a:solidFill>
            <a:srgbClr val="b5f5d2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85" name="Picture 13" descr="606509_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628640"/>
            <a:ext cx="1728720" cy="14130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4"/>
          <p:cNvSpPr/>
          <p:nvPr/>
        </p:nvSpPr>
        <p:spPr>
          <a:xfrm>
            <a:off x="1979640" y="2997360"/>
            <a:ext cx="792000" cy="2303280"/>
          </a:xfrm>
          <a:prstGeom prst="downArrow">
            <a:avLst>
              <a:gd name="adj1" fmla="val 50000"/>
              <a:gd name="adj2" fmla="val 72705"/>
            </a:avLst>
          </a:prstGeom>
          <a:solidFill>
            <a:srgbClr val="60597b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87" name="Picture 16" descr="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24720" y="1628640"/>
            <a:ext cx="1433520" cy="187344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17"/>
          <p:cNvSpPr/>
          <p:nvPr/>
        </p:nvSpPr>
        <p:spPr>
          <a:xfrm>
            <a:off x="6227640" y="2997360"/>
            <a:ext cx="792360" cy="2303280"/>
          </a:xfrm>
          <a:prstGeom prst="downArrow">
            <a:avLst>
              <a:gd name="adj1" fmla="val 50000"/>
              <a:gd name="adj2" fmla="val 72672"/>
            </a:avLst>
          </a:prstGeom>
          <a:solidFill>
            <a:srgbClr val="60597b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5f59d"/>
          </a:solidFill>
          <a:ln w="9360">
            <a:solidFill>
              <a:srgbClr val="6600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Arial"/>
              </a:rPr>
              <a:t>Демографическая политика - </a:t>
            </a: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система мер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(административных, экономических, пропагандистских, социальных…), предпринимаемых государством для изменения рождаемости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91" name="Picture 5" descr="10_1_o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0000" y="4221000"/>
            <a:ext cx="1625400" cy="240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1250228604_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3716280"/>
            <a:ext cx="1297080" cy="1954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%D0%94%D0%B5%D1%82%D1%81%D0%B0%D0%B4-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164360" y="3716280"/>
            <a:ext cx="1482840" cy="2232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Deti4-25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835280" y="4941720"/>
            <a:ext cx="1512720" cy="1090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s320x240"/>
          <p:cNvPicPr/>
          <p:nvPr/>
        </p:nvPicPr>
        <p:blipFill>
          <a:blip r:embed="rId9"/>
          <a:stretch/>
        </p:blipFill>
        <p:spPr>
          <a:xfrm>
            <a:off x="5651640" y="4869000"/>
            <a:ext cx="1411200" cy="1065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1:33:24Z</dcterms:created>
  <dc:creator>USER</dc:creator>
  <dc:description/>
  <dc:language>en-US</dc:language>
  <cp:lastModifiedBy>USER</cp:lastModifiedBy>
  <dcterms:modified xsi:type="dcterms:W3CDTF">2010-09-13T10:50:41Z</dcterms:modified>
  <cp:revision>26</cp:revision>
  <dc:subject/>
  <dc:title>География населения мира</dc:title>
</cp:coreProperties>
</file>