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5A1-D8CA-4572-958C-5643E9FF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5DC-559E-4655-BD02-F61C105E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260-B360-415C-B8A2-17DF90A3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C0A-3840-454F-86BA-3B11A272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64AD-97FD-433A-9BAD-ABF5052C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74C-8AE3-4392-85F7-999B33DC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A963-D749-46AE-8718-C44D5CE6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A888-031B-4272-AF31-88676240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53FC-D599-43C4-8F18-B146C5A4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A4CF-45DE-4B69-9977-B1C5AD0D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BF4D-82D1-4003-BF49-C7DD6EB4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C75-F57D-4877-8006-1BE7FD11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8023-1C49-4065-986F-E5E39753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CEC9-BDF1-49A3-B041-27F5889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17CB-5228-4622-AD89-B41D0FD6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00BC-2E6A-4B30-8486-8858207F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ABC1-5A5E-4F07-AD4F-BCC29BAB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2F028-1FF6-4C09-905F-3962285C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0EEAE-185A-4E55-B91B-EACA17AD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C1A2D-00B6-4F18-9961-7E70AA8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9743F-076F-4A9D-A892-61A40B0E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0ECD8-2400-49FF-940B-C57E3A49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B27-E99B-46D9-807D-A6485D3E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0904E-D70B-4770-B08D-F822D6DE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A8359-C10F-4EE1-9BC9-A6A4438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F8ECD-4FF6-4FCF-A509-70B5E6C2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C976A-8B8C-4891-A203-814F623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DF484-74BC-4D01-9CAA-D332AD39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C948A-2B08-4BA9-B5A7-B0268D6E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DBDD7-C3B9-4069-A6E1-4F8254BB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544F7-C14A-4B79-A050-C996417D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0A594-7F83-43F0-8405-564A16F9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98DC-FC67-44A3-9291-25505127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C8A-CC2A-4D26-BA9D-3774E36B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0C2BE-42D0-4182-8796-A5BE9D4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8FB40-7D32-4547-A8C6-6B4129DF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3C981-39CA-45E0-B516-0ABF4E63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6217-FC45-4BEB-9027-9D8EDA3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6E288-4437-4574-89E1-FE0D73BD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958EB-06E0-4C8B-AB97-B86F096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60B0-A2EF-4F15-97B3-DB25F362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E7CB-B874-4EEA-B3CC-CC4D9426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CCE3-C45E-4BC2-BE7D-34A82973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258B4-287E-453A-8911-CD608B68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9F2-F739-420A-9B97-40F71AEE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82CFA-E5E8-4DCE-84DB-92093166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99E31-F09B-45B8-B93B-1EFB5FFF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E7F5A-2586-4BFE-B767-2628313E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C78A3-2056-490E-ADF4-2546C133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ABEFA-3A5D-4B2C-BD8C-B3792918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9991-FF67-40D7-8F2F-5C2F720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C2961-854A-45AF-8982-739B3CF5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87F5-C029-406A-9925-918E846E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6198B-7CEC-44EE-AE70-F6E3F6FF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2E4A-6FB1-4EB0-849C-B23E13B7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65A-3C53-42B1-B368-B05092C9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D555-F869-4583-AFC6-3AE02A9F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87873-6A55-47B2-81E3-02E3D1D9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033C3-D19E-439D-BEA3-C21C72AA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3141-1C8E-4662-BF83-D5E062BC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E736-4CC0-4957-9C7B-E9088EB4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2FB9-810F-407A-A9C7-A88BA59B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F3F7B-15C1-4470-B0FD-51EEE51F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6BBC1-8D17-4D45-B64E-C34A330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7157-D14B-4D94-B8FE-C3CA30FF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7B745-5567-4057-80A5-B5B6723B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113-DB80-4EEE-8D24-E0C2A3F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30DAF-2C71-4248-8FD0-C23DCDE1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9F19A-0E83-4EB6-B33C-63314713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351BA-8F6E-4490-89A0-94665BF2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07002-186F-4C3F-AC73-F5C9D71D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6EE0B-715E-4BB9-8CB2-DE1E09AC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ACD7F-858A-4743-B0B2-734010DE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3D1CA-C873-4052-94AA-668DD5C6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7D010-1BE9-4B21-A40E-5ECBA6D3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FF07A-261C-4A61-BD10-BE63010C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82927-0507-4BAB-AACF-913D69FA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2F7-74ED-419A-A8A0-B43B019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2F9CB-C879-4B89-9475-5CB792DB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12D22-6B00-404A-85DF-877276DC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328BD-2CCA-4411-B8B7-1CC943C5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FD880-3422-4421-AEFE-3083FF2F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149CB-A21E-4F1E-BBA7-D5E64103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063C2C-7B11-4BB5-A9EE-5CF1B8E6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5E471B-2965-47F7-BCCE-69A82DE1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F9B790-A101-4995-A7E9-D874D542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92C883-3944-4A8C-B598-CC74EE57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216097-CB83-46DB-9D80-D0094BF7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63B-D1C2-403F-AB89-775237F2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6A0A35-8333-4434-AB8E-D400F93B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355EB-534B-4E13-BC05-5077C795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DD7F79-4BF0-4643-A711-9B2913FC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720D7-563B-4C22-9D70-37776D47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181063-CDAB-46DE-A5DB-3242EBCC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DA983D-5E97-4E07-874B-7FB416C0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0D068-42C3-40B5-8895-668780A6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DB5A-80CF-4568-99D3-BE5E493FF15A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BB53-2481-46E7-8026-C923C81EBDF2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A44C-ED45-41EC-8829-72D57E9C0984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1EDB-E0B9-48A7-954F-7CA5CE711BE1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D1B7-63A2-4AD4-B494-2B737B5C4237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19FE-B79C-409F-A4FA-0E8B93050DFC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2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F8FD-ADA4-40D0-AFF2-0FC631DEFCCC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CC9C-8E7A-4232-893A-EDC499FEC946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images.google.com/imgres?imgurl=http://www.russia-today.ru/2007/no_10/pict/10_1_o40.jpg&amp;imgrefurl=http://www.russia-today.ru/2007/no_10/10_1_of_june.htm&amp;usg=__GMZTiAZy-u82Ei_Dcb3azpAs6NM=&amp;h=532&amp;w=358&amp;sz=43&amp;hl=ru&amp;start=19&amp;um=1&amp;tbnid=M-a7G-X4wyevIM:&amp;tbnh=132&amp;tbnw=89&amp;prev=/images%3Fq%3D%25D0%25B4%25D0%25B5%25D0%25BC%25D0%25BE%25D0%25B3%25D1%2580%25D0%25B0%25D1%2584%25D0%25B8%25D1%2587%25D0%25B5%25D1%2581%25D0%25BA%25D0%25B0%25D1%258F%2B%25D0%25BF%25D0%25BE%25D0%25BB%25D0%25B8%25D1%2582%25D0%25B8%25D0%25BA%25D0%25B0%26hl%3Dru%26lr%3D%26um%3D1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m/imgres?imgurl=http://actualcomment.ru/userdata/1250228604_1.jpg&amp;imgrefurl=http://actualcomment.ru/theme/694/&amp;usg=__WLjs9zQvKZAYvs3RNTZCpu0dACw=&amp;h=376&amp;w=250&amp;sz=29&amp;hl=ru&amp;start=26&amp;um=1&amp;tbnid=6wDrFrgP7plXgM:&amp;tbnh=122&amp;tbnw=81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20%26um%3D1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www.admportal.tula.ru/2008/UprPressSlug/News/20081112/&#1044;&#1077;&#1090;&#1089;&#1072;&#1076;-4.jpg&amp;imgrefurl=http://www.admportal.tula.ru/news/7249.aspx&amp;usg=__zpfuPiKoTL09p3TKLRneJwMioOo=&amp;h=899&amp;w=600&amp;sz=74&amp;hl=ru&amp;start=65&amp;um=1&amp;tbnid=7Tz0B5uxfQz-hM:&amp;tbnh=146&amp;tbnw=97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60%26um%3D1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www.demographia.ru/UserFiles/Deti4-250.jpg&amp;imgrefurl=http://www.demographia.ru/articles_N/index.html%3FidR%3D5%26idArt%3D769&amp;usg=__V7VRkY23mrCqakIshBryyPt3uRk=&amp;h=180&amp;w=250&amp;sz=17&amp;hl=ru&amp;start=78&amp;um=1&amp;tbnid=zAae2ZM_EPjQGM:&amp;tbnh=80&amp;tbnw=111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60%26um%3D1" TargetMode="External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826920" y="2637000"/>
            <a:ext cx="2016360" cy="398880"/>
          </a:xfrm>
          <a:prstGeom prst="rect">
            <a:avLst/>
          </a:prstGeom>
          <a:solidFill>
            <a:srgbClr val="c0504d"/>
          </a:solidFill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0d19"/>
                </a:solidFill>
                <a:latin typeface="Arial"/>
              </a:rPr>
              <a:t>Рожда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6300720" y="2637000"/>
            <a:ext cx="2016360" cy="398880"/>
          </a:xfrm>
          <a:prstGeom prst="rect">
            <a:avLst/>
          </a:prstGeom>
          <a:solidFill>
            <a:srgbClr val="4f81bd"/>
          </a:solidFill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11280" y="1197000"/>
            <a:ext cx="165708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д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843280" y="1125360"/>
            <a:ext cx="1657440" cy="64260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ятость женщ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250920" y="4005360"/>
            <a:ext cx="1657080" cy="91692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раст вступления в бр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332000" y="5229360"/>
            <a:ext cx="180000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бан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564000" y="4581360"/>
            <a:ext cx="16574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3564000" y="2637000"/>
            <a:ext cx="1657440" cy="642600"/>
          </a:xfrm>
          <a:prstGeom prst="rect">
            <a:avLst/>
          </a:prstGeom>
          <a:solidFill>
            <a:srgbClr val="7ec234"/>
          </a:solidFill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вень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2"/>
          <p:cNvSpPr/>
          <p:nvPr/>
        </p:nvSpPr>
        <p:spPr>
          <a:xfrm flipV="1">
            <a:off x="395280" y="3068640"/>
            <a:ext cx="57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3"/>
          <p:cNvSpPr/>
          <p:nvPr/>
        </p:nvSpPr>
        <p:spPr>
          <a:xfrm>
            <a:off x="900000" y="1557360"/>
            <a:ext cx="35892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 flipH="1">
            <a:off x="2195280" y="1700280"/>
            <a:ext cx="647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5"/>
          <p:cNvSpPr/>
          <p:nvPr/>
        </p:nvSpPr>
        <p:spPr>
          <a:xfrm flipH="1">
            <a:off x="2843280" y="2852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6"/>
          <p:cNvSpPr/>
          <p:nvPr/>
        </p:nvSpPr>
        <p:spPr>
          <a:xfrm flipH="1" flipV="1">
            <a:off x="2123640" y="2997360"/>
            <a:ext cx="7164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 flipH="1" flipV="1">
            <a:off x="2556000" y="2997360"/>
            <a:ext cx="100800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5219640" y="2852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5435640" y="1268280"/>
            <a:ext cx="16574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7236000" y="1268280"/>
            <a:ext cx="165708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4716360" y="3860640"/>
            <a:ext cx="16574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5508720" y="4653000"/>
            <a:ext cx="2087640" cy="64260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генные катастроф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6588000" y="5734080"/>
            <a:ext cx="1657440" cy="64260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дные привы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7308720" y="3716280"/>
            <a:ext cx="16574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372360" y="620640"/>
            <a:ext cx="18716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туп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>
            <a:off x="6084720" y="1628640"/>
            <a:ext cx="432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>
            <a:off x="7164360" y="98100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 flipH="1">
            <a:off x="7811640" y="1628640"/>
            <a:ext cx="2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29"/>
          <p:cNvSpPr/>
          <p:nvPr/>
        </p:nvSpPr>
        <p:spPr>
          <a:xfrm flipH="1" flipV="1">
            <a:off x="8027640" y="3068280"/>
            <a:ext cx="431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0"/>
          <p:cNvSpPr/>
          <p:nvPr/>
        </p:nvSpPr>
        <p:spPr>
          <a:xfrm flipV="1">
            <a:off x="5292720" y="3068640"/>
            <a:ext cx="1079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1"/>
          <p:cNvSpPr/>
          <p:nvPr/>
        </p:nvSpPr>
        <p:spPr>
          <a:xfrm flipV="1">
            <a:off x="6300720" y="2997000"/>
            <a:ext cx="432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2"/>
          <p:cNvSpPr/>
          <p:nvPr/>
        </p:nvSpPr>
        <p:spPr>
          <a:xfrm flipH="1" flipV="1">
            <a:off x="7235640" y="2997360"/>
            <a:ext cx="431640" cy="27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хема 6" descr=""/>
          <p:cNvPicPr/>
          <p:nvPr/>
        </p:nvPicPr>
        <p:blipFill>
          <a:blip r:embed="rId1"/>
          <a:stretch/>
        </p:blipFill>
        <p:spPr>
          <a:xfrm>
            <a:off x="146160" y="195120"/>
            <a:ext cx="8851680" cy="66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Схема 1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156960" cy="699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798040" cy="2232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382" name="TextBox 4" descr=""/>
          <p:cNvPicPr/>
          <p:nvPr/>
        </p:nvPicPr>
        <p:blipFill>
          <a:blip r:embed="rId2"/>
          <a:stretch/>
        </p:blipFill>
        <p:spPr>
          <a:xfrm>
            <a:off x="1146240" y="1573200"/>
            <a:ext cx="7205760" cy="3127320"/>
          </a:xfrm>
          <a:prstGeom prst="rect">
            <a:avLst/>
          </a:prstGeom>
          <a:ln w="0">
            <a:noFill/>
          </a:ln>
        </p:spPr>
      </p:pic>
      <p:pic>
        <p:nvPicPr>
          <p:cNvPr id="383" name="TextBox 5" descr=""/>
          <p:cNvPicPr/>
          <p:nvPr/>
        </p:nvPicPr>
        <p:blipFill>
          <a:blip r:embed="rId3"/>
          <a:stretch/>
        </p:blipFill>
        <p:spPr>
          <a:xfrm>
            <a:off x="1974960" y="4376880"/>
            <a:ext cx="5548320" cy="1469880"/>
          </a:xfrm>
          <a:prstGeom prst="rect">
            <a:avLst/>
          </a:prstGeom>
          <a:ln w="0">
            <a:noFill/>
          </a:ln>
        </p:spPr>
      </p:pic>
      <p:pic>
        <p:nvPicPr>
          <p:cNvPr id="384" name="TextBox 6" descr=""/>
          <p:cNvPicPr/>
          <p:nvPr/>
        </p:nvPicPr>
        <p:blipFill>
          <a:blip r:embed="rId4"/>
          <a:stretch/>
        </p:blipFill>
        <p:spPr>
          <a:xfrm>
            <a:off x="3402000" y="5589720"/>
            <a:ext cx="2766960" cy="7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Схема 2" descr=""/>
          <p:cNvPicPr/>
          <p:nvPr/>
        </p:nvPicPr>
        <p:blipFill>
          <a:blip r:embed="rId2"/>
          <a:stretch/>
        </p:blipFill>
        <p:spPr>
          <a:xfrm>
            <a:off x="152280" y="1378080"/>
            <a:ext cx="8912520" cy="52783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928800" y="2571840"/>
            <a:ext cx="7858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3071880" y="2500200"/>
            <a:ext cx="7858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5357880" y="2500200"/>
            <a:ext cx="7858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7643880" y="2500200"/>
            <a:ext cx="7858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92" name="Схема 2" descr=""/>
          <p:cNvPicPr/>
          <p:nvPr/>
        </p:nvPicPr>
        <p:blipFill>
          <a:blip r:embed="rId2"/>
          <a:stretch/>
        </p:blipFill>
        <p:spPr>
          <a:xfrm>
            <a:off x="334800" y="1371600"/>
            <a:ext cx="8620200" cy="50101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3"/>
          <p:cNvSpPr/>
          <p:nvPr/>
        </p:nvSpPr>
        <p:spPr>
          <a:xfrm>
            <a:off x="5072040" y="4714920"/>
            <a:ext cx="3357720" cy="703440"/>
          </a:xfrm>
          <a:prstGeom prst="rect">
            <a:avLst/>
          </a:prstGeom>
          <a:gradFill rotWithShape="0">
            <a:gsLst>
              <a:gs pos="0">
                <a:srgbClr val="eb8c8b"/>
              </a:gs>
              <a:gs pos="100000">
                <a:srgbClr val="f8e2e2"/>
              </a:gs>
            </a:gsLst>
            <a:lin ang="16200000"/>
          </a:gradFill>
          <a:ln w="9360">
            <a:solidFill>
              <a:srgbClr val="ae48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Р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=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и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1071720" y="4714920"/>
            <a:ext cx="2857320" cy="703440"/>
          </a:xfrm>
          <a:prstGeom prst="rect">
            <a:avLst/>
          </a:prstGeom>
          <a:gradFill rotWithShape="0">
            <a:gsLst>
              <a:gs pos="0">
                <a:srgbClr val="b19cd0"/>
              </a:gs>
              <a:gs pos="100000">
                <a:srgbClr val="eae6f1"/>
              </a:gs>
            </a:gsLst>
            <a:lin ang="16200000"/>
          </a:gradFill>
          <a:ln w="9360">
            <a:solidFill>
              <a:srgbClr val="735a92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=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убы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1692360" y="1557360"/>
            <a:ext cx="151128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0d1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0d19"/>
                </a:solidFill>
                <a:latin typeface="Times New Roman"/>
              </a:rPr>
              <a:t>тип воспроизводства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6084720" y="1628640"/>
            <a:ext cx="151164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0d1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0d19"/>
                </a:solidFill>
                <a:latin typeface="Times New Roman"/>
              </a:rPr>
              <a:t>тип воспроизводства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20840" y="-85680"/>
            <a:ext cx="8242200" cy="166536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"/>
          <p:cNvSpPr/>
          <p:nvPr/>
        </p:nvSpPr>
        <p:spPr>
          <a:xfrm>
            <a:off x="1857240" y="1785960"/>
            <a:ext cx="55008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Р </a:t>
            </a: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-  С  =  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3000240" y="3286080"/>
            <a:ext cx="3357720" cy="1191240"/>
          </a:xfrm>
          <a:prstGeom prst="rect">
            <a:avLst/>
          </a:prstGeom>
          <a:gradFill rotWithShape="0">
            <a:gsLst>
              <a:gs pos="0">
                <a:srgbClr val="eb8c8b"/>
              </a:gs>
              <a:gs pos="100000">
                <a:srgbClr val="f8e2e2"/>
              </a:gs>
            </a:gsLst>
            <a:lin ang="16200000"/>
          </a:gradFill>
          <a:ln w="9360">
            <a:solidFill>
              <a:srgbClr val="ae48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траница 35 учебника – карта воспроизводства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82240" cy="1311120"/>
          </a:xfrm>
          <a:prstGeom prst="rect">
            <a:avLst/>
          </a:prstGeom>
          <a:ln w="0">
            <a:noFill/>
          </a:ln>
        </p:spPr>
      </p:pic>
      <p:pic>
        <p:nvPicPr>
          <p:cNvPr id="401" name="Схема 3" descr=""/>
          <p:cNvPicPr/>
          <p:nvPr/>
        </p:nvPicPr>
        <p:blipFill>
          <a:blip r:embed="rId2"/>
          <a:stretch/>
        </p:blipFill>
        <p:spPr>
          <a:xfrm>
            <a:off x="469800" y="1390680"/>
            <a:ext cx="8418600" cy="51861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1857240" y="2286000"/>
            <a:ext cx="2857680" cy="703440"/>
          </a:xfrm>
          <a:prstGeom prst="rect">
            <a:avLst/>
          </a:prstGeom>
          <a:gradFill rotWithShape="0">
            <a:gsLst>
              <a:gs pos="0">
                <a:srgbClr val="b19cd0"/>
              </a:gs>
              <a:gs pos="100000">
                <a:srgbClr val="eae6f1"/>
              </a:gs>
            </a:gsLst>
            <a:lin ang="16200000"/>
          </a:gradFill>
          <a:ln w="9360">
            <a:solidFill>
              <a:srgbClr val="735a92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=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убы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357800" y="2286000"/>
            <a:ext cx="3143160" cy="703440"/>
          </a:xfrm>
          <a:prstGeom prst="rect">
            <a:avLst/>
          </a:prstGeom>
          <a:gradFill rotWithShape="0">
            <a:gsLst>
              <a:gs pos="0">
                <a:srgbClr val="eb8c8b"/>
              </a:gs>
              <a:gs pos="100000">
                <a:srgbClr val="f8e2e2"/>
              </a:gs>
            </a:gsLst>
            <a:lin ang="16200000"/>
          </a:gradFill>
          <a:ln w="9360">
            <a:solidFill>
              <a:srgbClr val="ae48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Р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=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и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TextBox 6" descr=""/>
          <p:cNvPicPr/>
          <p:nvPr/>
        </p:nvPicPr>
        <p:blipFill>
          <a:blip r:embed="rId3"/>
          <a:stretch/>
        </p:blipFill>
        <p:spPr>
          <a:xfrm>
            <a:off x="3687840" y="4522680"/>
            <a:ext cx="2054160" cy="4460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7"/>
          <p:cNvSpPr/>
          <p:nvPr/>
        </p:nvSpPr>
        <p:spPr>
          <a:xfrm>
            <a:off x="3000240" y="5934240"/>
            <a:ext cx="3357720" cy="1191240"/>
          </a:xfrm>
          <a:prstGeom prst="rect">
            <a:avLst/>
          </a:prstGeom>
          <a:gradFill rotWithShape="0">
            <a:gsLst>
              <a:gs pos="0">
                <a:srgbClr val="eb8c8b"/>
              </a:gs>
              <a:gs pos="100000">
                <a:srgbClr val="f8e2e2"/>
              </a:gs>
            </a:gsLst>
            <a:lin ang="16200000"/>
          </a:gradFill>
          <a:ln w="9360">
            <a:solidFill>
              <a:srgbClr val="ae48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траница 35 учебника – карта воспроизводства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Стрелка вниз 8"/>
          <p:cNvSpPr/>
          <p:nvPr/>
        </p:nvSpPr>
        <p:spPr>
          <a:xfrm>
            <a:off x="4357800" y="51436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93560" y="-85680"/>
            <a:ext cx="8332920" cy="131112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6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138560" cy="5542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8" descr=""/>
          <p:cNvPicPr/>
          <p:nvPr/>
        </p:nvPicPr>
        <p:blipFill>
          <a:blip r:embed="rId3"/>
          <a:stretch/>
        </p:blipFill>
        <p:spPr>
          <a:xfrm>
            <a:off x="433440" y="1255680"/>
            <a:ext cx="408924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44600" y="244440"/>
            <a:ext cx="8516880" cy="11635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истема мер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административных, экономических, пропагандистских, социальных…), предпринимаемых государством для изменения рождаем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2" name="Picture 4" descr="10_1_o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4221000"/>
            <a:ext cx="1625760" cy="2409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1250228604_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716280"/>
            <a:ext cx="1297080" cy="195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%D0%94%D0%B5%D1%82%D1%81%D0%B0%D0%B4-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4360" y="3716280"/>
            <a:ext cx="1482840" cy="2232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Deti4-25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835280" y="4941720"/>
            <a:ext cx="1512720" cy="1090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s320x240"/>
          <p:cNvPicPr/>
          <p:nvPr/>
        </p:nvPicPr>
        <p:blipFill>
          <a:blip r:embed="rId10"/>
          <a:stretch/>
        </p:blipFill>
        <p:spPr>
          <a:xfrm>
            <a:off x="5651640" y="4869000"/>
            <a:ext cx="1411200" cy="106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4:43:02Z</dcterms:created>
  <dc:creator>natalia</dc:creator>
  <dc:description/>
  <dc:language>en-US</dc:language>
  <cp:lastModifiedBy>USER</cp:lastModifiedBy>
  <dcterms:modified xsi:type="dcterms:W3CDTF">2007-01-01T01:32:28Z</dcterms:modified>
  <cp:revision>14</cp:revision>
  <dc:subject/>
  <dc:title>Воспроизводство населения мира</dc:title>
</cp:coreProperties>
</file>