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5.png" ContentType="image/png"/>
  <Override PartName="/ppt/media/image10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5.png" ContentType="image/png"/>
  <Override PartName="/ppt/media/image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B92F-567F-4C80-A8F0-D223A0761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c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FDFD-561B-40AA-AA57-C1D59A26A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c0000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C87D-8345-4E94-8973-0B9D1C398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c0000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CAF3-795A-49BD-A141-96E2CBFC5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0A06B-77A1-4517-BD95-185310C62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c0000"/>
              </a:solidFill>
              <a:latin typeface="Cambr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721B9-4785-4882-963D-0984ABF02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c0000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1AA9B-7593-4910-81EB-914313064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c0000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A1F29-4B9B-4D05-BD73-D8BD6026C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c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3C0B2-AEDB-4854-948F-6A73F36A0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0A55C-B384-452C-B70E-88B2A5C05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c0000"/>
              </a:solidFill>
              <a:latin typeface="Cambr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87280-EAA2-4A8A-85F2-9BA1E4C26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c0000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051B-CC47-4313-A6A7-AE5EB9EFF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c0000"/>
              </a:solidFill>
              <a:latin typeface="Cambr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ECA04-F90C-4AA1-9531-DE5001224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c0000"/>
              </a:solidFill>
              <a:latin typeface="Cambr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4BAF3-95F5-4E92-B289-CE7AB6B36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c0000"/>
              </a:solidFill>
              <a:latin typeface="Cambr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91C39-F43F-44A9-848D-4F7E7175C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c0000"/>
              </a:solidFill>
              <a:latin typeface="Cambr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D1C8F-E2DD-4140-B58E-145446E7F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c0000"/>
              </a:solidFill>
              <a:latin typeface="Cambr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76512-1FB8-421D-A405-6EB1C19D7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A68B65-0C73-4D2A-99D2-2E3DBCE36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c0000"/>
              </a:solidFill>
              <a:latin typeface="Cambr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102074-B2DB-4E37-A230-F04ACC5C4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c0000"/>
              </a:solidFill>
              <a:latin typeface="Cambr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B572E7-3F5B-41BF-83CD-0F513934F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c0000"/>
              </a:solidFill>
              <a:latin typeface="Cambr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0D7324-108E-4B4A-9AB3-F6505B250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c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F9F337-3B05-407A-A0EB-3C6DE8A3D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c0000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F0F1-3542-43C3-8063-CAC8311CD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92A36E-FFDD-41C2-A32E-CBB2D3F37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c0000"/>
              </a:solidFill>
              <a:latin typeface="Cambr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314541-9B4D-4493-B4C6-1D5E227F2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c0000"/>
              </a:solidFill>
              <a:latin typeface="Cambr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3090A5-BA5F-4BD6-A784-8886531D8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c0000"/>
              </a:solidFill>
              <a:latin typeface="Cambr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AED582-2A8F-4482-8DD7-008DE3ED4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c0000"/>
              </a:solidFill>
              <a:latin typeface="Cambr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970DB4-5A7C-4830-88D8-8DA35FE1D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c0000"/>
              </a:solidFill>
              <a:latin typeface="Cambri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768E51-42F5-4A46-B700-B9F9BB821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c0000"/>
              </a:solidFill>
              <a:latin typeface="Cambri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988EC4-6509-4689-9879-62DBF22BF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148B1F-DC77-4A80-AC4D-1F0D36B3A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c0000"/>
              </a:solidFill>
              <a:latin typeface="Cambri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F56617-5B96-457E-B1CE-41330F301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c0000"/>
              </a:solidFill>
              <a:latin typeface="Cambri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612930-4337-4E3C-AF7C-904B709FE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c0000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2338-F08B-480C-B2D1-1FF9C9E58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c0000"/>
              </a:solidFill>
              <a:latin typeface="Cambri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D34C82-3699-4619-B26A-BA0AE7B9D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c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521A2C-ED59-463B-999B-E0B2F7B1F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F39FEE-2DB3-4056-BFE4-179FEB064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c0000"/>
              </a:solidFill>
              <a:latin typeface="Cambri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3ED883-C7A1-40E9-80D3-AB9BA3C97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c0000"/>
              </a:solidFill>
              <a:latin typeface="Cambri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5FA807-48B7-4097-99BA-AA62C3717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c0000"/>
              </a:solidFill>
              <a:latin typeface="Cambri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AA3668-D634-42E9-8B05-0B885F455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c0000"/>
              </a:solidFill>
              <a:latin typeface="Cambr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2551C4-54F4-4A63-8A74-6E2E167ED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c0000"/>
              </a:solidFill>
              <a:latin typeface="Cambri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AE1142-AAD9-420F-B54E-C50E49659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c0000"/>
              </a:solidFill>
              <a:latin typeface="Cambri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03D95C-01F1-4D74-8306-2AB058A4E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5AA86E-29E9-4D9D-9B68-9317FF35D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c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B87B-353A-4076-8758-8659C3C3A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c0000"/>
              </a:solidFill>
              <a:latin typeface="Cambr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B467B1-7F6B-44B9-916B-0EBBCFD44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c0000"/>
              </a:solidFill>
              <a:latin typeface="Cambr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42C334-2EC9-4379-A4D8-AABFF4F5A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c0000"/>
              </a:solidFill>
              <a:latin typeface="Cambr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76219D-1CB2-48BF-A287-362798810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c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7DE8F2-9B5C-44D3-A7EE-55C3AC210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F3662C-674A-4B09-927F-A4098D8C2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c0000"/>
              </a:solidFill>
              <a:latin typeface="Cambr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B31B1E-AF88-42D8-BF43-A310E2279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c0000"/>
              </a:solidFill>
              <a:latin typeface="Cambr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4AD241-C5DD-4BAC-BFAF-8341AEB09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c0000"/>
              </a:solidFill>
              <a:latin typeface="Cambri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D0B295-3156-4875-A702-63209E6DC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c0000"/>
              </a:solidFill>
              <a:latin typeface="Cambri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D44D61-651B-4ADE-8B39-C1A7964F8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c0000"/>
              </a:solidFill>
              <a:latin typeface="Cambri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9092B6-AA53-4524-8510-B4FBA6E10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35A2-485C-4DF0-A19D-D0B7BAA51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c0000"/>
              </a:solidFill>
              <a:latin typeface="Cambri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7802EA-677C-4619-B8B3-3041F1813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E4C8BB-A423-48D9-A568-77D8FDA00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c0000"/>
              </a:solidFill>
              <a:latin typeface="Cambr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EAECE1-94BC-4258-905F-C97D301DC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c0000"/>
              </a:solidFill>
              <a:latin typeface="Cambr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52C6D6-3E38-4060-AC2E-6E73E8859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c0000"/>
              </a:solidFill>
              <a:latin typeface="Cambri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D852F4-8055-4A38-A96A-B5E5F5F9D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c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A8D0B4-34C6-46F9-876A-F2981521E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D935C9-FE4B-4DB2-83E0-3148C2147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c0000"/>
              </a:solidFill>
              <a:latin typeface="Cambr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07E2C1-FA6B-40CC-924C-6A15B9A48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c0000"/>
              </a:solidFill>
              <a:latin typeface="Cambri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3F832D-D7C4-4D50-9650-43BADBD50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c0000"/>
              </a:solidFill>
              <a:latin typeface="Cambri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1DFCBF-FD03-4ECF-B5A4-3962CC53F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c0000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4166-E2D9-4383-87B3-773F3B553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c0000"/>
              </a:solidFill>
              <a:latin typeface="Cambri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CDDBCF-8BF5-4C5D-8BAE-5080FF4D0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c0000"/>
              </a:solidFill>
              <a:latin typeface="Cambri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E44E73-B86E-406A-AD57-674575239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c0000"/>
              </a:solidFill>
              <a:latin typeface="Cambr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1AA7DF-2DB4-4ED1-9CCF-0884969EB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F83DAF1-D9CE-4215-B56F-6140452DA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c0000"/>
              </a:solidFill>
              <a:latin typeface="Cambr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A92AE1F-E762-4780-BCA9-91DC1E780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c0000"/>
              </a:solidFill>
              <a:latin typeface="Cambri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FF85385-01A6-4E92-9809-D244A5BCC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c0000"/>
              </a:solidFill>
              <a:latin typeface="Cambri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842342E-2CA7-453C-8494-BD0012953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c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7101D93-337C-4E43-A9D9-4EFDCE14B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EC5C2FB-1C25-4F17-9A14-B3E3FD799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c0000"/>
              </a:solidFill>
              <a:latin typeface="Cambr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48BB5CE-2122-408D-B376-2B3A4D87E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c0000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0621-574D-47B9-8DE7-C66468103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c0000"/>
              </a:solidFill>
              <a:latin typeface="Cambr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9412175-893E-4AEE-A2BD-84C781240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c0000"/>
              </a:solidFill>
              <a:latin typeface="Cambr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790AAD6-2567-422E-8B32-22A7A2552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c0000"/>
              </a:solidFill>
              <a:latin typeface="Cambri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44C0BAB-BD5C-4769-B0EB-484FED7C5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c0000"/>
              </a:solidFill>
              <a:latin typeface="Cambri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610BD7F-73C2-4240-ABCB-E37CCD2E1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c0000"/>
              </a:solidFill>
              <a:latin typeface="Cambri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5524A9D-784C-441B-A353-4982DD9AA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3299BBD-8EF4-416D-956D-A9794DE2B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c0000"/>
              </a:solidFill>
              <a:latin typeface="Cambr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D0B36A1-A40F-490D-A5CB-20EC7FD61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c0000"/>
              </a:solidFill>
              <a:latin typeface="Cambri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021E8E7-BC1E-495D-99E4-EC7BF012E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c0000"/>
              </a:solidFill>
              <a:latin typeface="Cambri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D866DC3-1480-4478-B95B-BABD40E1C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c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92B6790-B222-48B6-8A72-A8A99F3E0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c0000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DB96-4B0B-4675-808B-EEBD23248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987BAFD-BF74-4E2B-8761-740318F01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c0000"/>
              </a:solidFill>
              <a:latin typeface="Cambr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E65C1B0-79A6-4CF5-947B-FA7B4926D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c0000"/>
              </a:solidFill>
              <a:latin typeface="Cambri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0F7E4AC-7D04-47BD-B712-E1C63CCD0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c0000"/>
              </a:solidFill>
              <a:latin typeface="Cambr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31DC8C3-D6BE-46AF-B51A-289CA4724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c0000"/>
              </a:solidFill>
              <a:latin typeface="Cambr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DD808C5-760B-4A63-90D0-7FA6FFFAE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c0000"/>
              </a:solidFill>
              <a:latin typeface="Cambri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305F6C1-156F-449D-A040-365915AE8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c0000"/>
              </a:solidFill>
              <a:latin typeface="Cambr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ED8688B-2096-4321-907A-87D274823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deaa0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deaa0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5e0c17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6E0AB-4FD5-470F-B886-7FE84D42AEA0}" type="slidenum">
              <a:rPr b="0" lang="ru-RU" sz="1600" spc="-1" strike="noStrike">
                <a:solidFill>
                  <a:srgbClr val="5e0c17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9c0000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9c0000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c0504d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2b391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2b391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2b391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45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4f81bd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9c0000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9c0000"/>
              </a:solidFill>
              <a:latin typeface="Cambr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c0504d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2b391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2b391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2b391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deaa0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deaa0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5e0c17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A0694-A419-4096-B5F1-9FA0C41DDFCF}" type="slidenum">
              <a:rPr b="0" lang="ru-RU" sz="1600" spc="-1" strike="noStrike">
                <a:solidFill>
                  <a:srgbClr val="5e0c17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ec23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4f81bd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9c0000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9c0000"/>
              </a:solidFill>
              <a:latin typeface="Cambri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c0504d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2b391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2b391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2b391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deaa0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deaa0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sldNum" idx="8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5e0c17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B1DAC-9397-44D3-BDF1-96CB984D80E6}" type="slidenum">
              <a:rPr b="0" lang="ru-RU" sz="1600" spc="-1" strike="noStrike">
                <a:solidFill>
                  <a:srgbClr val="5e0c17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9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32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4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4f81bd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9c0000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9c0000"/>
              </a:solidFill>
              <a:latin typeface="Cambr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c0504d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2b391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2b391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2b391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deaa0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deaa0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5e0c17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A6B89-C52F-4932-8E6D-AD6F42A9F1A0}" type="slidenum">
              <a:rPr b="0" lang="ru-RU" sz="1600" spc="-1" strike="noStrike">
                <a:solidFill>
                  <a:srgbClr val="5e0c17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7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9" name="Прямоугольник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4f81bd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Прямоугольник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4f81bd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9c0000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9c0000"/>
              </a:solidFill>
              <a:latin typeface="Cambri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c0504d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2b391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2b391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2b391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deaa0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deaa0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5e0c17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1FDFA-6345-4EF5-9496-0235A1872F3A}" type="slidenum">
              <a:rPr b="0" lang="ru-RU" sz="1600" spc="-1" strike="noStrike">
                <a:solidFill>
                  <a:srgbClr val="5e0c17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3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5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4f81bd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9c0000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9c0000"/>
              </a:solidFill>
              <a:latin typeface="Cambr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c0504d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2b391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2b391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2b391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deaa0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deaa0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8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5e0c17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91474-9352-4D5C-83B9-2A836C2BBDC5}" type="slidenum">
              <a:rPr b="0" lang="ru-RU" sz="1600" spc="-1" strike="noStrike">
                <a:solidFill>
                  <a:srgbClr val="5e0c17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ec23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Прямоугольник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4f81bd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9c0000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9c0000"/>
              </a:solidFill>
              <a:latin typeface="Cambri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c0504d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2b391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2b391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2b391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dt" idx="19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deaa0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deaa0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 type="sldNum" idx="20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5e0c17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0D86F-10DE-4299-ACED-2D162F0F8C08}" type="slidenum">
              <a:rPr b="0" lang="ru-RU" sz="1600" spc="-1" strike="noStrike">
                <a:solidFill>
                  <a:srgbClr val="5e0c17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 type="ftr" idx="21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9c0000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9c0000"/>
              </a:solidFill>
              <a:latin typeface="Cambri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c0504d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2b391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2b391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2b391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deaa0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deaa0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23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5e0c17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A7F72-C97E-48E5-B519-6462DA9D5D5E}" type="slidenum">
              <a:rPr b="0" lang="ru-RU" sz="1600" spc="-1" strike="noStrike">
                <a:solidFill>
                  <a:srgbClr val="5e0c17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ftr" idx="24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hyperlink" Target="http://images.google.com/imgres?imgurl=http://www.russia-today.ru/2007/no_10/pict/10_1_o40.jpg&amp;imgrefurl=http://www.russia-today.ru/2007/no_10/10_1_of_june.htm&amp;usg=__GMZTiAZy-u82Ei_Dcb3azpAs6NM=&amp;h=532&amp;w=358&amp;sz=43&amp;hl=ru&amp;start=19&amp;um=1&amp;tbnid=M-a7G-X4wyevIM:&amp;tbnh=132&amp;tbnw=89&amp;prev=/images%3Fq%3D%25D0%25B4%25D0%25B5%25D0%25BC%25D0%25BE%25D0%25B3%25D1%2580%25D0%25B0%25D1%2584%25D0%25B8%25D1%2587%25D0%25B5%25D1%2581%25D0%25BA%25D0%25B0%25D1%258F%2B%25D0%25BF%25D0%25BE%25D0%25BB%25D0%25B8%25D1%2582%25D0%25B8%25D0%25BA%25D0%25B0%26hl%3Dru%26lr%3D%26um%3D1" TargetMode="External"/><Relationship Id="rId3" Type="http://schemas.openxmlformats.org/officeDocument/2006/relationships/image" Target="../media/image20.jpeg"/><Relationship Id="rId4" Type="http://schemas.openxmlformats.org/officeDocument/2006/relationships/hyperlink" Target="http://images.google.com/imgres?imgurl=http://actualcomment.ru/userdata/1250228604_1.jpg&amp;imgrefurl=http://actualcomment.ru/theme/694/&amp;usg=__WLjs9zQvKZAYvs3RNTZCpu0dACw=&amp;h=376&amp;w=250&amp;sz=29&amp;hl=ru&amp;start=26&amp;um=1&amp;tbnid=6wDrFrgP7plXgM:&amp;tbnh=122&amp;tbnw=81&amp;prev=/images%3Fq%3D%25D0%25B4%25D0%25B5%25D0%25BC%25D0%25BE%25D0%25B3%25D1%2580%25D0%25B0%25D1%2584%25D0%25B8%25D1%2587%25D0%25B5%25D1%2581%25D0%25BA%25D0%25B0%25D1%258F%2B%25D0%25BF%25D0%25BE%25D0%25BB%25D0%25B8%25D1%2582%25D0%25B8%25D0%25BA%25D0%25B0%26ndsp%3D20%26hl%3Dru%26lr%3D%26sa%3DN%26start%3D20%26um%3D1" TargetMode="External"/><Relationship Id="rId5" Type="http://schemas.openxmlformats.org/officeDocument/2006/relationships/image" Target="../media/image21.jpeg"/><Relationship Id="rId6" Type="http://schemas.openxmlformats.org/officeDocument/2006/relationships/hyperlink" Target="http://images.google.com/imgres?imgurl=http://www.admportal.tula.ru/2008/UprPressSlug/News/20081112/&#1044;&#1077;&#1090;&#1089;&#1072;&#1076;-4.jpg&amp;imgrefurl=http://www.admportal.tula.ru/news/7249.aspx&amp;usg=__zpfuPiKoTL09p3TKLRneJwMioOo=&amp;h=899&amp;w=600&amp;sz=74&amp;hl=ru&amp;start=65&amp;um=1&amp;tbnid=7Tz0B5uxfQz-hM:&amp;tbnh=146&amp;tbnw=97&amp;prev=/images%3Fq%3D%25D0%25B4%25D0%25B5%25D0%25BC%25D0%25BE%25D0%25B3%25D1%2580%25D0%25B0%25D1%2584%25D0%25B8%25D1%2587%25D0%25B5%25D1%2581%25D0%25BA%25D0%25B0%25D1%258F%2B%25D0%25BF%25D0%25BE%25D0%25BB%25D0%25B8%25D1%2582%25D0%25B8%25D0%25BA%25D0%25B0%26ndsp%3D20%26hl%3Dru%26lr%3D%26sa%3DN%26start%3D60%26um%3D1" TargetMode="External"/><Relationship Id="rId7" Type="http://schemas.openxmlformats.org/officeDocument/2006/relationships/image" Target="../media/image22.jpeg"/><Relationship Id="rId8" Type="http://schemas.openxmlformats.org/officeDocument/2006/relationships/hyperlink" Target="http://images.google.com/imgres?imgurl=http://www.demographia.ru/UserFiles/Deti4-250.jpg&amp;imgrefurl=http://www.demographia.ru/articles_N/index.html%3FidR%3D5%26idArt%3D769&amp;usg=__V7VRkY23mrCqakIshBryyPt3uRk=&amp;h=180&amp;w=250&amp;sz=17&amp;hl=ru&amp;start=78&amp;um=1&amp;tbnid=zAae2ZM_EPjQGM:&amp;tbnh=80&amp;tbnw=111&amp;prev=/images%3Fq%3D%25D0%25B4%25D0%25B5%25D0%25BC%25D0%25BE%25D0%25B3%25D1%2580%25D0%25B0%25D1%2584%25D0%25B8%25D1%2587%25D0%25B5%25D1%2581%25D0%25BA%25D0%25B0%25D1%258F%2B%25D0%25BF%25D0%25BE%25D0%25BB%25D0%25B8%25D1%2582%25D0%25B8%25D0%25BA%25D0%25B0%26ndsp%3D20%26hl%3Dru%26lr%3D%26sa%3DN%26start%3D60%26um%3D1" TargetMode="External"/><Relationship Id="rId9" Type="http://schemas.openxmlformats.org/officeDocument/2006/relationships/image" Target="../media/image23.jpeg"/><Relationship Id="rId10" Type="http://schemas.openxmlformats.org/officeDocument/2006/relationships/image" Target="../media/image24.jpeg"/><Relationship Id="rId1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Text Box 4"/>
          <p:cNvSpPr/>
          <p:nvPr/>
        </p:nvSpPr>
        <p:spPr>
          <a:xfrm>
            <a:off x="826920" y="2637000"/>
            <a:ext cx="2016360" cy="398880"/>
          </a:xfrm>
          <a:prstGeom prst="rect">
            <a:avLst/>
          </a:prstGeom>
          <a:solidFill>
            <a:srgbClr val="c0504d"/>
          </a:solidFill>
          <a:ln w="9360">
            <a:solidFill>
              <a:srgbClr val="630d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30d19"/>
                </a:solidFill>
                <a:latin typeface="Arial"/>
              </a:rPr>
              <a:t>Рождаемос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Text Box 5"/>
          <p:cNvSpPr/>
          <p:nvPr/>
        </p:nvSpPr>
        <p:spPr>
          <a:xfrm>
            <a:off x="6300720" y="2637000"/>
            <a:ext cx="2016360" cy="398880"/>
          </a:xfrm>
          <a:prstGeom prst="rect">
            <a:avLst/>
          </a:prstGeom>
          <a:solidFill>
            <a:srgbClr val="4f81bd"/>
          </a:solidFill>
          <a:ln w="9360">
            <a:solidFill>
              <a:srgbClr val="630d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мертнос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Text Box 6"/>
          <p:cNvSpPr/>
          <p:nvPr/>
        </p:nvSpPr>
        <p:spPr>
          <a:xfrm>
            <a:off x="611280" y="1197000"/>
            <a:ext cx="1657080" cy="368280"/>
          </a:xfrm>
          <a:prstGeom prst="rect">
            <a:avLst/>
          </a:prstGeom>
          <a:noFill/>
          <a:ln w="9360">
            <a:solidFill>
              <a:srgbClr val="630d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ради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Text Box 7"/>
          <p:cNvSpPr/>
          <p:nvPr/>
        </p:nvSpPr>
        <p:spPr>
          <a:xfrm>
            <a:off x="2843280" y="1125360"/>
            <a:ext cx="1657440" cy="642600"/>
          </a:xfrm>
          <a:prstGeom prst="rect">
            <a:avLst/>
          </a:prstGeom>
          <a:noFill/>
          <a:ln w="9360">
            <a:solidFill>
              <a:srgbClr val="630d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нятость женщи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Text Box 8"/>
          <p:cNvSpPr/>
          <p:nvPr/>
        </p:nvSpPr>
        <p:spPr>
          <a:xfrm>
            <a:off x="250920" y="4005360"/>
            <a:ext cx="1657080" cy="916920"/>
          </a:xfrm>
          <a:prstGeom prst="rect">
            <a:avLst/>
          </a:prstGeom>
          <a:noFill/>
          <a:ln w="9360">
            <a:solidFill>
              <a:srgbClr val="630d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озраст вступления в бра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Text Box 9"/>
          <p:cNvSpPr/>
          <p:nvPr/>
        </p:nvSpPr>
        <p:spPr>
          <a:xfrm>
            <a:off x="1332000" y="5229360"/>
            <a:ext cx="1800000" cy="368280"/>
          </a:xfrm>
          <a:prstGeom prst="rect">
            <a:avLst/>
          </a:prstGeom>
          <a:noFill/>
          <a:ln w="9360">
            <a:solidFill>
              <a:srgbClr val="630d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рбанизац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Text Box 10"/>
          <p:cNvSpPr/>
          <p:nvPr/>
        </p:nvSpPr>
        <p:spPr>
          <a:xfrm>
            <a:off x="3564000" y="4581360"/>
            <a:ext cx="1657440" cy="368280"/>
          </a:xfrm>
          <a:prstGeom prst="rect">
            <a:avLst/>
          </a:prstGeom>
          <a:noFill/>
          <a:ln w="9360">
            <a:solidFill>
              <a:srgbClr val="630d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елиг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Text Box 11"/>
          <p:cNvSpPr/>
          <p:nvPr/>
        </p:nvSpPr>
        <p:spPr>
          <a:xfrm>
            <a:off x="3564000" y="2637000"/>
            <a:ext cx="1657440" cy="642600"/>
          </a:xfrm>
          <a:prstGeom prst="rect">
            <a:avLst/>
          </a:prstGeom>
          <a:solidFill>
            <a:srgbClr val="7ec234"/>
          </a:solidFill>
          <a:ln w="9360">
            <a:solidFill>
              <a:srgbClr val="630d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ровень жизн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Line 12"/>
          <p:cNvSpPr/>
          <p:nvPr/>
        </p:nvSpPr>
        <p:spPr>
          <a:xfrm flipV="1">
            <a:off x="395280" y="3068640"/>
            <a:ext cx="576360" cy="936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Line 13"/>
          <p:cNvSpPr/>
          <p:nvPr/>
        </p:nvSpPr>
        <p:spPr>
          <a:xfrm>
            <a:off x="900000" y="1557360"/>
            <a:ext cx="358920" cy="1150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Line 14"/>
          <p:cNvSpPr/>
          <p:nvPr/>
        </p:nvSpPr>
        <p:spPr>
          <a:xfrm flipH="1">
            <a:off x="2195280" y="1700280"/>
            <a:ext cx="647640" cy="865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Line 15"/>
          <p:cNvSpPr/>
          <p:nvPr/>
        </p:nvSpPr>
        <p:spPr>
          <a:xfrm flipH="1">
            <a:off x="2843280" y="2852640"/>
            <a:ext cx="72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Line 16"/>
          <p:cNvSpPr/>
          <p:nvPr/>
        </p:nvSpPr>
        <p:spPr>
          <a:xfrm flipH="1" flipV="1">
            <a:off x="2123640" y="2997360"/>
            <a:ext cx="71640" cy="223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Line 17"/>
          <p:cNvSpPr/>
          <p:nvPr/>
        </p:nvSpPr>
        <p:spPr>
          <a:xfrm flipH="1" flipV="1">
            <a:off x="2556000" y="2997360"/>
            <a:ext cx="1008000" cy="1584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Line 18"/>
          <p:cNvSpPr/>
          <p:nvPr/>
        </p:nvSpPr>
        <p:spPr>
          <a:xfrm>
            <a:off x="5219640" y="2852640"/>
            <a:ext cx="1081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Text Box 19"/>
          <p:cNvSpPr/>
          <p:nvPr/>
        </p:nvSpPr>
        <p:spPr>
          <a:xfrm>
            <a:off x="5435640" y="1268280"/>
            <a:ext cx="1657440" cy="368280"/>
          </a:xfrm>
          <a:prstGeom prst="rect">
            <a:avLst/>
          </a:prstGeom>
          <a:noFill/>
          <a:ln w="9360">
            <a:solidFill>
              <a:srgbClr val="630d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ресс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Text Box 20"/>
          <p:cNvSpPr/>
          <p:nvPr/>
        </p:nvSpPr>
        <p:spPr>
          <a:xfrm>
            <a:off x="7236000" y="1268280"/>
            <a:ext cx="1657080" cy="368280"/>
          </a:xfrm>
          <a:prstGeom prst="rect">
            <a:avLst/>
          </a:prstGeom>
          <a:noFill/>
          <a:ln w="9360">
            <a:solidFill>
              <a:srgbClr val="630d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олезн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Text Box 21"/>
          <p:cNvSpPr/>
          <p:nvPr/>
        </p:nvSpPr>
        <p:spPr>
          <a:xfrm>
            <a:off x="4716360" y="3860640"/>
            <a:ext cx="1657440" cy="368280"/>
          </a:xfrm>
          <a:prstGeom prst="rect">
            <a:avLst/>
          </a:prstGeom>
          <a:noFill/>
          <a:ln w="9360">
            <a:solidFill>
              <a:srgbClr val="630d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колог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Text Box 22"/>
          <p:cNvSpPr/>
          <p:nvPr/>
        </p:nvSpPr>
        <p:spPr>
          <a:xfrm>
            <a:off x="5508720" y="4653000"/>
            <a:ext cx="2087640" cy="642600"/>
          </a:xfrm>
          <a:prstGeom prst="rect">
            <a:avLst/>
          </a:prstGeom>
          <a:noFill/>
          <a:ln w="9360">
            <a:solidFill>
              <a:srgbClr val="630d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хногенные катастроф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Text Box 23"/>
          <p:cNvSpPr/>
          <p:nvPr/>
        </p:nvSpPr>
        <p:spPr>
          <a:xfrm>
            <a:off x="6588000" y="5734080"/>
            <a:ext cx="1657440" cy="642600"/>
          </a:xfrm>
          <a:prstGeom prst="rect">
            <a:avLst/>
          </a:prstGeom>
          <a:noFill/>
          <a:ln w="9360">
            <a:solidFill>
              <a:srgbClr val="630d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редные привыч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Text Box 24"/>
          <p:cNvSpPr/>
          <p:nvPr/>
        </p:nvSpPr>
        <p:spPr>
          <a:xfrm>
            <a:off x="7308720" y="3716280"/>
            <a:ext cx="1657440" cy="368280"/>
          </a:xfrm>
          <a:prstGeom prst="rect">
            <a:avLst/>
          </a:prstGeom>
          <a:noFill/>
          <a:ln w="9360">
            <a:solidFill>
              <a:srgbClr val="630d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йн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Text Box 25"/>
          <p:cNvSpPr/>
          <p:nvPr/>
        </p:nvSpPr>
        <p:spPr>
          <a:xfrm>
            <a:off x="6372360" y="620640"/>
            <a:ext cx="1871640" cy="368280"/>
          </a:xfrm>
          <a:prstGeom prst="rect">
            <a:avLst/>
          </a:prstGeom>
          <a:noFill/>
          <a:ln w="9360">
            <a:solidFill>
              <a:srgbClr val="630d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ступно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>
            <a:off x="6084720" y="1628640"/>
            <a:ext cx="432000" cy="100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Line 27"/>
          <p:cNvSpPr/>
          <p:nvPr/>
        </p:nvSpPr>
        <p:spPr>
          <a:xfrm>
            <a:off x="7164360" y="981000"/>
            <a:ext cx="0" cy="165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Line 28"/>
          <p:cNvSpPr/>
          <p:nvPr/>
        </p:nvSpPr>
        <p:spPr>
          <a:xfrm flipH="1">
            <a:off x="7811640" y="1628640"/>
            <a:ext cx="289080" cy="936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Line 29"/>
          <p:cNvSpPr/>
          <p:nvPr/>
        </p:nvSpPr>
        <p:spPr>
          <a:xfrm flipH="1" flipV="1">
            <a:off x="8027640" y="3068280"/>
            <a:ext cx="43164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Line 30"/>
          <p:cNvSpPr/>
          <p:nvPr/>
        </p:nvSpPr>
        <p:spPr>
          <a:xfrm flipV="1">
            <a:off x="5292720" y="3068640"/>
            <a:ext cx="1079640" cy="79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Line 31"/>
          <p:cNvSpPr/>
          <p:nvPr/>
        </p:nvSpPr>
        <p:spPr>
          <a:xfrm flipV="1">
            <a:off x="6300720" y="2997000"/>
            <a:ext cx="432000" cy="165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Line 32"/>
          <p:cNvSpPr/>
          <p:nvPr/>
        </p:nvSpPr>
        <p:spPr>
          <a:xfrm flipH="1" flipV="1">
            <a:off x="7235640" y="2997360"/>
            <a:ext cx="431640" cy="2736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Схема 6" descr=""/>
          <p:cNvPicPr/>
          <p:nvPr/>
        </p:nvPicPr>
        <p:blipFill>
          <a:blip r:embed="rId1"/>
          <a:stretch/>
        </p:blipFill>
        <p:spPr>
          <a:xfrm>
            <a:off x="146160" y="195120"/>
            <a:ext cx="8851680" cy="668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Схема 1" descr=""/>
          <p:cNvPicPr/>
          <p:nvPr/>
        </p:nvPicPr>
        <p:blipFill>
          <a:blip r:embed="rId1"/>
          <a:stretch/>
        </p:blipFill>
        <p:spPr>
          <a:xfrm>
            <a:off x="-6480" y="-30240"/>
            <a:ext cx="9156960" cy="699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Заголовок 1" descr=""/>
          <p:cNvPicPr/>
          <p:nvPr/>
        </p:nvPicPr>
        <p:blipFill>
          <a:blip r:embed="rId1"/>
          <a:stretch/>
        </p:blipFill>
        <p:spPr>
          <a:xfrm>
            <a:off x="212760" y="378000"/>
            <a:ext cx="8798040" cy="2232000"/>
          </a:xfrm>
          <a:prstGeom prst="rect">
            <a:avLst/>
          </a:prstGeom>
          <a:ln w="0">
            <a:noFill/>
          </a:ln>
        </p:spPr>
      </p:pic>
      <p:sp>
        <p:nvSpPr>
          <p:cNvPr id="380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Заголовок 3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pic>
        <p:nvPicPr>
          <p:cNvPr id="382" name="TextBox 4" descr=""/>
          <p:cNvPicPr/>
          <p:nvPr/>
        </p:nvPicPr>
        <p:blipFill>
          <a:blip r:embed="rId2"/>
          <a:stretch/>
        </p:blipFill>
        <p:spPr>
          <a:xfrm>
            <a:off x="1146240" y="1573200"/>
            <a:ext cx="7205760" cy="3127320"/>
          </a:xfrm>
          <a:prstGeom prst="rect">
            <a:avLst/>
          </a:prstGeom>
          <a:ln w="0">
            <a:noFill/>
          </a:ln>
        </p:spPr>
      </p:pic>
      <p:pic>
        <p:nvPicPr>
          <p:cNvPr id="383" name="TextBox 5" descr=""/>
          <p:cNvPicPr/>
          <p:nvPr/>
        </p:nvPicPr>
        <p:blipFill>
          <a:blip r:embed="rId3"/>
          <a:stretch/>
        </p:blipFill>
        <p:spPr>
          <a:xfrm>
            <a:off x="1974960" y="4376880"/>
            <a:ext cx="5548320" cy="1469880"/>
          </a:xfrm>
          <a:prstGeom prst="rect">
            <a:avLst/>
          </a:prstGeom>
          <a:ln w="0">
            <a:noFill/>
          </a:ln>
        </p:spPr>
      </p:pic>
      <p:pic>
        <p:nvPicPr>
          <p:cNvPr id="384" name="TextBox 6" descr=""/>
          <p:cNvPicPr/>
          <p:nvPr/>
        </p:nvPicPr>
        <p:blipFill>
          <a:blip r:embed="rId4"/>
          <a:stretch/>
        </p:blipFill>
        <p:spPr>
          <a:xfrm>
            <a:off x="3402000" y="5589720"/>
            <a:ext cx="2766960" cy="72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Заголовок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386" name="Схема 2" descr=""/>
          <p:cNvPicPr/>
          <p:nvPr/>
        </p:nvPicPr>
        <p:blipFill>
          <a:blip r:embed="rId2"/>
          <a:stretch/>
        </p:blipFill>
        <p:spPr>
          <a:xfrm>
            <a:off x="152280" y="1378080"/>
            <a:ext cx="8912520" cy="5278320"/>
          </a:xfrm>
          <a:prstGeom prst="rect">
            <a:avLst/>
          </a:prstGeom>
          <a:ln w="0">
            <a:noFill/>
          </a:ln>
        </p:spPr>
      </p:pic>
      <p:sp>
        <p:nvSpPr>
          <p:cNvPr id="387" name="TextBox 3"/>
          <p:cNvSpPr/>
          <p:nvPr/>
        </p:nvSpPr>
        <p:spPr>
          <a:xfrm>
            <a:off x="928800" y="2571840"/>
            <a:ext cx="785880" cy="642600"/>
          </a:xfrm>
          <a:prstGeom prst="rect">
            <a:avLst/>
          </a:prstGeom>
          <a:solidFill>
            <a:srgbClr val="ffffff"/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1 этап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TextBox 4"/>
          <p:cNvSpPr/>
          <p:nvPr/>
        </p:nvSpPr>
        <p:spPr>
          <a:xfrm>
            <a:off x="3071880" y="2500200"/>
            <a:ext cx="785880" cy="642600"/>
          </a:xfrm>
          <a:prstGeom prst="rect">
            <a:avLst/>
          </a:prstGeom>
          <a:solidFill>
            <a:srgbClr val="ffffff"/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2 этап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TextBox 5"/>
          <p:cNvSpPr/>
          <p:nvPr/>
        </p:nvSpPr>
        <p:spPr>
          <a:xfrm>
            <a:off x="5357880" y="2500200"/>
            <a:ext cx="785880" cy="642600"/>
          </a:xfrm>
          <a:prstGeom prst="rect">
            <a:avLst/>
          </a:prstGeom>
          <a:solidFill>
            <a:srgbClr val="ffffff"/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3 этап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TextBox 7"/>
          <p:cNvSpPr/>
          <p:nvPr/>
        </p:nvSpPr>
        <p:spPr>
          <a:xfrm>
            <a:off x="7643880" y="2500200"/>
            <a:ext cx="785880" cy="642600"/>
          </a:xfrm>
          <a:prstGeom prst="rect">
            <a:avLst/>
          </a:prstGeom>
          <a:solidFill>
            <a:srgbClr val="ffffff"/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4 этап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Заголовок 1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242560" cy="1311120"/>
          </a:xfrm>
          <a:prstGeom prst="rect">
            <a:avLst/>
          </a:prstGeom>
          <a:ln w="0">
            <a:noFill/>
          </a:ln>
        </p:spPr>
      </p:pic>
      <p:pic>
        <p:nvPicPr>
          <p:cNvPr id="392" name="Схема 2" descr=""/>
          <p:cNvPicPr/>
          <p:nvPr/>
        </p:nvPicPr>
        <p:blipFill>
          <a:blip r:embed="rId2"/>
          <a:stretch/>
        </p:blipFill>
        <p:spPr>
          <a:xfrm>
            <a:off x="334800" y="1371600"/>
            <a:ext cx="8620200" cy="5010120"/>
          </a:xfrm>
          <a:prstGeom prst="rect">
            <a:avLst/>
          </a:prstGeom>
          <a:ln w="0">
            <a:noFill/>
          </a:ln>
        </p:spPr>
      </p:pic>
      <p:sp>
        <p:nvSpPr>
          <p:cNvPr id="393" name="TextBox 3"/>
          <p:cNvSpPr/>
          <p:nvPr/>
        </p:nvSpPr>
        <p:spPr>
          <a:xfrm>
            <a:off x="5072040" y="4714920"/>
            <a:ext cx="3357720" cy="703440"/>
          </a:xfrm>
          <a:prstGeom prst="rect">
            <a:avLst/>
          </a:prstGeom>
          <a:gradFill rotWithShape="0">
            <a:gsLst>
              <a:gs pos="0">
                <a:srgbClr val="eb8c8b"/>
              </a:gs>
              <a:gs pos="100000">
                <a:srgbClr val="f8e2e2"/>
              </a:gs>
            </a:gsLst>
            <a:lin ang="16200000"/>
          </a:gradFill>
          <a:ln w="9360">
            <a:solidFill>
              <a:srgbClr val="ae4845"/>
            </a:solidFill>
            <a:miter/>
          </a:ln>
          <a:effectLst>
            <a:outerShdw dist="381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mbria"/>
              </a:rPr>
              <a:t>Р </a:t>
            </a:r>
            <a:r>
              <a:rPr b="1" lang="ru-RU" sz="3200" spc="-1" strike="noStrike">
                <a:solidFill>
                  <a:srgbClr val="000000"/>
                </a:solidFill>
                <a:latin typeface="Cambria"/>
              </a:rPr>
              <a:t>-  </a:t>
            </a: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С </a:t>
            </a: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 =  </a:t>
            </a:r>
            <a:r>
              <a:rPr b="1" lang="ru-RU" sz="3200" spc="-1" strike="noStrike">
                <a:solidFill>
                  <a:srgbClr val="000000"/>
                </a:solidFill>
                <a:latin typeface="Cambria"/>
              </a:rPr>
              <a:t>Е </a:t>
            </a: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прирос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TextBox 5"/>
          <p:cNvSpPr/>
          <p:nvPr/>
        </p:nvSpPr>
        <p:spPr>
          <a:xfrm>
            <a:off x="1071720" y="4714920"/>
            <a:ext cx="2857320" cy="703440"/>
          </a:xfrm>
          <a:prstGeom prst="rect">
            <a:avLst/>
          </a:prstGeom>
          <a:gradFill rotWithShape="0">
            <a:gsLst>
              <a:gs pos="0">
                <a:srgbClr val="b19cd0"/>
              </a:gs>
              <a:gs pos="100000">
                <a:srgbClr val="eae6f1"/>
              </a:gs>
            </a:gsLst>
            <a:lin ang="16200000"/>
          </a:gradFill>
          <a:ln w="9360">
            <a:solidFill>
              <a:srgbClr val="735a92"/>
            </a:solidFill>
            <a:miter/>
          </a:ln>
          <a:effectLst>
            <a:outerShdw dist="381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mbria"/>
              </a:rPr>
              <a:t>Р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mbria"/>
              </a:rPr>
              <a:t>-  </a:t>
            </a: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С</a:t>
            </a: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 =  </a:t>
            </a: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Е</a:t>
            </a:r>
            <a:r>
              <a:rPr b="1" lang="ru-RU" sz="3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ambria"/>
              </a:rPr>
              <a:t>убыл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Text Box 8"/>
          <p:cNvSpPr/>
          <p:nvPr/>
        </p:nvSpPr>
        <p:spPr>
          <a:xfrm>
            <a:off x="1692360" y="1557360"/>
            <a:ext cx="1511280" cy="16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30d19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30d19"/>
                </a:solidFill>
                <a:latin typeface="Times New Roman"/>
              </a:rPr>
              <a:t>тип воспроизводства насел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Text Box 9"/>
          <p:cNvSpPr/>
          <p:nvPr/>
        </p:nvSpPr>
        <p:spPr>
          <a:xfrm>
            <a:off x="6084720" y="1628640"/>
            <a:ext cx="1511640" cy="16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30d19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30d19"/>
                </a:solidFill>
                <a:latin typeface="Times New Roman"/>
              </a:rPr>
              <a:t>тип воспроизводства насел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Заголовок 1" descr=""/>
          <p:cNvPicPr/>
          <p:nvPr/>
        </p:nvPicPr>
        <p:blipFill>
          <a:blip r:embed="rId1"/>
          <a:stretch/>
        </p:blipFill>
        <p:spPr>
          <a:xfrm>
            <a:off x="420840" y="-85680"/>
            <a:ext cx="8242200" cy="1665360"/>
          </a:xfrm>
          <a:prstGeom prst="rect">
            <a:avLst/>
          </a:prstGeom>
          <a:ln w="0">
            <a:noFill/>
          </a:ln>
        </p:spPr>
      </p:pic>
      <p:sp>
        <p:nvSpPr>
          <p:cNvPr id="398" name="TextBox 2"/>
          <p:cNvSpPr/>
          <p:nvPr/>
        </p:nvSpPr>
        <p:spPr>
          <a:xfrm>
            <a:off x="1857240" y="1785960"/>
            <a:ext cx="5500800" cy="916920"/>
          </a:xfrm>
          <a:prstGeom prst="rect">
            <a:avLst/>
          </a:prstGeom>
          <a:solidFill>
            <a:srgbClr val="ffffff"/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mbria"/>
              </a:rPr>
              <a:t>Р </a:t>
            </a:r>
            <a:r>
              <a:rPr b="0" lang="ru-RU" sz="4400" spc="-1" strike="noStrike">
                <a:solidFill>
                  <a:srgbClr val="000000"/>
                </a:solidFill>
                <a:latin typeface="Cambria"/>
              </a:rPr>
              <a:t> -  С  =  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TextBox 3"/>
          <p:cNvSpPr/>
          <p:nvPr/>
        </p:nvSpPr>
        <p:spPr>
          <a:xfrm>
            <a:off x="3000240" y="3286080"/>
            <a:ext cx="3357720" cy="1191240"/>
          </a:xfrm>
          <a:prstGeom prst="rect">
            <a:avLst/>
          </a:prstGeom>
          <a:gradFill rotWithShape="0">
            <a:gsLst>
              <a:gs pos="0">
                <a:srgbClr val="eb8c8b"/>
              </a:gs>
              <a:gs pos="100000">
                <a:srgbClr val="f8e2e2"/>
              </a:gs>
            </a:gsLst>
            <a:lin ang="16200000"/>
          </a:gradFill>
          <a:ln w="9360">
            <a:solidFill>
              <a:srgbClr val="ae4845"/>
            </a:solidFill>
            <a:miter/>
          </a:ln>
          <a:effectLst>
            <a:outerShdw dist="381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См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Страница 35 учебника – карта воспроизводства насел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9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Заголовок 1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382240" cy="1311120"/>
          </a:xfrm>
          <a:prstGeom prst="rect">
            <a:avLst/>
          </a:prstGeom>
          <a:ln w="0">
            <a:noFill/>
          </a:ln>
        </p:spPr>
      </p:pic>
      <p:pic>
        <p:nvPicPr>
          <p:cNvPr id="401" name="Схема 3" descr=""/>
          <p:cNvPicPr/>
          <p:nvPr/>
        </p:nvPicPr>
        <p:blipFill>
          <a:blip r:embed="rId2"/>
          <a:stretch/>
        </p:blipFill>
        <p:spPr>
          <a:xfrm>
            <a:off x="469800" y="1390680"/>
            <a:ext cx="8418600" cy="5186160"/>
          </a:xfrm>
          <a:prstGeom prst="rect">
            <a:avLst/>
          </a:prstGeom>
          <a:ln w="0">
            <a:noFill/>
          </a:ln>
        </p:spPr>
      </p:pic>
      <p:sp>
        <p:nvSpPr>
          <p:cNvPr id="402" name="TextBox 4"/>
          <p:cNvSpPr/>
          <p:nvPr/>
        </p:nvSpPr>
        <p:spPr>
          <a:xfrm>
            <a:off x="1857240" y="2286000"/>
            <a:ext cx="2857680" cy="703440"/>
          </a:xfrm>
          <a:prstGeom prst="rect">
            <a:avLst/>
          </a:prstGeom>
          <a:gradFill rotWithShape="0">
            <a:gsLst>
              <a:gs pos="0">
                <a:srgbClr val="b19cd0"/>
              </a:gs>
              <a:gs pos="100000">
                <a:srgbClr val="eae6f1"/>
              </a:gs>
            </a:gsLst>
            <a:lin ang="16200000"/>
          </a:gradFill>
          <a:ln w="9360">
            <a:solidFill>
              <a:srgbClr val="735a92"/>
            </a:solidFill>
            <a:miter/>
          </a:ln>
          <a:effectLst>
            <a:outerShdw dist="381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mbria"/>
              </a:rPr>
              <a:t>Р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mbria"/>
              </a:rPr>
              <a:t>-  </a:t>
            </a: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С</a:t>
            </a: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 =  </a:t>
            </a: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Е</a:t>
            </a:r>
            <a:r>
              <a:rPr b="1" lang="ru-RU" sz="3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ambria"/>
              </a:rPr>
              <a:t>убыл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TextBox 5"/>
          <p:cNvSpPr/>
          <p:nvPr/>
        </p:nvSpPr>
        <p:spPr>
          <a:xfrm>
            <a:off x="4357800" y="2286000"/>
            <a:ext cx="3143160" cy="703440"/>
          </a:xfrm>
          <a:prstGeom prst="rect">
            <a:avLst/>
          </a:prstGeom>
          <a:gradFill rotWithShape="0">
            <a:gsLst>
              <a:gs pos="0">
                <a:srgbClr val="eb8c8b"/>
              </a:gs>
              <a:gs pos="100000">
                <a:srgbClr val="f8e2e2"/>
              </a:gs>
            </a:gsLst>
            <a:lin ang="16200000"/>
          </a:gradFill>
          <a:ln w="9360">
            <a:solidFill>
              <a:srgbClr val="ae4845"/>
            </a:solidFill>
            <a:miter/>
          </a:ln>
          <a:effectLst>
            <a:outerShdw dist="381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mbria"/>
              </a:rPr>
              <a:t>Р </a:t>
            </a:r>
            <a:r>
              <a:rPr b="1" lang="ru-RU" sz="3200" spc="-1" strike="noStrike">
                <a:solidFill>
                  <a:srgbClr val="000000"/>
                </a:solidFill>
                <a:latin typeface="Cambria"/>
              </a:rPr>
              <a:t>-  </a:t>
            </a: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С </a:t>
            </a: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 =  </a:t>
            </a:r>
            <a:r>
              <a:rPr b="1" lang="ru-RU" sz="3200" spc="-1" strike="noStrike">
                <a:solidFill>
                  <a:srgbClr val="000000"/>
                </a:solidFill>
                <a:latin typeface="Cambria"/>
              </a:rPr>
              <a:t>Е </a:t>
            </a: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прирос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4" name="TextBox 6" descr=""/>
          <p:cNvPicPr/>
          <p:nvPr/>
        </p:nvPicPr>
        <p:blipFill>
          <a:blip r:embed="rId3"/>
          <a:stretch/>
        </p:blipFill>
        <p:spPr>
          <a:xfrm>
            <a:off x="3687840" y="4522680"/>
            <a:ext cx="2054160" cy="446040"/>
          </a:xfrm>
          <a:prstGeom prst="rect">
            <a:avLst/>
          </a:prstGeom>
          <a:ln w="0">
            <a:noFill/>
          </a:ln>
        </p:spPr>
      </p:pic>
      <p:sp>
        <p:nvSpPr>
          <p:cNvPr id="405" name="TextBox 7"/>
          <p:cNvSpPr/>
          <p:nvPr/>
        </p:nvSpPr>
        <p:spPr>
          <a:xfrm>
            <a:off x="3000240" y="5934240"/>
            <a:ext cx="3357720" cy="1191240"/>
          </a:xfrm>
          <a:prstGeom prst="rect">
            <a:avLst/>
          </a:prstGeom>
          <a:gradFill rotWithShape="0">
            <a:gsLst>
              <a:gs pos="0">
                <a:srgbClr val="eb8c8b"/>
              </a:gs>
              <a:gs pos="100000">
                <a:srgbClr val="f8e2e2"/>
              </a:gs>
            </a:gsLst>
            <a:lin ang="16200000"/>
          </a:gradFill>
          <a:ln w="9360">
            <a:solidFill>
              <a:srgbClr val="ae4845"/>
            </a:solidFill>
            <a:miter/>
          </a:ln>
          <a:effectLst>
            <a:outerShdw dist="381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См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Страница 35 учебника – карта воспроизводства насел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Стрелка вниз 8"/>
          <p:cNvSpPr/>
          <p:nvPr/>
        </p:nvSpPr>
        <p:spPr>
          <a:xfrm>
            <a:off x="4357800" y="5143680"/>
            <a:ext cx="642960" cy="714240"/>
          </a:xfrm>
          <a:prstGeom prst="downArrow">
            <a:avLst>
              <a:gd name="adj1" fmla="val 50000"/>
              <a:gd name="adj2" fmla="val 49989"/>
            </a:avLst>
          </a:prstGeom>
          <a:solidFill>
            <a:srgbClr val="4f81bd"/>
          </a:solidFill>
          <a:ln w="381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Заголовок 1" descr=""/>
          <p:cNvPicPr/>
          <p:nvPr/>
        </p:nvPicPr>
        <p:blipFill>
          <a:blip r:embed="rId1"/>
          <a:stretch/>
        </p:blipFill>
        <p:spPr>
          <a:xfrm>
            <a:off x="493560" y="-85680"/>
            <a:ext cx="8332920" cy="1311120"/>
          </a:xfrm>
          <a:prstGeom prst="rect">
            <a:avLst/>
          </a:prstGeom>
          <a:ln w="0">
            <a:noFill/>
          </a:ln>
        </p:spPr>
      </p:pic>
      <p:pic>
        <p:nvPicPr>
          <p:cNvPr id="408" name="Содержимое 6" descr=""/>
          <p:cNvPicPr/>
          <p:nvPr/>
        </p:nvPicPr>
        <p:blipFill>
          <a:blip r:embed="rId2"/>
          <a:stretch/>
        </p:blipFill>
        <p:spPr>
          <a:xfrm>
            <a:off x="4572000" y="907920"/>
            <a:ext cx="4138560" cy="5542200"/>
          </a:xfrm>
          <a:prstGeom prst="rect">
            <a:avLst/>
          </a:prstGeom>
          <a:ln w="0">
            <a:noFill/>
          </a:ln>
        </p:spPr>
      </p:pic>
      <p:pic>
        <p:nvPicPr>
          <p:cNvPr id="409" name="Содержимое 8" descr=""/>
          <p:cNvPicPr/>
          <p:nvPr/>
        </p:nvPicPr>
        <p:blipFill>
          <a:blip r:embed="rId3"/>
          <a:stretch/>
        </p:blipFill>
        <p:spPr>
          <a:xfrm>
            <a:off x="433440" y="1255680"/>
            <a:ext cx="408924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Rectangle 2" descr=""/>
          <p:cNvPicPr/>
          <p:nvPr/>
        </p:nvPicPr>
        <p:blipFill>
          <a:blip r:embed="rId1"/>
          <a:stretch/>
        </p:blipFill>
        <p:spPr>
          <a:xfrm>
            <a:off x="444600" y="244440"/>
            <a:ext cx="8516880" cy="116352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система мер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(административных, экономических, пропагандистских, социальных…), предпринимаемых государством для изменения рождаемости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12" name="Picture 4" descr="10_1_o4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635280" y="4221000"/>
            <a:ext cx="1625760" cy="240984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5" descr="1250228604_1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95280" y="3716280"/>
            <a:ext cx="1297080" cy="195444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6" descr="%D0%94%D0%B5%D1%82%D1%81%D0%B0%D0%B4-4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7164360" y="3716280"/>
            <a:ext cx="1482840" cy="223200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7" descr="Deti4-250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1835280" y="4941720"/>
            <a:ext cx="1512720" cy="109080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8" descr="s320x240"/>
          <p:cNvPicPr/>
          <p:nvPr/>
        </p:nvPicPr>
        <p:blipFill>
          <a:blip r:embed="rId10"/>
          <a:stretch/>
        </p:blipFill>
        <p:spPr>
          <a:xfrm>
            <a:off x="5651640" y="4869000"/>
            <a:ext cx="1411200" cy="10652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7T14:43:02Z</dcterms:created>
  <dc:creator>natalia</dc:creator>
  <dc:description/>
  <dc:language>en-US</dc:language>
  <cp:lastModifiedBy>USER</cp:lastModifiedBy>
  <dcterms:modified xsi:type="dcterms:W3CDTF">2007-01-01T01:32:28Z</dcterms:modified>
  <cp:revision>14</cp:revision>
  <dc:subject/>
  <dc:title>Воспроизводство населения мира</dc:title>
</cp:coreProperties>
</file>