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31.png" ContentType="image/png"/>
  <Override PartName="/ppt/media/image35.png" ContentType="image/png"/>
  <Override PartName="/ppt/media/image36.png" ContentType="image/png"/>
  <Override PartName="/ppt/media/image43.gif" ContentType="image/gif"/>
  <Override PartName="/ppt/media/image46.png" ContentType="image/png"/>
  <Override PartName="/ppt/media/image6.wmf" ContentType="image/x-wmf"/>
  <Override PartName="/ppt/media/image11.png" ContentType="image/png"/>
  <Override PartName="/ppt/media/image37.png" ContentType="image/png"/>
  <Override PartName="/ppt/media/image42.png" ContentType="image/png"/>
  <Override PartName="/ppt/media/image41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7.wmf" ContentType="image/x-wmf"/>
  <Override PartName="/ppt/media/image12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742B-BAA8-42F0-A700-575D3A0B3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6DA6-1687-4DA9-8FBE-F5BCC5455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8C4E-CD2D-467D-8342-C858D9696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5DD-16BE-4DB2-ABAF-7134DE4C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C24-0941-46AD-8C13-E167D27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AFB-9209-4ED8-A9B8-7816C072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53D-166A-48E2-BDEC-B9F5F559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D0C-AA1F-4256-B53B-BAF15F51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019-E3E9-427F-8405-380B55AF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A99-DDD2-4FD8-BF6B-43B07156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71A-66DE-44E0-93BD-C0C12CF5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146-12AA-49F2-8814-76470A4D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2DD-7BE5-442F-9970-EA94077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6F0-539A-4504-8C59-A2E5420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192-D416-4814-9FA4-2B6D5D84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91BE-C384-4680-A9E4-F70836EB3B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360" y="2743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Мультимедийный урок по теме</a:t>
            </a:r>
            <a:r>
              <a:rPr b="1" i="1" lang="en-US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:</a:t>
            </a:r>
            <a:r>
              <a:rPr b="0" lang="ru-RU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r>
              <a:rPr b="1" i="1" lang="ru-RU" sz="40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«Признаки равенства треугольник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4920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ель математики  Ларина Ольга Юр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№39 г. Ту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Документы Оля\Просмотренно\Фотки\№39\IMG_4092.JPG"/>
          <p:cNvPicPr/>
          <p:nvPr/>
        </p:nvPicPr>
        <p:blipFill>
          <a:blip r:embed="rId1"/>
          <a:stretch/>
        </p:blipFill>
        <p:spPr>
          <a:xfrm>
            <a:off x="527040" y="1657440"/>
            <a:ext cx="3289320" cy="4600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фиг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133200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1339920" y="2189160"/>
            <a:ext cx="2376360" cy="2664000"/>
          </a:xfrm>
          <a:prstGeom prst="rtTriangl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5067360" y="2168640"/>
            <a:ext cx="2376360" cy="266364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0277 L -0.40556 0.00555 E">
                                      <p:cBhvr>
                                        <p:cTn id="25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призн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стороны и угол между ними одного треугольника, соответственно равны  двум сторонам и углу между ними другого треугольника ,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1619280" y="4273560"/>
            <a:ext cx="2247840" cy="1533600"/>
            <a:chOff x="1619280" y="4273560"/>
            <a:chExt cx="2247840" cy="1533600"/>
          </a:xfrm>
        </p:grpSpPr>
        <p:sp>
          <p:nvSpPr>
            <p:cNvPr id="159" name="AutoShape 5"/>
            <p:cNvSpPr/>
            <p:nvPr/>
          </p:nvSpPr>
          <p:spPr>
            <a:xfrm>
              <a:off x="1619280" y="4292640"/>
              <a:ext cx="22478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1743120" y="4416480"/>
              <a:ext cx="1714320" cy="99072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624">
                  <a:moveTo>
                    <a:pt x="732" y="0"/>
                  </a:moveTo>
                  <a:lnTo>
                    <a:pt x="0" y="576"/>
                  </a:lnTo>
                  <a:lnTo>
                    <a:pt x="1080" y="62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rc 7"/>
            <p:cNvSpPr/>
            <p:nvPr/>
          </p:nvSpPr>
          <p:spPr>
            <a:xfrm>
              <a:off x="1971720" y="5111640"/>
              <a:ext cx="190440" cy="239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fill="none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</a:path>
                <a:path stroke="0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  <a:lnTo>
                    <a:pt x="0" y="20597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 flipH="1">
              <a:off x="1743120" y="4416480"/>
              <a:ext cx="1162080" cy="914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1743120" y="5330880"/>
              <a:ext cx="1714320" cy="76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10"/>
            <p:cNvSpPr/>
            <p:nvPr/>
          </p:nvSpPr>
          <p:spPr>
            <a:xfrm>
              <a:off x="1724040" y="5311800"/>
              <a:ext cx="4752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1859400" y="5378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1933560" y="545472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3"/>
            <p:cNvSpPr/>
            <p:nvPr/>
          </p:nvSpPr>
          <p:spPr>
            <a:xfrm>
              <a:off x="2886120" y="4397400"/>
              <a:ext cx="4752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2981160" y="4273560"/>
              <a:ext cx="30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3095640" y="454032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3438360" y="5388120"/>
              <a:ext cx="4788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7"/>
            <p:cNvSpPr/>
            <p:nvPr/>
          </p:nvSpPr>
          <p:spPr>
            <a:xfrm>
              <a:off x="3572640" y="5454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8"/>
            <p:cNvSpPr/>
            <p:nvPr/>
          </p:nvSpPr>
          <p:spPr>
            <a:xfrm>
              <a:off x="3638520" y="553068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5219640" y="4140360"/>
            <a:ext cx="2247840" cy="1576080"/>
            <a:chOff x="5219640" y="4140360"/>
            <a:chExt cx="2247840" cy="1576080"/>
          </a:xfrm>
        </p:grpSpPr>
        <p:sp>
          <p:nvSpPr>
            <p:cNvPr id="174" name="AutoShape 20"/>
            <p:cNvSpPr/>
            <p:nvPr/>
          </p:nvSpPr>
          <p:spPr>
            <a:xfrm>
              <a:off x="5219640" y="4221000"/>
              <a:ext cx="22478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5343480" y="4344840"/>
              <a:ext cx="1714680" cy="990720"/>
            </a:xfrm>
            <a:custGeom>
              <a:avLst/>
              <a:gdLst>
                <a:gd name="textAreaLeft" fmla="*/ 0 w 1714680"/>
                <a:gd name="textAreaRight" fmla="*/ 1715040 w 17146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080" h="624">
                  <a:moveTo>
                    <a:pt x="732" y="0"/>
                  </a:moveTo>
                  <a:lnTo>
                    <a:pt x="0" y="576"/>
                  </a:lnTo>
                  <a:lnTo>
                    <a:pt x="1080" y="62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rc 22"/>
            <p:cNvSpPr/>
            <p:nvPr/>
          </p:nvSpPr>
          <p:spPr>
            <a:xfrm>
              <a:off x="5572080" y="5040360"/>
              <a:ext cx="190440" cy="239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fill="none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</a:path>
                <a:path stroke="0" w="21600" h="27101">
                  <a:moveTo>
                    <a:pt x="6504" y="-1"/>
                  </a:moveTo>
                  <a:cubicBezTo>
                    <a:pt x="15490" y="2837"/>
                    <a:pt x="21600" y="11173"/>
                    <a:pt x="21600" y="20597"/>
                  </a:cubicBezTo>
                  <a:cubicBezTo>
                    <a:pt x="21600" y="22803"/>
                    <a:pt x="21261" y="24997"/>
                    <a:pt x="20597" y="27101"/>
                  </a:cubicBezTo>
                  <a:lnTo>
                    <a:pt x="0" y="20597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 flipH="1">
              <a:off x="5343480" y="4344840"/>
              <a:ext cx="1162080" cy="914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5343480" y="5259240"/>
              <a:ext cx="1714680" cy="763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25"/>
            <p:cNvSpPr/>
            <p:nvPr/>
          </p:nvSpPr>
          <p:spPr>
            <a:xfrm>
              <a:off x="5324400" y="5240160"/>
              <a:ext cx="47880" cy="478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6"/>
            <p:cNvSpPr/>
            <p:nvPr/>
          </p:nvSpPr>
          <p:spPr>
            <a:xfrm>
              <a:off x="5459760" y="5307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7"/>
            <p:cNvSpPr/>
            <p:nvPr/>
          </p:nvSpPr>
          <p:spPr>
            <a:xfrm>
              <a:off x="5563440" y="5383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28"/>
            <p:cNvSpPr/>
            <p:nvPr/>
          </p:nvSpPr>
          <p:spPr>
            <a:xfrm>
              <a:off x="6486480" y="4325760"/>
              <a:ext cx="47520" cy="478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9"/>
            <p:cNvSpPr/>
            <p:nvPr/>
          </p:nvSpPr>
          <p:spPr>
            <a:xfrm>
              <a:off x="6581880" y="4140360"/>
              <a:ext cx="34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30"/>
            <p:cNvSpPr/>
            <p:nvPr/>
          </p:nvSpPr>
          <p:spPr>
            <a:xfrm>
              <a:off x="6696000" y="4184640"/>
              <a:ext cx="18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31"/>
            <p:cNvSpPr/>
            <p:nvPr/>
          </p:nvSpPr>
          <p:spPr>
            <a:xfrm>
              <a:off x="7039080" y="5316480"/>
              <a:ext cx="47520" cy="4752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7173000" y="5383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7268400" y="5459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Прямая соединительная линия 34"/>
          <p:cNvSpPr/>
          <p:nvPr/>
        </p:nvSpPr>
        <p:spPr>
          <a:xfrm>
            <a:off x="2927520" y="4451400"/>
            <a:ext cx="529920" cy="9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36"/>
          <p:cNvSpPr/>
          <p:nvPr/>
        </p:nvSpPr>
        <p:spPr>
          <a:xfrm>
            <a:off x="6509520" y="4373640"/>
            <a:ext cx="57636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2451240"/>
            <a:ext cx="4438800" cy="1496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665600" y="2317680"/>
            <a:ext cx="4478400" cy="1733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2394000" y="4673520"/>
            <a:ext cx="4300560" cy="1555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538920" y="678240"/>
            <a:ext cx="749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ах изображены пары равных треугольников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их рисунках изображены треугольн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по стороне и углу между ними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16000" y="23180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749840" y="245160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927520" y="43628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7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 призн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2760" y="16952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торона и два прилежащих угла одного треугольника соответственно равны стороне и двум прилежащим углам другого треугольника ,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1149480" y="3873600"/>
            <a:ext cx="7151040" cy="2444400"/>
            <a:chOff x="1149480" y="3873600"/>
            <a:chExt cx="7151040" cy="2444400"/>
          </a:xfrm>
        </p:grpSpPr>
        <p:sp>
          <p:nvSpPr>
            <p:cNvPr id="200" name="AutoShape 5"/>
            <p:cNvSpPr/>
            <p:nvPr/>
          </p:nvSpPr>
          <p:spPr>
            <a:xfrm>
              <a:off x="1149480" y="3873600"/>
              <a:ext cx="7151040" cy="24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4756680" y="4121280"/>
              <a:ext cx="3069000" cy="1568880"/>
            </a:xfrm>
            <a:custGeom>
              <a:avLst/>
              <a:gdLst>
                <a:gd name="textAreaLeft" fmla="*/ 0 w 3069000"/>
                <a:gd name="textAreaRight" fmla="*/ 3069360 w 3069000"/>
                <a:gd name="textAreaTop" fmla="*/ 0 h 1568880"/>
                <a:gd name="textAreaBottom" fmla="*/ 1569240 h 1568880"/>
              </a:gdLst>
              <a:ahLst/>
              <a:rect l="textAreaLeft" t="textAreaTop" r="textAreaRight" b="textAreaBottom"/>
              <a:pathLst>
                <a:path w="1164" h="570">
                  <a:moveTo>
                    <a:pt x="1056" y="0"/>
                  </a:moveTo>
                  <a:lnTo>
                    <a:pt x="0" y="354"/>
                  </a:lnTo>
                  <a:lnTo>
                    <a:pt x="1164" y="570"/>
                  </a:lnTo>
                  <a:lnTo>
                    <a:pt x="105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7"/>
            <p:cNvSpPr/>
            <p:nvPr/>
          </p:nvSpPr>
          <p:spPr>
            <a:xfrm>
              <a:off x="1355040" y="4088160"/>
              <a:ext cx="2910960" cy="1568880"/>
            </a:xfrm>
            <a:custGeom>
              <a:avLst/>
              <a:gdLst>
                <a:gd name="textAreaLeft" fmla="*/ 0 w 2910960"/>
                <a:gd name="textAreaRight" fmla="*/ 2911320 w 2910960"/>
                <a:gd name="textAreaTop" fmla="*/ 0 h 1568880"/>
                <a:gd name="textAreaBottom" fmla="*/ 1569240 h 1568880"/>
              </a:gdLst>
              <a:ahLst/>
              <a:rect l="textAreaLeft" t="textAreaTop" r="textAreaRight" b="textAreaBottom"/>
              <a:pathLst>
                <a:path w="1104" h="570">
                  <a:moveTo>
                    <a:pt x="0" y="372"/>
                  </a:moveTo>
                  <a:lnTo>
                    <a:pt x="1104" y="570"/>
                  </a:lnTo>
                  <a:lnTo>
                    <a:pt x="996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rc 8"/>
            <p:cNvSpPr/>
            <p:nvPr/>
          </p:nvSpPr>
          <p:spPr>
            <a:xfrm>
              <a:off x="1734840" y="4850640"/>
              <a:ext cx="411120" cy="41004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fill="none" w="21600" h="20679">
                  <a:moveTo>
                    <a:pt x="15680" y="0"/>
                  </a:moveTo>
                  <a:cubicBezTo>
                    <a:pt x="19481" y="4012"/>
                    <a:pt x="21600" y="9328"/>
                    <a:pt x="21600" y="14855"/>
                  </a:cubicBezTo>
                  <a:cubicBezTo>
                    <a:pt x="21600" y="16823"/>
                    <a:pt x="21330" y="18783"/>
                    <a:pt x="20800" y="20679"/>
                  </a:cubicBezTo>
                </a:path>
                <a:path stroke="0" w="21600" h="20679">
                  <a:moveTo>
                    <a:pt x="15680" y="0"/>
                  </a:moveTo>
                  <a:cubicBezTo>
                    <a:pt x="19481" y="4012"/>
                    <a:pt x="21600" y="9328"/>
                    <a:pt x="21600" y="14855"/>
                  </a:cubicBezTo>
                  <a:cubicBezTo>
                    <a:pt x="21600" y="16823"/>
                    <a:pt x="21330" y="18783"/>
                    <a:pt x="20800" y="20679"/>
                  </a:cubicBezTo>
                  <a:lnTo>
                    <a:pt x="0" y="14855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rc 9"/>
            <p:cNvSpPr/>
            <p:nvPr/>
          </p:nvSpPr>
          <p:spPr>
            <a:xfrm>
              <a:off x="3794040" y="5227560"/>
              <a:ext cx="392760" cy="38016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fill="none" w="22887" h="21600">
                  <a:moveTo>
                    <a:pt x="-1" y="19645"/>
                  </a:moveTo>
                  <a:cubicBezTo>
                    <a:pt x="1010" y="8519"/>
                    <a:pt x="10338" y="-1"/>
                    <a:pt x="21511" y="0"/>
                  </a:cubicBezTo>
                  <a:cubicBezTo>
                    <a:pt x="21970" y="0"/>
                    <a:pt x="22428" y="14"/>
                    <a:pt x="22887" y="43"/>
                  </a:cubicBezTo>
                </a:path>
                <a:path stroke="0" w="22887" h="21600">
                  <a:moveTo>
                    <a:pt x="-1" y="19645"/>
                  </a:moveTo>
                  <a:cubicBezTo>
                    <a:pt x="1010" y="8519"/>
                    <a:pt x="10338" y="-1"/>
                    <a:pt x="21511" y="0"/>
                  </a:cubicBezTo>
                  <a:cubicBezTo>
                    <a:pt x="21970" y="0"/>
                    <a:pt x="22428" y="14"/>
                    <a:pt x="22887" y="43"/>
                  </a:cubicBezTo>
                  <a:lnTo>
                    <a:pt x="21511" y="21600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rc 10"/>
            <p:cNvSpPr/>
            <p:nvPr/>
          </p:nvSpPr>
          <p:spPr>
            <a:xfrm>
              <a:off x="3530160" y="4988520"/>
              <a:ext cx="719640" cy="79272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fill="none" w="20491" h="21374">
                  <a:moveTo>
                    <a:pt x="0" y="14541"/>
                  </a:moveTo>
                  <a:cubicBezTo>
                    <a:pt x="2580" y="6802"/>
                    <a:pt x="9301" y="1177"/>
                    <a:pt x="17374" y="0"/>
                  </a:cubicBezTo>
                </a:path>
                <a:path stroke="0" w="20491" h="21374">
                  <a:moveTo>
                    <a:pt x="0" y="14541"/>
                  </a:moveTo>
                  <a:cubicBezTo>
                    <a:pt x="2580" y="6802"/>
                    <a:pt x="9301" y="1177"/>
                    <a:pt x="17374" y="0"/>
                  </a:cubicBezTo>
                  <a:lnTo>
                    <a:pt x="20491" y="21374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rc 11"/>
            <p:cNvSpPr/>
            <p:nvPr/>
          </p:nvSpPr>
          <p:spPr>
            <a:xfrm>
              <a:off x="4938480" y="4848120"/>
              <a:ext cx="577440" cy="3963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fill="none" w="21600" h="14189">
                  <a:moveTo>
                    <a:pt x="20491" y="0"/>
                  </a:moveTo>
                  <a:cubicBezTo>
                    <a:pt x="21225" y="2202"/>
                    <a:pt x="21600" y="4509"/>
                    <a:pt x="21600" y="6831"/>
                  </a:cubicBezTo>
                  <a:cubicBezTo>
                    <a:pt x="21600" y="9340"/>
                    <a:pt x="21162" y="11830"/>
                    <a:pt x="20308" y="14189"/>
                  </a:cubicBezTo>
                </a:path>
                <a:path stroke="0" w="21600" h="14189">
                  <a:moveTo>
                    <a:pt x="20491" y="0"/>
                  </a:moveTo>
                  <a:cubicBezTo>
                    <a:pt x="21225" y="2202"/>
                    <a:pt x="21600" y="4509"/>
                    <a:pt x="21600" y="6831"/>
                  </a:cubicBezTo>
                  <a:cubicBezTo>
                    <a:pt x="21600" y="9340"/>
                    <a:pt x="21162" y="11830"/>
                    <a:pt x="20308" y="14189"/>
                  </a:cubicBezTo>
                  <a:lnTo>
                    <a:pt x="0" y="6831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rc 12"/>
            <p:cNvSpPr/>
            <p:nvPr/>
          </p:nvSpPr>
          <p:spPr>
            <a:xfrm>
              <a:off x="7000560" y="5013000"/>
              <a:ext cx="967320" cy="1181160"/>
            </a:xfrm>
            <a:custGeom>
              <a:avLst/>
              <a:gdLst>
                <a:gd name="textAreaLeft" fmla="*/ 0 w 967320"/>
                <a:gd name="textAreaRight" fmla="*/ 967680 w 9673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fill="none" w="18120" h="21006">
                  <a:moveTo>
                    <a:pt x="-1" y="9249"/>
                  </a:moveTo>
                  <a:cubicBezTo>
                    <a:pt x="3015" y="4601"/>
                    <a:pt x="7702" y="1289"/>
                    <a:pt x="13090" y="-1"/>
                  </a:cubicBezTo>
                </a:path>
                <a:path stroke="0" w="18120" h="21006">
                  <a:moveTo>
                    <a:pt x="-1" y="9249"/>
                  </a:moveTo>
                  <a:cubicBezTo>
                    <a:pt x="3015" y="4601"/>
                    <a:pt x="7702" y="1289"/>
                    <a:pt x="13090" y="-1"/>
                  </a:cubicBezTo>
                  <a:lnTo>
                    <a:pt x="18120" y="21006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rc 13"/>
            <p:cNvSpPr/>
            <p:nvPr/>
          </p:nvSpPr>
          <p:spPr>
            <a:xfrm>
              <a:off x="7279920" y="5219640"/>
              <a:ext cx="569520" cy="64404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fill="none" w="19682" h="21299">
                  <a:moveTo>
                    <a:pt x="-1" y="12401"/>
                  </a:moveTo>
                  <a:cubicBezTo>
                    <a:pt x="2962" y="5847"/>
                    <a:pt x="8993" y="1197"/>
                    <a:pt x="16086" y="0"/>
                  </a:cubicBezTo>
                </a:path>
                <a:path stroke="0" w="19682" h="21299">
                  <a:moveTo>
                    <a:pt x="-1" y="12401"/>
                  </a:moveTo>
                  <a:cubicBezTo>
                    <a:pt x="2962" y="5847"/>
                    <a:pt x="8993" y="1197"/>
                    <a:pt x="16086" y="0"/>
                  </a:cubicBezTo>
                  <a:lnTo>
                    <a:pt x="19682" y="21299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 flipH="1">
              <a:off x="1355040" y="4088160"/>
              <a:ext cx="2625840" cy="1023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3981240" y="4088160"/>
              <a:ext cx="285120" cy="1568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355040" y="5112360"/>
              <a:ext cx="2910960" cy="545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4756680" y="4121280"/>
              <a:ext cx="2784240" cy="974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7540920" y="4121280"/>
              <a:ext cx="284400" cy="1568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4756680" y="5096160"/>
              <a:ext cx="3069000" cy="594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20"/>
            <p:cNvSpPr/>
            <p:nvPr/>
          </p:nvSpPr>
          <p:spPr>
            <a:xfrm>
              <a:off x="3949920" y="405504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4125600" y="4170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4307760" y="4303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23"/>
            <p:cNvSpPr/>
            <p:nvPr/>
          </p:nvSpPr>
          <p:spPr>
            <a:xfrm>
              <a:off x="7509240" y="408816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7684560" y="420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25"/>
            <p:cNvSpPr/>
            <p:nvPr/>
          </p:nvSpPr>
          <p:spPr>
            <a:xfrm>
              <a:off x="1323360" y="5079240"/>
              <a:ext cx="7920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1496520" y="5194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1649880" y="5326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4234680" y="5624280"/>
              <a:ext cx="78840" cy="828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4409640" y="5739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4592160" y="5871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31"/>
            <p:cNvSpPr/>
            <p:nvPr/>
          </p:nvSpPr>
          <p:spPr>
            <a:xfrm>
              <a:off x="7794000" y="565740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969320" y="5772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4725000" y="5063040"/>
              <a:ext cx="78840" cy="82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4900320" y="5178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544680" y="675000"/>
            <a:ext cx="73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каких рисунках изображены треугольники рав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тороне и двум прилежащим угла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6000" y="23180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4749840" y="245160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927520" y="43628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27040" y="2139840"/>
            <a:ext cx="4251240" cy="1866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5105520" y="2228760"/>
            <a:ext cx="381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3292560" y="4362480"/>
            <a:ext cx="4654440" cy="1555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9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0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призн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2760" y="17398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три стороны одного треугольника соответственно равны трем сторонам другого треугольника .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349200" y="3295800"/>
            <a:ext cx="8223120" cy="2795760"/>
            <a:chOff x="349200" y="3295800"/>
            <a:chExt cx="8223120" cy="2795760"/>
          </a:xfrm>
        </p:grpSpPr>
        <p:sp>
          <p:nvSpPr>
            <p:cNvPr id="240" name="AutoShape 5"/>
            <p:cNvSpPr/>
            <p:nvPr/>
          </p:nvSpPr>
          <p:spPr>
            <a:xfrm>
              <a:off x="349200" y="3316680"/>
              <a:ext cx="8223120" cy="27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5147640" y="4286880"/>
              <a:ext cx="2769480" cy="1677240"/>
            </a:xfrm>
            <a:custGeom>
              <a:avLst/>
              <a:gdLst>
                <a:gd name="textAreaLeft" fmla="*/ 0 w 2769480"/>
                <a:gd name="textAreaRight" fmla="*/ 2769840 w 2769480"/>
                <a:gd name="textAreaTop" fmla="*/ 0 h 1677240"/>
                <a:gd name="textAreaBottom" fmla="*/ 1677600 h 1677240"/>
              </a:gdLst>
              <a:ahLst/>
              <a:rect l="textAreaLeft" t="textAreaTop" r="textAreaRight" b="textAreaBottom"/>
              <a:pathLst>
                <a:path w="1421" h="790">
                  <a:moveTo>
                    <a:pt x="0" y="790"/>
                  </a:moveTo>
                  <a:lnTo>
                    <a:pt x="414" y="0"/>
                  </a:lnTo>
                  <a:lnTo>
                    <a:pt x="1421" y="479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631800" y="3490920"/>
              <a:ext cx="2966040" cy="1840320"/>
            </a:xfrm>
            <a:custGeom>
              <a:avLst/>
              <a:gdLst>
                <a:gd name="textAreaLeft" fmla="*/ 0 w 2966040"/>
                <a:gd name="textAreaRight" fmla="*/ 2966400 w 29660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1522" h="867">
                  <a:moveTo>
                    <a:pt x="426" y="0"/>
                  </a:moveTo>
                  <a:lnTo>
                    <a:pt x="0" y="867"/>
                  </a:lnTo>
                  <a:lnTo>
                    <a:pt x="1522" y="535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 flipH="1">
              <a:off x="631440" y="3490920"/>
              <a:ext cx="829800" cy="184032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 flipH="1">
              <a:off x="631440" y="4626720"/>
              <a:ext cx="2966040" cy="70452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0"/>
            <p:cNvSpPr/>
            <p:nvPr/>
          </p:nvSpPr>
          <p:spPr>
            <a:xfrm>
              <a:off x="1461960" y="3490920"/>
              <a:ext cx="2135880" cy="113544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 flipH="1">
              <a:off x="5147280" y="4286880"/>
              <a:ext cx="806760" cy="167724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H="1">
              <a:off x="5147280" y="5304240"/>
              <a:ext cx="2769480" cy="65988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>
              <a:off x="5954760" y="4286880"/>
              <a:ext cx="1962360" cy="1017000"/>
            </a:xfrm>
            <a:prstGeom prst="line">
              <a:avLst/>
            </a:prstGeom>
            <a:ln w="54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6107040" y="4068360"/>
              <a:ext cx="38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>
              <a:off x="850320" y="4333680"/>
              <a:ext cx="393480" cy="277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5299920" y="5166000"/>
              <a:ext cx="436680" cy="2736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 flipH="1">
              <a:off x="2224440" y="3958200"/>
              <a:ext cx="348480" cy="14616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 flipH="1">
              <a:off x="2442240" y="4021560"/>
              <a:ext cx="371880" cy="174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 flipH="1">
              <a:off x="6761160" y="4718160"/>
              <a:ext cx="393480" cy="1544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 flipH="1">
              <a:off x="6937200" y="4789800"/>
              <a:ext cx="434880" cy="174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>
              <a:off x="1789560" y="4892040"/>
              <a:ext cx="261000" cy="174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2"/>
            <p:cNvSpPr/>
            <p:nvPr/>
          </p:nvSpPr>
          <p:spPr>
            <a:xfrm>
              <a:off x="2007720" y="4828320"/>
              <a:ext cx="325440" cy="2185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>
              <a:off x="2181600" y="4781880"/>
              <a:ext cx="348480" cy="20160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4"/>
            <p:cNvSpPr/>
            <p:nvPr/>
          </p:nvSpPr>
          <p:spPr>
            <a:xfrm>
              <a:off x="6391440" y="5560560"/>
              <a:ext cx="369720" cy="20160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6543720" y="5514120"/>
              <a:ext cx="393120" cy="21024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6718680" y="5431320"/>
              <a:ext cx="392040" cy="22896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27"/>
            <p:cNvSpPr/>
            <p:nvPr/>
          </p:nvSpPr>
          <p:spPr>
            <a:xfrm>
              <a:off x="1417320" y="347184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8"/>
            <p:cNvSpPr/>
            <p:nvPr/>
          </p:nvSpPr>
          <p:spPr>
            <a:xfrm>
              <a:off x="1653480" y="3295800"/>
              <a:ext cx="5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1832400" y="348228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30"/>
            <p:cNvSpPr/>
            <p:nvPr/>
          </p:nvSpPr>
          <p:spPr>
            <a:xfrm>
              <a:off x="588960" y="531216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1"/>
            <p:cNvSpPr/>
            <p:nvPr/>
          </p:nvSpPr>
          <p:spPr>
            <a:xfrm>
              <a:off x="632520" y="5378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719280" y="545040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33"/>
            <p:cNvSpPr/>
            <p:nvPr/>
          </p:nvSpPr>
          <p:spPr>
            <a:xfrm>
              <a:off x="3555360" y="460764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776760" y="4535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4034880" y="4607640"/>
              <a:ext cx="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36"/>
            <p:cNvSpPr/>
            <p:nvPr/>
          </p:nvSpPr>
          <p:spPr>
            <a:xfrm>
              <a:off x="7874640" y="528480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8096040" y="50850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Oval 38"/>
            <p:cNvSpPr/>
            <p:nvPr/>
          </p:nvSpPr>
          <p:spPr>
            <a:xfrm>
              <a:off x="5104800" y="5945040"/>
              <a:ext cx="109080" cy="464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4851720" y="5911200"/>
              <a:ext cx="52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40"/>
            <p:cNvSpPr/>
            <p:nvPr/>
          </p:nvSpPr>
          <p:spPr>
            <a:xfrm>
              <a:off x="5911920" y="4269960"/>
              <a:ext cx="109080" cy="446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24160" y="675360"/>
            <a:ext cx="73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каких рисунках изображены треугольники рав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рём сторонам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16000" y="23180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4749840" y="245160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2927520" y="4362840"/>
            <a:ext cx="3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571680" y="2095560"/>
            <a:ext cx="3897000" cy="213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5327640" y="2184480"/>
            <a:ext cx="3846600" cy="1955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3416400" y="4184640"/>
            <a:ext cx="4010040" cy="2133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Изображение 024"/>
          <p:cNvPicPr/>
          <p:nvPr/>
        </p:nvPicPr>
        <p:blipFill>
          <a:blip r:embed="rId1"/>
          <a:stretch/>
        </p:blipFill>
        <p:spPr>
          <a:xfrm>
            <a:off x="468360" y="1844640"/>
            <a:ext cx="8248680" cy="2933640"/>
          </a:xfrm>
          <a:prstGeom prst="rect">
            <a:avLst/>
          </a:prstGeom>
          <a:ln w="0">
            <a:noFill/>
          </a:ln>
        </p:spPr>
      </p:pic>
      <p:sp>
        <p:nvSpPr>
          <p:cNvPr id="284" name="WordArt 3"/>
          <p:cNvSpPr txBox="1"/>
          <p:nvPr/>
        </p:nvSpPr>
        <p:spPr>
          <a:xfrm>
            <a:off x="900000" y="189000"/>
            <a:ext cx="7191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изнаки равенства тре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502000" y="4824360"/>
            <a:ext cx="376236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527040" y="2851200"/>
            <a:ext cx="2879640" cy="1725480"/>
            <a:chOff x="527040" y="2851200"/>
            <a:chExt cx="2879640" cy="1725480"/>
          </a:xfrm>
        </p:grpSpPr>
        <p:sp>
          <p:nvSpPr>
            <p:cNvPr id="289" name="AutoShape 5"/>
            <p:cNvSpPr/>
            <p:nvPr/>
          </p:nvSpPr>
          <p:spPr>
            <a:xfrm>
              <a:off x="527040" y="2851200"/>
              <a:ext cx="287964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685440" y="3009600"/>
              <a:ext cx="2355480" cy="1153800"/>
            </a:xfrm>
            <a:custGeom>
              <a:avLst/>
              <a:gdLst>
                <a:gd name="textAreaLeft" fmla="*/ 0 w 2355480"/>
                <a:gd name="textAreaRight" fmla="*/ 2355840 w 2355480"/>
                <a:gd name="textAreaTop" fmla="*/ 0 h 1153800"/>
                <a:gd name="textAreaBottom" fmla="*/ 1154160 h 1153800"/>
              </a:gdLst>
              <a:ahLst/>
              <a:rect l="textAreaLeft" t="textAreaTop" r="textAreaRight" b="textAreaBottom"/>
              <a:pathLst>
                <a:path w="1484" h="727">
                  <a:moveTo>
                    <a:pt x="1347" y="0"/>
                  </a:moveTo>
                  <a:lnTo>
                    <a:pt x="0" y="451"/>
                  </a:lnTo>
                  <a:lnTo>
                    <a:pt x="1484" y="727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rc 7"/>
            <p:cNvSpPr/>
            <p:nvPr/>
          </p:nvSpPr>
          <p:spPr>
            <a:xfrm>
              <a:off x="825480" y="3543120"/>
              <a:ext cx="443880" cy="29160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fill="none" w="21600" h="14214">
                  <a:moveTo>
                    <a:pt x="20468" y="-1"/>
                  </a:moveTo>
                  <a:cubicBezTo>
                    <a:pt x="21217" y="2223"/>
                    <a:pt x="21600" y="4553"/>
                    <a:pt x="21600" y="6900"/>
                  </a:cubicBezTo>
                  <a:cubicBezTo>
                    <a:pt x="21600" y="9393"/>
                    <a:pt x="21168" y="11867"/>
                    <a:pt x="20324" y="14214"/>
                  </a:cubicBezTo>
                </a:path>
                <a:path stroke="0" w="21600" h="14214">
                  <a:moveTo>
                    <a:pt x="20468" y="-1"/>
                  </a:moveTo>
                  <a:cubicBezTo>
                    <a:pt x="21217" y="2223"/>
                    <a:pt x="21600" y="4553"/>
                    <a:pt x="21600" y="6900"/>
                  </a:cubicBezTo>
                  <a:cubicBezTo>
                    <a:pt x="21600" y="9393"/>
                    <a:pt x="21168" y="11867"/>
                    <a:pt x="20324" y="14214"/>
                  </a:cubicBezTo>
                  <a:lnTo>
                    <a:pt x="0" y="6900"/>
                  </a:lnTo>
                  <a:close/>
                </a:path>
              </a:pathLst>
            </a:custGeom>
            <a:noFill/>
            <a:ln w="36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rc 8"/>
            <p:cNvSpPr/>
            <p:nvPr/>
          </p:nvSpPr>
          <p:spPr>
            <a:xfrm>
              <a:off x="2409480" y="3666960"/>
              <a:ext cx="742680" cy="86796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fill="none" w="18110" h="21000">
                  <a:moveTo>
                    <a:pt x="0" y="9227"/>
                  </a:moveTo>
                  <a:cubicBezTo>
                    <a:pt x="3011" y="4595"/>
                    <a:pt x="7682" y="1293"/>
                    <a:pt x="13054" y="0"/>
                  </a:cubicBezTo>
                </a:path>
                <a:path stroke="0" w="18110" h="21000">
                  <a:moveTo>
                    <a:pt x="0" y="9227"/>
                  </a:moveTo>
                  <a:cubicBezTo>
                    <a:pt x="3011" y="4595"/>
                    <a:pt x="7682" y="1293"/>
                    <a:pt x="13054" y="0"/>
                  </a:cubicBezTo>
                  <a:lnTo>
                    <a:pt x="18110" y="21000"/>
                  </a:lnTo>
                  <a:close/>
                </a:path>
              </a:pathLst>
            </a:custGeom>
            <a:noFill/>
            <a:ln w="36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rc 9"/>
            <p:cNvSpPr/>
            <p:nvPr/>
          </p:nvSpPr>
          <p:spPr>
            <a:xfrm>
              <a:off x="2624040" y="3817800"/>
              <a:ext cx="435960" cy="47268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fill="none" w="19698" h="21296">
                  <a:moveTo>
                    <a:pt x="0" y="12432"/>
                  </a:moveTo>
                  <a:cubicBezTo>
                    <a:pt x="2955" y="5865"/>
                    <a:pt x="8988" y="1203"/>
                    <a:pt x="16087" y="-1"/>
                  </a:cubicBezTo>
                </a:path>
                <a:path stroke="0" w="19698" h="21296">
                  <a:moveTo>
                    <a:pt x="0" y="12432"/>
                  </a:moveTo>
                  <a:cubicBezTo>
                    <a:pt x="2955" y="5865"/>
                    <a:pt x="8988" y="1203"/>
                    <a:pt x="16087" y="-1"/>
                  </a:cubicBezTo>
                  <a:lnTo>
                    <a:pt x="19698" y="21296"/>
                  </a:lnTo>
                  <a:close/>
                </a:path>
              </a:pathLst>
            </a:custGeom>
            <a:noFill/>
            <a:ln w="36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0"/>
            <p:cNvSpPr/>
            <p:nvPr/>
          </p:nvSpPr>
          <p:spPr>
            <a:xfrm flipH="1">
              <a:off x="685080" y="3009600"/>
              <a:ext cx="2138040" cy="715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>
              <a:off x="2823840" y="3009600"/>
              <a:ext cx="217080" cy="1153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2"/>
            <p:cNvSpPr/>
            <p:nvPr/>
          </p:nvSpPr>
          <p:spPr>
            <a:xfrm>
              <a:off x="685440" y="3725640"/>
              <a:ext cx="2355480" cy="4377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13"/>
            <p:cNvSpPr/>
            <p:nvPr/>
          </p:nvSpPr>
          <p:spPr>
            <a:xfrm>
              <a:off x="2798640" y="2984400"/>
              <a:ext cx="61560" cy="5976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4"/>
            <p:cNvSpPr/>
            <p:nvPr/>
          </p:nvSpPr>
          <p:spPr>
            <a:xfrm>
              <a:off x="2920680" y="307008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5"/>
            <p:cNvSpPr/>
            <p:nvPr/>
          </p:nvSpPr>
          <p:spPr>
            <a:xfrm>
              <a:off x="3017520" y="4138200"/>
              <a:ext cx="60120" cy="6156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6"/>
            <p:cNvSpPr/>
            <p:nvPr/>
          </p:nvSpPr>
          <p:spPr>
            <a:xfrm>
              <a:off x="3139920" y="422424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7"/>
            <p:cNvSpPr/>
            <p:nvPr/>
          </p:nvSpPr>
          <p:spPr>
            <a:xfrm>
              <a:off x="660240" y="3701880"/>
              <a:ext cx="59760" cy="5976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8"/>
            <p:cNvSpPr/>
            <p:nvPr/>
          </p:nvSpPr>
          <p:spPr>
            <a:xfrm>
              <a:off x="782280" y="37857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19"/>
          <p:cNvGrpSpPr/>
          <p:nvPr/>
        </p:nvGrpSpPr>
        <p:grpSpPr>
          <a:xfrm>
            <a:off x="4500720" y="2168640"/>
            <a:ext cx="3384360" cy="2251080"/>
            <a:chOff x="4500720" y="2168640"/>
            <a:chExt cx="3384360" cy="2251080"/>
          </a:xfrm>
        </p:grpSpPr>
        <p:sp>
          <p:nvSpPr>
            <p:cNvPr id="304" name="AutoShape 20"/>
            <p:cNvSpPr/>
            <p:nvPr/>
          </p:nvSpPr>
          <p:spPr>
            <a:xfrm>
              <a:off x="4500720" y="2168640"/>
              <a:ext cx="3384360" cy="225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4686480" y="2354400"/>
              <a:ext cx="2582640" cy="1492200"/>
            </a:xfrm>
            <a:custGeom>
              <a:avLst/>
              <a:gdLst>
                <a:gd name="textAreaLeft" fmla="*/ 0 w 2582640"/>
                <a:gd name="textAreaRight" fmla="*/ 2583000 w 258264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1627" h="940">
                  <a:moveTo>
                    <a:pt x="1103" y="0"/>
                  </a:moveTo>
                  <a:lnTo>
                    <a:pt x="0" y="867"/>
                  </a:lnTo>
                  <a:lnTo>
                    <a:pt x="1627" y="940"/>
                  </a:lnTo>
                  <a:lnTo>
                    <a:pt x="110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rc 22"/>
            <p:cNvSpPr/>
            <p:nvPr/>
          </p:nvSpPr>
          <p:spPr>
            <a:xfrm>
              <a:off x="5032440" y="3402000"/>
              <a:ext cx="287280" cy="3603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600" h="27146">
                  <a:moveTo>
                    <a:pt x="6361" y="-1"/>
                  </a:moveTo>
                  <a:cubicBezTo>
                    <a:pt x="15419" y="2791"/>
                    <a:pt x="21600" y="11162"/>
                    <a:pt x="21600" y="20642"/>
                  </a:cubicBezTo>
                  <a:cubicBezTo>
                    <a:pt x="21600" y="22848"/>
                    <a:pt x="21261" y="25042"/>
                    <a:pt x="20597" y="27146"/>
                  </a:cubicBezTo>
                </a:path>
                <a:path stroke="0" w="21600" h="27146">
                  <a:moveTo>
                    <a:pt x="6361" y="-1"/>
                  </a:moveTo>
                  <a:cubicBezTo>
                    <a:pt x="15419" y="2791"/>
                    <a:pt x="21600" y="11162"/>
                    <a:pt x="21600" y="20642"/>
                  </a:cubicBezTo>
                  <a:cubicBezTo>
                    <a:pt x="21600" y="22848"/>
                    <a:pt x="21261" y="25042"/>
                    <a:pt x="20597" y="27146"/>
                  </a:cubicBezTo>
                  <a:lnTo>
                    <a:pt x="0" y="20642"/>
                  </a:lnTo>
                  <a:close/>
                </a:path>
              </a:pathLst>
            </a:custGeom>
            <a:noFill/>
            <a:ln w="42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H="1">
              <a:off x="4686120" y="2354400"/>
              <a:ext cx="1750680" cy="1376280"/>
            </a:xfrm>
            <a:prstGeom prst="line">
              <a:avLst/>
            </a:prstGeom>
            <a:ln w="42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4"/>
            <p:cNvSpPr/>
            <p:nvPr/>
          </p:nvSpPr>
          <p:spPr>
            <a:xfrm>
              <a:off x="4686480" y="3730680"/>
              <a:ext cx="2582640" cy="115920"/>
            </a:xfrm>
            <a:prstGeom prst="line">
              <a:avLst/>
            </a:prstGeom>
            <a:ln w="42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25"/>
            <p:cNvSpPr/>
            <p:nvPr/>
          </p:nvSpPr>
          <p:spPr>
            <a:xfrm>
              <a:off x="4657680" y="3701880"/>
              <a:ext cx="73080" cy="73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6"/>
            <p:cNvSpPr/>
            <p:nvPr/>
          </p:nvSpPr>
          <p:spPr>
            <a:xfrm>
              <a:off x="4802040" y="38037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7"/>
            <p:cNvSpPr/>
            <p:nvPr/>
          </p:nvSpPr>
          <p:spPr>
            <a:xfrm>
              <a:off x="4973760" y="39178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28"/>
            <p:cNvSpPr/>
            <p:nvPr/>
          </p:nvSpPr>
          <p:spPr>
            <a:xfrm>
              <a:off x="6408720" y="2325600"/>
              <a:ext cx="71280" cy="7308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9"/>
            <p:cNvSpPr/>
            <p:nvPr/>
          </p:nvSpPr>
          <p:spPr>
            <a:xfrm>
              <a:off x="6551640" y="242712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31"/>
            <p:cNvSpPr/>
            <p:nvPr/>
          </p:nvSpPr>
          <p:spPr>
            <a:xfrm>
              <a:off x="7238880" y="3817800"/>
              <a:ext cx="73080" cy="7164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7383600" y="39178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7540560" y="40323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34"/>
          <p:cNvGrpSpPr/>
          <p:nvPr/>
        </p:nvGrpSpPr>
        <p:grpSpPr>
          <a:xfrm>
            <a:off x="5580000" y="4221000"/>
            <a:ext cx="3564000" cy="2135520"/>
            <a:chOff x="5580000" y="4221000"/>
            <a:chExt cx="3564000" cy="2135520"/>
          </a:xfrm>
        </p:grpSpPr>
        <p:sp>
          <p:nvSpPr>
            <p:cNvPr id="318" name="AutoShape 35"/>
            <p:cNvSpPr/>
            <p:nvPr/>
          </p:nvSpPr>
          <p:spPr>
            <a:xfrm>
              <a:off x="5580000" y="4221000"/>
              <a:ext cx="356400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36"/>
            <p:cNvSpPr/>
            <p:nvPr/>
          </p:nvSpPr>
          <p:spPr>
            <a:xfrm>
              <a:off x="5819760" y="4373640"/>
              <a:ext cx="2511360" cy="1603440"/>
            </a:xfrm>
            <a:custGeom>
              <a:avLst/>
              <a:gdLst>
                <a:gd name="textAreaLeft" fmla="*/ 0 w 2511360"/>
                <a:gd name="textAreaRight" fmla="*/ 2511720 w 251136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1582" h="1010">
                  <a:moveTo>
                    <a:pt x="442" y="0"/>
                  </a:moveTo>
                  <a:lnTo>
                    <a:pt x="0" y="1010"/>
                  </a:lnTo>
                  <a:lnTo>
                    <a:pt x="1582" y="623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7"/>
            <p:cNvSpPr/>
            <p:nvPr/>
          </p:nvSpPr>
          <p:spPr>
            <a:xfrm flipH="1">
              <a:off x="5819400" y="4373640"/>
              <a:ext cx="701640" cy="1603440"/>
            </a:xfrm>
            <a:prstGeom prst="line">
              <a:avLst/>
            </a:prstGeom>
            <a:ln w="55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8"/>
            <p:cNvSpPr/>
            <p:nvPr/>
          </p:nvSpPr>
          <p:spPr>
            <a:xfrm flipH="1">
              <a:off x="5819760" y="5362560"/>
              <a:ext cx="2511360" cy="614520"/>
            </a:xfrm>
            <a:prstGeom prst="line">
              <a:avLst/>
            </a:prstGeom>
            <a:ln w="55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9"/>
            <p:cNvSpPr/>
            <p:nvPr/>
          </p:nvSpPr>
          <p:spPr>
            <a:xfrm>
              <a:off x="6521400" y="4373640"/>
              <a:ext cx="1809720" cy="988920"/>
            </a:xfrm>
            <a:prstGeom prst="line">
              <a:avLst/>
            </a:prstGeom>
            <a:ln w="55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40"/>
            <p:cNvSpPr/>
            <p:nvPr/>
          </p:nvSpPr>
          <p:spPr>
            <a:xfrm>
              <a:off x="6005520" y="5106960"/>
              <a:ext cx="331920" cy="237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41"/>
            <p:cNvSpPr/>
            <p:nvPr/>
          </p:nvSpPr>
          <p:spPr>
            <a:xfrm flipH="1">
              <a:off x="7167600" y="4780080"/>
              <a:ext cx="295200" cy="126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42"/>
            <p:cNvSpPr/>
            <p:nvPr/>
          </p:nvSpPr>
          <p:spPr>
            <a:xfrm flipH="1">
              <a:off x="7353000" y="4835520"/>
              <a:ext cx="312840" cy="152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43"/>
            <p:cNvSpPr/>
            <p:nvPr/>
          </p:nvSpPr>
          <p:spPr>
            <a:xfrm>
              <a:off x="6799320" y="5594400"/>
              <a:ext cx="220680" cy="1508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>
              <a:off x="6983280" y="5537160"/>
              <a:ext cx="277920" cy="1922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45"/>
            <p:cNvSpPr/>
            <p:nvPr/>
          </p:nvSpPr>
          <p:spPr>
            <a:xfrm>
              <a:off x="7130880" y="5497560"/>
              <a:ext cx="295560" cy="1760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46"/>
            <p:cNvSpPr/>
            <p:nvPr/>
          </p:nvSpPr>
          <p:spPr>
            <a:xfrm>
              <a:off x="6485040" y="4356000"/>
              <a:ext cx="91800" cy="414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8"/>
            <p:cNvSpPr/>
            <p:nvPr/>
          </p:nvSpPr>
          <p:spPr>
            <a:xfrm>
              <a:off x="6835680" y="436392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49"/>
            <p:cNvSpPr/>
            <p:nvPr/>
          </p:nvSpPr>
          <p:spPr>
            <a:xfrm>
              <a:off x="5783400" y="5961240"/>
              <a:ext cx="91800" cy="396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50"/>
            <p:cNvSpPr/>
            <p:nvPr/>
          </p:nvSpPr>
          <p:spPr>
            <a:xfrm>
              <a:off x="5819760" y="60166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1"/>
            <p:cNvSpPr/>
            <p:nvPr/>
          </p:nvSpPr>
          <p:spPr>
            <a:xfrm>
              <a:off x="5894280" y="608004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52"/>
            <p:cNvSpPr/>
            <p:nvPr/>
          </p:nvSpPr>
          <p:spPr>
            <a:xfrm>
              <a:off x="8294760" y="5346720"/>
              <a:ext cx="92160" cy="39600"/>
            </a:xfrm>
            <a:prstGeom prst="ellipse">
              <a:avLst/>
            </a:prstGeom>
            <a:solidFill>
              <a:srgbClr val="38f70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53"/>
            <p:cNvSpPr/>
            <p:nvPr/>
          </p:nvSpPr>
          <p:spPr>
            <a:xfrm>
              <a:off x="8478720" y="528336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54"/>
            <p:cNvSpPr/>
            <p:nvPr/>
          </p:nvSpPr>
          <p:spPr>
            <a:xfrm>
              <a:off x="8701200" y="534672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Прямая соединительная линия 59"/>
          <p:cNvSpPr/>
          <p:nvPr/>
        </p:nvSpPr>
        <p:spPr>
          <a:xfrm>
            <a:off x="6444360" y="2398680"/>
            <a:ext cx="830520" cy="149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250" autoRev="1" fill="hold"/>
                                        <p:tgtEl>
                                          <p:spTgt spid="2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Object 8"/>
          <p:cNvGraphicFramePr/>
          <p:nvPr/>
        </p:nvGraphicFramePr>
        <p:xfrm>
          <a:off x="1638360" y="2584440"/>
          <a:ext cx="3911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584440"/>
                    <a:ext cx="3911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2705040" y="574056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6"/>
              <p:cNvSpPr txBox="1"/>
              <p:nvPr/>
            </p:nvSpPr>
            <p:spPr>
              <a:xfrm>
                <a:off x="1781280" y="5724360"/>
                <a:ext cx="1620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7016760" y="351792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6305400" y="3517920"/>
                <a:ext cx="162000" cy="1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93720" y="2184480"/>
          <a:ext cx="7067520" cy="4359240"/>
        </p:xfrm>
        <a:graphic>
          <a:graphicData uri="http://schemas.openxmlformats.org/drawingml/2006/table">
            <a:tbl>
              <a:tblPr/>
              <a:tblGrid>
                <a:gridCol w="4200480"/>
                <a:gridCol w="2867040"/>
              </a:tblGrid>
              <a:tr h="283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о: ∆АВС и ∆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=А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ь: ∆АВС = ∆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ельств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=АД (дано)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  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да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б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∆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 = 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(по двум сторонам и углу между ни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406440"/>
            <a:ext cx="85345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готовому чертежу докажите равенство треуг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ыявить степень овладения учащимися знаний и умений по теме; отработка решений геометрических задач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вивать умение анализировать и сравнивать; развивать устную и письменную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ываю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вивать интерес к геометрии, умение вести культурную дискусс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80604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1816200" y="2451240"/>
            <a:ext cx="2400120" cy="22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793800" y="1473120"/>
          <a:ext cx="7823160" cy="4992840"/>
        </p:xfrm>
        <a:graphic>
          <a:graphicData uri="http://schemas.openxmlformats.org/drawingml/2006/table">
            <a:tbl>
              <a:tblPr/>
              <a:tblGrid>
                <a:gridCol w="4649760"/>
                <a:gridCol w="3173400"/>
              </a:tblGrid>
              <a:tr h="334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∆KNP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NP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=N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азать: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P 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ельств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=N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дано)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да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об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P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P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по трём сторона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21"/>
          <p:cNvSpPr/>
          <p:nvPr/>
        </p:nvSpPr>
        <p:spPr>
          <a:xfrm>
            <a:off x="349200" y="409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готовому чертежу докажите равенство треуголь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1638360" y="1917720"/>
          <a:ext cx="28810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917720"/>
                    <a:ext cx="2881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16000" y="1828800"/>
          <a:ext cx="8223120" cy="4867200"/>
        </p:xfrm>
        <a:graphic>
          <a:graphicData uri="http://schemas.openxmlformats.org/drawingml/2006/table">
            <a:tbl>
              <a:tblPr/>
              <a:tblGrid>
                <a:gridCol w="4886280"/>
                <a:gridCol w="3336840"/>
              </a:tblGrid>
              <a:tr h="284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=3,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йти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2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шени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ано)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дано)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вертик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по двум сторонам и углу между ни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ледовательн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3,7 д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,7 д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Rectangle 17"/>
          <p:cNvSpPr/>
          <p:nvPr/>
        </p:nvSpPr>
        <p:spPr>
          <a:xfrm>
            <a:off x="367200" y="585720"/>
            <a:ext cx="60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готовому чертежу найдите 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3152880" y="98640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2"/>
          <p:cNvSpPr/>
          <p:nvPr/>
        </p:nvSpPr>
        <p:spPr>
          <a:xfrm>
            <a:off x="216000" y="18288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жите, на каком  из нижеприведённых рисунков есть равные треугольники, по какому признаку они равн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838080" y="2451240"/>
            <a:ext cx="2467080" cy="4124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5060880" y="2540160"/>
            <a:ext cx="2428920" cy="4028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3152880" y="98640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Прямоугольник 2"/>
          <p:cNvSpPr/>
          <p:nvPr/>
        </p:nvSpPr>
        <p:spPr>
          <a:xfrm>
            <a:off x="216000" y="1828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Object 9"/>
          <p:cNvGraphicFramePr/>
          <p:nvPr/>
        </p:nvGraphicFramePr>
        <p:xfrm>
          <a:off x="527040" y="3073320"/>
          <a:ext cx="150480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073320"/>
                    <a:ext cx="1504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2571840" y="3029040"/>
          <a:ext cx="14288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3029040"/>
                    <a:ext cx="14288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13"/>
          <p:cNvGraphicFramePr/>
          <p:nvPr/>
        </p:nvGraphicFramePr>
        <p:xfrm>
          <a:off x="4705200" y="2984400"/>
          <a:ext cx="14479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5200" y="2984400"/>
                    <a:ext cx="14479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15"/>
          <p:cNvGraphicFramePr/>
          <p:nvPr/>
        </p:nvGraphicFramePr>
        <p:xfrm>
          <a:off x="6838920" y="3162240"/>
          <a:ext cx="148608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38920" y="3162240"/>
                    <a:ext cx="1486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Object 17"/>
          <p:cNvGraphicFramePr/>
          <p:nvPr/>
        </p:nvGraphicFramePr>
        <p:xfrm>
          <a:off x="438120" y="4673520"/>
          <a:ext cx="1562040" cy="12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8120" y="4673520"/>
                    <a:ext cx="15620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9"/>
          <p:cNvGraphicFramePr/>
          <p:nvPr/>
        </p:nvGraphicFramePr>
        <p:xfrm>
          <a:off x="2482920" y="4718160"/>
          <a:ext cx="1581120" cy="109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2920" y="4718160"/>
                    <a:ext cx="15811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Object 21"/>
          <p:cNvGraphicFramePr/>
          <p:nvPr/>
        </p:nvGraphicFramePr>
        <p:xfrm>
          <a:off x="4660920" y="4851360"/>
          <a:ext cx="154296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3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0920" y="4851360"/>
                    <a:ext cx="15429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Object 23"/>
          <p:cNvGraphicFramePr/>
          <p:nvPr/>
        </p:nvGraphicFramePr>
        <p:xfrm>
          <a:off x="6972480" y="4896000"/>
          <a:ext cx="1056960" cy="108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72480" y="4896000"/>
                    <a:ext cx="10569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3152880" y="986400"/>
            <a:ext cx="338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216000" y="1828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6972480" y="4896000"/>
          <a:ext cx="128880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2480" y="4896000"/>
                    <a:ext cx="128880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8" name="Picture 10" descr=""/>
          <p:cNvPicPr/>
          <p:nvPr/>
        </p:nvPicPr>
        <p:blipFill>
          <a:blip r:embed="rId3"/>
          <a:stretch/>
        </p:blipFill>
        <p:spPr>
          <a:xfrm>
            <a:off x="571680" y="3251160"/>
            <a:ext cx="1515960" cy="13334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394000" y="3162240"/>
          <a:ext cx="1332000" cy="142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94000" y="3162240"/>
                    <a:ext cx="13320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4394160" y="3073320"/>
          <a:ext cx="1527120" cy="14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94160" y="3073320"/>
                    <a:ext cx="1527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6572160" y="3073320"/>
          <a:ext cx="1538280" cy="15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72160" y="3073320"/>
                    <a:ext cx="15382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17"/>
          <p:cNvGraphicFramePr/>
          <p:nvPr/>
        </p:nvGraphicFramePr>
        <p:xfrm>
          <a:off x="393840" y="4807080"/>
          <a:ext cx="1511280" cy="1554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4807080"/>
                    <a:ext cx="1511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2482920" y="4718160"/>
          <a:ext cx="1668240" cy="137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2920" y="4718160"/>
                    <a:ext cx="166824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Object 21"/>
          <p:cNvGraphicFramePr/>
          <p:nvPr/>
        </p:nvGraphicFramePr>
        <p:xfrm>
          <a:off x="4572000" y="4762440"/>
          <a:ext cx="1633680" cy="137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6" name="Object 2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762440"/>
                    <a:ext cx="16336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1708560" y="40860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к тестиров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171360" y="1295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жите, на каком  из нижеприведённых рисунков есть равные треугольники, по какому признаку они равн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60240" y="2406600"/>
            <a:ext cx="2267280" cy="3859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231480" y="63190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5594400" y="2406600"/>
            <a:ext cx="2246400" cy="38862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4903200" y="631908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2108520" y="27504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к тестиров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216000" y="1251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Object 2"/>
          <p:cNvGraphicFramePr/>
          <p:nvPr/>
        </p:nvGraphicFramePr>
        <p:xfrm>
          <a:off x="6972480" y="4896000"/>
          <a:ext cx="121104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2480" y="4896000"/>
                    <a:ext cx="12110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4" name="Picture 10" descr=""/>
          <p:cNvPicPr/>
          <p:nvPr/>
        </p:nvPicPr>
        <p:blipFill>
          <a:blip r:embed="rId3"/>
          <a:stretch/>
        </p:blipFill>
        <p:spPr>
          <a:xfrm>
            <a:off x="571680" y="3251160"/>
            <a:ext cx="1515960" cy="13334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Object 3"/>
          <p:cNvGraphicFramePr/>
          <p:nvPr/>
        </p:nvGraphicFramePr>
        <p:xfrm>
          <a:off x="2394000" y="3162240"/>
          <a:ext cx="1332000" cy="142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94000" y="3162240"/>
                    <a:ext cx="13320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4"/>
          <p:cNvGraphicFramePr/>
          <p:nvPr/>
        </p:nvGraphicFramePr>
        <p:xfrm>
          <a:off x="4394160" y="3073320"/>
          <a:ext cx="1527120" cy="14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94160" y="3073320"/>
                    <a:ext cx="1527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Object 5"/>
          <p:cNvGraphicFramePr/>
          <p:nvPr/>
        </p:nvGraphicFramePr>
        <p:xfrm>
          <a:off x="6572160" y="3073320"/>
          <a:ext cx="1538280" cy="15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3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72160" y="3073320"/>
                    <a:ext cx="15382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Object 6"/>
          <p:cNvGraphicFramePr/>
          <p:nvPr/>
        </p:nvGraphicFramePr>
        <p:xfrm>
          <a:off x="393840" y="4807080"/>
          <a:ext cx="1333440" cy="1371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4807080"/>
                    <a:ext cx="1333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7"/>
          <p:cNvGraphicFramePr/>
          <p:nvPr/>
        </p:nvGraphicFramePr>
        <p:xfrm>
          <a:off x="2482920" y="4718160"/>
          <a:ext cx="1668240" cy="137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2920" y="4718160"/>
                    <a:ext cx="166824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Object 8"/>
          <p:cNvGraphicFramePr/>
          <p:nvPr/>
        </p:nvGraphicFramePr>
        <p:xfrm>
          <a:off x="4572000" y="4762440"/>
          <a:ext cx="1633680" cy="137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762440"/>
                    <a:ext cx="16336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238400" y="6273720"/>
          <a:ext cx="6076800" cy="426960"/>
        </p:xfrm>
        <a:graphic>
          <a:graphicData uri="http://schemas.openxmlformats.org/drawingml/2006/table">
            <a:tbl>
              <a:tblPr/>
              <a:tblGrid>
                <a:gridCol w="758520"/>
                <a:gridCol w="760680"/>
                <a:gridCol w="758880"/>
                <a:gridCol w="760320"/>
                <a:gridCol w="758880"/>
                <a:gridCol w="760320"/>
                <a:gridCol w="760320"/>
                <a:gridCol w="7588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2286360" y="45288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к тестиров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"/>
          <p:cNvSpPr/>
          <p:nvPr/>
        </p:nvSpPr>
        <p:spPr>
          <a:xfrm>
            <a:off x="171360" y="1473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По какому признаку равны треугольник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 двум сторонам и углу между н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по трем сторон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Object 2"/>
          <p:cNvGraphicFramePr/>
          <p:nvPr/>
        </p:nvGraphicFramePr>
        <p:xfrm>
          <a:off x="527040" y="3073320"/>
          <a:ext cx="150480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073320"/>
                    <a:ext cx="1504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Object 3"/>
          <p:cNvGraphicFramePr/>
          <p:nvPr/>
        </p:nvGraphicFramePr>
        <p:xfrm>
          <a:off x="2571840" y="3029040"/>
          <a:ext cx="14288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3029040"/>
                    <a:ext cx="14288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4705200" y="2984400"/>
          <a:ext cx="14479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5200" y="2984400"/>
                    <a:ext cx="14479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Object 5"/>
          <p:cNvGraphicFramePr/>
          <p:nvPr/>
        </p:nvGraphicFramePr>
        <p:xfrm>
          <a:off x="6838920" y="3162240"/>
          <a:ext cx="148608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38920" y="3162240"/>
                    <a:ext cx="1486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438120" y="4673520"/>
          <a:ext cx="1562040" cy="12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8120" y="4673520"/>
                    <a:ext cx="15620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Object 7"/>
          <p:cNvGraphicFramePr/>
          <p:nvPr/>
        </p:nvGraphicFramePr>
        <p:xfrm>
          <a:off x="2482920" y="4718160"/>
          <a:ext cx="1581120" cy="109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2920" y="4718160"/>
                    <a:ext cx="15811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8"/>
          <p:cNvGraphicFramePr/>
          <p:nvPr/>
        </p:nvGraphicFramePr>
        <p:xfrm>
          <a:off x="4660920" y="4851360"/>
          <a:ext cx="154296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0920" y="4851360"/>
                    <a:ext cx="15429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Object 9"/>
          <p:cNvGraphicFramePr/>
          <p:nvPr/>
        </p:nvGraphicFramePr>
        <p:xfrm>
          <a:off x="6972480" y="4896000"/>
          <a:ext cx="1056960" cy="108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72480" y="4896000"/>
                    <a:ext cx="10569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415880" y="6184800"/>
          <a:ext cx="6077160" cy="426960"/>
        </p:xfrm>
        <a:graphic>
          <a:graphicData uri="http://schemas.openxmlformats.org/drawingml/2006/table">
            <a:tbl>
              <a:tblPr/>
              <a:tblGrid>
                <a:gridCol w="758880"/>
                <a:gridCol w="760680"/>
                <a:gridCol w="758520"/>
                <a:gridCol w="760680"/>
                <a:gridCol w="758880"/>
                <a:gridCol w="760320"/>
                <a:gridCol w="760320"/>
                <a:gridCol w="7588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Изображение 01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1162080"/>
            <a:ext cx="4373280" cy="52452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3"/>
          <p:cNvSpPr/>
          <p:nvPr/>
        </p:nvSpPr>
        <p:spPr>
          <a:xfrm>
            <a:off x="4660920" y="4584600"/>
            <a:ext cx="43052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й самого себя.   (Фалес Милетски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1916280" y="363600"/>
            <a:ext cx="48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171360" y="10080"/>
            <a:ext cx="87854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лес Милетски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ма о равенстве двух треуголь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2932560" y="44647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2" descr="Изображение 014"/>
          <p:cNvPicPr/>
          <p:nvPr/>
        </p:nvPicPr>
        <p:blipFill>
          <a:blip r:embed="rId1"/>
          <a:stretch/>
        </p:blipFill>
        <p:spPr>
          <a:xfrm>
            <a:off x="216000" y="1784520"/>
            <a:ext cx="3644640" cy="48416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7"/>
          <p:cNvSpPr/>
          <p:nvPr/>
        </p:nvSpPr>
        <p:spPr>
          <a:xfrm>
            <a:off x="3905280" y="1828800"/>
            <a:ext cx="4978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Фалес нашёл важное практическое  приложени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гавани Милета был построен дальноме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пределяющий расстояние до корабля в мо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н представлял  собой три вбитых колышка А, В, С, (АВ= ВС) и размеченную прямую СК  перпендикулярно прямой 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 появлении корабля на  прямой С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ходили точку  Д  такую, чтобы точки Д, В, Е оказывались на  одной прям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к ясно из чертежа, расстояние на земле СД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вляется искомым расстоянием до корабля АЕ по во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2760" y="5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туализировать опорные знания по теме «Треугольник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верить понятие треугольн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формулировать признаки равенства треугольни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репить материал через решение задач по готовым чертежа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чить правильно и аккуратно оформлять и решать задач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38120" y="138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задачи по готовым чертежа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6" descr="aluno01"/>
          <p:cNvPicPr/>
          <p:nvPr/>
        </p:nvPicPr>
        <p:blipFill>
          <a:blip r:embed="rId1"/>
          <a:stretch/>
        </p:blipFill>
        <p:spPr>
          <a:xfrm>
            <a:off x="-184320" y="2987640"/>
            <a:ext cx="3368880" cy="3870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" descr=""/>
          <p:cNvPicPr/>
          <p:nvPr/>
        </p:nvPicPr>
        <p:blipFill>
          <a:blip r:embed="rId2"/>
          <a:stretch/>
        </p:blipFill>
        <p:spPr>
          <a:xfrm>
            <a:off x="2349360" y="2139840"/>
            <a:ext cx="3248280" cy="23115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3"/>
          <a:stretch/>
        </p:blipFill>
        <p:spPr>
          <a:xfrm>
            <a:off x="5816520" y="3828960"/>
            <a:ext cx="2949480" cy="2667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урока. Рефлекс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1" descr=""/>
          <p:cNvPicPr/>
          <p:nvPr/>
        </p:nvPicPr>
        <p:blipFill>
          <a:blip r:embed="rId1"/>
          <a:stretch/>
        </p:blipFill>
        <p:spPr>
          <a:xfrm>
            <a:off x="0" y="2762280"/>
            <a:ext cx="9144000" cy="2657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2560" y="1428840"/>
            <a:ext cx="6267240" cy="36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знаки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венства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треугольник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teacher"/>
          <p:cNvPicPr/>
          <p:nvPr/>
        </p:nvPicPr>
        <p:blipFill>
          <a:blip r:embed="rId1"/>
          <a:stretch/>
        </p:blipFill>
        <p:spPr>
          <a:xfrm>
            <a:off x="162000" y="2664000"/>
            <a:ext cx="2638440" cy="2180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иг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71640" y="1916280"/>
            <a:ext cx="2087640" cy="1368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6597720" y="4329000"/>
            <a:ext cx="2087640" cy="1368360"/>
          </a:xfrm>
          <a:custGeom>
            <a:avLst/>
            <a:gdLst>
              <a:gd name="textAreaLeft" fmla="*/ 434880 w 2087640"/>
              <a:gd name="textAreaRight" fmla="*/ 1652760 w 2087640"/>
              <a:gd name="textAreaTop" fmla="*/ 285120 h 1368360"/>
              <a:gd name="textAreaBottom" fmla="*/ 1083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539640" y="4076640"/>
            <a:ext cx="2160720" cy="1513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99"/>
              </a:gs>
              <a:gs pos="100000">
                <a:srgbClr val="00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059280" y="4149720"/>
            <a:ext cx="2881080" cy="1441440"/>
          </a:xfrm>
          <a:prstGeom prst="pentag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119640" y="1854360"/>
            <a:ext cx="3024360" cy="1511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47636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32360" y="3384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642000" y="342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62000" y="5724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032360" y="567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3627360" y="1943280"/>
            <a:ext cx="1530360" cy="1484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7182000" y="5724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4"/>
              <p:cNvSpPr txBox="1"/>
              <p:nvPr/>
            </p:nvSpPr>
            <p:spPr>
              <a:xfrm>
                <a:off x="1881360" y="5724360"/>
                <a:ext cx="452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Text Box 6"/>
          <p:cNvSpPr/>
          <p:nvPr/>
        </p:nvSpPr>
        <p:spPr>
          <a:xfrm>
            <a:off x="793800" y="15620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угла: АВС,АСВ,В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927680" y="1562040"/>
            <a:ext cx="40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тороны: АС, АВ, В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571840" y="200664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вершины: А, В,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816200" y="3740040"/>
                <a:ext cx="6523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5607000" y="5724360"/>
                <a:ext cx="6526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" name="Text Box 28"/>
          <p:cNvSpPr/>
          <p:nvPr/>
        </p:nvSpPr>
        <p:spPr>
          <a:xfrm>
            <a:off x="1601640" y="3743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1601640" y="55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5877000" y="57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7"/>
          <p:cNvSpPr/>
          <p:nvPr/>
        </p:nvSpPr>
        <p:spPr>
          <a:xfrm flipH="1">
            <a:off x="2038320" y="3962520"/>
            <a:ext cx="46080" cy="1955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2127240" y="5904000"/>
            <a:ext cx="3705120" cy="46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2006640" y="3924360"/>
            <a:ext cx="3870360" cy="2025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3263760" y="2540160"/>
            <a:ext cx="588024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угольник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ется фигура, котора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ит из трёх точе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лежащих на одной прямой,  и трёх отрезков, попарно соединяющих эти т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и назы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ершинам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угольни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отрезки - е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орон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843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упоминание о треугольнике и его свойствах  мы находим в египетских  папирусах, которым более 4000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Gisa_Pyramids_1"/>
          <p:cNvPicPr/>
          <p:nvPr/>
        </p:nvPicPr>
        <p:blipFill>
          <a:blip r:embed="rId1"/>
          <a:stretch/>
        </p:blipFill>
        <p:spPr>
          <a:xfrm>
            <a:off x="0" y="1773360"/>
            <a:ext cx="4506840" cy="489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Gisa_Sphinx_Pyramid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4895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556000" y="5445000"/>
            <a:ext cx="3024000" cy="119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3097440" cy="118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5638680" y="4365720"/>
            <a:ext cx="25336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6"/>
          <p:cNvGrpSpPr/>
          <p:nvPr/>
        </p:nvGrpSpPr>
        <p:grpSpPr>
          <a:xfrm>
            <a:off x="324000" y="1628640"/>
            <a:ext cx="3077640" cy="2819160"/>
            <a:chOff x="324000" y="1628640"/>
            <a:chExt cx="3077640" cy="2819160"/>
          </a:xfrm>
        </p:grpSpPr>
        <p:sp>
          <p:nvSpPr>
            <p:cNvPr id="92" name="AutoShape 7"/>
            <p:cNvSpPr/>
            <p:nvPr/>
          </p:nvSpPr>
          <p:spPr>
            <a:xfrm>
              <a:off x="324000" y="1628640"/>
              <a:ext cx="307764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534600" y="1823040"/>
              <a:ext cx="2640600" cy="2398680"/>
            </a:xfrm>
            <a:custGeom>
              <a:avLst/>
              <a:gdLst>
                <a:gd name="textAreaLeft" fmla="*/ 0 w 2640600"/>
                <a:gd name="textAreaRight" fmla="*/ 2640960 w 2640600"/>
                <a:gd name="textAreaTop" fmla="*/ 0 h 2398680"/>
                <a:gd name="textAreaBottom" fmla="*/ 2399040 h 2398680"/>
              </a:gdLst>
              <a:ahLst/>
              <a:rect l="textAreaLeft" t="textAreaTop" r="textAreaRight" b="textAreaBottom"/>
              <a:pathLst>
                <a:path w="1401" h="1273">
                  <a:moveTo>
                    <a:pt x="0" y="1161"/>
                  </a:moveTo>
                  <a:lnTo>
                    <a:pt x="799" y="0"/>
                  </a:lnTo>
                  <a:lnTo>
                    <a:pt x="1401" y="1273"/>
                  </a:lnTo>
                  <a:lnTo>
                    <a:pt x="0" y="116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"/>
            <p:cNvSpPr/>
            <p:nvPr/>
          </p:nvSpPr>
          <p:spPr>
            <a:xfrm flipH="1">
              <a:off x="534600" y="1823040"/>
              <a:ext cx="1506240" cy="2187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2040840" y="1823040"/>
              <a:ext cx="1134360" cy="2398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534600" y="4010760"/>
              <a:ext cx="2640600" cy="2109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2008800" y="1791000"/>
              <a:ext cx="80640" cy="80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502920" y="3978720"/>
              <a:ext cx="80640" cy="810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3141360" y="4188240"/>
              <a:ext cx="81000" cy="80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2592360" y="2168640"/>
            <a:ext cx="2738520" cy="3473280"/>
            <a:chOff x="2592360" y="2168640"/>
            <a:chExt cx="2738520" cy="3473280"/>
          </a:xfrm>
        </p:grpSpPr>
        <p:sp>
          <p:nvSpPr>
            <p:cNvPr id="101" name="AutoShape 16"/>
            <p:cNvSpPr/>
            <p:nvPr/>
          </p:nvSpPr>
          <p:spPr>
            <a:xfrm>
              <a:off x="2592360" y="2168640"/>
              <a:ext cx="2738520" cy="34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2805120" y="2405160"/>
              <a:ext cx="2295720" cy="2982960"/>
            </a:xfrm>
            <a:custGeom>
              <a:avLst/>
              <a:gdLst>
                <a:gd name="textAreaLeft" fmla="*/ 0 w 2295720"/>
                <a:gd name="textAreaRight" fmla="*/ 2296080 w 2295720"/>
                <a:gd name="textAreaTop" fmla="*/ 0 h 2982960"/>
                <a:gd name="textAreaBottom" fmla="*/ 2983320 h 2982960"/>
              </a:gdLst>
              <a:ahLst/>
              <a:rect l="textAreaLeft" t="textAreaTop" r="textAreaRight" b="textAreaBottom"/>
              <a:pathLst>
                <a:path w="1446" h="1879">
                  <a:moveTo>
                    <a:pt x="1446" y="1879"/>
                  </a:moveTo>
                  <a:lnTo>
                    <a:pt x="0" y="1879"/>
                  </a:lnTo>
                  <a:lnTo>
                    <a:pt x="1446" y="0"/>
                  </a:lnTo>
                  <a:lnTo>
                    <a:pt x="1446" y="1879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8"/>
            <p:cNvSpPr/>
            <p:nvPr/>
          </p:nvSpPr>
          <p:spPr>
            <a:xfrm flipH="1">
              <a:off x="2804760" y="2405160"/>
              <a:ext cx="2295720" cy="29829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5100840" y="2405160"/>
              <a:ext cx="1440" cy="29829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2805120" y="5388120"/>
              <a:ext cx="2295720" cy="14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2773440" y="5351400"/>
              <a:ext cx="81000" cy="90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5068800" y="2368440"/>
              <a:ext cx="81000" cy="90720"/>
            </a:xfrm>
            <a:prstGeom prst="ellipse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5068800" y="5351400"/>
              <a:ext cx="81000" cy="907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5076720" y="2276640"/>
            <a:ext cx="3745080" cy="2144520"/>
            <a:chOff x="5076720" y="2276640"/>
            <a:chExt cx="3745080" cy="2144520"/>
          </a:xfrm>
        </p:grpSpPr>
        <p:sp>
          <p:nvSpPr>
            <p:cNvPr id="110" name="AutoShape 25"/>
            <p:cNvSpPr/>
            <p:nvPr/>
          </p:nvSpPr>
          <p:spPr>
            <a:xfrm>
              <a:off x="5076720" y="2276640"/>
              <a:ext cx="374508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5291280" y="2490840"/>
              <a:ext cx="3300120" cy="1700280"/>
            </a:xfrm>
            <a:custGeom>
              <a:avLst/>
              <a:gdLst>
                <a:gd name="textAreaLeft" fmla="*/ 0 w 3300120"/>
                <a:gd name="textAreaRight" fmla="*/ 3300480 w 3300120"/>
                <a:gd name="textAreaTop" fmla="*/ 0 h 1700280"/>
                <a:gd name="textAreaBottom" fmla="*/ 1700640 h 1700280"/>
              </a:gdLst>
              <a:ahLst/>
              <a:rect l="textAreaLeft" t="textAreaTop" r="textAreaRight" b="textAreaBottom"/>
              <a:pathLst>
                <a:path w="2079" h="1071">
                  <a:moveTo>
                    <a:pt x="2079" y="1071"/>
                  </a:moveTo>
                  <a:lnTo>
                    <a:pt x="0" y="541"/>
                  </a:lnTo>
                  <a:lnTo>
                    <a:pt x="904" y="0"/>
                  </a:lnTo>
                  <a:lnTo>
                    <a:pt x="2079" y="107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 flipH="1">
              <a:off x="5291280" y="2490840"/>
              <a:ext cx="1434960" cy="8589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>
              <a:off x="6726240" y="2490840"/>
              <a:ext cx="1865160" cy="17002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5291280" y="3349800"/>
              <a:ext cx="3300120" cy="84132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5257800" y="3316320"/>
              <a:ext cx="82440" cy="82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6692760" y="2457360"/>
              <a:ext cx="82800" cy="82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558280" y="4157640"/>
              <a:ext cx="82440" cy="82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и равнобедренный треуго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539640" y="1989000"/>
            <a:ext cx="3744720" cy="3511440"/>
            <a:chOff x="539640" y="1989000"/>
            <a:chExt cx="3744720" cy="3511440"/>
          </a:xfrm>
        </p:grpSpPr>
        <p:sp>
          <p:nvSpPr>
            <p:cNvPr id="120" name="AutoShape 4"/>
            <p:cNvSpPr/>
            <p:nvPr/>
          </p:nvSpPr>
          <p:spPr>
            <a:xfrm>
              <a:off x="539640" y="1989000"/>
              <a:ext cx="3744720" cy="35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>
              <a:off x="995040" y="2414520"/>
              <a:ext cx="2746800" cy="1876320"/>
            </a:xfrm>
            <a:custGeom>
              <a:avLst/>
              <a:gdLst>
                <a:gd name="textAreaLeft" fmla="*/ 0 w 2746800"/>
                <a:gd name="textAreaRight" fmla="*/ 2747160 w 2746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978" h="940">
                  <a:moveTo>
                    <a:pt x="0" y="940"/>
                  </a:moveTo>
                  <a:lnTo>
                    <a:pt x="493" y="0"/>
                  </a:lnTo>
                  <a:lnTo>
                    <a:pt x="978" y="940"/>
                  </a:lnTo>
                  <a:lnTo>
                    <a:pt x="0" y="94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2379960" y="2414520"/>
              <a:ext cx="1361880" cy="18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994680" y="2414520"/>
              <a:ext cx="1384920" cy="18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995040" y="4290840"/>
              <a:ext cx="2746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1533960" y="3267000"/>
              <a:ext cx="238680" cy="137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2963880" y="3300840"/>
              <a:ext cx="238680" cy="137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2356920" y="4119120"/>
              <a:ext cx="2880" cy="239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015200" y="4749840"/>
              <a:ext cx="166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Равносторонний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1017360" y="5023440"/>
              <a:ext cx="21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треугольник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4"/>
            <p:cNvSpPr/>
            <p:nvPr/>
          </p:nvSpPr>
          <p:spPr>
            <a:xfrm>
              <a:off x="2337840" y="2380320"/>
              <a:ext cx="106200" cy="85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2552760" y="21585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949680" y="4257000"/>
              <a:ext cx="109440" cy="83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754200" y="4374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3700080" y="4257000"/>
              <a:ext cx="106920" cy="83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851280" y="4374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4572000" y="1989000"/>
            <a:ext cx="3009960" cy="3763800"/>
            <a:chOff x="4572000" y="1989000"/>
            <a:chExt cx="3009960" cy="3763800"/>
          </a:xfrm>
        </p:grpSpPr>
        <p:sp>
          <p:nvSpPr>
            <p:cNvPr id="137" name="AutoShape 27"/>
            <p:cNvSpPr/>
            <p:nvPr/>
          </p:nvSpPr>
          <p:spPr>
            <a:xfrm>
              <a:off x="4572000" y="1989000"/>
              <a:ext cx="3009960" cy="37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4783320" y="2127240"/>
              <a:ext cx="2425680" cy="259236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1528" h="1633">
                  <a:moveTo>
                    <a:pt x="0" y="1633"/>
                  </a:moveTo>
                  <a:lnTo>
                    <a:pt x="768" y="0"/>
                  </a:lnTo>
                  <a:lnTo>
                    <a:pt x="1528" y="1633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8a66d9"/>
            </a:solidFill>
            <a:ln w="0">
              <a:solidFill>
                <a:srgbClr val="8a66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>
              <a:off x="4783320" y="4719600"/>
              <a:ext cx="2425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H="1">
              <a:off x="4782960" y="2127240"/>
              <a:ext cx="121932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6002640" y="2127240"/>
              <a:ext cx="120636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330880" y="3354120"/>
              <a:ext cx="136440" cy="8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6524640" y="3298680"/>
              <a:ext cx="19872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5152320" y="5146560"/>
              <a:ext cx="16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Равнобедренный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5"/>
            <p:cNvSpPr/>
            <p:nvPr/>
          </p:nvSpPr>
          <p:spPr>
            <a:xfrm>
              <a:off x="5155560" y="5367240"/>
              <a:ext cx="127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00"/>
                  </a:solidFill>
                  <a:latin typeface="Arial"/>
                </a:rPr>
                <a:t>треугольник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36"/>
            <p:cNvSpPr/>
            <p:nvPr/>
          </p:nvSpPr>
          <p:spPr>
            <a:xfrm>
              <a:off x="4759560" y="4690800"/>
              <a:ext cx="61920" cy="69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37"/>
            <p:cNvSpPr/>
            <p:nvPr/>
          </p:nvSpPr>
          <p:spPr>
            <a:xfrm>
              <a:off x="469512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8"/>
            <p:cNvSpPr/>
            <p:nvPr/>
          </p:nvSpPr>
          <p:spPr>
            <a:xfrm>
              <a:off x="7183440" y="4690800"/>
              <a:ext cx="61920" cy="69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39"/>
            <p:cNvSpPr/>
            <p:nvPr/>
          </p:nvSpPr>
          <p:spPr>
            <a:xfrm>
              <a:off x="730800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44"/>
            <p:cNvSpPr/>
            <p:nvPr/>
          </p:nvSpPr>
          <p:spPr>
            <a:xfrm>
              <a:off x="5977080" y="2098440"/>
              <a:ext cx="61920" cy="69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45"/>
            <p:cNvSpPr/>
            <p:nvPr/>
          </p:nvSpPr>
          <p:spPr>
            <a:xfrm>
              <a:off x="6101640" y="19890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2:45:59Z</dcterms:created>
  <dc:creator>11 поток</dc:creator>
  <dc:description/>
  <dc:language>en-US</dc:language>
  <cp:lastModifiedBy>Oly</cp:lastModifiedBy>
  <dcterms:modified xsi:type="dcterms:W3CDTF">2013-03-10T20:27:10Z</dcterms:modified>
  <cp:revision>59</cp:revision>
  <dc:subject/>
  <dc:title>Смысл слов «теорема»и «доказательство теоремы»</dc:title>
</cp:coreProperties>
</file>