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31.png" ContentType="image/png"/>
  <Override PartName="/ppt/media/image35.png" ContentType="image/png"/>
  <Override PartName="/ppt/media/image36.png" ContentType="image/png"/>
  <Override PartName="/ppt/media/image43.gif" ContentType="image/gif"/>
  <Override PartName="/ppt/media/image46.png" ContentType="image/png"/>
  <Override PartName="/ppt/media/image6.wmf" ContentType="image/x-wmf"/>
  <Override PartName="/ppt/media/image11.png" ContentType="image/png"/>
  <Override PartName="/ppt/media/image37.png" ContentType="image/png"/>
  <Override PartName="/ppt/media/image42.png" ContentType="image/png"/>
  <Override PartName="/ppt/media/image41.jpeg" ContentType="image/jpeg"/>
  <Override PartName="/ppt/media/image44.png" ContentType="image/png"/>
  <Override PartName="/ppt/media/image33.png" ContentType="image/png"/>
  <Override PartName="/ppt/media/image45.png" ContentType="image/png"/>
  <Override PartName="/ppt/media/image5.wmf" ContentType="image/x-wmf"/>
  <Override PartName="/ppt/media/image34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7.wmf" ContentType="image/x-wmf"/>
  <Override PartName="/ppt/media/image12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0.png" ContentType="image/pn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7330-C2CC-4FC2-ABB0-AD5564A428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2956-2F41-4168-8B5B-86F8346A0B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4966-5603-4092-AD3B-58939E82CC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0F87-44FE-4258-B39B-BC92FA44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3966-5E8A-4256-ABB6-C8014335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4C24-E961-4106-9522-E9CCC96E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5974-772B-484F-80A9-710985235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955F-CEAC-4653-BDA2-E82238A9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9E01-3002-40D8-AD8A-83E41E26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5C46-9017-48B3-A53C-22984D89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980C-A979-49CD-8401-CC95CD59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15F3-BD03-492E-BF0E-5043B203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73D7-7C4E-4414-B304-2BCA0C14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FA61-BBCA-4272-BF95-5B7015FC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A45A-1CFB-4A28-8256-9CED807F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D4C3-6D86-4AA3-B1B0-D69BCDF72AC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.png"/><Relationship Id="rId1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6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7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8.png"/><Relationship Id="rId1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6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7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8.png"/><Relationship Id="rId1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.png"/><Relationship Id="rId1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1360" y="274320"/>
            <a:ext cx="880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3013ad"/>
                </a:solidFill>
                <a:latin typeface="Times New Roman"/>
                <a:ea typeface="Times New Roman"/>
              </a:rPr>
              <a:t>Мультимедийный урок по теме</a:t>
            </a:r>
            <a:r>
              <a:rPr b="1" i="1" lang="en-US" sz="4000" spc="-1" strike="noStrike">
                <a:solidFill>
                  <a:srgbClr val="3013ad"/>
                </a:solidFill>
                <a:latin typeface="Times New Roman"/>
                <a:ea typeface="Times New Roman"/>
              </a:rPr>
              <a:t>:</a:t>
            </a:r>
            <a:r>
              <a:rPr b="0" lang="ru-RU" sz="4000" spc="-1" strike="noStrike">
                <a:solidFill>
                  <a:srgbClr val="3013ad"/>
                </a:solidFill>
                <a:latin typeface="Times New Roman"/>
                <a:ea typeface="Times New Roman"/>
              </a:rPr>
              <a:t>  </a:t>
            </a:r>
            <a:br>
              <a:rPr sz="4000"/>
            </a:br>
            <a:r>
              <a:rPr b="1" i="1" lang="ru-RU" sz="4000" spc="-1" strike="noStrike">
                <a:solidFill>
                  <a:srgbClr val="3013ad"/>
                </a:solidFill>
                <a:latin typeface="Times New Roman"/>
                <a:ea typeface="Times New Roman"/>
              </a:rPr>
              <a:t>«Признаки равенства треугольников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49200" y="160020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13ad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итель математики  Ларина Ольга Юрь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СОШ №39 г. Ту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D:\Документы Оля\Просмотренно\Фотки\№39\IMG_4092.JPG"/>
          <p:cNvPicPr/>
          <p:nvPr/>
        </p:nvPicPr>
        <p:blipFill>
          <a:blip r:embed="rId1"/>
          <a:stretch/>
        </p:blipFill>
        <p:spPr>
          <a:xfrm>
            <a:off x="527040" y="1657440"/>
            <a:ext cx="3289320" cy="4600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енство фигу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1332000" y="242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1339920" y="2189160"/>
            <a:ext cx="2376360" cy="2664000"/>
          </a:xfrm>
          <a:prstGeom prst="rtTriangle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5067360" y="2168640"/>
            <a:ext cx="2376360" cy="2663640"/>
          </a:xfrm>
          <a:prstGeom prst="rtTriangl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86 0.00277 L -0.40556 0.00555 E">
                                      <p:cBhvr>
                                        <p:cTn id="250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й призна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ве стороны и угол между ними одного треугольника, соответственно равны  двум сторонам и углу между ними другого треугольника , то такие треугольники рав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" name="Group 4"/>
          <p:cNvGrpSpPr/>
          <p:nvPr/>
        </p:nvGrpSpPr>
        <p:grpSpPr>
          <a:xfrm>
            <a:off x="1619280" y="4273560"/>
            <a:ext cx="2247840" cy="1533600"/>
            <a:chOff x="1619280" y="4273560"/>
            <a:chExt cx="2247840" cy="1533600"/>
          </a:xfrm>
        </p:grpSpPr>
        <p:sp>
          <p:nvSpPr>
            <p:cNvPr id="159" name="AutoShape 5"/>
            <p:cNvSpPr/>
            <p:nvPr/>
          </p:nvSpPr>
          <p:spPr>
            <a:xfrm>
              <a:off x="1619280" y="4292640"/>
              <a:ext cx="2247840" cy="14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6"/>
            <p:cNvSpPr/>
            <p:nvPr/>
          </p:nvSpPr>
          <p:spPr>
            <a:xfrm>
              <a:off x="1743120" y="4416480"/>
              <a:ext cx="1714320" cy="990720"/>
            </a:xfrm>
            <a:custGeom>
              <a:avLst/>
              <a:gdLst>
                <a:gd name="textAreaLeft" fmla="*/ 0 w 1714320"/>
                <a:gd name="textAreaRight" fmla="*/ 1714680 w 171432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1080" h="624">
                  <a:moveTo>
                    <a:pt x="732" y="0"/>
                  </a:moveTo>
                  <a:lnTo>
                    <a:pt x="0" y="576"/>
                  </a:lnTo>
                  <a:lnTo>
                    <a:pt x="1080" y="624"/>
                  </a:lnTo>
                  <a:lnTo>
                    <a:pt x="732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rc 7"/>
            <p:cNvSpPr/>
            <p:nvPr/>
          </p:nvSpPr>
          <p:spPr>
            <a:xfrm>
              <a:off x="1971720" y="5111640"/>
              <a:ext cx="190440" cy="239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fill="none" w="21600" h="27101">
                  <a:moveTo>
                    <a:pt x="6504" y="-1"/>
                  </a:moveTo>
                  <a:cubicBezTo>
                    <a:pt x="15490" y="2837"/>
                    <a:pt x="21600" y="11173"/>
                    <a:pt x="21600" y="20597"/>
                  </a:cubicBezTo>
                  <a:cubicBezTo>
                    <a:pt x="21600" y="22803"/>
                    <a:pt x="21261" y="24997"/>
                    <a:pt x="20597" y="27101"/>
                  </a:cubicBezTo>
                </a:path>
                <a:path stroke="0" w="21600" h="27101">
                  <a:moveTo>
                    <a:pt x="6504" y="-1"/>
                  </a:moveTo>
                  <a:cubicBezTo>
                    <a:pt x="15490" y="2837"/>
                    <a:pt x="21600" y="11173"/>
                    <a:pt x="21600" y="20597"/>
                  </a:cubicBezTo>
                  <a:cubicBezTo>
                    <a:pt x="21600" y="22803"/>
                    <a:pt x="21261" y="24997"/>
                    <a:pt x="20597" y="27101"/>
                  </a:cubicBezTo>
                  <a:lnTo>
                    <a:pt x="0" y="20597"/>
                  </a:lnTo>
                  <a:close/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8"/>
            <p:cNvSpPr/>
            <p:nvPr/>
          </p:nvSpPr>
          <p:spPr>
            <a:xfrm flipH="1">
              <a:off x="1743120" y="4416480"/>
              <a:ext cx="1162080" cy="9144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9"/>
            <p:cNvSpPr/>
            <p:nvPr/>
          </p:nvSpPr>
          <p:spPr>
            <a:xfrm>
              <a:off x="1743120" y="5330880"/>
              <a:ext cx="1714320" cy="7632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Oval 10"/>
            <p:cNvSpPr/>
            <p:nvPr/>
          </p:nvSpPr>
          <p:spPr>
            <a:xfrm>
              <a:off x="1724040" y="5311800"/>
              <a:ext cx="47520" cy="4752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11"/>
            <p:cNvSpPr/>
            <p:nvPr/>
          </p:nvSpPr>
          <p:spPr>
            <a:xfrm>
              <a:off x="1859400" y="53784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12"/>
            <p:cNvSpPr/>
            <p:nvPr/>
          </p:nvSpPr>
          <p:spPr>
            <a:xfrm>
              <a:off x="1933560" y="545472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13"/>
            <p:cNvSpPr/>
            <p:nvPr/>
          </p:nvSpPr>
          <p:spPr>
            <a:xfrm>
              <a:off x="2886120" y="4397400"/>
              <a:ext cx="47520" cy="4752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14"/>
            <p:cNvSpPr/>
            <p:nvPr/>
          </p:nvSpPr>
          <p:spPr>
            <a:xfrm>
              <a:off x="2981160" y="4273560"/>
              <a:ext cx="301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15"/>
            <p:cNvSpPr/>
            <p:nvPr/>
          </p:nvSpPr>
          <p:spPr>
            <a:xfrm>
              <a:off x="3095640" y="454032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Oval 16"/>
            <p:cNvSpPr/>
            <p:nvPr/>
          </p:nvSpPr>
          <p:spPr>
            <a:xfrm>
              <a:off x="3438360" y="5388120"/>
              <a:ext cx="47880" cy="4752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17"/>
            <p:cNvSpPr/>
            <p:nvPr/>
          </p:nvSpPr>
          <p:spPr>
            <a:xfrm>
              <a:off x="3572640" y="54547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18"/>
            <p:cNvSpPr/>
            <p:nvPr/>
          </p:nvSpPr>
          <p:spPr>
            <a:xfrm>
              <a:off x="3638520" y="5530680"/>
              <a:ext cx="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19"/>
          <p:cNvGrpSpPr/>
          <p:nvPr/>
        </p:nvGrpSpPr>
        <p:grpSpPr>
          <a:xfrm>
            <a:off x="5219640" y="4140360"/>
            <a:ext cx="2247840" cy="1576080"/>
            <a:chOff x="5219640" y="4140360"/>
            <a:chExt cx="2247840" cy="1576080"/>
          </a:xfrm>
        </p:grpSpPr>
        <p:sp>
          <p:nvSpPr>
            <p:cNvPr id="174" name="AutoShape 20"/>
            <p:cNvSpPr/>
            <p:nvPr/>
          </p:nvSpPr>
          <p:spPr>
            <a:xfrm>
              <a:off x="5219640" y="4221000"/>
              <a:ext cx="2247840" cy="14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Freeform 21"/>
            <p:cNvSpPr/>
            <p:nvPr/>
          </p:nvSpPr>
          <p:spPr>
            <a:xfrm>
              <a:off x="5343480" y="4344840"/>
              <a:ext cx="1714680" cy="990720"/>
            </a:xfrm>
            <a:custGeom>
              <a:avLst/>
              <a:gdLst>
                <a:gd name="textAreaLeft" fmla="*/ 0 w 1714680"/>
                <a:gd name="textAreaRight" fmla="*/ 1715040 w 171468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1080" h="624">
                  <a:moveTo>
                    <a:pt x="732" y="0"/>
                  </a:moveTo>
                  <a:lnTo>
                    <a:pt x="0" y="576"/>
                  </a:lnTo>
                  <a:lnTo>
                    <a:pt x="1080" y="624"/>
                  </a:lnTo>
                  <a:lnTo>
                    <a:pt x="732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Arc 22"/>
            <p:cNvSpPr/>
            <p:nvPr/>
          </p:nvSpPr>
          <p:spPr>
            <a:xfrm>
              <a:off x="5572080" y="5040360"/>
              <a:ext cx="190440" cy="239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fill="none" w="21600" h="27101">
                  <a:moveTo>
                    <a:pt x="6504" y="-1"/>
                  </a:moveTo>
                  <a:cubicBezTo>
                    <a:pt x="15490" y="2837"/>
                    <a:pt x="21600" y="11173"/>
                    <a:pt x="21600" y="20597"/>
                  </a:cubicBezTo>
                  <a:cubicBezTo>
                    <a:pt x="21600" y="22803"/>
                    <a:pt x="21261" y="24997"/>
                    <a:pt x="20597" y="27101"/>
                  </a:cubicBezTo>
                </a:path>
                <a:path stroke="0" w="21600" h="27101">
                  <a:moveTo>
                    <a:pt x="6504" y="-1"/>
                  </a:moveTo>
                  <a:cubicBezTo>
                    <a:pt x="15490" y="2837"/>
                    <a:pt x="21600" y="11173"/>
                    <a:pt x="21600" y="20597"/>
                  </a:cubicBezTo>
                  <a:cubicBezTo>
                    <a:pt x="21600" y="22803"/>
                    <a:pt x="21261" y="24997"/>
                    <a:pt x="20597" y="27101"/>
                  </a:cubicBezTo>
                  <a:lnTo>
                    <a:pt x="0" y="20597"/>
                  </a:lnTo>
                  <a:close/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23"/>
            <p:cNvSpPr/>
            <p:nvPr/>
          </p:nvSpPr>
          <p:spPr>
            <a:xfrm flipH="1">
              <a:off x="5343480" y="4344840"/>
              <a:ext cx="1162080" cy="9144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24"/>
            <p:cNvSpPr/>
            <p:nvPr/>
          </p:nvSpPr>
          <p:spPr>
            <a:xfrm>
              <a:off x="5343480" y="5259240"/>
              <a:ext cx="1714680" cy="7632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Oval 25"/>
            <p:cNvSpPr/>
            <p:nvPr/>
          </p:nvSpPr>
          <p:spPr>
            <a:xfrm>
              <a:off x="5324400" y="5240160"/>
              <a:ext cx="47880" cy="4788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26"/>
            <p:cNvSpPr/>
            <p:nvPr/>
          </p:nvSpPr>
          <p:spPr>
            <a:xfrm>
              <a:off x="5459760" y="5307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27"/>
            <p:cNvSpPr/>
            <p:nvPr/>
          </p:nvSpPr>
          <p:spPr>
            <a:xfrm>
              <a:off x="5563440" y="5383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Oval 28"/>
            <p:cNvSpPr/>
            <p:nvPr/>
          </p:nvSpPr>
          <p:spPr>
            <a:xfrm>
              <a:off x="6486480" y="4325760"/>
              <a:ext cx="47520" cy="4788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29"/>
            <p:cNvSpPr/>
            <p:nvPr/>
          </p:nvSpPr>
          <p:spPr>
            <a:xfrm>
              <a:off x="6581880" y="4140360"/>
              <a:ext cx="345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30"/>
            <p:cNvSpPr/>
            <p:nvPr/>
          </p:nvSpPr>
          <p:spPr>
            <a:xfrm>
              <a:off x="6696000" y="4184640"/>
              <a:ext cx="18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Oval 31"/>
            <p:cNvSpPr/>
            <p:nvPr/>
          </p:nvSpPr>
          <p:spPr>
            <a:xfrm>
              <a:off x="7039080" y="5316480"/>
              <a:ext cx="47520" cy="4752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32"/>
            <p:cNvSpPr/>
            <p:nvPr/>
          </p:nvSpPr>
          <p:spPr>
            <a:xfrm>
              <a:off x="7173000" y="5383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33"/>
            <p:cNvSpPr/>
            <p:nvPr/>
          </p:nvSpPr>
          <p:spPr>
            <a:xfrm>
              <a:off x="7268400" y="54594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Прямая соединительная линия 34"/>
          <p:cNvSpPr/>
          <p:nvPr/>
        </p:nvSpPr>
        <p:spPr>
          <a:xfrm>
            <a:off x="2927520" y="4451400"/>
            <a:ext cx="529920" cy="9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ая соединительная линия 36"/>
          <p:cNvSpPr/>
          <p:nvPr/>
        </p:nvSpPr>
        <p:spPr>
          <a:xfrm>
            <a:off x="6509520" y="4373640"/>
            <a:ext cx="576360" cy="9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0" y="2451240"/>
            <a:ext cx="4438800" cy="1496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2"/>
          <a:stretch/>
        </p:blipFill>
        <p:spPr>
          <a:xfrm>
            <a:off x="4665600" y="2317680"/>
            <a:ext cx="4478400" cy="1733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3"/>
          <a:stretch/>
        </p:blipFill>
        <p:spPr>
          <a:xfrm>
            <a:off x="2394000" y="4673520"/>
            <a:ext cx="4300560" cy="15559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538920" y="678240"/>
            <a:ext cx="7491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 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ах изображены пары равных треугольников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ть 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аких рисунках изображены треугольни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е по стороне и углу между ними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216000" y="231804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4749840" y="2451600"/>
            <a:ext cx="3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2927520" y="4362840"/>
            <a:ext cx="3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1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76" dur="1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77" dur="1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й  призна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82760" y="169524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торона и два прилежащих угла одного треугольника соответственно равны стороне и двум прилежащим углам другого треугольника , то такие треугольники рав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9" name="Group 4"/>
          <p:cNvGrpSpPr/>
          <p:nvPr/>
        </p:nvGrpSpPr>
        <p:grpSpPr>
          <a:xfrm>
            <a:off x="1149480" y="3873600"/>
            <a:ext cx="7151040" cy="2444400"/>
            <a:chOff x="1149480" y="3873600"/>
            <a:chExt cx="7151040" cy="2444400"/>
          </a:xfrm>
        </p:grpSpPr>
        <p:sp>
          <p:nvSpPr>
            <p:cNvPr id="200" name="AutoShape 5"/>
            <p:cNvSpPr/>
            <p:nvPr/>
          </p:nvSpPr>
          <p:spPr>
            <a:xfrm>
              <a:off x="1149480" y="3873600"/>
              <a:ext cx="7151040" cy="24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Freeform 6"/>
            <p:cNvSpPr/>
            <p:nvPr/>
          </p:nvSpPr>
          <p:spPr>
            <a:xfrm>
              <a:off x="4756680" y="4121280"/>
              <a:ext cx="3069000" cy="1568880"/>
            </a:xfrm>
            <a:custGeom>
              <a:avLst/>
              <a:gdLst>
                <a:gd name="textAreaLeft" fmla="*/ 0 w 3069000"/>
                <a:gd name="textAreaRight" fmla="*/ 3069360 w 3069000"/>
                <a:gd name="textAreaTop" fmla="*/ 0 h 1568880"/>
                <a:gd name="textAreaBottom" fmla="*/ 1569240 h 1568880"/>
              </a:gdLst>
              <a:ahLst/>
              <a:rect l="textAreaLeft" t="textAreaTop" r="textAreaRight" b="textAreaBottom"/>
              <a:pathLst>
                <a:path w="1164" h="570">
                  <a:moveTo>
                    <a:pt x="1056" y="0"/>
                  </a:moveTo>
                  <a:lnTo>
                    <a:pt x="0" y="354"/>
                  </a:lnTo>
                  <a:lnTo>
                    <a:pt x="1164" y="570"/>
                  </a:lnTo>
                  <a:lnTo>
                    <a:pt x="105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Freeform 7"/>
            <p:cNvSpPr/>
            <p:nvPr/>
          </p:nvSpPr>
          <p:spPr>
            <a:xfrm>
              <a:off x="1355040" y="4088160"/>
              <a:ext cx="2910960" cy="1568880"/>
            </a:xfrm>
            <a:custGeom>
              <a:avLst/>
              <a:gdLst>
                <a:gd name="textAreaLeft" fmla="*/ 0 w 2910960"/>
                <a:gd name="textAreaRight" fmla="*/ 2911320 w 2910960"/>
                <a:gd name="textAreaTop" fmla="*/ 0 h 1568880"/>
                <a:gd name="textAreaBottom" fmla="*/ 1569240 h 1568880"/>
              </a:gdLst>
              <a:ahLst/>
              <a:rect l="textAreaLeft" t="textAreaTop" r="textAreaRight" b="textAreaBottom"/>
              <a:pathLst>
                <a:path w="1104" h="570">
                  <a:moveTo>
                    <a:pt x="0" y="372"/>
                  </a:moveTo>
                  <a:lnTo>
                    <a:pt x="1104" y="570"/>
                  </a:lnTo>
                  <a:lnTo>
                    <a:pt x="996" y="0"/>
                  </a:lnTo>
                  <a:lnTo>
                    <a:pt x="0" y="372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Arc 8"/>
            <p:cNvSpPr/>
            <p:nvPr/>
          </p:nvSpPr>
          <p:spPr>
            <a:xfrm>
              <a:off x="1734840" y="4850640"/>
              <a:ext cx="411120" cy="410040"/>
            </a:xfrm>
            <a:custGeom>
              <a:avLst/>
              <a:gdLst>
                <a:gd name="textAreaLeft" fmla="*/ 0 w 411120"/>
                <a:gd name="textAreaRight" fmla="*/ 411480 w 411120"/>
                <a:gd name="textAreaTop" fmla="*/ 0 h 410040"/>
                <a:gd name="textAreaBottom" fmla="*/ 410400 h 410040"/>
              </a:gdLst>
              <a:ahLst/>
              <a:rect l="textAreaLeft" t="textAreaTop" r="textAreaRight" b="textAreaBottom"/>
              <a:pathLst>
                <a:path fill="none" w="21600" h="20679">
                  <a:moveTo>
                    <a:pt x="15680" y="0"/>
                  </a:moveTo>
                  <a:cubicBezTo>
                    <a:pt x="19481" y="4012"/>
                    <a:pt x="21600" y="9328"/>
                    <a:pt x="21600" y="14855"/>
                  </a:cubicBezTo>
                  <a:cubicBezTo>
                    <a:pt x="21600" y="16823"/>
                    <a:pt x="21330" y="18783"/>
                    <a:pt x="20800" y="20679"/>
                  </a:cubicBezTo>
                </a:path>
                <a:path stroke="0" w="21600" h="20679">
                  <a:moveTo>
                    <a:pt x="15680" y="0"/>
                  </a:moveTo>
                  <a:cubicBezTo>
                    <a:pt x="19481" y="4012"/>
                    <a:pt x="21600" y="9328"/>
                    <a:pt x="21600" y="14855"/>
                  </a:cubicBezTo>
                  <a:cubicBezTo>
                    <a:pt x="21600" y="16823"/>
                    <a:pt x="21330" y="18783"/>
                    <a:pt x="20800" y="20679"/>
                  </a:cubicBezTo>
                  <a:lnTo>
                    <a:pt x="0" y="14855"/>
                  </a:lnTo>
                  <a:close/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Arc 9"/>
            <p:cNvSpPr/>
            <p:nvPr/>
          </p:nvSpPr>
          <p:spPr>
            <a:xfrm>
              <a:off x="3794040" y="5227560"/>
              <a:ext cx="392760" cy="380160"/>
            </a:xfrm>
            <a:custGeom>
              <a:avLst/>
              <a:gdLst>
                <a:gd name="textAreaLeft" fmla="*/ 0 w 392760"/>
                <a:gd name="textAreaRight" fmla="*/ 393120 w 39276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fill="none" w="22887" h="21600">
                  <a:moveTo>
                    <a:pt x="-1" y="19645"/>
                  </a:moveTo>
                  <a:cubicBezTo>
                    <a:pt x="1010" y="8519"/>
                    <a:pt x="10338" y="-1"/>
                    <a:pt x="21511" y="0"/>
                  </a:cubicBezTo>
                  <a:cubicBezTo>
                    <a:pt x="21970" y="0"/>
                    <a:pt x="22428" y="14"/>
                    <a:pt x="22887" y="43"/>
                  </a:cubicBezTo>
                </a:path>
                <a:path stroke="0" w="22887" h="21600">
                  <a:moveTo>
                    <a:pt x="-1" y="19645"/>
                  </a:moveTo>
                  <a:cubicBezTo>
                    <a:pt x="1010" y="8519"/>
                    <a:pt x="10338" y="-1"/>
                    <a:pt x="21511" y="0"/>
                  </a:cubicBezTo>
                  <a:cubicBezTo>
                    <a:pt x="21970" y="0"/>
                    <a:pt x="22428" y="14"/>
                    <a:pt x="22887" y="43"/>
                  </a:cubicBezTo>
                  <a:lnTo>
                    <a:pt x="21511" y="21600"/>
                  </a:lnTo>
                  <a:close/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Arc 10"/>
            <p:cNvSpPr/>
            <p:nvPr/>
          </p:nvSpPr>
          <p:spPr>
            <a:xfrm>
              <a:off x="3530160" y="4988520"/>
              <a:ext cx="719640" cy="792720"/>
            </a:xfrm>
            <a:custGeom>
              <a:avLst/>
              <a:gdLst>
                <a:gd name="textAreaLeft" fmla="*/ 0 w 719640"/>
                <a:gd name="textAreaRight" fmla="*/ 720000 w 719640"/>
                <a:gd name="textAreaTop" fmla="*/ 0 h 792720"/>
                <a:gd name="textAreaBottom" fmla="*/ 793080 h 792720"/>
              </a:gdLst>
              <a:ahLst/>
              <a:rect l="textAreaLeft" t="textAreaTop" r="textAreaRight" b="textAreaBottom"/>
              <a:pathLst>
                <a:path fill="none" w="20491" h="21374">
                  <a:moveTo>
                    <a:pt x="0" y="14541"/>
                  </a:moveTo>
                  <a:cubicBezTo>
                    <a:pt x="2580" y="6802"/>
                    <a:pt x="9301" y="1177"/>
                    <a:pt x="17374" y="0"/>
                  </a:cubicBezTo>
                </a:path>
                <a:path stroke="0" w="20491" h="21374">
                  <a:moveTo>
                    <a:pt x="0" y="14541"/>
                  </a:moveTo>
                  <a:cubicBezTo>
                    <a:pt x="2580" y="6802"/>
                    <a:pt x="9301" y="1177"/>
                    <a:pt x="17374" y="0"/>
                  </a:cubicBezTo>
                  <a:lnTo>
                    <a:pt x="20491" y="21374"/>
                  </a:lnTo>
                  <a:close/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Arc 11"/>
            <p:cNvSpPr/>
            <p:nvPr/>
          </p:nvSpPr>
          <p:spPr>
            <a:xfrm>
              <a:off x="4938480" y="4848120"/>
              <a:ext cx="577440" cy="396360"/>
            </a:xfrm>
            <a:custGeom>
              <a:avLst/>
              <a:gdLst>
                <a:gd name="textAreaLeft" fmla="*/ 0 w 577440"/>
                <a:gd name="textAreaRight" fmla="*/ 577800 w 577440"/>
                <a:gd name="textAreaTop" fmla="*/ 0 h 396360"/>
                <a:gd name="textAreaBottom" fmla="*/ 396720 h 396360"/>
              </a:gdLst>
              <a:ahLst/>
              <a:rect l="textAreaLeft" t="textAreaTop" r="textAreaRight" b="textAreaBottom"/>
              <a:pathLst>
                <a:path fill="none" w="21600" h="14189">
                  <a:moveTo>
                    <a:pt x="20491" y="0"/>
                  </a:moveTo>
                  <a:cubicBezTo>
                    <a:pt x="21225" y="2202"/>
                    <a:pt x="21600" y="4509"/>
                    <a:pt x="21600" y="6831"/>
                  </a:cubicBezTo>
                  <a:cubicBezTo>
                    <a:pt x="21600" y="9340"/>
                    <a:pt x="21162" y="11830"/>
                    <a:pt x="20308" y="14189"/>
                  </a:cubicBezTo>
                </a:path>
                <a:path stroke="0" w="21600" h="14189">
                  <a:moveTo>
                    <a:pt x="20491" y="0"/>
                  </a:moveTo>
                  <a:cubicBezTo>
                    <a:pt x="21225" y="2202"/>
                    <a:pt x="21600" y="4509"/>
                    <a:pt x="21600" y="6831"/>
                  </a:cubicBezTo>
                  <a:cubicBezTo>
                    <a:pt x="21600" y="9340"/>
                    <a:pt x="21162" y="11830"/>
                    <a:pt x="20308" y="14189"/>
                  </a:cubicBezTo>
                  <a:lnTo>
                    <a:pt x="0" y="6831"/>
                  </a:lnTo>
                  <a:close/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Arc 12"/>
            <p:cNvSpPr/>
            <p:nvPr/>
          </p:nvSpPr>
          <p:spPr>
            <a:xfrm>
              <a:off x="7000560" y="5013000"/>
              <a:ext cx="967320" cy="1181160"/>
            </a:xfrm>
            <a:custGeom>
              <a:avLst/>
              <a:gdLst>
                <a:gd name="textAreaLeft" fmla="*/ 0 w 967320"/>
                <a:gd name="textAreaRight" fmla="*/ 967680 w 96732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fill="none" w="18120" h="21006">
                  <a:moveTo>
                    <a:pt x="-1" y="9249"/>
                  </a:moveTo>
                  <a:cubicBezTo>
                    <a:pt x="3015" y="4601"/>
                    <a:pt x="7702" y="1289"/>
                    <a:pt x="13090" y="-1"/>
                  </a:cubicBezTo>
                </a:path>
                <a:path stroke="0" w="18120" h="21006">
                  <a:moveTo>
                    <a:pt x="-1" y="9249"/>
                  </a:moveTo>
                  <a:cubicBezTo>
                    <a:pt x="3015" y="4601"/>
                    <a:pt x="7702" y="1289"/>
                    <a:pt x="13090" y="-1"/>
                  </a:cubicBezTo>
                  <a:lnTo>
                    <a:pt x="18120" y="21006"/>
                  </a:lnTo>
                  <a:close/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Arc 13"/>
            <p:cNvSpPr/>
            <p:nvPr/>
          </p:nvSpPr>
          <p:spPr>
            <a:xfrm>
              <a:off x="7279920" y="5219640"/>
              <a:ext cx="569520" cy="644040"/>
            </a:xfrm>
            <a:custGeom>
              <a:avLst/>
              <a:gdLst>
                <a:gd name="textAreaLeft" fmla="*/ 0 w 569520"/>
                <a:gd name="textAreaRight" fmla="*/ 569880 w 569520"/>
                <a:gd name="textAreaTop" fmla="*/ 0 h 644040"/>
                <a:gd name="textAreaBottom" fmla="*/ 644400 h 644040"/>
              </a:gdLst>
              <a:ahLst/>
              <a:rect l="textAreaLeft" t="textAreaTop" r="textAreaRight" b="textAreaBottom"/>
              <a:pathLst>
                <a:path fill="none" w="19682" h="21299">
                  <a:moveTo>
                    <a:pt x="-1" y="12401"/>
                  </a:moveTo>
                  <a:cubicBezTo>
                    <a:pt x="2962" y="5847"/>
                    <a:pt x="8993" y="1197"/>
                    <a:pt x="16086" y="0"/>
                  </a:cubicBezTo>
                </a:path>
                <a:path stroke="0" w="19682" h="21299">
                  <a:moveTo>
                    <a:pt x="-1" y="12401"/>
                  </a:moveTo>
                  <a:cubicBezTo>
                    <a:pt x="2962" y="5847"/>
                    <a:pt x="8993" y="1197"/>
                    <a:pt x="16086" y="0"/>
                  </a:cubicBezTo>
                  <a:lnTo>
                    <a:pt x="19682" y="21299"/>
                  </a:lnTo>
                  <a:close/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14"/>
            <p:cNvSpPr/>
            <p:nvPr/>
          </p:nvSpPr>
          <p:spPr>
            <a:xfrm flipH="1">
              <a:off x="1355040" y="4088160"/>
              <a:ext cx="2625840" cy="10238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15"/>
            <p:cNvSpPr/>
            <p:nvPr/>
          </p:nvSpPr>
          <p:spPr>
            <a:xfrm>
              <a:off x="3981240" y="4088160"/>
              <a:ext cx="285120" cy="15688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16"/>
            <p:cNvSpPr/>
            <p:nvPr/>
          </p:nvSpPr>
          <p:spPr>
            <a:xfrm>
              <a:off x="1355040" y="5112360"/>
              <a:ext cx="2910960" cy="5450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17"/>
            <p:cNvSpPr/>
            <p:nvPr/>
          </p:nvSpPr>
          <p:spPr>
            <a:xfrm flipH="1">
              <a:off x="4756680" y="4121280"/>
              <a:ext cx="2784240" cy="9745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18"/>
            <p:cNvSpPr/>
            <p:nvPr/>
          </p:nvSpPr>
          <p:spPr>
            <a:xfrm>
              <a:off x="7540920" y="4121280"/>
              <a:ext cx="284400" cy="15688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19"/>
            <p:cNvSpPr/>
            <p:nvPr/>
          </p:nvSpPr>
          <p:spPr>
            <a:xfrm>
              <a:off x="4756680" y="5096160"/>
              <a:ext cx="3069000" cy="5943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Oval 20"/>
            <p:cNvSpPr/>
            <p:nvPr/>
          </p:nvSpPr>
          <p:spPr>
            <a:xfrm>
              <a:off x="3949920" y="4055040"/>
              <a:ext cx="78840" cy="8208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21"/>
            <p:cNvSpPr/>
            <p:nvPr/>
          </p:nvSpPr>
          <p:spPr>
            <a:xfrm>
              <a:off x="4125600" y="417060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22"/>
            <p:cNvSpPr/>
            <p:nvPr/>
          </p:nvSpPr>
          <p:spPr>
            <a:xfrm>
              <a:off x="4307760" y="4303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Oval 23"/>
            <p:cNvSpPr/>
            <p:nvPr/>
          </p:nvSpPr>
          <p:spPr>
            <a:xfrm>
              <a:off x="7509240" y="4088160"/>
              <a:ext cx="78840" cy="8208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24"/>
            <p:cNvSpPr/>
            <p:nvPr/>
          </p:nvSpPr>
          <p:spPr>
            <a:xfrm>
              <a:off x="7684560" y="4203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Oval 25"/>
            <p:cNvSpPr/>
            <p:nvPr/>
          </p:nvSpPr>
          <p:spPr>
            <a:xfrm>
              <a:off x="1323360" y="5079240"/>
              <a:ext cx="79200" cy="8208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26"/>
            <p:cNvSpPr/>
            <p:nvPr/>
          </p:nvSpPr>
          <p:spPr>
            <a:xfrm>
              <a:off x="1496520" y="51948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27"/>
            <p:cNvSpPr/>
            <p:nvPr/>
          </p:nvSpPr>
          <p:spPr>
            <a:xfrm>
              <a:off x="1649880" y="5326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28"/>
            <p:cNvSpPr/>
            <p:nvPr/>
          </p:nvSpPr>
          <p:spPr>
            <a:xfrm>
              <a:off x="4234680" y="5624280"/>
              <a:ext cx="78840" cy="8280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29"/>
            <p:cNvSpPr/>
            <p:nvPr/>
          </p:nvSpPr>
          <p:spPr>
            <a:xfrm>
              <a:off x="4409640" y="5739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30"/>
            <p:cNvSpPr/>
            <p:nvPr/>
          </p:nvSpPr>
          <p:spPr>
            <a:xfrm>
              <a:off x="4592160" y="5871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Oval 31"/>
            <p:cNvSpPr/>
            <p:nvPr/>
          </p:nvSpPr>
          <p:spPr>
            <a:xfrm>
              <a:off x="7794000" y="5657400"/>
              <a:ext cx="78840" cy="8208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32"/>
            <p:cNvSpPr/>
            <p:nvPr/>
          </p:nvSpPr>
          <p:spPr>
            <a:xfrm>
              <a:off x="7969320" y="57729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33"/>
            <p:cNvSpPr/>
            <p:nvPr/>
          </p:nvSpPr>
          <p:spPr>
            <a:xfrm>
              <a:off x="4725000" y="5063040"/>
              <a:ext cx="78840" cy="8208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34"/>
            <p:cNvSpPr/>
            <p:nvPr/>
          </p:nvSpPr>
          <p:spPr>
            <a:xfrm>
              <a:off x="4900320" y="51782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heel spokes="8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5"/>
          <p:cNvSpPr/>
          <p:nvPr/>
        </p:nvSpPr>
        <p:spPr>
          <a:xfrm>
            <a:off x="544680" y="675000"/>
            <a:ext cx="731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дание 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 каких рисунках изображены треугольники равн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стороне и двум прилежащим углам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16000" y="231804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4749840" y="2451600"/>
            <a:ext cx="3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2927520" y="4362840"/>
            <a:ext cx="3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527040" y="2139840"/>
            <a:ext cx="4251240" cy="1866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2"/>
          <a:stretch/>
        </p:blipFill>
        <p:spPr>
          <a:xfrm>
            <a:off x="5105520" y="2228760"/>
            <a:ext cx="3819240" cy="2089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"/>
          <p:cNvPicPr/>
          <p:nvPr/>
        </p:nvPicPr>
        <p:blipFill>
          <a:blip r:embed="rId3"/>
          <a:stretch/>
        </p:blipFill>
        <p:spPr>
          <a:xfrm>
            <a:off x="3292560" y="4362480"/>
            <a:ext cx="4654440" cy="1555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8" dur="1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99" dur="1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00" dur="1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й призна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82760" y="1739880"/>
            <a:ext cx="8229600" cy="20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 три стороны одного треугольника соответственно равны трем сторонам другого треугольника . То такие треугольники рав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9" name="Group 4"/>
          <p:cNvGrpSpPr/>
          <p:nvPr/>
        </p:nvGrpSpPr>
        <p:grpSpPr>
          <a:xfrm>
            <a:off x="349200" y="3295800"/>
            <a:ext cx="8223120" cy="2795760"/>
            <a:chOff x="349200" y="3295800"/>
            <a:chExt cx="8223120" cy="2795760"/>
          </a:xfrm>
        </p:grpSpPr>
        <p:sp>
          <p:nvSpPr>
            <p:cNvPr id="240" name="AutoShape 5"/>
            <p:cNvSpPr/>
            <p:nvPr/>
          </p:nvSpPr>
          <p:spPr>
            <a:xfrm>
              <a:off x="349200" y="3316680"/>
              <a:ext cx="8223120" cy="27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Freeform 6"/>
            <p:cNvSpPr/>
            <p:nvPr/>
          </p:nvSpPr>
          <p:spPr>
            <a:xfrm>
              <a:off x="5147640" y="4286880"/>
              <a:ext cx="2769480" cy="1677240"/>
            </a:xfrm>
            <a:custGeom>
              <a:avLst/>
              <a:gdLst>
                <a:gd name="textAreaLeft" fmla="*/ 0 w 2769480"/>
                <a:gd name="textAreaRight" fmla="*/ 2769840 w 2769480"/>
                <a:gd name="textAreaTop" fmla="*/ 0 h 1677240"/>
                <a:gd name="textAreaBottom" fmla="*/ 1677600 h 1677240"/>
              </a:gdLst>
              <a:ahLst/>
              <a:rect l="textAreaLeft" t="textAreaTop" r="textAreaRight" b="textAreaBottom"/>
              <a:pathLst>
                <a:path w="1421" h="790">
                  <a:moveTo>
                    <a:pt x="0" y="790"/>
                  </a:moveTo>
                  <a:lnTo>
                    <a:pt x="414" y="0"/>
                  </a:lnTo>
                  <a:lnTo>
                    <a:pt x="1421" y="479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7"/>
            <p:cNvSpPr/>
            <p:nvPr/>
          </p:nvSpPr>
          <p:spPr>
            <a:xfrm>
              <a:off x="631800" y="3490920"/>
              <a:ext cx="2966040" cy="1840320"/>
            </a:xfrm>
            <a:custGeom>
              <a:avLst/>
              <a:gdLst>
                <a:gd name="textAreaLeft" fmla="*/ 0 w 2966040"/>
                <a:gd name="textAreaRight" fmla="*/ 2966400 w 29660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1522" h="867">
                  <a:moveTo>
                    <a:pt x="426" y="0"/>
                  </a:moveTo>
                  <a:lnTo>
                    <a:pt x="0" y="867"/>
                  </a:lnTo>
                  <a:lnTo>
                    <a:pt x="1522" y="535"/>
                  </a:lnTo>
                  <a:lnTo>
                    <a:pt x="426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8"/>
            <p:cNvSpPr/>
            <p:nvPr/>
          </p:nvSpPr>
          <p:spPr>
            <a:xfrm flipH="1">
              <a:off x="631440" y="3490920"/>
              <a:ext cx="829800" cy="1840320"/>
            </a:xfrm>
            <a:prstGeom prst="line">
              <a:avLst/>
            </a:prstGeom>
            <a:ln w="54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9"/>
            <p:cNvSpPr/>
            <p:nvPr/>
          </p:nvSpPr>
          <p:spPr>
            <a:xfrm flipH="1">
              <a:off x="631440" y="4626720"/>
              <a:ext cx="2966040" cy="704520"/>
            </a:xfrm>
            <a:prstGeom prst="line">
              <a:avLst/>
            </a:prstGeom>
            <a:ln w="54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10"/>
            <p:cNvSpPr/>
            <p:nvPr/>
          </p:nvSpPr>
          <p:spPr>
            <a:xfrm>
              <a:off x="1461960" y="3490920"/>
              <a:ext cx="2135880" cy="1135440"/>
            </a:xfrm>
            <a:prstGeom prst="line">
              <a:avLst/>
            </a:prstGeom>
            <a:ln w="54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11"/>
            <p:cNvSpPr/>
            <p:nvPr/>
          </p:nvSpPr>
          <p:spPr>
            <a:xfrm flipH="1">
              <a:off x="5147280" y="4286880"/>
              <a:ext cx="806760" cy="1677240"/>
            </a:xfrm>
            <a:prstGeom prst="line">
              <a:avLst/>
            </a:prstGeom>
            <a:ln w="54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12"/>
            <p:cNvSpPr/>
            <p:nvPr/>
          </p:nvSpPr>
          <p:spPr>
            <a:xfrm flipH="1">
              <a:off x="5147280" y="5304240"/>
              <a:ext cx="2769480" cy="659880"/>
            </a:xfrm>
            <a:prstGeom prst="line">
              <a:avLst/>
            </a:prstGeom>
            <a:ln w="54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13"/>
            <p:cNvSpPr/>
            <p:nvPr/>
          </p:nvSpPr>
          <p:spPr>
            <a:xfrm>
              <a:off x="5954760" y="4286880"/>
              <a:ext cx="1962360" cy="1017000"/>
            </a:xfrm>
            <a:prstGeom prst="line">
              <a:avLst/>
            </a:prstGeom>
            <a:ln w="54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14"/>
            <p:cNvSpPr/>
            <p:nvPr/>
          </p:nvSpPr>
          <p:spPr>
            <a:xfrm>
              <a:off x="6107040" y="4068360"/>
              <a:ext cx="387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15"/>
            <p:cNvSpPr/>
            <p:nvPr/>
          </p:nvSpPr>
          <p:spPr>
            <a:xfrm>
              <a:off x="850320" y="4333680"/>
              <a:ext cx="393480" cy="27720"/>
            </a:xfrm>
            <a:prstGeom prst="line">
              <a:avLst/>
            </a:prstGeom>
            <a:ln w="176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16"/>
            <p:cNvSpPr/>
            <p:nvPr/>
          </p:nvSpPr>
          <p:spPr>
            <a:xfrm>
              <a:off x="5299920" y="5166000"/>
              <a:ext cx="436680" cy="27360"/>
            </a:xfrm>
            <a:prstGeom prst="line">
              <a:avLst/>
            </a:prstGeom>
            <a:ln w="176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17"/>
            <p:cNvSpPr/>
            <p:nvPr/>
          </p:nvSpPr>
          <p:spPr>
            <a:xfrm flipH="1">
              <a:off x="2224440" y="3958200"/>
              <a:ext cx="348480" cy="146160"/>
            </a:xfrm>
            <a:prstGeom prst="line">
              <a:avLst/>
            </a:prstGeom>
            <a:ln w="176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18"/>
            <p:cNvSpPr/>
            <p:nvPr/>
          </p:nvSpPr>
          <p:spPr>
            <a:xfrm flipH="1">
              <a:off x="2442240" y="4021560"/>
              <a:ext cx="371880" cy="174240"/>
            </a:xfrm>
            <a:prstGeom prst="line">
              <a:avLst/>
            </a:prstGeom>
            <a:ln w="176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19"/>
            <p:cNvSpPr/>
            <p:nvPr/>
          </p:nvSpPr>
          <p:spPr>
            <a:xfrm flipH="1">
              <a:off x="6761160" y="4718160"/>
              <a:ext cx="393480" cy="154440"/>
            </a:xfrm>
            <a:prstGeom prst="line">
              <a:avLst/>
            </a:prstGeom>
            <a:ln w="176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20"/>
            <p:cNvSpPr/>
            <p:nvPr/>
          </p:nvSpPr>
          <p:spPr>
            <a:xfrm flipH="1">
              <a:off x="6937200" y="4789800"/>
              <a:ext cx="434880" cy="174240"/>
            </a:xfrm>
            <a:prstGeom prst="line">
              <a:avLst/>
            </a:prstGeom>
            <a:ln w="176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21"/>
            <p:cNvSpPr/>
            <p:nvPr/>
          </p:nvSpPr>
          <p:spPr>
            <a:xfrm>
              <a:off x="1789560" y="4892040"/>
              <a:ext cx="261000" cy="174240"/>
            </a:xfrm>
            <a:prstGeom prst="line">
              <a:avLst/>
            </a:prstGeom>
            <a:ln w="176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22"/>
            <p:cNvSpPr/>
            <p:nvPr/>
          </p:nvSpPr>
          <p:spPr>
            <a:xfrm>
              <a:off x="2007720" y="4828320"/>
              <a:ext cx="325440" cy="218520"/>
            </a:xfrm>
            <a:prstGeom prst="line">
              <a:avLst/>
            </a:prstGeom>
            <a:ln w="176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23"/>
            <p:cNvSpPr/>
            <p:nvPr/>
          </p:nvSpPr>
          <p:spPr>
            <a:xfrm>
              <a:off x="2181600" y="4781880"/>
              <a:ext cx="348480" cy="201600"/>
            </a:xfrm>
            <a:prstGeom prst="line">
              <a:avLst/>
            </a:prstGeom>
            <a:ln w="176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24"/>
            <p:cNvSpPr/>
            <p:nvPr/>
          </p:nvSpPr>
          <p:spPr>
            <a:xfrm>
              <a:off x="6391440" y="5560560"/>
              <a:ext cx="369720" cy="201600"/>
            </a:xfrm>
            <a:prstGeom prst="line">
              <a:avLst/>
            </a:prstGeom>
            <a:ln w="176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25"/>
            <p:cNvSpPr/>
            <p:nvPr/>
          </p:nvSpPr>
          <p:spPr>
            <a:xfrm>
              <a:off x="6543720" y="5514120"/>
              <a:ext cx="393120" cy="210240"/>
            </a:xfrm>
            <a:prstGeom prst="line">
              <a:avLst/>
            </a:prstGeom>
            <a:ln w="176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26"/>
            <p:cNvSpPr/>
            <p:nvPr/>
          </p:nvSpPr>
          <p:spPr>
            <a:xfrm>
              <a:off x="6718680" y="5431320"/>
              <a:ext cx="392040" cy="228960"/>
            </a:xfrm>
            <a:prstGeom prst="line">
              <a:avLst/>
            </a:prstGeom>
            <a:ln w="176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Oval 27"/>
            <p:cNvSpPr/>
            <p:nvPr/>
          </p:nvSpPr>
          <p:spPr>
            <a:xfrm>
              <a:off x="1417320" y="3471840"/>
              <a:ext cx="109080" cy="4644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28"/>
            <p:cNvSpPr/>
            <p:nvPr/>
          </p:nvSpPr>
          <p:spPr>
            <a:xfrm>
              <a:off x="1653480" y="3295800"/>
              <a:ext cx="50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29"/>
            <p:cNvSpPr/>
            <p:nvPr/>
          </p:nvSpPr>
          <p:spPr>
            <a:xfrm>
              <a:off x="1832400" y="3482280"/>
              <a:ext cx="36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Oval 30"/>
            <p:cNvSpPr/>
            <p:nvPr/>
          </p:nvSpPr>
          <p:spPr>
            <a:xfrm>
              <a:off x="588960" y="5312160"/>
              <a:ext cx="109080" cy="4644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31"/>
            <p:cNvSpPr/>
            <p:nvPr/>
          </p:nvSpPr>
          <p:spPr>
            <a:xfrm>
              <a:off x="632520" y="53784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32"/>
            <p:cNvSpPr/>
            <p:nvPr/>
          </p:nvSpPr>
          <p:spPr>
            <a:xfrm>
              <a:off x="719280" y="5450400"/>
              <a:ext cx="36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Oval 33"/>
            <p:cNvSpPr/>
            <p:nvPr/>
          </p:nvSpPr>
          <p:spPr>
            <a:xfrm>
              <a:off x="3555360" y="4607640"/>
              <a:ext cx="109080" cy="4644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34"/>
            <p:cNvSpPr/>
            <p:nvPr/>
          </p:nvSpPr>
          <p:spPr>
            <a:xfrm>
              <a:off x="3776760" y="45352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35"/>
            <p:cNvSpPr/>
            <p:nvPr/>
          </p:nvSpPr>
          <p:spPr>
            <a:xfrm>
              <a:off x="4034880" y="4607640"/>
              <a:ext cx="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Oval 36"/>
            <p:cNvSpPr/>
            <p:nvPr/>
          </p:nvSpPr>
          <p:spPr>
            <a:xfrm>
              <a:off x="7874640" y="5284800"/>
              <a:ext cx="109080" cy="4644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37"/>
            <p:cNvSpPr/>
            <p:nvPr/>
          </p:nvSpPr>
          <p:spPr>
            <a:xfrm>
              <a:off x="8096040" y="50850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Oval 38"/>
            <p:cNvSpPr/>
            <p:nvPr/>
          </p:nvSpPr>
          <p:spPr>
            <a:xfrm>
              <a:off x="5104800" y="5945040"/>
              <a:ext cx="109080" cy="4644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39"/>
            <p:cNvSpPr/>
            <p:nvPr/>
          </p:nvSpPr>
          <p:spPr>
            <a:xfrm>
              <a:off x="4851720" y="5911200"/>
              <a:ext cx="52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Oval 40"/>
            <p:cNvSpPr/>
            <p:nvPr/>
          </p:nvSpPr>
          <p:spPr>
            <a:xfrm>
              <a:off x="5911920" y="4269960"/>
              <a:ext cx="109080" cy="4464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heel spokes="8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"/>
          <p:cNvSpPr/>
          <p:nvPr/>
        </p:nvSpPr>
        <p:spPr>
          <a:xfrm>
            <a:off x="524160" y="675360"/>
            <a:ext cx="731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дание 3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 каких рисунках изображены треугольники равн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трём сторонам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216000" y="231804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4749840" y="2451600"/>
            <a:ext cx="3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2927520" y="4362840"/>
            <a:ext cx="3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571680" y="2095560"/>
            <a:ext cx="3897000" cy="2133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"/>
          <p:cNvPicPr/>
          <p:nvPr/>
        </p:nvPicPr>
        <p:blipFill>
          <a:blip r:embed="rId2"/>
          <a:stretch/>
        </p:blipFill>
        <p:spPr>
          <a:xfrm>
            <a:off x="5327640" y="2184480"/>
            <a:ext cx="3846600" cy="19558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"/>
          <p:cNvPicPr/>
          <p:nvPr/>
        </p:nvPicPr>
        <p:blipFill>
          <a:blip r:embed="rId3"/>
          <a:stretch/>
        </p:blipFill>
        <p:spPr>
          <a:xfrm>
            <a:off x="3416400" y="4184640"/>
            <a:ext cx="4010040" cy="2133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1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22" dur="1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23" dur="1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Изображение 024"/>
          <p:cNvPicPr/>
          <p:nvPr/>
        </p:nvPicPr>
        <p:blipFill>
          <a:blip r:embed="rId1"/>
          <a:stretch/>
        </p:blipFill>
        <p:spPr>
          <a:xfrm>
            <a:off x="468360" y="1844640"/>
            <a:ext cx="8248680" cy="2933640"/>
          </a:xfrm>
          <a:prstGeom prst="rect">
            <a:avLst/>
          </a:prstGeom>
          <a:ln w="0">
            <a:noFill/>
          </a:ln>
        </p:spPr>
      </p:pic>
      <p:sp>
        <p:nvSpPr>
          <p:cNvPr id="284" name="WordArt 3"/>
          <p:cNvSpPr txBox="1"/>
          <p:nvPr/>
        </p:nvSpPr>
        <p:spPr>
          <a:xfrm>
            <a:off x="900000" y="189000"/>
            <a:ext cx="71913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Признаки равенства треугольни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2"/>
          <a:stretch/>
        </p:blipFill>
        <p:spPr>
          <a:xfrm>
            <a:off x="2502000" y="4824360"/>
            <a:ext cx="3762360" cy="1143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зада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Group 4"/>
          <p:cNvGrpSpPr/>
          <p:nvPr/>
        </p:nvGrpSpPr>
        <p:grpSpPr>
          <a:xfrm>
            <a:off x="527040" y="2851200"/>
            <a:ext cx="2879640" cy="1725480"/>
            <a:chOff x="527040" y="2851200"/>
            <a:chExt cx="2879640" cy="1725480"/>
          </a:xfrm>
        </p:grpSpPr>
        <p:sp>
          <p:nvSpPr>
            <p:cNvPr id="289" name="AutoShape 5"/>
            <p:cNvSpPr/>
            <p:nvPr/>
          </p:nvSpPr>
          <p:spPr>
            <a:xfrm>
              <a:off x="527040" y="2851200"/>
              <a:ext cx="2879640" cy="17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6"/>
            <p:cNvSpPr/>
            <p:nvPr/>
          </p:nvSpPr>
          <p:spPr>
            <a:xfrm>
              <a:off x="685440" y="3009600"/>
              <a:ext cx="2355480" cy="1153800"/>
            </a:xfrm>
            <a:custGeom>
              <a:avLst/>
              <a:gdLst>
                <a:gd name="textAreaLeft" fmla="*/ 0 w 2355480"/>
                <a:gd name="textAreaRight" fmla="*/ 2355840 w 2355480"/>
                <a:gd name="textAreaTop" fmla="*/ 0 h 1153800"/>
                <a:gd name="textAreaBottom" fmla="*/ 1154160 h 1153800"/>
              </a:gdLst>
              <a:ahLst/>
              <a:rect l="textAreaLeft" t="textAreaTop" r="textAreaRight" b="textAreaBottom"/>
              <a:pathLst>
                <a:path w="1484" h="727">
                  <a:moveTo>
                    <a:pt x="1347" y="0"/>
                  </a:moveTo>
                  <a:lnTo>
                    <a:pt x="0" y="451"/>
                  </a:lnTo>
                  <a:lnTo>
                    <a:pt x="1484" y="727"/>
                  </a:lnTo>
                  <a:lnTo>
                    <a:pt x="134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Arc 7"/>
            <p:cNvSpPr/>
            <p:nvPr/>
          </p:nvSpPr>
          <p:spPr>
            <a:xfrm>
              <a:off x="825480" y="3543120"/>
              <a:ext cx="443880" cy="291600"/>
            </a:xfrm>
            <a:custGeom>
              <a:avLst/>
              <a:gdLst>
                <a:gd name="textAreaLeft" fmla="*/ 0 w 443880"/>
                <a:gd name="textAreaRight" fmla="*/ 444240 w 443880"/>
                <a:gd name="textAreaTop" fmla="*/ 0 h 291600"/>
                <a:gd name="textAreaBottom" fmla="*/ 291960 h 291600"/>
              </a:gdLst>
              <a:ahLst/>
              <a:rect l="textAreaLeft" t="textAreaTop" r="textAreaRight" b="textAreaBottom"/>
              <a:pathLst>
                <a:path fill="none" w="21600" h="14214">
                  <a:moveTo>
                    <a:pt x="20468" y="-1"/>
                  </a:moveTo>
                  <a:cubicBezTo>
                    <a:pt x="21217" y="2223"/>
                    <a:pt x="21600" y="4553"/>
                    <a:pt x="21600" y="6900"/>
                  </a:cubicBezTo>
                  <a:cubicBezTo>
                    <a:pt x="21600" y="9393"/>
                    <a:pt x="21168" y="11867"/>
                    <a:pt x="20324" y="14214"/>
                  </a:cubicBezTo>
                </a:path>
                <a:path stroke="0" w="21600" h="14214">
                  <a:moveTo>
                    <a:pt x="20468" y="-1"/>
                  </a:moveTo>
                  <a:cubicBezTo>
                    <a:pt x="21217" y="2223"/>
                    <a:pt x="21600" y="4553"/>
                    <a:pt x="21600" y="6900"/>
                  </a:cubicBezTo>
                  <a:cubicBezTo>
                    <a:pt x="21600" y="9393"/>
                    <a:pt x="21168" y="11867"/>
                    <a:pt x="20324" y="14214"/>
                  </a:cubicBezTo>
                  <a:lnTo>
                    <a:pt x="0" y="6900"/>
                  </a:lnTo>
                  <a:close/>
                </a:path>
              </a:pathLst>
            </a:custGeom>
            <a:noFill/>
            <a:ln w="36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Arc 8"/>
            <p:cNvSpPr/>
            <p:nvPr/>
          </p:nvSpPr>
          <p:spPr>
            <a:xfrm>
              <a:off x="2409480" y="3666960"/>
              <a:ext cx="742680" cy="867960"/>
            </a:xfrm>
            <a:custGeom>
              <a:avLst/>
              <a:gdLst>
                <a:gd name="textAreaLeft" fmla="*/ 0 w 742680"/>
                <a:gd name="textAreaRight" fmla="*/ 743040 w 742680"/>
                <a:gd name="textAreaTop" fmla="*/ 0 h 867960"/>
                <a:gd name="textAreaBottom" fmla="*/ 868320 h 867960"/>
              </a:gdLst>
              <a:ahLst/>
              <a:rect l="textAreaLeft" t="textAreaTop" r="textAreaRight" b="textAreaBottom"/>
              <a:pathLst>
                <a:path fill="none" w="18110" h="21000">
                  <a:moveTo>
                    <a:pt x="0" y="9227"/>
                  </a:moveTo>
                  <a:cubicBezTo>
                    <a:pt x="3011" y="4595"/>
                    <a:pt x="7682" y="1293"/>
                    <a:pt x="13054" y="0"/>
                  </a:cubicBezTo>
                </a:path>
                <a:path stroke="0" w="18110" h="21000">
                  <a:moveTo>
                    <a:pt x="0" y="9227"/>
                  </a:moveTo>
                  <a:cubicBezTo>
                    <a:pt x="3011" y="4595"/>
                    <a:pt x="7682" y="1293"/>
                    <a:pt x="13054" y="0"/>
                  </a:cubicBezTo>
                  <a:lnTo>
                    <a:pt x="18110" y="21000"/>
                  </a:lnTo>
                  <a:close/>
                </a:path>
              </a:pathLst>
            </a:custGeom>
            <a:noFill/>
            <a:ln w="36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Arc 9"/>
            <p:cNvSpPr/>
            <p:nvPr/>
          </p:nvSpPr>
          <p:spPr>
            <a:xfrm>
              <a:off x="2624040" y="3817800"/>
              <a:ext cx="435960" cy="472680"/>
            </a:xfrm>
            <a:custGeom>
              <a:avLst/>
              <a:gdLst>
                <a:gd name="textAreaLeft" fmla="*/ 0 w 435960"/>
                <a:gd name="textAreaRight" fmla="*/ 436320 w 435960"/>
                <a:gd name="textAreaTop" fmla="*/ 0 h 472680"/>
                <a:gd name="textAreaBottom" fmla="*/ 473040 h 472680"/>
              </a:gdLst>
              <a:ahLst/>
              <a:rect l="textAreaLeft" t="textAreaTop" r="textAreaRight" b="textAreaBottom"/>
              <a:pathLst>
                <a:path fill="none" w="19698" h="21296">
                  <a:moveTo>
                    <a:pt x="0" y="12432"/>
                  </a:moveTo>
                  <a:cubicBezTo>
                    <a:pt x="2955" y="5865"/>
                    <a:pt x="8988" y="1203"/>
                    <a:pt x="16087" y="-1"/>
                  </a:cubicBezTo>
                </a:path>
                <a:path stroke="0" w="19698" h="21296">
                  <a:moveTo>
                    <a:pt x="0" y="12432"/>
                  </a:moveTo>
                  <a:cubicBezTo>
                    <a:pt x="2955" y="5865"/>
                    <a:pt x="8988" y="1203"/>
                    <a:pt x="16087" y="-1"/>
                  </a:cubicBezTo>
                  <a:lnTo>
                    <a:pt x="19698" y="21296"/>
                  </a:lnTo>
                  <a:close/>
                </a:path>
              </a:pathLst>
            </a:custGeom>
            <a:noFill/>
            <a:ln w="36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10"/>
            <p:cNvSpPr/>
            <p:nvPr/>
          </p:nvSpPr>
          <p:spPr>
            <a:xfrm flipH="1">
              <a:off x="685080" y="3009600"/>
              <a:ext cx="2138040" cy="715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11"/>
            <p:cNvSpPr/>
            <p:nvPr/>
          </p:nvSpPr>
          <p:spPr>
            <a:xfrm>
              <a:off x="2823840" y="3009600"/>
              <a:ext cx="217080" cy="11538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12"/>
            <p:cNvSpPr/>
            <p:nvPr/>
          </p:nvSpPr>
          <p:spPr>
            <a:xfrm>
              <a:off x="685440" y="3725640"/>
              <a:ext cx="2355480" cy="43776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Oval 13"/>
            <p:cNvSpPr/>
            <p:nvPr/>
          </p:nvSpPr>
          <p:spPr>
            <a:xfrm>
              <a:off x="2798640" y="2984400"/>
              <a:ext cx="61560" cy="5976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14"/>
            <p:cNvSpPr/>
            <p:nvPr/>
          </p:nvSpPr>
          <p:spPr>
            <a:xfrm>
              <a:off x="2920680" y="3070080"/>
              <a:ext cx="36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Oval 15"/>
            <p:cNvSpPr/>
            <p:nvPr/>
          </p:nvSpPr>
          <p:spPr>
            <a:xfrm>
              <a:off x="3017520" y="4138200"/>
              <a:ext cx="60120" cy="6156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16"/>
            <p:cNvSpPr/>
            <p:nvPr/>
          </p:nvSpPr>
          <p:spPr>
            <a:xfrm>
              <a:off x="3139920" y="4224240"/>
              <a:ext cx="36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Oval 17"/>
            <p:cNvSpPr/>
            <p:nvPr/>
          </p:nvSpPr>
          <p:spPr>
            <a:xfrm>
              <a:off x="660240" y="3701880"/>
              <a:ext cx="59760" cy="5976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18"/>
            <p:cNvSpPr/>
            <p:nvPr/>
          </p:nvSpPr>
          <p:spPr>
            <a:xfrm>
              <a:off x="782280" y="378576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Group 19"/>
          <p:cNvGrpSpPr/>
          <p:nvPr/>
        </p:nvGrpSpPr>
        <p:grpSpPr>
          <a:xfrm>
            <a:off x="4500720" y="2168640"/>
            <a:ext cx="3384360" cy="2251080"/>
            <a:chOff x="4500720" y="2168640"/>
            <a:chExt cx="3384360" cy="2251080"/>
          </a:xfrm>
        </p:grpSpPr>
        <p:sp>
          <p:nvSpPr>
            <p:cNvPr id="304" name="AutoShape 20"/>
            <p:cNvSpPr/>
            <p:nvPr/>
          </p:nvSpPr>
          <p:spPr>
            <a:xfrm>
              <a:off x="4500720" y="2168640"/>
              <a:ext cx="3384360" cy="225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Freeform 21"/>
            <p:cNvSpPr/>
            <p:nvPr/>
          </p:nvSpPr>
          <p:spPr>
            <a:xfrm>
              <a:off x="4686480" y="2354400"/>
              <a:ext cx="2582640" cy="1492200"/>
            </a:xfrm>
            <a:custGeom>
              <a:avLst/>
              <a:gdLst>
                <a:gd name="textAreaLeft" fmla="*/ 0 w 2582640"/>
                <a:gd name="textAreaRight" fmla="*/ 2583000 w 2582640"/>
                <a:gd name="textAreaTop" fmla="*/ 0 h 1492200"/>
                <a:gd name="textAreaBottom" fmla="*/ 1492560 h 1492200"/>
              </a:gdLst>
              <a:ahLst/>
              <a:rect l="textAreaLeft" t="textAreaTop" r="textAreaRight" b="textAreaBottom"/>
              <a:pathLst>
                <a:path w="1627" h="940">
                  <a:moveTo>
                    <a:pt x="1103" y="0"/>
                  </a:moveTo>
                  <a:lnTo>
                    <a:pt x="0" y="867"/>
                  </a:lnTo>
                  <a:lnTo>
                    <a:pt x="1627" y="940"/>
                  </a:lnTo>
                  <a:lnTo>
                    <a:pt x="1103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Arc 22"/>
            <p:cNvSpPr/>
            <p:nvPr/>
          </p:nvSpPr>
          <p:spPr>
            <a:xfrm>
              <a:off x="5032440" y="3402000"/>
              <a:ext cx="287280" cy="36036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fill="none" w="21600" h="27146">
                  <a:moveTo>
                    <a:pt x="6361" y="-1"/>
                  </a:moveTo>
                  <a:cubicBezTo>
                    <a:pt x="15419" y="2791"/>
                    <a:pt x="21600" y="11162"/>
                    <a:pt x="21600" y="20642"/>
                  </a:cubicBezTo>
                  <a:cubicBezTo>
                    <a:pt x="21600" y="22848"/>
                    <a:pt x="21261" y="25042"/>
                    <a:pt x="20597" y="27146"/>
                  </a:cubicBezTo>
                </a:path>
                <a:path stroke="0" w="21600" h="27146">
                  <a:moveTo>
                    <a:pt x="6361" y="-1"/>
                  </a:moveTo>
                  <a:cubicBezTo>
                    <a:pt x="15419" y="2791"/>
                    <a:pt x="21600" y="11162"/>
                    <a:pt x="21600" y="20642"/>
                  </a:cubicBezTo>
                  <a:cubicBezTo>
                    <a:pt x="21600" y="22848"/>
                    <a:pt x="21261" y="25042"/>
                    <a:pt x="20597" y="27146"/>
                  </a:cubicBezTo>
                  <a:lnTo>
                    <a:pt x="0" y="20642"/>
                  </a:lnTo>
                  <a:close/>
                </a:path>
              </a:pathLst>
            </a:custGeom>
            <a:noFill/>
            <a:ln w="428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23"/>
            <p:cNvSpPr/>
            <p:nvPr/>
          </p:nvSpPr>
          <p:spPr>
            <a:xfrm flipH="1">
              <a:off x="4686120" y="2354400"/>
              <a:ext cx="1750680" cy="1376280"/>
            </a:xfrm>
            <a:prstGeom prst="line">
              <a:avLst/>
            </a:prstGeom>
            <a:ln w="42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24"/>
            <p:cNvSpPr/>
            <p:nvPr/>
          </p:nvSpPr>
          <p:spPr>
            <a:xfrm>
              <a:off x="4686480" y="3730680"/>
              <a:ext cx="2582640" cy="115920"/>
            </a:xfrm>
            <a:prstGeom prst="line">
              <a:avLst/>
            </a:prstGeom>
            <a:ln w="42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25"/>
            <p:cNvSpPr/>
            <p:nvPr/>
          </p:nvSpPr>
          <p:spPr>
            <a:xfrm>
              <a:off x="4657680" y="3701880"/>
              <a:ext cx="73080" cy="7308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26"/>
            <p:cNvSpPr/>
            <p:nvPr/>
          </p:nvSpPr>
          <p:spPr>
            <a:xfrm>
              <a:off x="4802040" y="380376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27"/>
            <p:cNvSpPr/>
            <p:nvPr/>
          </p:nvSpPr>
          <p:spPr>
            <a:xfrm>
              <a:off x="4973760" y="391788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28"/>
            <p:cNvSpPr/>
            <p:nvPr/>
          </p:nvSpPr>
          <p:spPr>
            <a:xfrm>
              <a:off x="6408720" y="2325600"/>
              <a:ext cx="71280" cy="7308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29"/>
            <p:cNvSpPr/>
            <p:nvPr/>
          </p:nvSpPr>
          <p:spPr>
            <a:xfrm>
              <a:off x="6551640" y="2427120"/>
              <a:ext cx="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Oval 31"/>
            <p:cNvSpPr/>
            <p:nvPr/>
          </p:nvSpPr>
          <p:spPr>
            <a:xfrm>
              <a:off x="7238880" y="3817800"/>
              <a:ext cx="73080" cy="7164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32"/>
            <p:cNvSpPr/>
            <p:nvPr/>
          </p:nvSpPr>
          <p:spPr>
            <a:xfrm>
              <a:off x="7383600" y="391788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33"/>
            <p:cNvSpPr/>
            <p:nvPr/>
          </p:nvSpPr>
          <p:spPr>
            <a:xfrm>
              <a:off x="7540560" y="403236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Group 34"/>
          <p:cNvGrpSpPr/>
          <p:nvPr/>
        </p:nvGrpSpPr>
        <p:grpSpPr>
          <a:xfrm>
            <a:off x="5580000" y="4221000"/>
            <a:ext cx="3564000" cy="2135520"/>
            <a:chOff x="5580000" y="4221000"/>
            <a:chExt cx="3564000" cy="2135520"/>
          </a:xfrm>
        </p:grpSpPr>
        <p:sp>
          <p:nvSpPr>
            <p:cNvPr id="318" name="AutoShape 35"/>
            <p:cNvSpPr/>
            <p:nvPr/>
          </p:nvSpPr>
          <p:spPr>
            <a:xfrm>
              <a:off x="5580000" y="4221000"/>
              <a:ext cx="3564000" cy="20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Freeform 36"/>
            <p:cNvSpPr/>
            <p:nvPr/>
          </p:nvSpPr>
          <p:spPr>
            <a:xfrm>
              <a:off x="5819760" y="4373640"/>
              <a:ext cx="2511360" cy="1603440"/>
            </a:xfrm>
            <a:custGeom>
              <a:avLst/>
              <a:gdLst>
                <a:gd name="textAreaLeft" fmla="*/ 0 w 2511360"/>
                <a:gd name="textAreaRight" fmla="*/ 2511720 w 2511360"/>
                <a:gd name="textAreaTop" fmla="*/ 0 h 1603440"/>
                <a:gd name="textAreaBottom" fmla="*/ 1603800 h 1603440"/>
              </a:gdLst>
              <a:ahLst/>
              <a:rect l="textAreaLeft" t="textAreaTop" r="textAreaRight" b="textAreaBottom"/>
              <a:pathLst>
                <a:path w="1582" h="1010">
                  <a:moveTo>
                    <a:pt x="442" y="0"/>
                  </a:moveTo>
                  <a:lnTo>
                    <a:pt x="0" y="1010"/>
                  </a:lnTo>
                  <a:lnTo>
                    <a:pt x="1582" y="623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7"/>
            <p:cNvSpPr/>
            <p:nvPr/>
          </p:nvSpPr>
          <p:spPr>
            <a:xfrm flipH="1">
              <a:off x="5819400" y="4373640"/>
              <a:ext cx="701640" cy="1603440"/>
            </a:xfrm>
            <a:prstGeom prst="line">
              <a:avLst/>
            </a:prstGeom>
            <a:ln w="55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38"/>
            <p:cNvSpPr/>
            <p:nvPr/>
          </p:nvSpPr>
          <p:spPr>
            <a:xfrm flipH="1">
              <a:off x="5819760" y="5362560"/>
              <a:ext cx="2511360" cy="614520"/>
            </a:xfrm>
            <a:prstGeom prst="line">
              <a:avLst/>
            </a:prstGeom>
            <a:ln w="55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39"/>
            <p:cNvSpPr/>
            <p:nvPr/>
          </p:nvSpPr>
          <p:spPr>
            <a:xfrm>
              <a:off x="6521400" y="4373640"/>
              <a:ext cx="1809720" cy="988920"/>
            </a:xfrm>
            <a:prstGeom prst="line">
              <a:avLst/>
            </a:prstGeom>
            <a:ln w="55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40"/>
            <p:cNvSpPr/>
            <p:nvPr/>
          </p:nvSpPr>
          <p:spPr>
            <a:xfrm>
              <a:off x="6005520" y="5106960"/>
              <a:ext cx="331920" cy="2376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41"/>
            <p:cNvSpPr/>
            <p:nvPr/>
          </p:nvSpPr>
          <p:spPr>
            <a:xfrm flipH="1">
              <a:off x="7167600" y="4780080"/>
              <a:ext cx="295200" cy="1267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42"/>
            <p:cNvSpPr/>
            <p:nvPr/>
          </p:nvSpPr>
          <p:spPr>
            <a:xfrm flipH="1">
              <a:off x="7353000" y="4835520"/>
              <a:ext cx="312840" cy="1522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43"/>
            <p:cNvSpPr/>
            <p:nvPr/>
          </p:nvSpPr>
          <p:spPr>
            <a:xfrm>
              <a:off x="6799320" y="5594400"/>
              <a:ext cx="220680" cy="1508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44"/>
            <p:cNvSpPr/>
            <p:nvPr/>
          </p:nvSpPr>
          <p:spPr>
            <a:xfrm>
              <a:off x="6983280" y="5537160"/>
              <a:ext cx="277920" cy="1922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45"/>
            <p:cNvSpPr/>
            <p:nvPr/>
          </p:nvSpPr>
          <p:spPr>
            <a:xfrm>
              <a:off x="7130880" y="5497560"/>
              <a:ext cx="295560" cy="1760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Oval 46"/>
            <p:cNvSpPr/>
            <p:nvPr/>
          </p:nvSpPr>
          <p:spPr>
            <a:xfrm>
              <a:off x="6485040" y="4356000"/>
              <a:ext cx="91800" cy="4140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Rectangle 48"/>
            <p:cNvSpPr/>
            <p:nvPr/>
          </p:nvSpPr>
          <p:spPr>
            <a:xfrm>
              <a:off x="6835680" y="4363920"/>
              <a:ext cx="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Oval 49"/>
            <p:cNvSpPr/>
            <p:nvPr/>
          </p:nvSpPr>
          <p:spPr>
            <a:xfrm>
              <a:off x="5783400" y="5961240"/>
              <a:ext cx="91800" cy="3960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Rectangle 50"/>
            <p:cNvSpPr/>
            <p:nvPr/>
          </p:nvSpPr>
          <p:spPr>
            <a:xfrm>
              <a:off x="5819760" y="601668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51"/>
            <p:cNvSpPr/>
            <p:nvPr/>
          </p:nvSpPr>
          <p:spPr>
            <a:xfrm>
              <a:off x="5894280" y="6080040"/>
              <a:ext cx="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Oval 52"/>
            <p:cNvSpPr/>
            <p:nvPr/>
          </p:nvSpPr>
          <p:spPr>
            <a:xfrm>
              <a:off x="8294760" y="5346720"/>
              <a:ext cx="92160" cy="3960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53"/>
            <p:cNvSpPr/>
            <p:nvPr/>
          </p:nvSpPr>
          <p:spPr>
            <a:xfrm>
              <a:off x="8478720" y="528336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54"/>
            <p:cNvSpPr/>
            <p:nvPr/>
          </p:nvSpPr>
          <p:spPr>
            <a:xfrm>
              <a:off x="8701200" y="534672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Прямая соединительная линия 59"/>
          <p:cNvSpPr/>
          <p:nvPr/>
        </p:nvSpPr>
        <p:spPr>
          <a:xfrm>
            <a:off x="6444360" y="2398680"/>
            <a:ext cx="830520" cy="1490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5" dur="250" autoRev="1" fill="hold"/>
                                        <p:tgtEl>
                                          <p:spTgt spid="2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Object 8"/>
          <p:cNvGraphicFramePr/>
          <p:nvPr/>
        </p:nvGraphicFramePr>
        <p:xfrm>
          <a:off x="1638360" y="2584440"/>
          <a:ext cx="391140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2584440"/>
                    <a:ext cx="39114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40" name="Object 7"/>
              <p:cNvSpPr txBox="1"/>
              <p:nvPr/>
            </p:nvSpPr>
            <p:spPr>
              <a:xfrm>
                <a:off x="2705040" y="574056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6"/>
              <p:cNvSpPr txBox="1"/>
              <p:nvPr/>
            </p:nvSpPr>
            <p:spPr>
              <a:xfrm>
                <a:off x="1781280" y="5724360"/>
                <a:ext cx="16200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5"/>
              <p:cNvSpPr txBox="1"/>
              <p:nvPr/>
            </p:nvSpPr>
            <p:spPr>
              <a:xfrm>
                <a:off x="7016760" y="351792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6305400" y="3517920"/>
                <a:ext cx="162000" cy="1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4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593720" y="2184480"/>
          <a:ext cx="7067520" cy="4359240"/>
        </p:xfrm>
        <a:graphic>
          <a:graphicData uri="http://schemas.openxmlformats.org/drawingml/2006/table">
            <a:tbl>
              <a:tblPr/>
              <a:tblGrid>
                <a:gridCol w="4200480"/>
                <a:gridCol w="2867040"/>
              </a:tblGrid>
              <a:tr h="2834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о: ∆АВС и ∆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=АД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 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азать: ∆АВС = ∆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496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азательство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=АД (дано)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   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(дан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общ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∆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 = ∆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 (по двум сторонам и углу между ни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48840" y="406440"/>
            <a:ext cx="85345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 готовому чертежу докажите равенство треугольни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учающ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ыявить степень овладения учащимися знаний и умений по теме; отработка решений геометрических задач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вивающ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азвивать умение анализировать и сравнивать; развивать устную и письменную реч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спитывающ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ививать интерес к геометрии, умение вести культурную дискусс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80604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Picture 7" descr=""/>
          <p:cNvPicPr/>
          <p:nvPr/>
        </p:nvPicPr>
        <p:blipFill>
          <a:blip r:embed="rId1"/>
          <a:stretch/>
        </p:blipFill>
        <p:spPr>
          <a:xfrm>
            <a:off x="1816200" y="2451240"/>
            <a:ext cx="2400120" cy="22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0" name=""/>
          <p:cNvGraphicFramePr/>
          <p:nvPr/>
        </p:nvGraphicFramePr>
        <p:xfrm>
          <a:off x="793800" y="1473120"/>
          <a:ext cx="7823160" cy="4992840"/>
        </p:xfrm>
        <a:graphic>
          <a:graphicData uri="http://schemas.openxmlformats.org/drawingml/2006/table">
            <a:tbl>
              <a:tblPr/>
              <a:tblGrid>
                <a:gridCol w="4649760"/>
                <a:gridCol w="3173400"/>
              </a:tblGrid>
              <a:tr h="3340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н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∆KNP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∆NPO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N=NO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P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казать: ∆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NP =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∆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76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азательство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N=NO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дано)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P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дан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P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общ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∆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NP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∆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PO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по трём сторона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1" name="Rectangle 21"/>
          <p:cNvSpPr/>
          <p:nvPr/>
        </p:nvSpPr>
        <p:spPr>
          <a:xfrm>
            <a:off x="349200" y="4096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 готовому чертежу докажите равенство треугольник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1638360" y="1917720"/>
          <a:ext cx="288108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1917720"/>
                    <a:ext cx="28810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216000" y="1828800"/>
          <a:ext cx="8223120" cy="4867200"/>
        </p:xfrm>
        <a:graphic>
          <a:graphicData uri="http://schemas.openxmlformats.org/drawingml/2006/table">
            <a:tbl>
              <a:tblPr/>
              <a:tblGrid>
                <a:gridCol w="4886280"/>
                <a:gridCol w="3336840"/>
              </a:tblGrid>
              <a:tr h="2844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но: ∆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F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и ∆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D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F=3,7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йти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24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шени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дано)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дано)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вертикальн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∆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F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∆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D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по двум сторонам и углу между ни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∆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F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∆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D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F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следовательно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F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3,7 д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е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3,7 д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7" name="Rectangle 17"/>
          <p:cNvSpPr/>
          <p:nvPr/>
        </p:nvSpPr>
        <p:spPr>
          <a:xfrm>
            <a:off x="367200" y="585720"/>
            <a:ext cx="603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 готовому чертежу найдите 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"/>
          <p:cNvSpPr/>
          <p:nvPr/>
        </p:nvSpPr>
        <p:spPr>
          <a:xfrm>
            <a:off x="3152880" y="986400"/>
            <a:ext cx="338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иров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Прямоугольник 2"/>
          <p:cNvSpPr/>
          <p:nvPr/>
        </p:nvSpPr>
        <p:spPr>
          <a:xfrm>
            <a:off x="216000" y="18288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жите, на каком  из нижеприведённых рисунков есть равные треугольники, по какому признаку они равны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838080" y="2451240"/>
            <a:ext cx="2467080" cy="41241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"/>
          <p:cNvPicPr/>
          <p:nvPr/>
        </p:nvPicPr>
        <p:blipFill>
          <a:blip r:embed="rId2"/>
          <a:stretch/>
        </p:blipFill>
        <p:spPr>
          <a:xfrm>
            <a:off x="5060880" y="2540160"/>
            <a:ext cx="2428920" cy="4028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"/>
          <p:cNvSpPr/>
          <p:nvPr/>
        </p:nvSpPr>
        <p:spPr>
          <a:xfrm>
            <a:off x="3152880" y="986400"/>
            <a:ext cx="338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иров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Прямоугольник 2"/>
          <p:cNvSpPr/>
          <p:nvPr/>
        </p:nvSpPr>
        <p:spPr>
          <a:xfrm>
            <a:off x="216000" y="18288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 По какому признаку равны треугольники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по двум сторонам и углу между ни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по стороне и двум прилежащим угл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 по трем сторон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Object 9"/>
          <p:cNvGraphicFramePr/>
          <p:nvPr/>
        </p:nvGraphicFramePr>
        <p:xfrm>
          <a:off x="527040" y="3073320"/>
          <a:ext cx="150480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3073320"/>
                    <a:ext cx="150480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Object 11"/>
          <p:cNvGraphicFramePr/>
          <p:nvPr/>
        </p:nvGraphicFramePr>
        <p:xfrm>
          <a:off x="2571840" y="3029040"/>
          <a:ext cx="1428840" cy="10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1840" y="3029040"/>
                    <a:ext cx="142884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0" name="Object 13"/>
          <p:cNvGraphicFramePr/>
          <p:nvPr/>
        </p:nvGraphicFramePr>
        <p:xfrm>
          <a:off x="4705200" y="2984400"/>
          <a:ext cx="1447920" cy="123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1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05200" y="2984400"/>
                    <a:ext cx="144792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Object 15"/>
          <p:cNvGraphicFramePr/>
          <p:nvPr/>
        </p:nvGraphicFramePr>
        <p:xfrm>
          <a:off x="6838920" y="3162240"/>
          <a:ext cx="1486080" cy="961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4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38920" y="3162240"/>
                    <a:ext cx="1486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6" name="Object 17"/>
          <p:cNvGraphicFramePr/>
          <p:nvPr/>
        </p:nvGraphicFramePr>
        <p:xfrm>
          <a:off x="438120" y="4673520"/>
          <a:ext cx="1562040" cy="123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7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8120" y="4673520"/>
                    <a:ext cx="156204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9" name="Object 19"/>
          <p:cNvGraphicFramePr/>
          <p:nvPr/>
        </p:nvGraphicFramePr>
        <p:xfrm>
          <a:off x="2482920" y="4718160"/>
          <a:ext cx="1581120" cy="1095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0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82920" y="4718160"/>
                    <a:ext cx="158112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Object 21"/>
          <p:cNvGraphicFramePr/>
          <p:nvPr/>
        </p:nvGraphicFramePr>
        <p:xfrm>
          <a:off x="4660920" y="4851360"/>
          <a:ext cx="1542960" cy="1057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83" name="Object 2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60920" y="4851360"/>
                    <a:ext cx="154296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" name="Object 23"/>
          <p:cNvGraphicFramePr/>
          <p:nvPr/>
        </p:nvGraphicFramePr>
        <p:xfrm>
          <a:off x="6972480" y="4896000"/>
          <a:ext cx="1056960" cy="1085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86" name="Object 2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72480" y="4896000"/>
                    <a:ext cx="105696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"/>
          <p:cNvSpPr/>
          <p:nvPr/>
        </p:nvSpPr>
        <p:spPr>
          <a:xfrm>
            <a:off x="3152880" y="986400"/>
            <a:ext cx="338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иров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Прямоугольник 2"/>
          <p:cNvSpPr/>
          <p:nvPr/>
        </p:nvSpPr>
        <p:spPr>
          <a:xfrm>
            <a:off x="216000" y="18288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 По какому признаку равны треугольники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по двум сторонам и углу между ни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по стороне и двум прилежащим угл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 по трем сторон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6" name="Object 9"/>
          <p:cNvGraphicFramePr/>
          <p:nvPr/>
        </p:nvGraphicFramePr>
        <p:xfrm>
          <a:off x="6972480" y="4896000"/>
          <a:ext cx="128880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72480" y="4896000"/>
                    <a:ext cx="128880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8" name="Picture 10" descr=""/>
          <p:cNvPicPr/>
          <p:nvPr/>
        </p:nvPicPr>
        <p:blipFill>
          <a:blip r:embed="rId3"/>
          <a:stretch/>
        </p:blipFill>
        <p:spPr>
          <a:xfrm>
            <a:off x="571680" y="3251160"/>
            <a:ext cx="1515960" cy="133344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0" name="Object 11"/>
          <p:cNvGraphicFramePr/>
          <p:nvPr/>
        </p:nvGraphicFramePr>
        <p:xfrm>
          <a:off x="2394000" y="3162240"/>
          <a:ext cx="1332000" cy="1422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1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94000" y="3162240"/>
                    <a:ext cx="13320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Object 13"/>
          <p:cNvGraphicFramePr/>
          <p:nvPr/>
        </p:nvGraphicFramePr>
        <p:xfrm>
          <a:off x="4394160" y="3073320"/>
          <a:ext cx="1527120" cy="1422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04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94160" y="3073320"/>
                    <a:ext cx="152712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Object 15"/>
          <p:cNvGraphicFramePr/>
          <p:nvPr/>
        </p:nvGraphicFramePr>
        <p:xfrm>
          <a:off x="6572160" y="3073320"/>
          <a:ext cx="1538280" cy="1511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07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572160" y="3073320"/>
                    <a:ext cx="153828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17"/>
          <p:cNvGraphicFramePr/>
          <p:nvPr/>
        </p:nvGraphicFramePr>
        <p:xfrm>
          <a:off x="393840" y="4807080"/>
          <a:ext cx="1511280" cy="1554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10" name="Object 1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3840" y="4807080"/>
                    <a:ext cx="151128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2" name="Object 19"/>
          <p:cNvGraphicFramePr/>
          <p:nvPr/>
        </p:nvGraphicFramePr>
        <p:xfrm>
          <a:off x="2482920" y="4718160"/>
          <a:ext cx="1668240" cy="1377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13" name="Object 1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82920" y="4718160"/>
                    <a:ext cx="1668240" cy="13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5" name="Object 21"/>
          <p:cNvGraphicFramePr/>
          <p:nvPr/>
        </p:nvGraphicFramePr>
        <p:xfrm>
          <a:off x="4572000" y="4762440"/>
          <a:ext cx="1633680" cy="1378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16" name="Object 2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572000" y="4762440"/>
                    <a:ext cx="163368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1"/>
          <p:cNvSpPr/>
          <p:nvPr/>
        </p:nvSpPr>
        <p:spPr>
          <a:xfrm>
            <a:off x="1708560" y="408600"/>
            <a:ext cx="579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 к тестировани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Прямоугольник 2"/>
          <p:cNvSpPr/>
          <p:nvPr/>
        </p:nvSpPr>
        <p:spPr>
          <a:xfrm>
            <a:off x="171360" y="1295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жите, на каком  из нижеприведённых рисунков есть равные треугольники, по какому признаку они равны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660240" y="2406600"/>
            <a:ext cx="2267280" cy="385920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3"/>
          <p:cNvSpPr/>
          <p:nvPr/>
        </p:nvSpPr>
        <p:spPr>
          <a:xfrm>
            <a:off x="231480" y="63190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вум сторонам и углу между ни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4" descr=""/>
          <p:cNvPicPr/>
          <p:nvPr/>
        </p:nvPicPr>
        <p:blipFill>
          <a:blip r:embed="rId2"/>
          <a:stretch/>
        </p:blipFill>
        <p:spPr>
          <a:xfrm>
            <a:off x="5594400" y="2406600"/>
            <a:ext cx="2246400" cy="388620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3"/>
          <p:cNvSpPr/>
          <p:nvPr/>
        </p:nvSpPr>
        <p:spPr>
          <a:xfrm>
            <a:off x="4903200" y="6319080"/>
            <a:ext cx="39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ороне и двум прилежащим угл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1"/>
          <p:cNvSpPr/>
          <p:nvPr/>
        </p:nvSpPr>
        <p:spPr>
          <a:xfrm>
            <a:off x="2108520" y="275040"/>
            <a:ext cx="579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 к тестировани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Прямоугольник 2"/>
          <p:cNvSpPr/>
          <p:nvPr/>
        </p:nvSpPr>
        <p:spPr>
          <a:xfrm>
            <a:off x="216000" y="12510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 По какому признаку равны треугольники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по двум сторонам и углу между ни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по стороне и двум прилежащим угл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 по трем сторон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2" name="Object 2"/>
          <p:cNvGraphicFramePr/>
          <p:nvPr/>
        </p:nvGraphicFramePr>
        <p:xfrm>
          <a:off x="6972480" y="4896000"/>
          <a:ext cx="1211040" cy="12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72480" y="4896000"/>
                    <a:ext cx="121104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4" name="Picture 10" descr=""/>
          <p:cNvPicPr/>
          <p:nvPr/>
        </p:nvPicPr>
        <p:blipFill>
          <a:blip r:embed="rId3"/>
          <a:stretch/>
        </p:blipFill>
        <p:spPr>
          <a:xfrm>
            <a:off x="571680" y="3251160"/>
            <a:ext cx="1515960" cy="133344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Object 3"/>
          <p:cNvGraphicFramePr/>
          <p:nvPr/>
        </p:nvGraphicFramePr>
        <p:xfrm>
          <a:off x="2394000" y="3162240"/>
          <a:ext cx="1332000" cy="1422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7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94000" y="3162240"/>
                    <a:ext cx="13320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9" name="Object 4"/>
          <p:cNvGraphicFramePr/>
          <p:nvPr/>
        </p:nvGraphicFramePr>
        <p:xfrm>
          <a:off x="4394160" y="3073320"/>
          <a:ext cx="1527120" cy="1422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40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94160" y="3073320"/>
                    <a:ext cx="152712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2" name="Object 5"/>
          <p:cNvGraphicFramePr/>
          <p:nvPr/>
        </p:nvGraphicFramePr>
        <p:xfrm>
          <a:off x="6572160" y="3073320"/>
          <a:ext cx="1538280" cy="1511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43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572160" y="3073320"/>
                    <a:ext cx="153828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5" name="Object 6"/>
          <p:cNvGraphicFramePr/>
          <p:nvPr/>
        </p:nvGraphicFramePr>
        <p:xfrm>
          <a:off x="393840" y="4807080"/>
          <a:ext cx="1333440" cy="1371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46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3840" y="4807080"/>
                    <a:ext cx="133344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8" name="Object 7"/>
          <p:cNvGraphicFramePr/>
          <p:nvPr/>
        </p:nvGraphicFramePr>
        <p:xfrm>
          <a:off x="2482920" y="4718160"/>
          <a:ext cx="1668240" cy="1377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49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82920" y="4718160"/>
                    <a:ext cx="1668240" cy="13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1" name="Object 8"/>
          <p:cNvGraphicFramePr/>
          <p:nvPr/>
        </p:nvGraphicFramePr>
        <p:xfrm>
          <a:off x="4572000" y="4762440"/>
          <a:ext cx="1633680" cy="1378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52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572000" y="4762440"/>
                    <a:ext cx="163368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"/>
          <p:cNvGraphicFramePr/>
          <p:nvPr/>
        </p:nvGraphicFramePr>
        <p:xfrm>
          <a:off x="1238400" y="6273720"/>
          <a:ext cx="6076800" cy="426960"/>
        </p:xfrm>
        <a:graphic>
          <a:graphicData uri="http://schemas.openxmlformats.org/drawingml/2006/table">
            <a:tbl>
              <a:tblPr/>
              <a:tblGrid>
                <a:gridCol w="758520"/>
                <a:gridCol w="760680"/>
                <a:gridCol w="758880"/>
                <a:gridCol w="760320"/>
                <a:gridCol w="758880"/>
                <a:gridCol w="760320"/>
                <a:gridCol w="760320"/>
                <a:gridCol w="75888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"/>
          <p:cNvSpPr/>
          <p:nvPr/>
        </p:nvSpPr>
        <p:spPr>
          <a:xfrm>
            <a:off x="2286360" y="452880"/>
            <a:ext cx="579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 к тестировани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Прямоугольник 2"/>
          <p:cNvSpPr/>
          <p:nvPr/>
        </p:nvSpPr>
        <p:spPr>
          <a:xfrm>
            <a:off x="171360" y="14731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 По какому признаку равны треугольники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по двум сторонам и углу между ни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по стороне и двум прилежащим угл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 по трем сторон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6" name="Object 2"/>
          <p:cNvGraphicFramePr/>
          <p:nvPr/>
        </p:nvGraphicFramePr>
        <p:xfrm>
          <a:off x="527040" y="3073320"/>
          <a:ext cx="150480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3073320"/>
                    <a:ext cx="150480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9" name="Object 3"/>
          <p:cNvGraphicFramePr/>
          <p:nvPr/>
        </p:nvGraphicFramePr>
        <p:xfrm>
          <a:off x="2571840" y="3029040"/>
          <a:ext cx="1428840" cy="10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1840" y="3029040"/>
                    <a:ext cx="142884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2" name="Object 4"/>
          <p:cNvGraphicFramePr/>
          <p:nvPr/>
        </p:nvGraphicFramePr>
        <p:xfrm>
          <a:off x="4705200" y="2984400"/>
          <a:ext cx="1447920" cy="123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05200" y="2984400"/>
                    <a:ext cx="144792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5" name="Object 5"/>
          <p:cNvGraphicFramePr/>
          <p:nvPr/>
        </p:nvGraphicFramePr>
        <p:xfrm>
          <a:off x="6838920" y="3162240"/>
          <a:ext cx="1486080" cy="961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38920" y="3162240"/>
                    <a:ext cx="1486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8" name="Object 6"/>
          <p:cNvGraphicFramePr/>
          <p:nvPr/>
        </p:nvGraphicFramePr>
        <p:xfrm>
          <a:off x="438120" y="4673520"/>
          <a:ext cx="1562040" cy="123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9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8120" y="4673520"/>
                    <a:ext cx="156204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1" name="Object 7"/>
          <p:cNvGraphicFramePr/>
          <p:nvPr/>
        </p:nvGraphicFramePr>
        <p:xfrm>
          <a:off x="2482920" y="4718160"/>
          <a:ext cx="1581120" cy="1095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72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82920" y="4718160"/>
                    <a:ext cx="158112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Object 8"/>
          <p:cNvGraphicFramePr/>
          <p:nvPr/>
        </p:nvGraphicFramePr>
        <p:xfrm>
          <a:off x="4660920" y="4851360"/>
          <a:ext cx="1542960" cy="1057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5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60920" y="4851360"/>
                    <a:ext cx="154296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7" name="Object 9"/>
          <p:cNvGraphicFramePr/>
          <p:nvPr/>
        </p:nvGraphicFramePr>
        <p:xfrm>
          <a:off x="6972480" y="4896000"/>
          <a:ext cx="1056960" cy="1085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78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72480" y="4896000"/>
                    <a:ext cx="105696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1415880" y="6184800"/>
          <a:ext cx="6077160" cy="426960"/>
        </p:xfrm>
        <a:graphic>
          <a:graphicData uri="http://schemas.openxmlformats.org/drawingml/2006/table">
            <a:tbl>
              <a:tblPr/>
              <a:tblGrid>
                <a:gridCol w="758880"/>
                <a:gridCol w="760680"/>
                <a:gridCol w="758520"/>
                <a:gridCol w="760680"/>
                <a:gridCol w="758880"/>
                <a:gridCol w="760320"/>
                <a:gridCol w="760320"/>
                <a:gridCol w="75888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2" descr="Изображение 016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04920" y="1162080"/>
            <a:ext cx="4373280" cy="524520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3"/>
          <p:cNvSpPr/>
          <p:nvPr/>
        </p:nvSpPr>
        <p:spPr>
          <a:xfrm>
            <a:off x="4660920" y="4584600"/>
            <a:ext cx="43052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знай самого себя.   (Фалес Милетский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4"/>
          <p:cNvSpPr/>
          <p:nvPr/>
        </p:nvSpPr>
        <p:spPr>
          <a:xfrm>
            <a:off x="1916280" y="363600"/>
            <a:ext cx="483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ческая справ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171360" y="10080"/>
            <a:ext cx="878544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лес Милетский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орема о равенстве двух треугольник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2932560" y="4464720"/>
            <a:ext cx="21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2" descr="Изображение 014"/>
          <p:cNvPicPr/>
          <p:nvPr/>
        </p:nvPicPr>
        <p:blipFill>
          <a:blip r:embed="rId1"/>
          <a:stretch/>
        </p:blipFill>
        <p:spPr>
          <a:xfrm>
            <a:off x="216000" y="1784520"/>
            <a:ext cx="3644640" cy="4841640"/>
          </a:xfrm>
          <a:prstGeom prst="rect">
            <a:avLst/>
          </a:prstGeom>
          <a:ln w="0">
            <a:noFill/>
          </a:ln>
        </p:spPr>
      </p:pic>
      <p:sp>
        <p:nvSpPr>
          <p:cNvPr id="486" name="Прямоугольник 7"/>
          <p:cNvSpPr/>
          <p:nvPr/>
        </p:nvSpPr>
        <p:spPr>
          <a:xfrm>
            <a:off x="3905280" y="1828800"/>
            <a:ext cx="49784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Фалес нашёл важное практическое  приложение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 гавани Милета был построен дальномер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определяющий расстояние до корабля в мор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Он представлял  собой три вбитых колышка А, В, С, (АВ= ВС) и размеченную прямую СК  перпендикулярно прямой 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ри появлении корабля на  прямой СК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аходили точку  Д  такую, чтобы точки Д, В, Е оказывались на  одной прямо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ак ясно из чертежа, расстояние на земле СД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является искомым расстоянием до корабля АЕ по вод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2760" y="5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уро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Актуализировать опорные знания по теме «Треугольник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роверить понятие треугольни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формулировать признаки равенства треугольнико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крепить материал через решение задач по готовым чертежа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Учить правильно и аккуратно оформлять и решать задач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38120" y="1384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ть задачи по готовым чертежа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Calibri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Calibri"/>
              </a:rPr>
              <a:t>                                                                  </a:t>
            </a:r>
            <a:r>
              <a:rPr b="1" lang="ru-RU" sz="2000" spc="-1" strike="noStrike">
                <a:solidFill>
                  <a:srgbClr val="3333ff"/>
                </a:solidFill>
                <a:latin typeface="Calibri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Picture 6" descr="aluno01"/>
          <p:cNvPicPr/>
          <p:nvPr/>
        </p:nvPicPr>
        <p:blipFill>
          <a:blip r:embed="rId1"/>
          <a:stretch/>
        </p:blipFill>
        <p:spPr>
          <a:xfrm>
            <a:off x="-184320" y="2987640"/>
            <a:ext cx="3368880" cy="387036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" descr=""/>
          <p:cNvPicPr/>
          <p:nvPr/>
        </p:nvPicPr>
        <p:blipFill>
          <a:blip r:embed="rId2"/>
          <a:stretch/>
        </p:blipFill>
        <p:spPr>
          <a:xfrm>
            <a:off x="2349360" y="2139840"/>
            <a:ext cx="3248280" cy="23115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" descr=""/>
          <p:cNvPicPr/>
          <p:nvPr/>
        </p:nvPicPr>
        <p:blipFill>
          <a:blip r:embed="rId3"/>
          <a:stretch/>
        </p:blipFill>
        <p:spPr>
          <a:xfrm>
            <a:off x="5816520" y="3828960"/>
            <a:ext cx="2949480" cy="2667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4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 урока. Рефлекс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Picture 1" descr=""/>
          <p:cNvPicPr/>
          <p:nvPr/>
        </p:nvPicPr>
        <p:blipFill>
          <a:blip r:embed="rId1"/>
          <a:stretch/>
        </p:blipFill>
        <p:spPr>
          <a:xfrm>
            <a:off x="0" y="2762280"/>
            <a:ext cx="9144000" cy="2657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82560" y="1428840"/>
            <a:ext cx="6267240" cy="368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знаки </a:t>
            </a:r>
            <a:br>
              <a:rPr sz="5400"/>
            </a:br>
            <a:r>
              <a:rPr b="1" lang="ru-RU" sz="5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авенства </a:t>
            </a:r>
            <a:br>
              <a:rPr sz="5400"/>
            </a:br>
            <a:r>
              <a:rPr b="1" lang="ru-RU" sz="5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треугольнико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teacher"/>
          <p:cNvPicPr/>
          <p:nvPr/>
        </p:nvPicPr>
        <p:blipFill>
          <a:blip r:embed="rId1"/>
          <a:stretch/>
        </p:blipFill>
        <p:spPr>
          <a:xfrm>
            <a:off x="162000" y="2664000"/>
            <a:ext cx="2638440" cy="2180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ческие фигу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971640" y="1916280"/>
            <a:ext cx="2087640" cy="13683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6597720" y="4329000"/>
            <a:ext cx="2087640" cy="1368360"/>
          </a:xfrm>
          <a:custGeom>
            <a:avLst/>
            <a:gdLst>
              <a:gd name="textAreaLeft" fmla="*/ 434880 w 2087640"/>
              <a:gd name="textAreaRight" fmla="*/ 1652760 w 2087640"/>
              <a:gd name="textAreaTop" fmla="*/ 285120 h 1368360"/>
              <a:gd name="textAreaBottom" fmla="*/ 108324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539640" y="4076640"/>
            <a:ext cx="2160720" cy="1513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99"/>
              </a:gs>
              <a:gs pos="100000">
                <a:srgbClr val="00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3059280" y="4149720"/>
            <a:ext cx="2881080" cy="1441440"/>
          </a:xfrm>
          <a:prstGeom prst="pentag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6119640" y="1854360"/>
            <a:ext cx="3024360" cy="151128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476360" y="3500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032360" y="3384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6642000" y="3429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1062000" y="5724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4032360" y="5678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14"/>
          <p:cNvSpPr/>
          <p:nvPr/>
        </p:nvSpPr>
        <p:spPr>
          <a:xfrm>
            <a:off x="3627360" y="1943280"/>
            <a:ext cx="1530360" cy="1484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7182000" y="57243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Object 24"/>
              <p:cNvSpPr txBox="1"/>
              <p:nvPr/>
            </p:nvSpPr>
            <p:spPr>
              <a:xfrm>
                <a:off x="1881360" y="5724360"/>
                <a:ext cx="4521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1" name="Text Box 6"/>
          <p:cNvSpPr/>
          <p:nvPr/>
        </p:nvSpPr>
        <p:spPr>
          <a:xfrm>
            <a:off x="793800" y="156204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и угла: АВС,АСВ,ВА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4927680" y="1562040"/>
            <a:ext cx="40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и стороны: АС, АВ, В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2571840" y="2006640"/>
            <a:ext cx="33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и вершины: А, В, 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26"/>
              <p:cNvSpPr txBox="1"/>
              <p:nvPr/>
            </p:nvSpPr>
            <p:spPr>
              <a:xfrm>
                <a:off x="1816200" y="3740040"/>
                <a:ext cx="6523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27"/>
              <p:cNvSpPr txBox="1"/>
              <p:nvPr/>
            </p:nvSpPr>
            <p:spPr>
              <a:xfrm>
                <a:off x="5607000" y="5724360"/>
                <a:ext cx="6526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6" name="Text Box 28"/>
          <p:cNvSpPr/>
          <p:nvPr/>
        </p:nvSpPr>
        <p:spPr>
          <a:xfrm>
            <a:off x="1601640" y="374328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9"/>
          <p:cNvSpPr/>
          <p:nvPr/>
        </p:nvSpPr>
        <p:spPr>
          <a:xfrm>
            <a:off x="1601640" y="55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0"/>
          <p:cNvSpPr/>
          <p:nvPr/>
        </p:nvSpPr>
        <p:spPr>
          <a:xfrm>
            <a:off x="5877000" y="576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37"/>
          <p:cNvSpPr/>
          <p:nvPr/>
        </p:nvSpPr>
        <p:spPr>
          <a:xfrm flipH="1">
            <a:off x="2038320" y="3962520"/>
            <a:ext cx="46080" cy="1955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8"/>
          <p:cNvSpPr/>
          <p:nvPr/>
        </p:nvSpPr>
        <p:spPr>
          <a:xfrm>
            <a:off x="2127240" y="5904000"/>
            <a:ext cx="3705120" cy="46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9"/>
          <p:cNvSpPr/>
          <p:nvPr/>
        </p:nvSpPr>
        <p:spPr>
          <a:xfrm>
            <a:off x="2006640" y="3924360"/>
            <a:ext cx="3870360" cy="2025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3"/>
          <p:cNvSpPr/>
          <p:nvPr/>
        </p:nvSpPr>
        <p:spPr>
          <a:xfrm>
            <a:off x="3263760" y="2540160"/>
            <a:ext cx="5880240" cy="22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реугольнико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зывается фигура, котора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оит из трёх точек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лежащих на одной прямой,  и трёх отрезков, попарно соединяющих эти точ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и называютс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ершинам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еугольник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отрезки - ег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торона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8120" y="1843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упоминание о треугольнике и его свойствах  мы находим в египетских  папирусах, которым более 4000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Gisa_Pyramids_1"/>
          <p:cNvPicPr/>
          <p:nvPr/>
        </p:nvPicPr>
        <p:blipFill>
          <a:blip r:embed="rId1"/>
          <a:stretch/>
        </p:blipFill>
        <p:spPr>
          <a:xfrm>
            <a:off x="0" y="1773360"/>
            <a:ext cx="4506840" cy="4895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Gisa_Sphinx_Pyramid"/>
          <p:cNvPicPr/>
          <p:nvPr/>
        </p:nvPicPr>
        <p:blipFill>
          <a:blip r:embed="rId2"/>
          <a:stretch/>
        </p:blipFill>
        <p:spPr>
          <a:xfrm>
            <a:off x="4500720" y="1773360"/>
            <a:ext cx="4643280" cy="4895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276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треуголь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556000" y="5445000"/>
            <a:ext cx="3024000" cy="1192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179280" y="4149720"/>
            <a:ext cx="3097440" cy="1187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5638680" y="4365720"/>
            <a:ext cx="2533680" cy="10764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6"/>
          <p:cNvGrpSpPr/>
          <p:nvPr/>
        </p:nvGrpSpPr>
        <p:grpSpPr>
          <a:xfrm>
            <a:off x="324000" y="1628640"/>
            <a:ext cx="3077640" cy="2819160"/>
            <a:chOff x="324000" y="1628640"/>
            <a:chExt cx="3077640" cy="2819160"/>
          </a:xfrm>
        </p:grpSpPr>
        <p:sp>
          <p:nvSpPr>
            <p:cNvPr id="92" name="AutoShape 7"/>
            <p:cNvSpPr/>
            <p:nvPr/>
          </p:nvSpPr>
          <p:spPr>
            <a:xfrm>
              <a:off x="324000" y="1628640"/>
              <a:ext cx="3077640" cy="28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8"/>
            <p:cNvSpPr/>
            <p:nvPr/>
          </p:nvSpPr>
          <p:spPr>
            <a:xfrm>
              <a:off x="534600" y="1823040"/>
              <a:ext cx="2640600" cy="2398680"/>
            </a:xfrm>
            <a:custGeom>
              <a:avLst/>
              <a:gdLst>
                <a:gd name="textAreaLeft" fmla="*/ 0 w 2640600"/>
                <a:gd name="textAreaRight" fmla="*/ 2640960 w 2640600"/>
                <a:gd name="textAreaTop" fmla="*/ 0 h 2398680"/>
                <a:gd name="textAreaBottom" fmla="*/ 2399040 h 2398680"/>
              </a:gdLst>
              <a:ahLst/>
              <a:rect l="textAreaLeft" t="textAreaTop" r="textAreaRight" b="textAreaBottom"/>
              <a:pathLst>
                <a:path w="1401" h="1273">
                  <a:moveTo>
                    <a:pt x="0" y="1161"/>
                  </a:moveTo>
                  <a:lnTo>
                    <a:pt x="799" y="0"/>
                  </a:lnTo>
                  <a:lnTo>
                    <a:pt x="1401" y="1273"/>
                  </a:lnTo>
                  <a:lnTo>
                    <a:pt x="0" y="116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9"/>
            <p:cNvSpPr/>
            <p:nvPr/>
          </p:nvSpPr>
          <p:spPr>
            <a:xfrm flipH="1">
              <a:off x="534600" y="1823040"/>
              <a:ext cx="1506240" cy="218772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2040840" y="1823040"/>
              <a:ext cx="1134360" cy="239868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534600" y="4010760"/>
              <a:ext cx="2640600" cy="21096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12"/>
            <p:cNvSpPr/>
            <p:nvPr/>
          </p:nvSpPr>
          <p:spPr>
            <a:xfrm>
              <a:off x="2008800" y="1791000"/>
              <a:ext cx="80640" cy="8064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Oval 13"/>
            <p:cNvSpPr/>
            <p:nvPr/>
          </p:nvSpPr>
          <p:spPr>
            <a:xfrm>
              <a:off x="502920" y="3978720"/>
              <a:ext cx="80640" cy="8100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4"/>
            <p:cNvSpPr/>
            <p:nvPr/>
          </p:nvSpPr>
          <p:spPr>
            <a:xfrm>
              <a:off x="3141360" y="4188240"/>
              <a:ext cx="81000" cy="8064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15"/>
          <p:cNvGrpSpPr/>
          <p:nvPr/>
        </p:nvGrpSpPr>
        <p:grpSpPr>
          <a:xfrm>
            <a:off x="2592360" y="2168640"/>
            <a:ext cx="2738520" cy="3473280"/>
            <a:chOff x="2592360" y="2168640"/>
            <a:chExt cx="2738520" cy="3473280"/>
          </a:xfrm>
        </p:grpSpPr>
        <p:sp>
          <p:nvSpPr>
            <p:cNvPr id="101" name="AutoShape 16"/>
            <p:cNvSpPr/>
            <p:nvPr/>
          </p:nvSpPr>
          <p:spPr>
            <a:xfrm>
              <a:off x="2592360" y="2168640"/>
              <a:ext cx="2738520" cy="347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2805120" y="2405160"/>
              <a:ext cx="2295720" cy="2982960"/>
            </a:xfrm>
            <a:custGeom>
              <a:avLst/>
              <a:gdLst>
                <a:gd name="textAreaLeft" fmla="*/ 0 w 2295720"/>
                <a:gd name="textAreaRight" fmla="*/ 2296080 w 2295720"/>
                <a:gd name="textAreaTop" fmla="*/ 0 h 2982960"/>
                <a:gd name="textAreaBottom" fmla="*/ 2983320 h 2982960"/>
              </a:gdLst>
              <a:ahLst/>
              <a:rect l="textAreaLeft" t="textAreaTop" r="textAreaRight" b="textAreaBottom"/>
              <a:pathLst>
                <a:path w="1446" h="1879">
                  <a:moveTo>
                    <a:pt x="1446" y="1879"/>
                  </a:moveTo>
                  <a:lnTo>
                    <a:pt x="0" y="1879"/>
                  </a:lnTo>
                  <a:lnTo>
                    <a:pt x="1446" y="0"/>
                  </a:lnTo>
                  <a:lnTo>
                    <a:pt x="1446" y="187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8"/>
            <p:cNvSpPr/>
            <p:nvPr/>
          </p:nvSpPr>
          <p:spPr>
            <a:xfrm flipH="1">
              <a:off x="2804760" y="2405160"/>
              <a:ext cx="2295720" cy="298296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19"/>
            <p:cNvSpPr/>
            <p:nvPr/>
          </p:nvSpPr>
          <p:spPr>
            <a:xfrm>
              <a:off x="5100840" y="2405160"/>
              <a:ext cx="1440" cy="298296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20"/>
            <p:cNvSpPr/>
            <p:nvPr/>
          </p:nvSpPr>
          <p:spPr>
            <a:xfrm>
              <a:off x="2805120" y="5388120"/>
              <a:ext cx="2295720" cy="144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Oval 21"/>
            <p:cNvSpPr/>
            <p:nvPr/>
          </p:nvSpPr>
          <p:spPr>
            <a:xfrm>
              <a:off x="2773440" y="5351400"/>
              <a:ext cx="81000" cy="90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Oval 22"/>
            <p:cNvSpPr/>
            <p:nvPr/>
          </p:nvSpPr>
          <p:spPr>
            <a:xfrm>
              <a:off x="5068800" y="2368440"/>
              <a:ext cx="81000" cy="90720"/>
            </a:xfrm>
            <a:prstGeom prst="ellipse">
              <a:avLst/>
            </a:pr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Oval 23"/>
            <p:cNvSpPr/>
            <p:nvPr/>
          </p:nvSpPr>
          <p:spPr>
            <a:xfrm>
              <a:off x="5068800" y="5351400"/>
              <a:ext cx="81000" cy="90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Group 24"/>
          <p:cNvGrpSpPr/>
          <p:nvPr/>
        </p:nvGrpSpPr>
        <p:grpSpPr>
          <a:xfrm>
            <a:off x="5076720" y="2276640"/>
            <a:ext cx="3745080" cy="2144520"/>
            <a:chOff x="5076720" y="2276640"/>
            <a:chExt cx="3745080" cy="2144520"/>
          </a:xfrm>
        </p:grpSpPr>
        <p:sp>
          <p:nvSpPr>
            <p:cNvPr id="110" name="AutoShape 25"/>
            <p:cNvSpPr/>
            <p:nvPr/>
          </p:nvSpPr>
          <p:spPr>
            <a:xfrm>
              <a:off x="5076720" y="2276640"/>
              <a:ext cx="3745080" cy="21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26"/>
            <p:cNvSpPr/>
            <p:nvPr/>
          </p:nvSpPr>
          <p:spPr>
            <a:xfrm>
              <a:off x="5291280" y="2490840"/>
              <a:ext cx="3300120" cy="1700280"/>
            </a:xfrm>
            <a:custGeom>
              <a:avLst/>
              <a:gdLst>
                <a:gd name="textAreaLeft" fmla="*/ 0 w 3300120"/>
                <a:gd name="textAreaRight" fmla="*/ 3300480 w 3300120"/>
                <a:gd name="textAreaTop" fmla="*/ 0 h 1700280"/>
                <a:gd name="textAreaBottom" fmla="*/ 1700640 h 1700280"/>
              </a:gdLst>
              <a:ahLst/>
              <a:rect l="textAreaLeft" t="textAreaTop" r="textAreaRight" b="textAreaBottom"/>
              <a:pathLst>
                <a:path w="2079" h="1071">
                  <a:moveTo>
                    <a:pt x="2079" y="1071"/>
                  </a:moveTo>
                  <a:lnTo>
                    <a:pt x="0" y="541"/>
                  </a:lnTo>
                  <a:lnTo>
                    <a:pt x="904" y="0"/>
                  </a:lnTo>
                  <a:lnTo>
                    <a:pt x="2079" y="1071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27"/>
            <p:cNvSpPr/>
            <p:nvPr/>
          </p:nvSpPr>
          <p:spPr>
            <a:xfrm flipH="1">
              <a:off x="5291280" y="2490840"/>
              <a:ext cx="1434960" cy="85896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28"/>
            <p:cNvSpPr/>
            <p:nvPr/>
          </p:nvSpPr>
          <p:spPr>
            <a:xfrm>
              <a:off x="6726240" y="2490840"/>
              <a:ext cx="1865160" cy="170028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29"/>
            <p:cNvSpPr/>
            <p:nvPr/>
          </p:nvSpPr>
          <p:spPr>
            <a:xfrm>
              <a:off x="5291280" y="3349800"/>
              <a:ext cx="3300120" cy="84132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Oval 30"/>
            <p:cNvSpPr/>
            <p:nvPr/>
          </p:nvSpPr>
          <p:spPr>
            <a:xfrm>
              <a:off x="5257800" y="3316320"/>
              <a:ext cx="82440" cy="824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Oval 31"/>
            <p:cNvSpPr/>
            <p:nvPr/>
          </p:nvSpPr>
          <p:spPr>
            <a:xfrm>
              <a:off x="6692760" y="2457360"/>
              <a:ext cx="82800" cy="828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32"/>
            <p:cNvSpPr/>
            <p:nvPr/>
          </p:nvSpPr>
          <p:spPr>
            <a:xfrm>
              <a:off x="8558280" y="4157640"/>
              <a:ext cx="82440" cy="824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heel spokes="8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3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сторонний и равнобедренный треугольн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Group 3"/>
          <p:cNvGrpSpPr/>
          <p:nvPr/>
        </p:nvGrpSpPr>
        <p:grpSpPr>
          <a:xfrm>
            <a:off x="539640" y="1989000"/>
            <a:ext cx="3744720" cy="3511440"/>
            <a:chOff x="539640" y="1989000"/>
            <a:chExt cx="3744720" cy="3511440"/>
          </a:xfrm>
        </p:grpSpPr>
        <p:sp>
          <p:nvSpPr>
            <p:cNvPr id="120" name="AutoShape 4"/>
            <p:cNvSpPr/>
            <p:nvPr/>
          </p:nvSpPr>
          <p:spPr>
            <a:xfrm>
              <a:off x="539640" y="1989000"/>
              <a:ext cx="3744720" cy="35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5"/>
            <p:cNvSpPr/>
            <p:nvPr/>
          </p:nvSpPr>
          <p:spPr>
            <a:xfrm>
              <a:off x="995040" y="2414520"/>
              <a:ext cx="2746800" cy="1876320"/>
            </a:xfrm>
            <a:custGeom>
              <a:avLst/>
              <a:gdLst>
                <a:gd name="textAreaLeft" fmla="*/ 0 w 2746800"/>
                <a:gd name="textAreaRight" fmla="*/ 2747160 w 2746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978" h="940">
                  <a:moveTo>
                    <a:pt x="0" y="940"/>
                  </a:moveTo>
                  <a:lnTo>
                    <a:pt x="493" y="0"/>
                  </a:lnTo>
                  <a:lnTo>
                    <a:pt x="978" y="940"/>
                  </a:lnTo>
                  <a:lnTo>
                    <a:pt x="0" y="94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2379960" y="2414520"/>
              <a:ext cx="1361880" cy="1876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H="1">
              <a:off x="994680" y="2414520"/>
              <a:ext cx="1384920" cy="1876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>
              <a:off x="995040" y="4290840"/>
              <a:ext cx="27468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>
              <a:off x="1533960" y="3267000"/>
              <a:ext cx="238680" cy="1375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 flipH="1">
              <a:off x="2963880" y="3300840"/>
              <a:ext cx="238680" cy="1375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>
              <a:off x="2356920" y="4119120"/>
              <a:ext cx="2880" cy="2394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2"/>
            <p:cNvSpPr/>
            <p:nvPr/>
          </p:nvSpPr>
          <p:spPr>
            <a:xfrm>
              <a:off x="1015200" y="4749840"/>
              <a:ext cx="166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500" spc="-1" strike="noStrike">
                  <a:solidFill>
                    <a:srgbClr val="000000"/>
                  </a:solidFill>
                  <a:latin typeface="Arial"/>
                </a:rPr>
                <a:t>Равносторонний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13"/>
            <p:cNvSpPr/>
            <p:nvPr/>
          </p:nvSpPr>
          <p:spPr>
            <a:xfrm>
              <a:off x="1017360" y="5023440"/>
              <a:ext cx="214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500" spc="-1" strike="noStrike">
                  <a:solidFill>
                    <a:srgbClr val="000000"/>
                  </a:solidFill>
                  <a:latin typeface="Arial"/>
                </a:rPr>
                <a:t>треугольник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14"/>
            <p:cNvSpPr/>
            <p:nvPr/>
          </p:nvSpPr>
          <p:spPr>
            <a:xfrm>
              <a:off x="2337840" y="2380320"/>
              <a:ext cx="106200" cy="85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15"/>
            <p:cNvSpPr/>
            <p:nvPr/>
          </p:nvSpPr>
          <p:spPr>
            <a:xfrm>
              <a:off x="2552760" y="215856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16"/>
            <p:cNvSpPr/>
            <p:nvPr/>
          </p:nvSpPr>
          <p:spPr>
            <a:xfrm>
              <a:off x="949680" y="4257000"/>
              <a:ext cx="109440" cy="83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17"/>
            <p:cNvSpPr/>
            <p:nvPr/>
          </p:nvSpPr>
          <p:spPr>
            <a:xfrm>
              <a:off x="754200" y="43747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18"/>
            <p:cNvSpPr/>
            <p:nvPr/>
          </p:nvSpPr>
          <p:spPr>
            <a:xfrm>
              <a:off x="3700080" y="4257000"/>
              <a:ext cx="106920" cy="83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19"/>
            <p:cNvSpPr/>
            <p:nvPr/>
          </p:nvSpPr>
          <p:spPr>
            <a:xfrm>
              <a:off x="3851280" y="437472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26"/>
          <p:cNvGrpSpPr/>
          <p:nvPr/>
        </p:nvGrpSpPr>
        <p:grpSpPr>
          <a:xfrm>
            <a:off x="4572000" y="1989000"/>
            <a:ext cx="3009960" cy="3763800"/>
            <a:chOff x="4572000" y="1989000"/>
            <a:chExt cx="3009960" cy="3763800"/>
          </a:xfrm>
        </p:grpSpPr>
        <p:sp>
          <p:nvSpPr>
            <p:cNvPr id="137" name="AutoShape 27"/>
            <p:cNvSpPr/>
            <p:nvPr/>
          </p:nvSpPr>
          <p:spPr>
            <a:xfrm>
              <a:off x="4572000" y="1989000"/>
              <a:ext cx="3009960" cy="37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4783320" y="2127240"/>
              <a:ext cx="2425680" cy="2592360"/>
            </a:xfrm>
            <a:custGeom>
              <a:avLst/>
              <a:gdLst>
                <a:gd name="textAreaLeft" fmla="*/ 0 w 2425680"/>
                <a:gd name="textAreaRight" fmla="*/ 2426040 w 242568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1528" h="1633">
                  <a:moveTo>
                    <a:pt x="0" y="1633"/>
                  </a:moveTo>
                  <a:lnTo>
                    <a:pt x="768" y="0"/>
                  </a:lnTo>
                  <a:lnTo>
                    <a:pt x="1528" y="1633"/>
                  </a:lnTo>
                  <a:lnTo>
                    <a:pt x="0" y="1633"/>
                  </a:lnTo>
                  <a:close/>
                </a:path>
              </a:pathLst>
            </a:custGeom>
            <a:solidFill>
              <a:srgbClr val="8a66d9"/>
            </a:solidFill>
            <a:ln w="0">
              <a:solidFill>
                <a:srgbClr val="8a66d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9"/>
            <p:cNvSpPr/>
            <p:nvPr/>
          </p:nvSpPr>
          <p:spPr>
            <a:xfrm>
              <a:off x="4783320" y="4719600"/>
              <a:ext cx="2425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30"/>
            <p:cNvSpPr/>
            <p:nvPr/>
          </p:nvSpPr>
          <p:spPr>
            <a:xfrm flipH="1">
              <a:off x="4782960" y="2127240"/>
              <a:ext cx="1219320" cy="259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31"/>
            <p:cNvSpPr/>
            <p:nvPr/>
          </p:nvSpPr>
          <p:spPr>
            <a:xfrm>
              <a:off x="6002640" y="2127240"/>
              <a:ext cx="1206360" cy="259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32"/>
            <p:cNvSpPr/>
            <p:nvPr/>
          </p:nvSpPr>
          <p:spPr>
            <a:xfrm>
              <a:off x="5330880" y="3354120"/>
              <a:ext cx="136440" cy="8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3"/>
            <p:cNvSpPr/>
            <p:nvPr/>
          </p:nvSpPr>
          <p:spPr>
            <a:xfrm flipH="1">
              <a:off x="6524640" y="3298680"/>
              <a:ext cx="19872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34"/>
            <p:cNvSpPr/>
            <p:nvPr/>
          </p:nvSpPr>
          <p:spPr>
            <a:xfrm>
              <a:off x="5152320" y="5146560"/>
              <a:ext cx="165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500" spc="-1" strike="noStrike">
                  <a:solidFill>
                    <a:srgbClr val="000000"/>
                  </a:solidFill>
                  <a:latin typeface="Arial"/>
                </a:rPr>
                <a:t>Равнобедренный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35"/>
            <p:cNvSpPr/>
            <p:nvPr/>
          </p:nvSpPr>
          <p:spPr>
            <a:xfrm>
              <a:off x="5155560" y="5367240"/>
              <a:ext cx="1276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500" spc="-1" strike="noStrike">
                  <a:solidFill>
                    <a:srgbClr val="000000"/>
                  </a:solidFill>
                  <a:latin typeface="Arial"/>
                </a:rPr>
                <a:t>треугольник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Oval 36"/>
            <p:cNvSpPr/>
            <p:nvPr/>
          </p:nvSpPr>
          <p:spPr>
            <a:xfrm>
              <a:off x="4759560" y="4690800"/>
              <a:ext cx="61920" cy="69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37"/>
            <p:cNvSpPr/>
            <p:nvPr/>
          </p:nvSpPr>
          <p:spPr>
            <a:xfrm>
              <a:off x="4695120" y="47322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38"/>
            <p:cNvSpPr/>
            <p:nvPr/>
          </p:nvSpPr>
          <p:spPr>
            <a:xfrm>
              <a:off x="7183440" y="4690800"/>
              <a:ext cx="61920" cy="69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39"/>
            <p:cNvSpPr/>
            <p:nvPr/>
          </p:nvSpPr>
          <p:spPr>
            <a:xfrm>
              <a:off x="7308000" y="47322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Oval 44"/>
            <p:cNvSpPr/>
            <p:nvPr/>
          </p:nvSpPr>
          <p:spPr>
            <a:xfrm>
              <a:off x="5977080" y="2098440"/>
              <a:ext cx="61920" cy="69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45"/>
            <p:cNvSpPr/>
            <p:nvPr/>
          </p:nvSpPr>
          <p:spPr>
            <a:xfrm>
              <a:off x="6101640" y="19890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heel spokes="8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02:45:59Z</dcterms:created>
  <dc:creator>11 поток</dc:creator>
  <dc:description/>
  <dc:language>en-US</dc:language>
  <cp:lastModifiedBy>Oly</cp:lastModifiedBy>
  <dcterms:modified xsi:type="dcterms:W3CDTF">2013-03-10T20:27:10Z</dcterms:modified>
  <cp:revision>59</cp:revision>
  <dc:subject/>
  <dc:title>Смысл слов «теорема»и «доказательство теоремы»</dc:title>
</cp:coreProperties>
</file>