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E28-1960-45D6-BE03-FF4FFD9D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58E-EFC6-43EE-A6FE-EEBAC2AA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584-4E64-4D8B-8464-BCCB66F8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7A5-F322-4392-8294-A588425E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812A-ABC0-414A-B339-18F7AC9B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DE6F-DB33-4396-8619-A37501B8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0B8C-85BD-479A-8700-9D4C7243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5C46-823A-456C-85E0-39535630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8929-F430-4D18-8770-A505207E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74F4-3D59-482A-AF30-2343C073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851A-821E-46FF-85D8-22AA047F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797-4C53-437E-95C8-941AEB36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705A-1101-421D-B107-D1948578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1467-C7FA-4BD2-BD20-1252ECB2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884F-47D1-4E29-A82C-A86C37AA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3C79-AE0E-4066-8E0B-C86183F5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272A-810D-42B3-BBCF-018268C4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F063-4BF6-4650-B009-02499DC3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13FA-3623-4D7E-A93F-99376832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3A5B3-4F88-4C3D-9A2C-36AF75BE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DEA3-C8AA-4F71-A6DD-6BB76043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4CB2-EB2E-4309-AE84-E4C01784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A46-AB22-4242-930A-5C3E18C4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7C31-EAA6-4D01-A54C-62291EE2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1BB9-C044-4AA9-9055-CA318B0E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F6FE9-F89A-4F7E-B5BC-4821B5C0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A7DB5-D269-4F26-8BC3-BC43560A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FEE30-F302-4C6B-9D20-F9E6DAC7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C1C0-8385-4276-B6D6-84A315E3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79A8-92C7-4A71-A5CF-DB56707C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45E0-9E8E-4360-A2EA-7B1E3E07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D07D3-069A-4C24-BDA9-D5030417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03A90-F16C-4D47-8120-6F37032E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D43-043C-4901-BF0B-3B2F0E26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985C4-5CDB-4DEE-A187-8482DDCA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CBEB6-6280-423E-B445-4EA18280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5648-F4A9-4F48-B5E8-AA069634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4D52C-0FEC-4E46-90A8-C318775F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17AB0-8B63-4B5D-A72B-5C9CECF1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E30B5-FAE7-4A63-A105-4F69BA4F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79771-7044-4C19-A2C1-F43AF69A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A2CB5-B996-4BA5-861F-540EF11A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24680-367E-4397-9AE9-20A801C3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5F2-31D1-4602-A7E0-7498F766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906-2038-4BCF-AE2D-DF6DEE5A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0A9-4467-458C-809C-24BC292C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E67-723A-4F0C-A848-4868F964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B19-9598-48DA-9BAE-6154B04A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1157-D299-42EF-BD69-96BD277778A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CD3A-57B0-4572-B3F7-17E4A4E14E5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A09D-FE35-4A42-97DF-FF39A386E4D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D13E-C78D-4E6F-8AE6-A65BEB451C2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993600"/>
            <a:ext cx="77850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щие полож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ное общество учащихся «Интеллект» является добровольным творческим объединением учащихся, основанным на принципе коллективного руководства, широкой творческой активности его членов. НОУ действует в форме  проектно-исследовательской работы, поэтому предполагает активное, заинтересованное участие каждого гимназис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71680" y="1000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Цель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-Объединить всех желающих заняться проектно-исследовательской работой, дать теоретические и практические навыки научно-исследовательской работы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Формировать умения и навыки поисковой, познавательной деятельности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- определять цели и задачи, определять методы работы, выдвигать гипотезы, уметь делать анализ и обобщение фактов, находок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-умения делать выводы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патриотизма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 научного общения, выступления перед аудиторией, умения рассказать и заинтересовать ее своим общением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учить работе с архивным материалом и научной литературой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умению написать научную работу, газетный материал, сделать сценарии для  видеофильма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новные формы и метод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литературы. Подготовка сообщений, лекций, бесед. Работа  в архиве. Участие в археологической экспедиции. Интеллектуальные игры. Рабочие и туристические поездки в Казань, Республиканский краеведческий музей, и т.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рганизационное строение НОУ «Интеллект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НОУ разрабатывает план работы и предлагает его для обсуждения на собрании. Обсуждает сценарии мероприятий. Во главе Совета избирается Президент и его пресс секретарь. Высшим органом управления является общее собрание, которое собирается не реже двух раз в год. Общее собрание избирает Совет из наиболее активных членов и Президента. Заседания Совета проводятся 5 раз в год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руководит работой НОУ «Интеллект». Он отчитывается перед собранием. В работе руководствуется планом рабо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ава и обязаннос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ом НОУ может стать любой гимназист 5-11 классов, интересующийся историей, литературой, краеведением, археологией и желающий расширить свои знания по этим направлениям путем активного участия в  деятельности НОУ «Интеллект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работе собрания, высказывать и отстаивать свой взгляд по любой проблем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ь и быть избранным в Сове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овать в работе НОУ, пройдя отборочные испытания. Участие в ежегодных теоретико-практических занятиях и во всех мероприятиях клуб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участие в работе НО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совестное исполнение поруче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ганда полученных знаний, умений, навы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ощрения и взыскан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активную работу могут поощрять грамотами, сувенирами или поездками в профильные лагеря, на экскурс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прос о приеме и выводе решает Общее собрание большинством голос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мблема НОУ «Интеллект»: мудрая сов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з: «Мир не познаешь, не зная края своего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7:54:04Z</dcterms:created>
  <dc:creator>Завуч</dc:creator>
  <dc:description/>
  <dc:language>en-US</dc:language>
  <cp:lastModifiedBy>Азат</cp:lastModifiedBy>
  <dcterms:modified xsi:type="dcterms:W3CDTF">2012-10-17T11:36:22Z</dcterms:modified>
  <cp:revision>9</cp:revision>
  <dc:subject/>
  <dc:title>Устав НОУ «Интеллект»</dc:title>
</cp:coreProperties>
</file>