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427-2704-4915-BA1E-BD248BAC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9E7-749F-42AB-870F-D955734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4F9-4749-4A92-B5F4-62CB7DDD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04A-2A62-4FDB-B3D9-4CDA1A36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12B-9DFD-45CC-AF71-DE92A0FB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AE9-3083-4788-A3F5-786C6A9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F156-D433-4CCB-B0E1-4291E20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69A7-E13C-43D7-B1B3-059B2B9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570-0FF7-4F1E-9114-E856E20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631-FC60-4E15-BB37-ADD159CE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8AEA-C9B8-49A1-9679-8FF1840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104-7670-49C5-A3F7-FAD417D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C8B3-BF2D-40D1-8FD7-74CE08D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30FA-5B33-4E7F-AF3D-3C881FF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7660-E1B9-4450-8E7E-8E28B9E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1616-264B-4030-A174-93F5D92C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34B5-A8EE-42A3-A44B-1CF763A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FF59-D323-4C75-A7CA-BEA765C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2B31-8CD0-4F24-9BB8-A8765BE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1B75-9066-4032-8A6F-16EF7E6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CC6F-48CB-4E99-80FD-33AB40D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38DC-27D0-45F6-BFF6-91C1659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DD6-A724-43B8-B3F3-F869A16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3945-F877-4F0E-A319-A45DA6E3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E3F5-0859-4B69-8792-A6679F8C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0F95-DB64-4340-A71D-586AF51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F20E-C655-44BA-B454-D03F70F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1AB5-8045-4F70-88D1-D313FC52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49E7-E55D-4399-AB54-9A2B0721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5B15-75F8-469A-ADB3-A45F430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E83B-06D2-4D14-8EFF-2EA428DC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02B9-9ACA-4CAD-9086-5EE7119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FA5B-FC22-4210-93B2-043699B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9D2-23F5-445B-998A-83808326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5128-4FA3-4F46-B724-A30A2F6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C746F-91C2-42D5-86C7-14C7C271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F0D2-A1D4-4AC5-9D04-9230E17F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6234-ED53-4D1E-88AF-B5F6E5F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CFB0-C569-43E4-9C84-3D05716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F66D-D702-44BF-A63E-F5E71D4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DEB8-BAE5-40C6-8F5C-040B5863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B791-2E73-40B2-9902-4863D915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B378-58D5-4F6D-A03A-99920DF3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AF2-19E3-404A-935C-04F1A22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40C-5CB8-45D4-AF7F-94A7782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224-04FC-4902-9E39-EE9DB00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E80-7EA5-41B5-AAEA-79D67C1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431-9915-4E71-B4AD-113426E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A21-03F2-4006-8854-1201932A27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626-6B00-402F-8472-B6D2A91CBCA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BF6C-F171-40C0-A678-53113DEBB2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7EA-C12D-4003-8EEA-B05FDB768E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993600"/>
            <a:ext cx="7785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ие полож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ое общество учащихся «Интеллект» является добровольным творческим объединением учащихся, основанным на принципе коллективного руководства, широкой творческой активности его членов. НОУ действует в форме  проектно-исследовательской работы, поэтому предполагает активное, заинтересованное участие каждого гимнази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71680" y="1000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Цель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Объединить всех желающих заняться проектно-исследовательской работой, дать теоретические и практические навыки научно-исследовательской работ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ть умения и навыки поисковой, познавательной деятельности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 определять цели и задачи, определять методы работы, выдвигать гипотезы, уметь делать анализ и обобщение фактов, находок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умения делать выводы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атриотизм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научного общения, выступления перед аудиторией, умения рассказать и заинтересовать ее своим общением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ть работе с архивным материалом и научной литературой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умению написать научную работу, газетный материал, сделать сценарии для  видеофильм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формы и мет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тературы. Подготовка сообщений, лекций, бесед. Работа  в архиве. Участие в археологической экспедиции. Интеллектуальные игры. Рабочие и туристические поездки в Казань, Республиканский краеведческий музей, и 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ационное строение НОУ «Интеллект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НОУ разрабатывает план работы и предлагает его для обсуждения на собрании. Обсуждает сценарии мероприятий. Во главе Совета избирается Президент и его пресс секретарь. Высшим органом управления является общее собрание, которое собирается не реже двух раз в год. Общее собрание избирает Совет из наиболее активных членов и Президента. Заседания Совета проводятся 5 раз в го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руководит работой НОУ «Интеллект». Он отчитывается перед собранием. В работе руководствуется планом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а и обязан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м НОУ может стать любой гимназист 5-11 классов, интересующийся историей, литературой, краеведением, археологией и желающий расширить свои знания по этим направлениям путем активного участия в  деятельности НОУ «Интеллект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боте собрания, высказывать и отстаивать свой взгляд по любой проблем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ь и быть избранным в Сов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 в работе НОУ, пройдя отборочные испытания. Участие в ежегодных теоретико-практических занятиях и во всех мероприятиях клуб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в работе НО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совестное исполнение поруч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полученных знаний, умений, навы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ощрения и взыскан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активную работу могут поощрять грамотами, сувенирами или поездками в профильные лагеря, на экскур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 о приеме и выводе решает Общее собрание большинством голо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мблема НОУ «Интеллект»: мудрая сов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«Мир не познаешь, не зная края своег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7:54:04Z</dcterms:created>
  <dc:creator>Завуч</dc:creator>
  <dc:description/>
  <dc:language>en-US</dc:language>
  <cp:lastModifiedBy>Азат</cp:lastModifiedBy>
  <dcterms:modified xsi:type="dcterms:W3CDTF">2012-10-17T11:36:22Z</dcterms:modified>
  <cp:revision>9</cp:revision>
  <dc:subject/>
  <dc:title>Устав НОУ «Интеллект»</dc:title>
</cp:coreProperties>
</file>