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AE6-F424-4340-BDA9-04E99DF3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9DA-B10F-4169-9AB7-AB37C14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B9B-2DAE-49C7-9963-C6C4232B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3AE-16D7-4677-9E1F-4DAFC7C3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104-1338-4427-BF7B-5866A93C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BAD-ED7F-421B-B528-12DD4F5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09F-2B4D-4679-8073-4C86369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935-EE05-44FA-8340-CB149DA9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5C4-0CC2-42B6-B222-20C4136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917-1E73-489A-8C6C-2067477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D7B-7C95-433F-8B36-CAFDE4F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B5C-4A64-4DDF-8123-06F5B6B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B631-E327-4A28-AC1F-72AF5246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4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неклассное мероприятие по химии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«Первоначальные химические поня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708280"/>
            <a:ext cx="81360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втор: к.п.н., учитель химии высшей катег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стерова Людмила Васи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емиловская МСО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54936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3. «Исчезнувшие слова»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Вставьте слова, которые были написаны таинственными чернилами и выгорели на солнце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  каждый правильный ответ – 1 балл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1\Мои документы\Мои рисунки\Приколы\12772.jpg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1\Мои документы\ychen.gif"/>
          <p:cNvPicPr/>
          <p:nvPr/>
        </p:nvPicPr>
        <p:blipFill>
          <a:blip r:embed="rId2"/>
          <a:stretch/>
        </p:blipFill>
        <p:spPr>
          <a:xfrm>
            <a:off x="158760" y="-122400"/>
            <a:ext cx="1498680" cy="183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324000" y="306864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G_RoslynGothic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) Воздух – смесь, в состав которой входят                     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воды состоят из                        кислорода 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3)  Сладкий вкус варенья принадлежит содержащимся в нём                      сах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8"/>
          <p:cNvSpPr/>
          <p:nvPr/>
        </p:nvSpPr>
        <p:spPr>
          <a:xfrm>
            <a:off x="5435640" y="3357720"/>
            <a:ext cx="121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1"/>
          <p:cNvSpPr/>
          <p:nvPr/>
        </p:nvSpPr>
        <p:spPr>
          <a:xfrm>
            <a:off x="785880" y="3857760"/>
            <a:ext cx="121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2"/>
          <p:cNvSpPr/>
          <p:nvPr/>
        </p:nvSpPr>
        <p:spPr>
          <a:xfrm>
            <a:off x="4286160" y="385776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3"/>
          <p:cNvSpPr/>
          <p:nvPr/>
        </p:nvSpPr>
        <p:spPr>
          <a:xfrm>
            <a:off x="7358040" y="442908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98160" y="558972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260720" y="55897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629440" y="55897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5076720" y="558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084720" y="558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7380360" y="5589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924360" y="558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о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01042 L 0.46302 -0.37315 E">
                                      <p:cBhvr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-0.21754 -0.29977 E">
                                      <p:cBhvr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0599 -0.29977 E">
                                      <p:cBhvr>
                                        <p:cTn id="23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03594 -0.21574 E">
                                      <p:cBhvr>
                                        <p:cTn id="235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К сияющим вершинам» (решение задач)</a:t>
            </a:r>
            <a:br>
              <a:rPr sz="36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 правильное решение  задач – 5 баллов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дание  для 1-й команд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ычислите массу (в граммах), которую составляет 0,5 моль углекислого газ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Определите число молекул в данном количеств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дание для 2-й команд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пределите количество вещества, содержащегося в гидроксиде натр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aOH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ссой 10 граммов. Рассчитайте число молекул в данном количеств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1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М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)=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+32=44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моль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        (1 балл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m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М;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=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*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4=  22 (г)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N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= n*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*6*10 23 =3*1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еку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2 бал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 2.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+16+1=40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моль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)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             (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1 балл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m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=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0,25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ь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2 балла )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N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= n*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*6*10 23 =1,5*1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екул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2 балла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Реши кроссворд: «Лабораторное оборудование»»</a:t>
            </a:r>
            <a:br>
              <a:rPr sz="3600"/>
            </a:br>
            <a:br>
              <a:rPr sz="36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0 баллов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пишите в кроссворд названия лабораторного оборудования, представленного на рис.1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ючевым словом является название оперы известного русского химика-композитора А.П. Бородин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1\Мои документы\Мои рисунки\img074.jpg"/>
          <p:cNvPicPr/>
          <p:nvPr/>
        </p:nvPicPr>
        <p:blipFill>
          <a:blip r:embed="rId1"/>
          <a:stretch/>
        </p:blipFill>
        <p:spPr>
          <a:xfrm>
            <a:off x="3714840" y="128592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1\Мои документы\Мои рисунки\Копия img074.jpg"/>
          <p:cNvPicPr/>
          <p:nvPr/>
        </p:nvPicPr>
        <p:blipFill>
          <a:blip r:embed="rId2"/>
          <a:stretch/>
        </p:blipFill>
        <p:spPr>
          <a:xfrm>
            <a:off x="3773520" y="0"/>
            <a:ext cx="5370480" cy="6597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4610160" y="14191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610160" y="1782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4627440" y="2193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94320" y="25858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4618080" y="2986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extBox 8" descr=""/>
          <p:cNvPicPr/>
          <p:nvPr/>
        </p:nvPicPr>
        <p:blipFill>
          <a:blip r:embed="rId3"/>
          <a:stretch/>
        </p:blipFill>
        <p:spPr>
          <a:xfrm>
            <a:off x="4505400" y="3419640"/>
            <a:ext cx="457200" cy="5061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4578480" y="381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00076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5011560" y="1801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5000760" y="2185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5000760" y="25858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5003640" y="301140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TextBox 15" descr=""/>
          <p:cNvPicPr/>
          <p:nvPr/>
        </p:nvPicPr>
        <p:blipFill>
          <a:blip r:embed="rId4"/>
          <a:stretch/>
        </p:blipFill>
        <p:spPr>
          <a:xfrm>
            <a:off x="4943520" y="3419640"/>
            <a:ext cx="482400" cy="506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6"/>
          <p:cNvSpPr/>
          <p:nvPr/>
        </p:nvSpPr>
        <p:spPr>
          <a:xfrm>
            <a:off x="542916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5425920" y="2193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5438880" y="25844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9"/>
          <p:cNvSpPr/>
          <p:nvPr/>
        </p:nvSpPr>
        <p:spPr>
          <a:xfrm>
            <a:off x="5398920" y="300996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Box 20" descr=""/>
          <p:cNvPicPr/>
          <p:nvPr/>
        </p:nvPicPr>
        <p:blipFill>
          <a:blip r:embed="rId5"/>
          <a:stretch/>
        </p:blipFill>
        <p:spPr>
          <a:xfrm>
            <a:off x="5340240" y="3408480"/>
            <a:ext cx="493920" cy="50472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1" descr=""/>
          <p:cNvPicPr/>
          <p:nvPr/>
        </p:nvPicPr>
        <p:blipFill>
          <a:blip r:embed="rId6"/>
          <a:stretch/>
        </p:blipFill>
        <p:spPr>
          <a:xfrm>
            <a:off x="5742000" y="3408480"/>
            <a:ext cx="493560" cy="504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2"/>
          <p:cNvSpPr/>
          <p:nvPr/>
        </p:nvSpPr>
        <p:spPr>
          <a:xfrm>
            <a:off x="5842080" y="38019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26" descr=""/>
          <p:cNvPicPr/>
          <p:nvPr/>
        </p:nvPicPr>
        <p:blipFill>
          <a:blip r:embed="rId7"/>
          <a:stretch/>
        </p:blipFill>
        <p:spPr>
          <a:xfrm>
            <a:off x="6991200" y="3419640"/>
            <a:ext cx="457200" cy="5061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7"/>
          <p:cNvSpPr/>
          <p:nvPr/>
        </p:nvSpPr>
        <p:spPr>
          <a:xfrm>
            <a:off x="7000920" y="38084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8"/>
          <p:cNvSpPr/>
          <p:nvPr/>
        </p:nvSpPr>
        <p:spPr>
          <a:xfrm>
            <a:off x="7035840" y="4218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7035840" y="4602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7000920" y="5029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7000920" y="539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2"/>
          <p:cNvSpPr/>
          <p:nvPr/>
        </p:nvSpPr>
        <p:spPr>
          <a:xfrm>
            <a:off x="7010280" y="5815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6643800" y="1789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4"/>
          <p:cNvSpPr/>
          <p:nvPr/>
        </p:nvSpPr>
        <p:spPr>
          <a:xfrm>
            <a:off x="6659640" y="191628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6645240" y="26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6643800" y="29973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37" descr=""/>
          <p:cNvPicPr/>
          <p:nvPr/>
        </p:nvPicPr>
        <p:blipFill>
          <a:blip r:embed="rId8"/>
          <a:stretch/>
        </p:blipFill>
        <p:spPr>
          <a:xfrm>
            <a:off x="6566040" y="3419640"/>
            <a:ext cx="480960" cy="506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6610320" y="3807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607080" y="4218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0"/>
          <p:cNvSpPr/>
          <p:nvPr/>
        </p:nvSpPr>
        <p:spPr>
          <a:xfrm>
            <a:off x="6610320" y="4602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1"/>
          <p:cNvSpPr/>
          <p:nvPr/>
        </p:nvSpPr>
        <p:spPr>
          <a:xfrm>
            <a:off x="6215040" y="571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2"/>
          <p:cNvSpPr/>
          <p:nvPr/>
        </p:nvSpPr>
        <p:spPr>
          <a:xfrm>
            <a:off x="621504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3"/>
          <p:cNvSpPr/>
          <p:nvPr/>
        </p:nvSpPr>
        <p:spPr>
          <a:xfrm>
            <a:off x="6210360" y="1089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4"/>
          <p:cNvSpPr/>
          <p:nvPr/>
        </p:nvSpPr>
        <p:spPr>
          <a:xfrm>
            <a:off x="6222960" y="1790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5"/>
          <p:cNvSpPr/>
          <p:nvPr/>
        </p:nvSpPr>
        <p:spPr>
          <a:xfrm>
            <a:off x="6249960" y="2171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6"/>
          <p:cNvSpPr/>
          <p:nvPr/>
        </p:nvSpPr>
        <p:spPr>
          <a:xfrm flipH="1">
            <a:off x="6226920" y="234936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7"/>
          <p:cNvSpPr/>
          <p:nvPr/>
        </p:nvSpPr>
        <p:spPr>
          <a:xfrm flipV="1">
            <a:off x="6227640" y="29952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TextBox 48" descr=""/>
          <p:cNvPicPr/>
          <p:nvPr/>
        </p:nvPicPr>
        <p:blipFill>
          <a:blip r:embed="rId9"/>
          <a:stretch/>
        </p:blipFill>
        <p:spPr>
          <a:xfrm>
            <a:off x="6156360" y="3429000"/>
            <a:ext cx="480960" cy="5032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9"/>
          <p:cNvSpPr/>
          <p:nvPr/>
        </p:nvSpPr>
        <p:spPr>
          <a:xfrm>
            <a:off x="7429680" y="3005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extBox 50" descr=""/>
          <p:cNvPicPr/>
          <p:nvPr/>
        </p:nvPicPr>
        <p:blipFill>
          <a:blip r:embed="rId10"/>
          <a:stretch/>
        </p:blipFill>
        <p:spPr>
          <a:xfrm>
            <a:off x="7364520" y="3408480"/>
            <a:ext cx="500040" cy="504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1"/>
          <p:cNvSpPr/>
          <p:nvPr/>
        </p:nvSpPr>
        <p:spPr>
          <a:xfrm>
            <a:off x="7493040" y="3797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2"/>
          <p:cNvSpPr/>
          <p:nvPr/>
        </p:nvSpPr>
        <p:spPr>
          <a:xfrm>
            <a:off x="7493040" y="4227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3"/>
          <p:cNvSpPr/>
          <p:nvPr/>
        </p:nvSpPr>
        <p:spPr>
          <a:xfrm>
            <a:off x="7464600" y="4605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TextBox 54" descr=""/>
          <p:cNvPicPr/>
          <p:nvPr/>
        </p:nvPicPr>
        <p:blipFill>
          <a:blip r:embed="rId11"/>
          <a:stretch/>
        </p:blipFill>
        <p:spPr>
          <a:xfrm>
            <a:off x="7791480" y="3408480"/>
            <a:ext cx="46836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55" descr=""/>
          <p:cNvPicPr/>
          <p:nvPr/>
        </p:nvPicPr>
        <p:blipFill>
          <a:blip r:embed="rId12"/>
          <a:stretch/>
        </p:blipFill>
        <p:spPr>
          <a:xfrm>
            <a:off x="8193240" y="3389400"/>
            <a:ext cx="480960" cy="506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6"/>
          <p:cNvSpPr/>
          <p:nvPr/>
        </p:nvSpPr>
        <p:spPr>
          <a:xfrm>
            <a:off x="7858080" y="3009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7858080" y="37893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8"/>
          <p:cNvSpPr/>
          <p:nvPr/>
        </p:nvSpPr>
        <p:spPr>
          <a:xfrm>
            <a:off x="7877160" y="4229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9"/>
          <p:cNvSpPr/>
          <p:nvPr/>
        </p:nvSpPr>
        <p:spPr>
          <a:xfrm>
            <a:off x="7866000" y="5022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0"/>
          <p:cNvSpPr/>
          <p:nvPr/>
        </p:nvSpPr>
        <p:spPr>
          <a:xfrm>
            <a:off x="7840800" y="4610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1"/>
          <p:cNvSpPr/>
          <p:nvPr/>
        </p:nvSpPr>
        <p:spPr>
          <a:xfrm>
            <a:off x="8269200" y="22273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2"/>
          <p:cNvSpPr/>
          <p:nvPr/>
        </p:nvSpPr>
        <p:spPr>
          <a:xfrm>
            <a:off x="8286840" y="25844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3"/>
          <p:cNvSpPr/>
          <p:nvPr/>
        </p:nvSpPr>
        <p:spPr>
          <a:xfrm>
            <a:off x="8286840" y="3005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8215200" y="381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5"/>
          <p:cNvSpPr/>
          <p:nvPr/>
        </p:nvSpPr>
        <p:spPr>
          <a:xfrm>
            <a:off x="8215200" y="4238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Загнутый угол 66"/>
          <p:cNvSpPr/>
          <p:nvPr/>
        </p:nvSpPr>
        <p:spPr>
          <a:xfrm>
            <a:off x="0" y="0"/>
            <a:ext cx="4067280" cy="5022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1\Мои документы\Мои рисунки\img074.jpg"/>
          <p:cNvPicPr/>
          <p:nvPr/>
        </p:nvPicPr>
        <p:blipFill>
          <a:blip r:embed="rId13"/>
          <a:stretch/>
        </p:blipFill>
        <p:spPr>
          <a:xfrm>
            <a:off x="0" y="1052640"/>
            <a:ext cx="3807000" cy="3313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6"/>
          <p:cNvSpPr/>
          <p:nvPr/>
        </p:nvSpPr>
        <p:spPr>
          <a:xfrm>
            <a:off x="-631800" y="0"/>
            <a:ext cx="5257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ссворд: «Лабораторное оборудов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0 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7"/>
          <p:cNvSpPr/>
          <p:nvPr/>
        </p:nvSpPr>
        <p:spPr>
          <a:xfrm>
            <a:off x="5824440" y="4591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5832360" y="501156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5787720" y="415620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6238080" y="142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6265800" y="104940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849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with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with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with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with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with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with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with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with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with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with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with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with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with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with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with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with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with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with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with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with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with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with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with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with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with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with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with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with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with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with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with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with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with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with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with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with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with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with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with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6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with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6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with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with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with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Химик – экспериментатор»</a:t>
            </a:r>
            <a:br>
              <a:rPr sz="36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 практическое задание – макс. 5 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для 1-й команды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ана смесь соли с песком. Отделите песок от соли. Какая это смесь? Какие виды смесей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для 2-й команды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ан раствор соли. Выделите соль из раствора. Какая это смесь? Какие способы разделения смесей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граждение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коменд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ожно еще  многое про химию сказ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о все ее достоинства трудно о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ы видите, без химии нельзя на свете 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этому советуем все тщательно уч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2987640" y="333360"/>
            <a:ext cx="57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Многое учится со слезами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ькими  и бесполезными,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могло быть выучено легко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о смехом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жанни Родар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979640" y="227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Цел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11280" y="2852640"/>
            <a:ext cx="7921440" cy="41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игров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общить первоначальные химические понятия и  систематизировать знания учащихся по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итывать коллективистские качества, интерес к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вать коммуникативные навыки  и  навыки экспериментальны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част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 команды из учеников 8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орудование и реа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льтровальная бум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клянная па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шка для выпар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ир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готовки кроссвордов (2 ш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есь соли с пес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твор с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– размин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Давайте познакомим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земное недро ты, Хим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никни взора остро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что содержит в нем Рос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раги сокровища отк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1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спределите явления согласно классификации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90128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42920" y="2133720"/>
            <a:ext cx="194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156360" y="213372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348000" y="2852640"/>
            <a:ext cx="237636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арени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195640" y="3500280"/>
            <a:ext cx="4681440" cy="64260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утнение известковой воды под действием углекислого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3492360" y="4429080"/>
            <a:ext cx="215136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ение св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492360" y="5013360"/>
            <a:ext cx="215136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вка 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132000" y="5589720"/>
            <a:ext cx="288000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гливание лу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203640" y="6143760"/>
            <a:ext cx="273672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жавление гвоз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1\Мои документы\ychen.gif"/>
          <p:cNvPicPr/>
          <p:nvPr/>
        </p:nvPicPr>
        <p:blipFill>
          <a:blip r:embed="rId1"/>
          <a:stretch/>
        </p:blipFill>
        <p:spPr>
          <a:xfrm>
            <a:off x="8058240" y="620640"/>
            <a:ext cx="10857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Line 13"/>
          <p:cNvSpPr/>
          <p:nvPr/>
        </p:nvSpPr>
        <p:spPr>
          <a:xfrm flipH="1">
            <a:off x="2771640" y="177336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5508720" y="17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9531 0.00301 E">
                                      <p:cBhvr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0289E-006 L -0.26372 -0.08 E">
                                      <p:cBhvr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6 L -0.2908 -0.07977 E"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0.29184 -0.18588 E">
                                      <p:cBhvr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526E-006 L -0.28351 -0.14381 E">
                                      <p:cBhvr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0578E-006 L -0.28351 -0.10914 E">
                                      <p:cBhvr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2.Выберите из предложенного перечня  чистые вещества и смеси</a:t>
            </a:r>
            <a:br>
              <a:rPr sz="2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143000" y="1989000"/>
            <a:ext cx="200016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000760" y="1989000"/>
            <a:ext cx="207144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1\Мои документы\ychen.gif"/>
          <p:cNvPicPr/>
          <p:nvPr/>
        </p:nvPicPr>
        <p:blipFill>
          <a:blip r:embed="rId1"/>
          <a:stretch/>
        </p:blipFill>
        <p:spPr>
          <a:xfrm flipH="1">
            <a:off x="357120" y="571680"/>
            <a:ext cx="844560" cy="912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2771640" y="3068640"/>
            <a:ext cx="257184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стиллирован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203640" y="3933720"/>
            <a:ext cx="17859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3203640" y="4508640"/>
            <a:ext cx="17859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286080" y="5013360"/>
            <a:ext cx="16430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3429000" y="5572080"/>
            <a:ext cx="13572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00280" y="6072120"/>
            <a:ext cx="12146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508 L -0.25087 0.00508 E">
                                      <p:cBhvr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06358E-006 L -0.24723 -3.06358E-006 E">
                                      <p:cBhvr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0.20834 -0.1831 E">
                                      <p:cBhvr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526E-006 L -0.24844 -0.05873 E">
                                      <p:cBhvr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3.93064E-006 L 0.21198 -0.23445 E">
                                      <p:cBhvr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69942E-006 L -0.24844 -0.12902 E">
                                      <p:cBhvr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3. Определите, в каких предложениях идёт речь о химическом элементе, а в каких – о веществе</a:t>
            </a:r>
            <a:br>
              <a:rPr sz="2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1\Мои документы\deti_d.jpg"/>
          <p:cNvPicPr/>
          <p:nvPr/>
        </p:nvPicPr>
        <p:blipFill>
          <a:blip r:embed="rId1"/>
          <a:stretch/>
        </p:blipFill>
        <p:spPr>
          <a:xfrm>
            <a:off x="7888320" y="1125360"/>
            <a:ext cx="1255680" cy="12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1\Мои документы\Мои рисунки\CA6B6N4X.jpg"/>
          <p:cNvPicPr/>
          <p:nvPr/>
        </p:nvPicPr>
        <p:blipFill>
          <a:blip r:embed="rId2"/>
          <a:stretch/>
        </p:blipFill>
        <p:spPr>
          <a:xfrm>
            <a:off x="249120" y="1195560"/>
            <a:ext cx="1122480" cy="901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214280" y="2349360"/>
            <a:ext cx="171468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715000" y="2349360"/>
            <a:ext cx="185724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627280" y="3000240"/>
            <a:ext cx="352908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ь входит в состав медного купо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2556000" y="3716280"/>
            <a:ext cx="36716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бы дышат кислородом, растворённым в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268360" y="4437000"/>
            <a:ext cx="431964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о входит в состав ржав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2050920" y="4941720"/>
            <a:ext cx="475308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о во влажном воздухе ржав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771640" y="5445000"/>
            <a:ext cx="315936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ра смешана с желе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268360" y="5877000"/>
            <a:ext cx="43196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сид меди состоит из кислорода и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037 L -0.24826 0.0037 E">
                                      <p:cBhvr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0.25191 -0.10509 E">
                                      <p:cBhvr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2104 L -0.25191 -0.08948 E">
                                      <p:cBhvr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69 L 0.25208 -0.1526 E">
                                      <p:cBhvr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17919E-006 L 0.27239 -0.13226 E">
                                      <p:cBhvr>
                                        <p:cTn id="171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5133 L -0.25191 -0.22497 E">
                                      <p:cBhvr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Химик- эруди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1. Умеете  ли вы читать формулы? Запишите при помощи химических 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ять атомов водо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е молекулы кисло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дну молекулу аз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535120" y="4745160"/>
            <a:ext cx="8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19280" y="4437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56000" y="4437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492360" y="4437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335480" y="474516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265640" y="442764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364000" y="4427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227640" y="44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332000" y="5300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58382E-006 L 0.01979 -0.26104 E">
                                      <p:cBhvr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69942E-006 L -0.01164 -0.17849 E">
                                      <p:cBhvr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L 0.2125 -0.09456 E">
                                      <p:cBhvr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2. «Учись уравнивать»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берите «лишние» и поставьте нужные коэффициенты в  реакциях, укажите, к какому типу реакции можно отнести каждую из ни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)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gO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g + 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 + 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)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+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59120" y="2421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7236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124000" y="40766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076720" y="400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095480" y="5013360"/>
            <a:ext cx="159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84560" y="501336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840200" y="50133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7000920" y="5013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471840" y="40053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90144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268360" y="609300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936720" y="3645000"/>
            <a:ext cx="3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4971E-006 L 0.26893 -0.15746 E">
                                      <p:cBhvr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2601E-006 L -0.28003 -0.06312 E">
                                      <p:cBhvr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52601E-006 L -0.33455 -0.06312 E">
                                      <p:cBhvr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023 L -0.26771 -0.06312 E">
                                      <p:cBhvr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5549E-006 L -0.00434 -0.35399 E">
                                      <p:cBhvr>
                                        <p:cTn id="21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5549E-006 L -0.16041 -0.2807 E">
                                      <p:cBhvr>
                                        <p:cTn id="217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5549E-006 L 0.6316 -0.17573 E">
                                      <p:cBhvr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24:04Z</dcterms:created>
  <dc:creator>Александр</dc:creator>
  <dc:description/>
  <dc:language>en-US</dc:language>
  <cp:lastModifiedBy>Александр</cp:lastModifiedBy>
  <dcterms:modified xsi:type="dcterms:W3CDTF">2011-12-05T19:27:57Z</dcterms:modified>
  <cp:revision>18</cp:revision>
  <dc:subject/>
  <dc:title>Внеклассное мероприятие по химии в виде игры КВН «Кислород. Оксиды»</dc:title>
</cp:coreProperties>
</file>