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9320-1CF5-49A9-AE06-21FD0937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7994-6346-4A91-BCFD-B16EDFD3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E557-08AD-4685-BC85-044383E23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0A8-F498-4C7E-91B5-2CD0F9CD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7197-80C3-4144-8A73-848FD7F9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EF37-08CB-40C9-BBCC-CF27559C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E7D1-3A41-41BF-B151-C26BEA1B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5821-8138-486E-A74A-11FBA921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A381-74A1-4C64-8E57-3E116BFE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F325-6B3C-4EFD-B090-0EB43A48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8D53-95A1-416F-8E40-4D355972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20DA-B522-4ED0-A50C-995353BE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5DAA-1EA2-4223-ACCB-3C1CF3FD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CD32-028B-4AC8-BC1A-09BDB8DA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5CBF-A85E-42A5-A860-22BE71B5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5259-A623-4761-BF62-34814F20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36D3-7D54-46F9-8B5D-6DE8EB40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FD61-8FB9-4A30-8464-D4A8A571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4A8A-61E8-4CD3-813A-F6978DD0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52C-48E3-4641-967D-BA2DBA94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55D-E9F5-4024-9373-A0B2268E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3048-ACA8-426A-8BEE-238C7778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7BAE-DE4F-45D3-A6A9-799B3ABD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E0EC-B6A9-44B2-A077-70D7CB81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E18C-9780-4DE8-9476-4E0539E7655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992D-333F-434D-A23B-8C3C1133A414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ccecff"/>
                </a:solidFill>
                <a:latin typeface="Agency FB"/>
              </a:rPr>
              <a:t>За стенами замка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25892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Учитель истор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остышина Галина Николаевн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боронительные укрепления зам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сокие , толстые стены с зубцами и узкими бойницами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Глубокий ров вокруг замка, заполненный водо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дъёмный мост и массивные , окованные железом ворот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борона зам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Picture 4" descr="Изображение 005"/>
          <p:cNvPicPr/>
          <p:nvPr/>
        </p:nvPicPr>
        <p:blipFill>
          <a:blip r:embed="rId1"/>
          <a:stretch/>
        </p:blipFill>
        <p:spPr>
          <a:xfrm>
            <a:off x="3095640" y="1268280"/>
            <a:ext cx="34257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Picture 4" descr="Изображение 008"/>
          <p:cNvPicPr/>
          <p:nvPr/>
        </p:nvPicPr>
        <p:blipFill>
          <a:blip r:embed="rId1"/>
          <a:stretch/>
        </p:blipFill>
        <p:spPr>
          <a:xfrm>
            <a:off x="2700360" y="4005360"/>
            <a:ext cx="2217600" cy="2852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Изображение 009"/>
          <p:cNvPicPr/>
          <p:nvPr/>
        </p:nvPicPr>
        <p:blipFill>
          <a:blip r:embed="rId2"/>
          <a:stretch/>
        </p:blipFill>
        <p:spPr>
          <a:xfrm>
            <a:off x="324000" y="0"/>
            <a:ext cx="2922480" cy="4019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Изображение 010"/>
          <p:cNvPicPr/>
          <p:nvPr/>
        </p:nvPicPr>
        <p:blipFill>
          <a:blip r:embed="rId3"/>
          <a:stretch/>
        </p:blipFill>
        <p:spPr>
          <a:xfrm>
            <a:off x="4859280" y="0"/>
            <a:ext cx="428472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М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Жилище  феодала – небольшая, но хорошо приспособленная к обороне крепост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Донжон - главная, самая высокая башня замк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ольше чем заба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ыцарский турнир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2" name="Picture 4" descr="Изображение 013"/>
          <p:cNvPicPr/>
          <p:nvPr/>
        </p:nvPicPr>
        <p:blipFill>
          <a:blip r:embed="rId1"/>
          <a:stretch/>
        </p:blipFill>
        <p:spPr>
          <a:xfrm>
            <a:off x="684360" y="2130480"/>
            <a:ext cx="669600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тог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ыцари составляли военное сословие в Европе. Основное занятие рыцаря – война. Этим в значительной степени определялся и кодекс чести рыцаря, рассчитанный на воина, способного с мечом в руках отстаивать добро и справедливость. Жили рыцари в замках, всегда готовых к отображению противника. Мирное время рыцарь проводил в военных занятиях. В этом отношении неудивительно, что любимые развлечения рыцаря – турниры и охота, связанные с военным искусством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12 стр. 109-115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Ответ на вопрос: Как жили и чем занимались рыцари Средневековь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Мини сочинение на одну из тем: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«Один день из жизни рыцаря»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«Больше чем забава»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«Есть ли рыцари в наши дни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знакомимся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Узнаем о ..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одолжим учиться работать…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. Кто такие феодал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. Рыцари на войн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3. Рыцарский кодекс чес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4. Мой дом - моя крепост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5. Больше чем забав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? Каким был настоящий рыцарь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то такие феодал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сех, кто в Средние века жил благодаря тому, что владел землёй с крестьянами, называли </a:t>
            </a:r>
            <a:r>
              <a:rPr b="0" lang="ru-RU" sz="3600" spc="-1" strike="noStrike">
                <a:solidFill>
                  <a:srgbClr val="00cc00"/>
                </a:solidFill>
                <a:latin typeface="Arial"/>
              </a:rPr>
              <a:t>феодалами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бщественный строй который образовался из отношения к земле с крестьянами на ней как главному богатству, называется </a:t>
            </a: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феодализ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ыцар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Члены одного сословия – воины, лучше всех владеющие мастерством боя и искусством ведения войн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ыцари на войн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4" descr="Изображение"/>
          <p:cNvPicPr/>
          <p:nvPr/>
        </p:nvPicPr>
        <p:blipFill>
          <a:blip r:embed="rId1"/>
          <a:stretch/>
        </p:blipFill>
        <p:spPr>
          <a:xfrm>
            <a:off x="1763640" y="2133720"/>
            <a:ext cx="57546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Picture 6" descr="Изображение 007"/>
          <p:cNvPicPr/>
          <p:nvPr/>
        </p:nvPicPr>
        <p:blipFill>
          <a:blip r:embed="rId1"/>
          <a:stretch/>
        </p:blipFill>
        <p:spPr>
          <a:xfrm>
            <a:off x="2987640" y="0"/>
            <a:ext cx="1863720" cy="3933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Изображение 011"/>
          <p:cNvPicPr/>
          <p:nvPr/>
        </p:nvPicPr>
        <p:blipFill>
          <a:blip r:embed="rId2"/>
          <a:stretch/>
        </p:blipFill>
        <p:spPr>
          <a:xfrm>
            <a:off x="4500720" y="3716280"/>
            <a:ext cx="1850760" cy="2997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3" descr="Изображение 015"/>
          <p:cNvPicPr/>
          <p:nvPr/>
        </p:nvPicPr>
        <p:blipFill>
          <a:blip r:embed="rId3"/>
          <a:stretch/>
        </p:blipFill>
        <p:spPr>
          <a:xfrm>
            <a:off x="6675480" y="0"/>
            <a:ext cx="2158920" cy="6308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Изображение 014"/>
          <p:cNvPicPr/>
          <p:nvPr/>
        </p:nvPicPr>
        <p:blipFill>
          <a:blip r:embed="rId4"/>
          <a:stretch/>
        </p:blipFill>
        <p:spPr>
          <a:xfrm>
            <a:off x="0" y="3213000"/>
            <a:ext cx="2684520" cy="3645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7"/>
          <p:cNvSpPr/>
          <p:nvPr/>
        </p:nvSpPr>
        <p:spPr>
          <a:xfrm>
            <a:off x="3040200" y="4076640"/>
            <a:ext cx="455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396720" y="18900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ыцарь в латах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2626560" y="623736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Рыцарский меч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ыцарский кодекс чести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Picture 4" descr="Изображение 012"/>
          <p:cNvPicPr/>
          <p:nvPr/>
        </p:nvPicPr>
        <p:blipFill>
          <a:blip r:embed="rId1"/>
          <a:stretch/>
        </p:blipFill>
        <p:spPr>
          <a:xfrm>
            <a:off x="1258920" y="1407960"/>
            <a:ext cx="666108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ой дом – моя креп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4" descr="Изображение 003"/>
          <p:cNvPicPr/>
          <p:nvPr/>
        </p:nvPicPr>
        <p:blipFill>
          <a:blip r:embed="rId1"/>
          <a:stretch/>
        </p:blipFill>
        <p:spPr>
          <a:xfrm>
            <a:off x="3348000" y="3789360"/>
            <a:ext cx="2077920" cy="3068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Изображение 006"/>
          <p:cNvPicPr/>
          <p:nvPr/>
        </p:nvPicPr>
        <p:blipFill>
          <a:blip r:embed="rId2"/>
          <a:stretch/>
        </p:blipFill>
        <p:spPr>
          <a:xfrm>
            <a:off x="4284720" y="1201680"/>
            <a:ext cx="4859280" cy="2557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Изображение 002"/>
          <p:cNvPicPr/>
          <p:nvPr/>
        </p:nvPicPr>
        <p:blipFill>
          <a:blip r:embed="rId3"/>
          <a:stretch/>
        </p:blipFill>
        <p:spPr>
          <a:xfrm>
            <a:off x="0" y="1125360"/>
            <a:ext cx="39956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09:45:47Z</dcterms:created>
  <dc:creator>1</dc:creator>
  <dc:description/>
  <dc:language>en-US</dc:language>
  <cp:lastModifiedBy>Barny</cp:lastModifiedBy>
  <dcterms:modified xsi:type="dcterms:W3CDTF">2013-01-18T06:04:31Z</dcterms:modified>
  <cp:revision>7</cp:revision>
  <dc:subject/>
  <dc:title>За стенами замка</dc:title>
</cp:coreProperties>
</file>