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E7AC-1D2F-4CD2-B75B-8B48B3341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AE38-28E8-4D30-BB5E-FB249BF0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E30A-3F71-46B1-8B8C-1B1F1B07E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4A16-B1F1-40C0-98AE-2698DA624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D4CA-C54D-4291-A965-1D38D1C3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6058-15D9-4B8E-8409-5763C609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1A1F-3333-4A3E-9851-D3EC87DE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8CBB-131D-4151-800B-0D32B576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7848-281C-4D8A-95DB-94AE2708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48A8-8ECA-4632-92A7-F2031844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F019-617C-498E-8244-B5D45130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4C42-3F42-4920-82DC-01E4A9FD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8B62-E785-45F7-9A15-FDE4AC3C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DD3A-9903-46C1-97C6-E336EB31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8A6E-2CF8-4209-9EE2-18A5A8E1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515C-6352-4A94-BB64-E0BAF595B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ED71-8F58-4ACA-863E-432FCB5BA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AB7B-1CDC-4E04-B5C0-928AF64C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90B7-A5EF-47FE-A9CD-E8F3F3AE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63B0-9746-42A0-B4BD-0BE61BF6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F509-8C39-4CCF-AADB-4DDC230B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3AED-4F34-4E47-B7E6-0CDEC453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C95D-9EF0-4AFE-B456-232B7480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FA97-5034-46F5-AB67-4CC88DDC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8A8F-8979-4422-AD20-3720F60044E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7498-7AD9-4267-953F-9989901E4250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ccecff"/>
                </a:solidFill>
                <a:latin typeface="Agency FB"/>
              </a:rPr>
              <a:t>За стенами замка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25892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Учитель истор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Костышина Галина Николаевн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боронительные укрепления зам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сокие , толстые стены с зубцами и узкими бойницами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Глубокий ров вокруг замка, заполненный водо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дъёмный мост и массивные , окованные железом ворот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борона зам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2" name="Picture 4" descr="Изображение 005"/>
          <p:cNvPicPr/>
          <p:nvPr/>
        </p:nvPicPr>
        <p:blipFill>
          <a:blip r:embed="rId1"/>
          <a:stretch/>
        </p:blipFill>
        <p:spPr>
          <a:xfrm>
            <a:off x="3095640" y="1268280"/>
            <a:ext cx="342576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5" name="Picture 4" descr="Изображение 008"/>
          <p:cNvPicPr/>
          <p:nvPr/>
        </p:nvPicPr>
        <p:blipFill>
          <a:blip r:embed="rId1"/>
          <a:stretch/>
        </p:blipFill>
        <p:spPr>
          <a:xfrm>
            <a:off x="2700360" y="4005360"/>
            <a:ext cx="2217600" cy="28526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Изображение 009"/>
          <p:cNvPicPr/>
          <p:nvPr/>
        </p:nvPicPr>
        <p:blipFill>
          <a:blip r:embed="rId2"/>
          <a:stretch/>
        </p:blipFill>
        <p:spPr>
          <a:xfrm>
            <a:off x="324000" y="0"/>
            <a:ext cx="2922480" cy="40194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Изображение 010"/>
          <p:cNvPicPr/>
          <p:nvPr/>
        </p:nvPicPr>
        <p:blipFill>
          <a:blip r:embed="rId3"/>
          <a:stretch/>
        </p:blipFill>
        <p:spPr>
          <a:xfrm>
            <a:off x="4859280" y="0"/>
            <a:ext cx="428472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МО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Жилище  феодала – небольшая, но хорошо приспособленная к обороне крепость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Донжон - главная, самая высокая башня замк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ольше чем забав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Рыцарский турнир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2" name="Picture 4" descr="Изображение 013"/>
          <p:cNvPicPr/>
          <p:nvPr/>
        </p:nvPicPr>
        <p:blipFill>
          <a:blip r:embed="rId1"/>
          <a:stretch/>
        </p:blipFill>
        <p:spPr>
          <a:xfrm>
            <a:off x="684360" y="2130480"/>
            <a:ext cx="669600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тог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Рыцари составляли военное сословие в Европе. Основное занятие рыцаря – война. Этим в значительной степени определялся и кодекс чести рыцаря, рассчитанный на воина, способного с мечом в руках отстаивать добро и справедливость. Жили рыцари в замках, всегда готовых к отображению противника. Мирное время рыцарь проводил в военных занятиях. В этом отношении неудивительно, что любимые развлечения рыцаря – турниры и охота, связанные с военным искусством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12 стр. 109-115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Ответ на вопрос: Как жили и чем занимались рыцари Средневековь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Мини сочинение на одну из тем: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«Один день из жизни рыцаря»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«Больше чем забава»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«Есть ли рыцари в наши дни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ь уро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знакомимся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Узнаем о ..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родолжим учиться работать…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лан уро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. Кто такие феодалы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. Рыцари на войн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3. Рыцарский кодекс чест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4. Мой дом - моя крепость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5. Больше чем забав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? Каким был настоящий рыцарь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то такие феодалы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сех, кто в Средние века жил благодаря тому, что владел землёй с крестьянами, называли </a:t>
            </a:r>
            <a:r>
              <a:rPr b="0" lang="ru-RU" sz="3600" spc="-1" strike="noStrike">
                <a:solidFill>
                  <a:srgbClr val="00cc00"/>
                </a:solidFill>
                <a:latin typeface="Arial"/>
              </a:rPr>
              <a:t>феодалами</a:t>
            </a: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бщественный строй который образовался из отношения к земле с крестьянами на ней как главному богатству, называется </a:t>
            </a:r>
            <a:r>
              <a:rPr b="0" lang="ru-RU" sz="3200" spc="-1" strike="noStrike">
                <a:solidFill>
                  <a:srgbClr val="00cc00"/>
                </a:solidFill>
                <a:latin typeface="Arial"/>
              </a:rPr>
              <a:t>феодализ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ыцар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Члены одного сословия – воины, лучше всех владеющие мастерством боя и искусством ведения войн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ыцари на войн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Picture 4" descr="Изображение"/>
          <p:cNvPicPr/>
          <p:nvPr/>
        </p:nvPicPr>
        <p:blipFill>
          <a:blip r:embed="rId1"/>
          <a:stretch/>
        </p:blipFill>
        <p:spPr>
          <a:xfrm>
            <a:off x="1763640" y="2133720"/>
            <a:ext cx="57546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Picture 6" descr="Изображение 007"/>
          <p:cNvPicPr/>
          <p:nvPr/>
        </p:nvPicPr>
        <p:blipFill>
          <a:blip r:embed="rId1"/>
          <a:stretch/>
        </p:blipFill>
        <p:spPr>
          <a:xfrm>
            <a:off x="2987640" y="0"/>
            <a:ext cx="1863720" cy="3933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Изображение 011"/>
          <p:cNvPicPr/>
          <p:nvPr/>
        </p:nvPicPr>
        <p:blipFill>
          <a:blip r:embed="rId2"/>
          <a:stretch/>
        </p:blipFill>
        <p:spPr>
          <a:xfrm>
            <a:off x="4500720" y="3716280"/>
            <a:ext cx="1850760" cy="2997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3" descr="Изображение 015"/>
          <p:cNvPicPr/>
          <p:nvPr/>
        </p:nvPicPr>
        <p:blipFill>
          <a:blip r:embed="rId3"/>
          <a:stretch/>
        </p:blipFill>
        <p:spPr>
          <a:xfrm>
            <a:off x="6675480" y="0"/>
            <a:ext cx="2158920" cy="6308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4" descr="Изображение 014"/>
          <p:cNvPicPr/>
          <p:nvPr/>
        </p:nvPicPr>
        <p:blipFill>
          <a:blip r:embed="rId4"/>
          <a:stretch/>
        </p:blipFill>
        <p:spPr>
          <a:xfrm>
            <a:off x="0" y="3213000"/>
            <a:ext cx="2684520" cy="36450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17"/>
          <p:cNvSpPr/>
          <p:nvPr/>
        </p:nvSpPr>
        <p:spPr>
          <a:xfrm>
            <a:off x="3040200" y="4076640"/>
            <a:ext cx="455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Text Box 20"/>
          <p:cNvSpPr/>
          <p:nvPr/>
        </p:nvSpPr>
        <p:spPr>
          <a:xfrm>
            <a:off x="396720" y="18900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ыцарь в латах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Text Box 21"/>
          <p:cNvSpPr/>
          <p:nvPr/>
        </p:nvSpPr>
        <p:spPr>
          <a:xfrm>
            <a:off x="2626560" y="6237360"/>
            <a:ext cx="20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Рыцарский меч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Рыцарский кодекс чести.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Picture 4" descr="Изображение 012"/>
          <p:cNvPicPr/>
          <p:nvPr/>
        </p:nvPicPr>
        <p:blipFill>
          <a:blip r:embed="rId1"/>
          <a:stretch/>
        </p:blipFill>
        <p:spPr>
          <a:xfrm>
            <a:off x="1258920" y="1407960"/>
            <a:ext cx="666108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ой дом – моя креп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Picture 4" descr="Изображение 003"/>
          <p:cNvPicPr/>
          <p:nvPr/>
        </p:nvPicPr>
        <p:blipFill>
          <a:blip r:embed="rId1"/>
          <a:stretch/>
        </p:blipFill>
        <p:spPr>
          <a:xfrm>
            <a:off x="3348000" y="3789360"/>
            <a:ext cx="2077920" cy="3068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Изображение 006"/>
          <p:cNvPicPr/>
          <p:nvPr/>
        </p:nvPicPr>
        <p:blipFill>
          <a:blip r:embed="rId2"/>
          <a:stretch/>
        </p:blipFill>
        <p:spPr>
          <a:xfrm>
            <a:off x="4284720" y="1201680"/>
            <a:ext cx="4859280" cy="25574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Изображение 002"/>
          <p:cNvPicPr/>
          <p:nvPr/>
        </p:nvPicPr>
        <p:blipFill>
          <a:blip r:embed="rId3"/>
          <a:stretch/>
        </p:blipFill>
        <p:spPr>
          <a:xfrm>
            <a:off x="0" y="1125360"/>
            <a:ext cx="399564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09:45:47Z</dcterms:created>
  <dc:creator>1</dc:creator>
  <dc:description/>
  <dc:language>en-US</dc:language>
  <cp:lastModifiedBy>Barny</cp:lastModifiedBy>
  <dcterms:modified xsi:type="dcterms:W3CDTF">2013-01-18T06:04:31Z</dcterms:modified>
  <cp:revision>7</cp:revision>
  <dc:subject/>
  <dc:title>За стенами замка</dc:title>
</cp:coreProperties>
</file>