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F3EA-B52A-467E-98DD-CA80D1879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5EB5-12C8-463B-84E7-2F309845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BE29-8A29-4226-9120-4F42A34DF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CF8D-4BF3-491B-A90D-173A63A0F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6D77-5928-4D06-BB7A-F1B70CFAD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B755-B9CE-4D24-ACB9-3DC031EC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0842-94EF-4132-B7C6-E9AFB62E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1D91-C3A5-44EB-9894-EDEF6776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5C66-F2FE-45EF-BE36-E121EC5C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14D7-2FB2-4D92-9B5C-011DD7C6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9684-131D-4A49-AF19-F478DF5F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DF7A-57F8-403E-BDF1-C605AED5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BA04-169B-422A-8B29-9038E771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60D8-83A2-494A-B55D-9CA28454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FB78-6AB4-4997-8B0E-5A2836BC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17EF-926D-4CFF-B9CC-DFC9BDAC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7301-E44B-4C80-BFD2-43F8ACBD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9D5B-559B-415C-BDAA-905082B9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7300-0273-4633-A053-B6F4CE0D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522C-D8FA-484D-B815-92D4F856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8192-C77E-4ACD-A494-30A858E5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28EB-B627-4A31-B16B-BB88E3EC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8063-9884-4E4D-8871-88BA980E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3073-92CA-4A5D-9C8D-32ED54D5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8A31-4A95-4AD0-9EDD-C9120A9A9E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570F-9BE6-492E-8B96-5F16A0EFAD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Единственное и множественное число глагол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полнила: Голдырева Н.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013 г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357200" y="142920"/>
            <a:ext cx="74296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-С какой частью речи мы сегодня работали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-Что такое глагол?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-От чего зависит число глагола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-Приведите  примеры глаголов в ед. числе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-Приведите примеры глаголов во мн. числе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1500120"/>
            <a:ext cx="8786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_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_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бей,   д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_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рога, в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_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рона,      с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_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рока, м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_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розит,   м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_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ро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_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_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рова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50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571760"/>
            <a:ext cx="4686480" cy="129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бей,</a:t>
            </a: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857680" y="5214960"/>
            <a:ext cx="36432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рова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4857840" y="1571760"/>
            <a:ext cx="374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д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рога,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Прямоугольник 4"/>
          <p:cNvSpPr/>
          <p:nvPr/>
        </p:nvSpPr>
        <p:spPr>
          <a:xfrm>
            <a:off x="500040" y="2928960"/>
            <a:ext cx="38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рона,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Прямоугольник 5"/>
          <p:cNvSpPr/>
          <p:nvPr/>
        </p:nvSpPr>
        <p:spPr>
          <a:xfrm>
            <a:off x="4857840" y="2928960"/>
            <a:ext cx="40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рока,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Прямоугольник 6"/>
          <p:cNvSpPr/>
          <p:nvPr/>
        </p:nvSpPr>
        <p:spPr>
          <a:xfrm>
            <a:off x="357120" y="4214880"/>
            <a:ext cx="430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м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розит,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Прямоугольник 7"/>
          <p:cNvSpPr/>
          <p:nvPr/>
        </p:nvSpPr>
        <p:spPr>
          <a:xfrm>
            <a:off x="5000760" y="4214880"/>
            <a:ext cx="331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м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ро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з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2643120" y="357120"/>
            <a:ext cx="56437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читает   поют  играют пишет рисует убирают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500040" y="714240"/>
            <a:ext cx="8072640" cy="49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ет         поют   пишет         играют рисует        убирают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357120" y="857160"/>
            <a:ext cx="3786120" cy="131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Comic Sans MS"/>
              </a:rPr>
              <a:t>Единственное число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4357800" y="857160"/>
            <a:ext cx="4071960" cy="131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Comic Sans MS"/>
              </a:rPr>
              <a:t>Множественное число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6870960" cy="203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Единственное и множественное число глагол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2857320"/>
            <a:ext cx="7696080" cy="29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Учиться задавать вопросы и определять число глаголов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495760" cy="3657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3143160" y="3200400"/>
            <a:ext cx="5496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99680" y="2142720"/>
            <a:ext cx="3357720" cy="31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угалась выбежал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дел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вил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Содержимое 2"/>
          <p:cNvSpPr/>
          <p:nvPr/>
        </p:nvSpPr>
        <p:spPr>
          <a:xfrm>
            <a:off x="500040" y="357120"/>
            <a:ext cx="328608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енное число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Прямоугольник 4"/>
          <p:cNvSpPr/>
          <p:nvPr/>
        </p:nvSpPr>
        <p:spPr>
          <a:xfrm>
            <a:off x="4429080" y="642960"/>
            <a:ext cx="3857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ественное  число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Содержимое 2"/>
          <p:cNvSpPr/>
          <p:nvPr/>
        </p:nvSpPr>
        <p:spPr>
          <a:xfrm>
            <a:off x="4572000" y="2071800"/>
            <a:ext cx="342900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щили завесили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ежали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ыли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70722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ИТЕ ЧИСЛО ГЛАГОЛ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14680" y="1643040"/>
            <a:ext cx="6929280" cy="521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сает, ходят, шумит, прыгнул, сверкает, смотрит, любит, срезают, делает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20:51:37Z</dcterms:created>
  <dc:creator>Ашанина</dc:creator>
  <dc:description/>
  <dc:language>en-US</dc:language>
  <cp:lastModifiedBy>Bait</cp:lastModifiedBy>
  <dcterms:modified xsi:type="dcterms:W3CDTF">2013-03-13T13:56:22Z</dcterms:modified>
  <cp:revision>33</cp:revision>
  <dc:subject/>
  <dc:title>Слайд 1</dc:title>
</cp:coreProperties>
</file>