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85F-EE2B-418F-8F69-A876CAA6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409-5615-4C2D-9987-343C1083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E29-B4F7-4C94-BE7C-B1283616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5C7-0B79-47AC-B4EA-B7806707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7F4F-5AEE-4936-8D8C-5DFA345D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1BA8-F659-48E9-A8E6-6B45F9EE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1C04-5B4D-42F1-8F50-0B0A9390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45C5-82A4-4B39-ADDB-CF84D91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063E-8B10-45B2-A9BB-A31302D8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111C-D5E4-48BE-B005-56E86E3C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8E43-3F47-44B7-8453-737EA36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AB4-EA44-463C-9B76-803AA3C7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18F6-B47F-4E32-8D77-AB35880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FAE5-2A73-44B3-976C-38C13F84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3538-1F29-4733-A6C1-C820E80D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DEAA-6C9C-4AF3-9D30-E397B924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BC56-61F0-4E05-B809-02C60BE2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11C-55C1-46CB-A6FB-C195D6E6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A08-140A-4767-B986-01F2CBB5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869-3A6B-4C39-ADA9-153A8930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9DEF-C8FB-46DB-B499-F41DF500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655-C0A2-4B71-B9C8-CF329865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F2A-2D1A-4D13-A611-827A0365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712-3E2B-4EFC-8A5F-FC014792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FE88-A8A6-43B6-96D4-9EA686A95F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C7E4-60F6-460F-B9D5-FA61558E1F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динственное и множественное число глаг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а: Голдырева Н.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013 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357200" y="142920"/>
            <a:ext cx="7429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С какой частью речи мы сегодня работал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Что такое глагол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От чего зависит число глагол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Приведите  примеры глаголов в ед. числ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Приведите примеры глаголов во мн. числ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50012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бей,   д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га, 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на,      с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ка, 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зит,   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ва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71760"/>
            <a:ext cx="468648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бей,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7680" y="5214960"/>
            <a:ext cx="3643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ва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4857840" y="1571760"/>
            <a:ext cx="37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га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500040" y="292896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на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4857840" y="2928960"/>
            <a:ext cx="40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ка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7120" y="4214880"/>
            <a:ext cx="430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зит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5000760" y="4214880"/>
            <a:ext cx="33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2643120" y="357120"/>
            <a:ext cx="5643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читает   поют  играют пишет рисует убирают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500040" y="714240"/>
            <a:ext cx="807264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т         поют   пишет         играют рисует        убирают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357120" y="857160"/>
            <a:ext cx="378612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omic Sans MS"/>
              </a:rPr>
              <a:t>Единственн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4357800" y="857160"/>
            <a:ext cx="407196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omic Sans MS"/>
              </a:rPr>
              <a:t>Множественн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6870960" cy="20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Единственное и множественное число глаг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2857320"/>
            <a:ext cx="7696080" cy="29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Учиться задавать вопросы и определять число глаголов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495760" cy="3657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143160" y="3200400"/>
            <a:ext cx="5496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99680" y="214272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галась выбежа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ел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и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Содержимое 2"/>
          <p:cNvSpPr/>
          <p:nvPr/>
        </p:nvSpPr>
        <p:spPr>
          <a:xfrm>
            <a:off x="500040" y="357120"/>
            <a:ext cx="32860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4429080" y="642960"/>
            <a:ext cx="38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ое 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Содержимое 2"/>
          <p:cNvSpPr/>
          <p:nvPr/>
        </p:nvSpPr>
        <p:spPr>
          <a:xfrm>
            <a:off x="4572000" y="2071800"/>
            <a:ext cx="34290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щили завесил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л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0722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Е ЧИСЛО ГЛАГО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6929280" cy="521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ает, ходят, шумит, прыгнул, сверкает, смотрит, любит, срезают, делает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0:51:37Z</dcterms:created>
  <dc:creator>Ашанина</dc:creator>
  <dc:description/>
  <dc:language>en-US</dc:language>
  <cp:lastModifiedBy>Bait</cp:lastModifiedBy>
  <dcterms:modified xsi:type="dcterms:W3CDTF">2013-03-13T13:56:22Z</dcterms:modified>
  <cp:revision>33</cp:revision>
  <dc:subject/>
  <dc:title>Слайд 1</dc:title>
</cp:coreProperties>
</file>