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gif" ContentType="image/gi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8AEB-CA7F-45FD-A8A4-A46EDD9D0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F974-9685-4160-AC3B-5A8A7EEA9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D027-840B-4621-A5C9-732C33856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EFB5-D764-4857-9B39-95C2B5807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BB13-3689-4CD4-A320-F0D769AA3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F70C-E915-4266-9277-D414777AA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EFBA-9C57-4A75-9530-58C1C7621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7339-E144-4934-B6FF-17F6EF070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279B-8794-465F-BC7F-E9E9CD484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1874-93BF-4D9A-9176-D1E89EF1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293B-0D13-4C58-A229-70583EF2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4C71-AA6B-4EDB-B438-C893DF3E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cac4"/>
            </a:gs>
            <a:gs pos="100000">
              <a:srgbClr val="43444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87617-1F04-4B30-8F29-5CE14E488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cac4"/>
            </a:gs>
            <a:gs pos="100000">
              <a:srgbClr val="43444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16000" y="476280"/>
            <a:ext cx="3121200" cy="21463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547640" y="2973240"/>
            <a:ext cx="2279880" cy="34084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859280" y="476280"/>
            <a:ext cx="3219480" cy="2139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26920" y="230508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Этимология словарных слов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365720"/>
            <a:ext cx="439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Рыжова Т. Г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Учитель начальных класс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МОУ СОШ №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. Дзержинс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cac4"/>
            </a:gs>
            <a:gs pos="100000">
              <a:srgbClr val="43444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148600" cy="61120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39640" y="4768920"/>
            <a:ext cx="8064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Деревня – в старину место, на котором корчевали, дёргали с корнем деревья, а потом строили дома, распахивали пашню – называли деревней («деревня» - «дерево» - место, очищенное от деревье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cac4"/>
            </a:gs>
            <a:gs pos="100000">
              <a:srgbClr val="43444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63480" y="468360"/>
            <a:ext cx="7815240" cy="5919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857920" y="476280"/>
            <a:ext cx="317808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Малина – существует две версии. Одни считают, что название связано с цветом, а другие обращают внимание на форму, т.к. ягода состоит из маленьких частей, как бы слепленных между со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cac4"/>
            </a:gs>
            <a:gs pos="100000">
              <a:srgbClr val="43444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7620120" cy="56768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556000" y="836640"/>
            <a:ext cx="64087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Завод – образовалось от слова «заводить» (разводить, выводить). Исторически в нём была приставка за- («завод» - «заводить» - место, где что – либо заводят, разводят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cac4"/>
            </a:gs>
            <a:gs pos="100000">
              <a:srgbClr val="43444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417840" y="3119400"/>
            <a:ext cx="4754520" cy="31179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98560" y="549360"/>
            <a:ext cx="4681440" cy="30319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403280" y="2781000"/>
            <a:ext cx="6059520" cy="17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Урожай – восточнославянское. Образованно от слова «род», которое обозначало происхождение, поколение, сем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cac4"/>
            </a:gs>
            <a:gs pos="100000">
              <a:srgbClr val="43444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9640" y="2333520"/>
            <a:ext cx="5059440" cy="4048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627360" y="1270080"/>
            <a:ext cx="3032280" cy="4535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292720" y="549360"/>
            <a:ext cx="3306600" cy="44132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4920" y="331560"/>
            <a:ext cx="540072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ерёза – у древних славян существовало слово «бер». Означало оно светлый, ясный, блестящий, бел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cac4"/>
            </a:gs>
            <a:gs pos="100000">
              <a:srgbClr val="43444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5292720" y="2247840"/>
            <a:ext cx="352728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Земляника – связано с понятием земля. У поляков позем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50960" y="495360"/>
            <a:ext cx="4397400" cy="58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cac4"/>
            </a:gs>
            <a:gs pos="100000">
              <a:srgbClr val="43444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7853400" cy="59086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176480" y="3039840"/>
            <a:ext cx="706752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Капуста – что общего может быть у слов капуста и капитан? Оба слова начинаются на кап. Слово капитан произошло от латинского «капут» - голова. Капуста – очень древнее слово, которое появилось в русском языке раньше капитана и было образовано от слова «капут» - го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cac4"/>
            </a:gs>
            <a:gs pos="100000">
              <a:srgbClr val="43444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68360" y="1206360"/>
            <a:ext cx="8229600" cy="17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Успехов Вам в изучении словарных слов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4" descr="1200914-dfe511176fda6492[1].gif"/>
          <p:cNvPicPr/>
          <p:nvPr/>
        </p:nvPicPr>
        <p:blipFill>
          <a:blip r:embed="rId1"/>
          <a:stretch/>
        </p:blipFill>
        <p:spPr>
          <a:xfrm>
            <a:off x="3348000" y="3357720"/>
            <a:ext cx="291456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5T16:30:39Z</dcterms:created>
  <dc:creator>wolf</dc:creator>
  <dc:description>ЭтиологияСловарныхСлов</dc:description>
  <cp:keywords>Этимология</cp:keywords>
  <dc:language>en-US</dc:language>
  <cp:lastModifiedBy>wolf</cp:lastModifiedBy>
  <dcterms:modified xsi:type="dcterms:W3CDTF">2013-03-11T17:51:22Z</dcterms:modified>
  <cp:revision>9</cp:revision>
  <dc:subject>РусскийЯзык</dc:subject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Владелец">
    <vt:lpwstr>РыжоваТГ</vt:lpwstr>
  </property>
  <property fmtid="{D5CDD505-2E9C-101B-9397-08002B2CF9AE}" pid="3" name="Издатель">
    <vt:lpwstr>ВеселовОА</vt:lpwstr>
  </property>
</Properties>
</file>