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7DB-E155-463E-9ABE-1832D78D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3B6-6A18-4A3E-ADF0-BE6CC438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B7F-AE0E-4760-9072-EA14038B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EF4-6342-4615-A3EA-2DFB339C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478-3138-4FA1-8DAA-FEA5ECFC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415-AE9C-4A57-B77C-C99DF5D4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1F3-65FD-4FA9-B210-06073210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D11-2A12-4052-A52C-AACF1EC1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2D2-A866-4E0E-8FAF-86A2CE04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832-E506-4C61-9ABB-BF87AAE2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1B5-4E16-41D8-9366-66D0AA6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29E-B6E4-49EE-8202-B9E8B292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D758-9EFE-4BAE-8B9F-332EAFD3B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3121200" cy="2146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47640" y="2973240"/>
            <a:ext cx="2279880" cy="3408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59280" y="476280"/>
            <a:ext cx="3219480" cy="2139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23050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тимология словарных слов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365720"/>
            <a:ext cx="43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ыжова Т.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У СОШ №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. Дзержин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48600" cy="6112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4768920"/>
            <a:ext cx="8064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еревня – в старину место, на котором корчевали, дёргали с корнем деревья, а потом строили дома, распахивали пашню – называли деревней («деревня» - «дерево» - место, очищенное от деревье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3480" y="468360"/>
            <a:ext cx="7815240" cy="591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857920" y="476280"/>
            <a:ext cx="31780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алина – существует две версии. Одни считают, что название связано с цветом, а другие обращают внимание на форму, т.к. ягода состоит из маленьких частей, как бы слепленных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20120" cy="5676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56000" y="836640"/>
            <a:ext cx="6408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вод – образовалось от слова «заводить» (разводить, выводить). Исторически в нём была приставка за- («завод» - «заводить» - место, где что – либо заводят, разводя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17840" y="3119400"/>
            <a:ext cx="4754520" cy="3117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98560" y="549360"/>
            <a:ext cx="4681440" cy="3031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03280" y="2781000"/>
            <a:ext cx="605952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Урожай – восточнославянское. Образованно от слова «род», которое обозначало происхождение, поколение,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2333520"/>
            <a:ext cx="5059440" cy="4048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627360" y="1270080"/>
            <a:ext cx="3032280" cy="453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92720" y="549360"/>
            <a:ext cx="3306600" cy="4413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4920" y="331560"/>
            <a:ext cx="5400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рёза – у древних славян существовало слово «бер». Означало оно светлый, ясный, блестящий, бе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292720" y="2247840"/>
            <a:ext cx="35272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емляника – связано с понятием земля. У поляков позем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0960" y="495360"/>
            <a:ext cx="43974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853400" cy="5908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176480" y="3039840"/>
            <a:ext cx="70675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апуста – что общего может быть у слов капуста и капитан? Оба слова начинаются на кап. Слово капитан произошло от латинского «капут» - голова. Капуста – очень древнее слово, которое появилось в русском языке раньше капитана и было образовано от слова «капут» -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1206360"/>
            <a:ext cx="8229600" cy="17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Успехов Вам в изучении словарных сл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1200914-dfe511176fda6492[1].gif"/>
          <p:cNvPicPr/>
          <p:nvPr/>
        </p:nvPicPr>
        <p:blipFill>
          <a:blip r:embed="rId1"/>
          <a:stretch/>
        </p:blipFill>
        <p:spPr>
          <a:xfrm>
            <a:off x="3348000" y="3357720"/>
            <a:ext cx="29145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6:30:39Z</dcterms:created>
  <dc:creator>wolf</dc:creator>
  <dc:description>ЭтиологияСловарныхСлов</dc:description>
  <cp:keywords>Этимология</cp:keywords>
  <dc:language>en-US</dc:language>
  <cp:lastModifiedBy>wolf</cp:lastModifiedBy>
  <dcterms:modified xsi:type="dcterms:W3CDTF">2013-03-11T17:51:22Z</dcterms:modified>
  <cp:revision>9</cp:revision>
  <dc:subject>РусскийЯзык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Владелец">
    <vt:lpwstr>РыжоваТГ</vt:lpwstr>
  </property>
  <property fmtid="{D5CDD505-2E9C-101B-9397-08002B2CF9AE}" pid="3" name="Издатель">
    <vt:lpwstr>ВеселовОА</vt:lpwstr>
  </property>
</Properties>
</file>