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E25-A7EE-4E22-A74C-8D60CE8A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AA5-6749-42B1-B0CB-183B65C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DD5-9387-48B2-A6D7-5ECBAD90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2C0-4C62-4FE8-8F45-5D147804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3FA-41D8-4A32-90B5-6A5C64F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FBF-3391-48B2-B708-5D95BBD5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E6A-9586-4AD0-9EFE-0C4E0DB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382-730D-4AC0-B27E-F6D97D8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14E-CFC5-4606-9BBC-60E8291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FD2-4794-45B9-A0C7-EA4D832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0B6-31AC-477B-9FB4-F90998B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EC8-6A86-486B-B836-3DCDBDB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E97C-0E42-41AF-852F-E27939C9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12120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7640" y="2973240"/>
            <a:ext cx="2279880" cy="340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21948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3050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мология словарных сл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36572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ыжова Т.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СОШ №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494172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робей – слово восходит к древней основе вор-.      От неё образованы такие слова как «ворота, забор». Наверное, за то воробей получил своё название, что издавна вертелся возле человеческого жилья, на воротах, на заборах си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3880" y="620640"/>
            <a:ext cx="55562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230440"/>
            <a:ext cx="90360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рона – прилагательное вороной, образованное от основы ворон, означало «черны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индоевропейских языках родственное слово значило «жечь, сжигать, обгорать, делаться чер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4680" y="404640"/>
            <a:ext cx="6254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479736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сица – именно названа лисой, лисицей, т.к. образованно это слово от слова «лис». До сих пор у нас кое-где бытуют слова «лисий» – желтоватый, «залисеть» – пожелтеть. Т.е. лисицей прозвали зверя за жёлтую шер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7600" y="333360"/>
            <a:ext cx="5967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5990760"/>
            <a:ext cx="91440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дь – образовано от слов «мёд» и «ведает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.е. звер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нающи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де найти в лесу м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2400" y="260280"/>
            <a:ext cx="7639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560" y="5921280"/>
            <a:ext cx="910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тух – прозвали так за способность к п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. е. петух образовано от слова п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8960" y="189000"/>
            <a:ext cx="5624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96000" y="1341000"/>
            <a:ext cx="341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сяц – готское «мена» - означало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юди измеряли время по фазам л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авни латинское «мензис» - месяц и «мензура» - 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7592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939920"/>
            <a:ext cx="91440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нал – перо по латински – «пенна», а перья хран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робочке, которую называли пен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отя теперь мы ими не пиш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вание сохранилось и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8400" y="317520"/>
            <a:ext cx="77472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120636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Успехов Вам в изучении словарных сл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1200914-dfe511176fda6492[1].gif"/>
          <p:cNvPicPr/>
          <p:nvPr/>
        </p:nvPicPr>
        <p:blipFill>
          <a:blip r:embed="rId1"/>
          <a:stretch/>
        </p:blipFill>
        <p:spPr>
          <a:xfrm>
            <a:off x="3348000" y="3357720"/>
            <a:ext cx="29145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30:39Z</dcterms:created>
  <dc:creator>wolf</dc:creator>
  <dc:description>ЭтиологияСловарныхСлов</dc:description>
  <cp:keywords>Этимология</cp:keywords>
  <dc:language>en-US</dc:language>
  <cp:lastModifiedBy>wolf</cp:lastModifiedBy>
  <dcterms:modified xsi:type="dcterms:W3CDTF">2013-03-11T17:56:17Z</dcterms:modified>
  <cp:revision>17</cp:revision>
  <dc:subject>РусскийЯзык</dc:subject>
  <dc:title>Слайд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РыжоваТГ</vt:lpwstr>
  </property>
  <property fmtid="{D5CDD505-2E9C-101B-9397-08002B2CF9AE}" pid="3" name="Издатель">
    <vt:lpwstr>ВеселовОА</vt:lpwstr>
  </property>
</Properties>
</file>