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1FF-42E7-4BD3-9EC5-CBCA8E60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FBB-7B37-43D7-9925-DD16A8E7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EBF-7E64-4EAB-A9C7-D95D79C2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C75-DF74-42EF-9847-7F9C7430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A97-EDDF-45BB-8DCE-6AFFD47D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8DE-3E8F-440E-BEDF-0A08F4DA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56B-E51B-43D1-921A-81C8B4FC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5A3-A949-4526-9A86-0E214276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284-5827-424D-92BB-C1B4E1DA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90A-E375-42A9-88F1-4B9C96CD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A97-089B-4AF8-877A-DAFA3895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92A-2139-4E97-A5A0-51342365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99C3-48FE-4944-8B6B-46ADCFC2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3121200" cy="2146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47640" y="2973240"/>
            <a:ext cx="2279880" cy="340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3219480" cy="213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23050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имология словарных сло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36572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ыжова Т.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У СОШ №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. Дзержин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4941720"/>
            <a:ext cx="8893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робей – слово восходит к древней основе вор-.      От неё образованы такие слова как «ворота, забор». Наверное, за то воробей получил своё название, что издавна вертелся возле человеческого жилья, на воротах, на заборах си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3880" y="620640"/>
            <a:ext cx="55562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5230440"/>
            <a:ext cx="90360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рона – прилагательное вороной, образованное от основы ворон, означало «черны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индоевропейских языках родственное слово значило «жечь, сжигать, обгорать, делаться черн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4680" y="404640"/>
            <a:ext cx="62546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479736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исица – именно названа лисой, лисицей, т.к. образованно это слово от слова «лис». До сих пор у нас кое-где бытуют слова «лисий» – желтоватый, «залисеть» – пожелтеть. Т.е. лисицей прозвали зверя за жёлтую шер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87600" y="333360"/>
            <a:ext cx="5967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5990760"/>
            <a:ext cx="91440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ведь – образовано от слов «мёд» и «ведает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.е. звер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нающи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де найти в лесу м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2400" y="260280"/>
            <a:ext cx="7639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560" y="5921280"/>
            <a:ext cx="910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тух – прозвали так за способность к п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. е. петух образовано от слова п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8960" y="189000"/>
            <a:ext cx="56246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96000" y="1341000"/>
            <a:ext cx="3419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есяц – готское «мена» - означало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юди измеряли время по фазам лу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равни латинское «мензис» - месяц и «мензура» - 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575928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4939920"/>
            <a:ext cx="91440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нал – перо по латински – «пенна», а перья хран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оробочке, которую называли пен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отя теперь мы ими не пиш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вание сохранилось и по се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8400" y="317520"/>
            <a:ext cx="774720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120636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Успехов Вам в изучении словарных сл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1200914-dfe511176fda6492[1].gif"/>
          <p:cNvPicPr/>
          <p:nvPr/>
        </p:nvPicPr>
        <p:blipFill>
          <a:blip r:embed="rId1"/>
          <a:stretch/>
        </p:blipFill>
        <p:spPr>
          <a:xfrm>
            <a:off x="3348000" y="3357720"/>
            <a:ext cx="29145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6:30:39Z</dcterms:created>
  <dc:creator>wolf</dc:creator>
  <dc:description>ЭтиологияСловарныхСлов</dc:description>
  <cp:keywords>Этимология</cp:keywords>
  <dc:language>en-US</dc:language>
  <cp:lastModifiedBy>wolf</cp:lastModifiedBy>
  <dcterms:modified xsi:type="dcterms:W3CDTF">2013-03-11T17:56:17Z</dcterms:modified>
  <cp:revision>17</cp:revision>
  <dc:subject>РусскийЯзык</dc:subject>
  <dc:title>Слайд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ладелец">
    <vt:lpwstr>РыжоваТГ</vt:lpwstr>
  </property>
  <property fmtid="{D5CDD505-2E9C-101B-9397-08002B2CF9AE}" pid="3" name="Издатель">
    <vt:lpwstr>ВеселовОА</vt:lpwstr>
  </property>
</Properties>
</file>