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191-8447-4EAF-9783-0ECFF1D9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0B2-8BE6-4990-9E4A-6442E08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EE7-15F6-4371-A6C7-C7B34D22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02C-24A7-47E7-B4C3-F04D6D42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85B-DCB3-4D63-89D8-EFCD8CBE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186-BE05-4346-94CB-EDB8961A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9FC0-2358-4935-B3B3-0A330D7C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6088-B766-4A53-B5A3-D413232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B3EA-4F9A-479D-955D-D0B6DC59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42DA-6330-4D0B-B73E-AECABD4D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93AD-B146-493F-B21F-895904D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0FF-9989-42E9-88A4-19AC919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D98C-CB5D-495A-97A7-76E7BD2E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A007-C5E6-4B3E-AFC2-29C8B96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1B73-C1C0-4AB9-8E7E-1F173E0C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C5C-1168-47E6-AFD8-21DFCD2C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B78F-28E6-451F-9BC1-B8BA80D1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D16-3D1B-42F3-9B86-BA0FEC04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552-8498-4E75-89D5-1071D11B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F00-C302-4A1F-B54F-1CBB5CE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5B9-C010-4531-957A-D28AA53C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66E-DD7E-40C6-A38C-8EB91B7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92D-8394-4705-93D0-D36F1659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898-635B-4AAF-80C5-E367ECD2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1E52-9B7B-459E-8790-AD2FA93AF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C122-2610-43B9-8F60-6638B11D4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F:\фото\к аттестации\зан № 14 Готовимся к школе\P1070799.JPG"/>
          <p:cNvPicPr/>
          <p:nvPr/>
        </p:nvPicPr>
        <p:blipFill>
          <a:blip r:embed="rId2"/>
          <a:stretch/>
        </p:blipFill>
        <p:spPr>
          <a:xfrm>
            <a:off x="658800" y="2341440"/>
            <a:ext cx="2352600" cy="6521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фото\к аттестации\зан № 14 Готовимся к школе\P1070802.JPG"/>
          <p:cNvPicPr/>
          <p:nvPr/>
        </p:nvPicPr>
        <p:blipFill>
          <a:blip r:embed="rId3"/>
          <a:stretch/>
        </p:blipFill>
        <p:spPr>
          <a:xfrm>
            <a:off x="3975120" y="2414520"/>
            <a:ext cx="4619520" cy="665640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ерфолента 5"/>
          <p:cNvSpPr/>
          <p:nvPr/>
        </p:nvSpPr>
        <p:spPr>
          <a:xfrm>
            <a:off x="1332000" y="5732640"/>
            <a:ext cx="1800000" cy="863280"/>
          </a:xfrm>
          <a:prstGeom prst="flowChartPunchedTap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476360" y="587700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ссаж ушных раков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перфолента 7"/>
          <p:cNvSpPr/>
          <p:nvPr/>
        </p:nvSpPr>
        <p:spPr>
          <a:xfrm>
            <a:off x="5292720" y="5805360"/>
            <a:ext cx="2808360" cy="792360"/>
          </a:xfrm>
          <a:prstGeom prst="flowChartPunchedTap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219640" y="6093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ерекрестные дв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403280" y="1716840"/>
            <a:ext cx="6408720" cy="36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синхронизация работы полушарий головного моз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3:33:35Z</dcterms:created>
  <dc:creator>Вован и Ко</dc:creator>
  <dc:description/>
  <dc:language>en-US</dc:language>
  <cp:lastModifiedBy>Вован и Ко</cp:lastModifiedBy>
  <dcterms:modified xsi:type="dcterms:W3CDTF">2013-03-13T13:34:37Z</dcterms:modified>
  <cp:revision>1</cp:revision>
  <dc:subject/>
  <dc:title>Гимнастика мозга (кинезиология)  </dc:title>
</cp:coreProperties>
</file>