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F2A-FEC8-4383-A67A-9BF25858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245-C421-4757-B8D6-9835ECFD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9C2-57D5-44A6-BE49-DE791A26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F61-7AB1-438C-BE63-1DB5E380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B395-0605-49F8-A67B-4E0020E2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5B39-CEB3-4F5E-823F-EEAE5FEA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DEB9-A065-4762-907D-872AC637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4C9D-44C6-4495-970F-97E11B8C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15F-173E-4914-9D8C-F901B16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58BF-A9DB-4C16-A77D-53964826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4DF2-2396-4FF5-97D8-67DC3B7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66B-3FC3-4DBA-AC64-300C7D4F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F768-9C34-46BF-A061-D1E16964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CB3E-97B6-4569-B991-0421A30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E796-80B5-4E41-93C6-D83E3BA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9685-A739-4575-95E9-7349E034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77FA-9886-4489-A8A6-65AC1065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485-7B90-406C-9D81-37CED581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8CE-997D-4503-BF02-429CB43D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A49-AE12-4603-8D7F-3397A44B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B8D-027C-4BA6-B27E-CD9873A2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BF8-5283-416B-AA33-515155E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654-AB90-48EE-9AFA-1F6BD73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5C4-4C02-4720-9290-9C33DF9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8DA8-F73E-490B-83A6-2D06B211A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1911-A46F-4A45-8A33-6AC4C10C2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F:\фото\к аттестации\зан № 14 Готовимся к школе\P1070799.JPG"/>
          <p:cNvPicPr/>
          <p:nvPr/>
        </p:nvPicPr>
        <p:blipFill>
          <a:blip r:embed="rId2"/>
          <a:stretch/>
        </p:blipFill>
        <p:spPr>
          <a:xfrm>
            <a:off x="658800" y="2341440"/>
            <a:ext cx="2352600" cy="6521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F:\фото\к аттестации\зан № 14 Готовимся к школе\P1070802.JPG"/>
          <p:cNvPicPr/>
          <p:nvPr/>
        </p:nvPicPr>
        <p:blipFill>
          <a:blip r:embed="rId3"/>
          <a:stretch/>
        </p:blipFill>
        <p:spPr>
          <a:xfrm>
            <a:off x="3975120" y="2414520"/>
            <a:ext cx="4619520" cy="665640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ерфолента 5"/>
          <p:cNvSpPr/>
          <p:nvPr/>
        </p:nvSpPr>
        <p:spPr>
          <a:xfrm>
            <a:off x="1332000" y="5732640"/>
            <a:ext cx="1800000" cy="863280"/>
          </a:xfrm>
          <a:prstGeom prst="flowChartPunchedTap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476360" y="587700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ссаж ушных раков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перфолента 7"/>
          <p:cNvSpPr/>
          <p:nvPr/>
        </p:nvSpPr>
        <p:spPr>
          <a:xfrm>
            <a:off x="5292720" y="5805360"/>
            <a:ext cx="2808360" cy="792360"/>
          </a:xfrm>
          <a:prstGeom prst="flowChartPunchedTap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219640" y="60930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ерекрестные дв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403280" y="1716840"/>
            <a:ext cx="6408720" cy="36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синхронизация работы полушарий головного моз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3:33:35Z</dcterms:created>
  <dc:creator>Вован и Ко</dc:creator>
  <dc:description/>
  <dc:language>en-US</dc:language>
  <cp:lastModifiedBy>Вован и Ко</cp:lastModifiedBy>
  <dcterms:modified xsi:type="dcterms:W3CDTF">2013-03-13T13:34:37Z</dcterms:modified>
  <cp:revision>1</cp:revision>
  <dc:subject/>
  <dc:title>Гимнастика мозга (кинезиология)  </dc:title>
</cp:coreProperties>
</file>