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4.jpeg" ContentType="image/jpeg"/>
  <Override PartName="/ppt/media/image22.gif" ContentType="image/gif"/>
  <Override PartName="/ppt/media/image6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D58-CB50-4E86-B684-AF3C8B5E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484-B189-4AED-A157-FC7EB0A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CE9-EA7A-4F8E-9B8F-BFB4A4C0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E2A-8CF1-4EEA-B6B7-4531271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60A-F126-4534-9EAD-3AC1F62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18B-E924-4429-B22D-DCC893D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979-E51E-44B7-8603-05D04A1B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50A-B6F9-4C87-AFED-24EBEC21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188-DD19-40F3-BF2A-803F60F8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E2A-EE76-4685-BE50-E04A184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B9C-CD75-4D2C-A22E-F6F0DC9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75D-E6A6-4BF0-BAC7-4765C9B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53B-6FF6-451C-A878-F833BE2BACD4}" type="slidenum">
              <a:rPr b="0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Балаева Култач 5а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38 Глинка познакомился с Екатериной Керн, дочерью героини известного пушкинского стихотворения, и посвятил ей свои вдохновеннейшие произведения:«Вальс-фантазию» (1839) и дивный рома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тихи Пушк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помню чуд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гновенье» (184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?id=129812442&amp;tov=5"/>
          <p:cNvPicPr/>
          <p:nvPr/>
        </p:nvPicPr>
        <p:blipFill>
          <a:blip r:embed="rId2"/>
          <a:stretch/>
        </p:blipFill>
        <p:spPr>
          <a:xfrm>
            <a:off x="4876920" y="40384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иму 1851-1852 Глинка провел в Петербурге, где сблизился с группой молодых деятелей культуры, а в 1855 произошло его знакомство с М. А. Балакиревым, ставшим позже главой «Новой русской школы» (или «Могучей кучки »), творчески развившей традиции, заложенные Гли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g01073"/>
          <p:cNvPicPr/>
          <p:nvPr/>
        </p:nvPicPr>
        <p:blipFill>
          <a:blip r:embed="rId2"/>
          <a:stretch/>
        </p:blipFill>
        <p:spPr>
          <a:xfrm>
            <a:off x="4648320" y="144792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533520" y="45496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52 композитор вновь уехал на несколько месяцев в Париж,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56 жил в Берлине, где скончался в феврале 1857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похоронен на лютеранском кладбище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g01075"/>
          <p:cNvPicPr/>
          <p:nvPr/>
        </p:nvPicPr>
        <p:blipFill>
          <a:blip r:embed="rId1"/>
          <a:stretch/>
        </p:blipFill>
        <p:spPr>
          <a:xfrm>
            <a:off x="2133720" y="304920"/>
            <a:ext cx="4857480" cy="400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lest76[1]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52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ook15[1]"/>
          <p:cNvPicPr/>
          <p:nvPr/>
        </p:nvPicPr>
        <p:blipFill>
          <a:blip r:embed="rId2"/>
          <a:stretch/>
        </p:blipFill>
        <p:spPr>
          <a:xfrm>
            <a:off x="228600" y="533412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8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тоя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адшей сест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И. Глинки  Людмилы 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х  Глинки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57 был перевез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ю и погреб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ладбищ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о-Нев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в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glinka1"/>
          <p:cNvPicPr/>
          <p:nvPr/>
        </p:nvPicPr>
        <p:blipFill>
          <a:blip r:embed="rId3"/>
          <a:stretch/>
        </p:blipFill>
        <p:spPr>
          <a:xfrm>
            <a:off x="4572000" y="20574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 flipV="1" rot="10800000">
            <a:off x="5562360" y="1042560"/>
            <a:ext cx="2819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етербург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lest76[1]"/>
          <p:cNvPicPr/>
          <p:nvPr/>
        </p:nvPicPr>
        <p:blipFill>
          <a:blip r:embed="rId1"/>
          <a:stretch/>
        </p:blipFill>
        <p:spPr>
          <a:xfrm>
            <a:off x="1219320" y="-228600"/>
            <a:ext cx="678168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glinka1804.narod.ru/glinka_m.jpg"/>
          <p:cNvPicPr/>
          <p:nvPr/>
        </p:nvPicPr>
        <p:blipFill>
          <a:blip r:embed="rId2"/>
          <a:stretch/>
        </p:blipFill>
        <p:spPr>
          <a:xfrm>
            <a:off x="4800600" y="4648320"/>
            <a:ext cx="4143240" cy="202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2991600" y="2540880"/>
            <a:ext cx="173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     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971800" y="373392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ета Банка России к 200-летию М.И.                       Глинки (2 рубля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i?id=103259714&amp;tov=4"/>
          <p:cNvPicPr/>
          <p:nvPr/>
        </p:nvPicPr>
        <p:blipFill>
          <a:blip r:embed="rId3"/>
          <a:stretch/>
        </p:blipFill>
        <p:spPr>
          <a:xfrm>
            <a:off x="533520" y="19051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http://glinka1804.narod.ru/post1.jpg"/>
          <p:cNvPicPr/>
          <p:nvPr/>
        </p:nvPicPr>
        <p:blipFill>
          <a:blip r:embed="rId4"/>
          <a:stretch/>
        </p:blipFill>
        <p:spPr>
          <a:xfrm>
            <a:off x="5791320" y="114300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осударственный музей музыкальной культуры им. М. И. Глинки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45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38080" y="137160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ый муз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льной культуры им. М. И. Глинк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book15[1]"/>
          <p:cNvPicPr/>
          <p:nvPr/>
        </p:nvPicPr>
        <p:blipFill>
          <a:blip r:embed="rId2"/>
          <a:stretch/>
        </p:blipFill>
        <p:spPr>
          <a:xfrm>
            <a:off x="228600" y="533412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i?id=27356858&amp;tov=0"/>
          <p:cNvPicPr/>
          <p:nvPr/>
        </p:nvPicPr>
        <p:blipFill>
          <a:blip r:embed="rId3"/>
          <a:stretch/>
        </p:blipFill>
        <p:spPr>
          <a:xfrm>
            <a:off x="685800" y="1447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?id=77214978&amp;tov=6"/>
          <p:cNvPicPr/>
          <p:nvPr/>
        </p:nvPicPr>
        <p:blipFill>
          <a:blip r:embed="rId4"/>
          <a:stretch/>
        </p:blipFill>
        <p:spPr>
          <a:xfrm>
            <a:off x="5486400" y="228600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62120" y="609480"/>
            <a:ext cx="777240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cc"/>
                </a:solidFill>
                <a:latin typeface="Monotype Corsiva"/>
              </a:rPr>
              <a:t>Спасибо за внимание!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Хорошего настроения!!! 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подсолнух"/>
          <p:cNvPicPr/>
          <p:nvPr/>
        </p:nvPicPr>
        <p:blipFill>
          <a:blip r:embed="rId1"/>
          <a:stretch/>
        </p:blipFill>
        <p:spPr>
          <a:xfrm>
            <a:off x="7365960" y="3119400"/>
            <a:ext cx="1778040" cy="373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est16[1]"/>
          <p:cNvPicPr/>
          <p:nvPr/>
        </p:nvPicPr>
        <p:blipFill>
          <a:blip r:embed="rId2"/>
          <a:stretch/>
        </p:blipFill>
        <p:spPr>
          <a:xfrm>
            <a:off x="3809880" y="152280"/>
            <a:ext cx="190512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lest16[1]"/>
          <p:cNvPicPr/>
          <p:nvPr/>
        </p:nvPicPr>
        <p:blipFill>
          <a:blip r:embed="rId3"/>
          <a:stretch/>
        </p:blipFill>
        <p:spPr>
          <a:xfrm>
            <a:off x="2209680" y="609480"/>
            <a:ext cx="1219320" cy="114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lest16[1]"/>
          <p:cNvPicPr/>
          <p:nvPr/>
        </p:nvPicPr>
        <p:blipFill>
          <a:blip r:embed="rId4"/>
          <a:stretch/>
        </p:blipFill>
        <p:spPr>
          <a:xfrm>
            <a:off x="6248520" y="685800"/>
            <a:ext cx="121896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lest16[1]"/>
          <p:cNvPicPr/>
          <p:nvPr/>
        </p:nvPicPr>
        <p:blipFill>
          <a:blip r:embed="rId5"/>
          <a:stretch/>
        </p:blipFill>
        <p:spPr>
          <a:xfrm>
            <a:off x="914400" y="83808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lest16[1]"/>
          <p:cNvPicPr/>
          <p:nvPr/>
        </p:nvPicPr>
        <p:blipFill>
          <a:blip r:embed="rId6"/>
          <a:stretch/>
        </p:blipFill>
        <p:spPr>
          <a:xfrm>
            <a:off x="7848720" y="914400"/>
            <a:ext cx="914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хаил Иванович Гл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Глинка Михаил - русский композитор (Glinka)"/>
          <p:cNvPicPr/>
          <p:nvPr/>
        </p:nvPicPr>
        <p:blipFill>
          <a:blip r:embed="rId1"/>
          <a:stretch/>
        </p:blipFill>
        <p:spPr>
          <a:xfrm>
            <a:off x="762120" y="20574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blest76[1]"/>
          <p:cNvPicPr/>
          <p:nvPr/>
        </p:nvPicPr>
        <p:blipFill>
          <a:blip r:embed="rId2"/>
          <a:stretch/>
        </p:blipFill>
        <p:spPr>
          <a:xfrm>
            <a:off x="1143000" y="-533520"/>
            <a:ext cx="739152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позитор-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ожник русской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ой музык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320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ГЛИНКА Михаил Иванович родился [20 мая (1 июня) 1804 г..В селе Новоспасском Смоленской губер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Скончался 15 февраля (3 февраля) 1857, Берлине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i?id=71079606&amp;tov=2"/>
          <p:cNvPicPr/>
          <p:nvPr/>
        </p:nvPicPr>
        <p:blipFill>
          <a:blip r:embed="rId1"/>
          <a:stretch/>
        </p:blipFill>
        <p:spPr>
          <a:xfrm>
            <a:off x="380880" y="2925720"/>
            <a:ext cx="2590920" cy="311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lest76[1]"/>
          <p:cNvPicPr/>
          <p:nvPr/>
        </p:nvPicPr>
        <p:blipFill>
          <a:blip r:embed="rId2"/>
          <a:stretch/>
        </p:blipFill>
        <p:spPr>
          <a:xfrm>
            <a:off x="1143000" y="-533520"/>
            <a:ext cx="739152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чальное образование получил дома. Слушая пение крепостных крестьян и звоны колоколов местной церкви, рано проявил тягу к музыке. Увлекался игрой оркестра крепостных музыкантов в имении дяди, Афанасия Андреевича Глинки. Музыкальные занятия — игра на скрипке и фортепиано — начались довольно позд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носили любительск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днако музыка оказывала на н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оль сильное влия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 однажды на замеч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 рассеянности он замет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Что же делать?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узыка — душа моя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?id=19593&amp;tov=8"/>
          <p:cNvPicPr/>
          <p:nvPr/>
        </p:nvPicPr>
        <p:blipFill>
          <a:blip r:embed="rId2"/>
          <a:stretch/>
        </p:blipFill>
        <p:spPr>
          <a:xfrm>
            <a:off x="304920" y="411480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1447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1818 Глинка поступил в Петербурге в Благородный пансион при Главном Педагогическом институ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кончил пансион в 1822 вторым учен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4920" y="2537280"/>
            <a:ext cx="862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 окончания пансиона Глинка не сразу поступил на служб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сной 1830 Глинка отправился в длительное заграничное путешествие, целью которого было как лечение (на водах Германии и в теплом климате Италии), так и знакомство с западноевропейским искусством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5 Глинка женился на М. П. Ивановой. Этот брак оказался крайне неудачным и омрачил жизнь композитора на многие годы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 «Иван Сусанин», I836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Иван Сусанин"/>
          <p:cNvPicPr/>
          <p:nvPr/>
        </p:nvPicPr>
        <p:blipFill>
          <a:blip r:embed="rId1"/>
          <a:stretch/>
        </p:blipFill>
        <p:spPr>
          <a:xfrm>
            <a:off x="1066680" y="1371600"/>
            <a:ext cx="6934320" cy="461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01736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в 1837 Глинка вел бесед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ушкиным о создании опер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южет «Руслана и Людмилы»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38 году началась работа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сочинением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мьера которого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лась 27 ноября 1842 в Петербурге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мотря на то, что царская семь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инула ложу до окончания спектакл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овые деятели культуры встретили сочинение с восторгом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отя единства мнений на этот раз не было —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глубоко новаторского характера драматургии)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ном из представлений побывал Ференц Лист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вычайно высоко оценивший не только эту оперу Глинки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его роль в русской музыке в целом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Юбилейная монета к 200-летию Глинки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book15[1]"/>
          <p:cNvPicPr/>
          <p:nvPr/>
        </p:nvPicPr>
        <p:blipFill>
          <a:blip r:embed="rId2"/>
          <a:stretch/>
        </p:blipFill>
        <p:spPr>
          <a:xfrm>
            <a:off x="228600" y="568656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1"/>
          <p:cNvSpPr/>
          <p:nvPr/>
        </p:nvSpPr>
        <p:spPr>
          <a:xfrm>
            <a:off x="304920" y="1752480"/>
            <a:ext cx="883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ворчестве Глинки определилис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важнейших направления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й оперы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ая музыкальная драм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пера-сказка;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заложил основы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го симфонизма,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первым классико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го романса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i?id=23389544&amp;tov=2"/>
          <p:cNvPicPr/>
          <p:nvPr/>
        </p:nvPicPr>
        <p:blipFill>
          <a:blip r:embed="rId3"/>
          <a:stretch/>
        </p:blipFill>
        <p:spPr>
          <a:xfrm>
            <a:off x="6324480" y="1905120"/>
            <a:ext cx="25146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се дальнейшие поколения русских музыкантов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читали его своим учителе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i?id=3292017&amp;tov=8"/>
          <p:cNvPicPr/>
          <p:nvPr/>
        </p:nvPicPr>
        <p:blipFill>
          <a:blip r:embed="rId1"/>
          <a:stretch/>
        </p:blipFill>
        <p:spPr>
          <a:xfrm>
            <a:off x="3505320" y="2971800"/>
            <a:ext cx="163836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i?id=98251784&amp;tov=2"/>
          <p:cNvPicPr/>
          <p:nvPr/>
        </p:nvPicPr>
        <p:blipFill>
          <a:blip r:embed="rId2"/>
          <a:stretch/>
        </p:blipFill>
        <p:spPr>
          <a:xfrm>
            <a:off x="5867280" y="1676520"/>
            <a:ext cx="2895840" cy="38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glinka1804.narod.ru/post2.jpg"/>
          <p:cNvPicPr/>
          <p:nvPr/>
        </p:nvPicPr>
        <p:blipFill>
          <a:blip r:embed="rId3"/>
          <a:stretch/>
        </p:blipFill>
        <p:spPr>
          <a:xfrm>
            <a:off x="457200" y="441972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000</dc:creator>
  <dc:description/>
  <dc:language>en-US</dc:language>
  <cp:lastModifiedBy>000</cp:lastModifiedBy>
  <dcterms:modified xsi:type="dcterms:W3CDTF">2013-02-26T17:13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