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9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A42-6972-4A21-A86D-8E0A0594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113-7F64-4A3E-834B-5321B3EE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CB6-6071-4B92-A887-62112F84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214-0F5A-4497-857C-7A733DAF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A15F-A5F6-4B90-AD7C-C2CABFF9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8BE3-CF35-4A42-B324-955D9C3B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CE00-A8D8-4E56-A603-2C07F76C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46DB-A853-4FC1-9FBE-783EF145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1FED-FE5C-4769-9BFC-0BE2AB7A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8E88-6067-4074-B3B0-882960CA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9C56-7709-4012-8995-505ADFDB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C2D-F001-44F6-B56C-0252E5D7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E6FD-888B-4CEA-B2FD-83D2334D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21AF-389F-44C2-B304-1BF0E27B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0A99-2F35-479B-A3E0-364DDE3F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E7DB-619C-48C2-812F-64492075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EEE7-2067-431C-99B7-A3CB85C3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E4E-F2A3-437E-BB37-B93A45C2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76C-03FD-44C3-99A0-B4C56A65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784C-B903-4A6A-BD44-15370802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E1F-DF6D-4A2B-BEFB-118598CB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B17C-98CC-4F08-A561-E6BF3D44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16F-5647-4901-9CB4-BFD1B9D6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2ED-9507-4D72-819F-81EAE9C2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9194-EBD8-4021-A0B0-BC345E3FC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85D2-6213-419D-86E5-0F76B52B5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А ну-ка, девочки!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2013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2341440" cy="312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76720" y="357336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76720" y="260280"/>
            <a:ext cx="2303280" cy="1727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13640" y="6256440"/>
            <a:ext cx="68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втор: Андреева О.С. ГБОУ Гимназия №295 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037640" cy="4768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73280" y="639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9440" y="386064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ТАРЕ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1-го и 2-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82360" y="2440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к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4560" y="3592440"/>
            <a:ext cx="127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ре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 хлеб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жик д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8000" y="515772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убчиками ввер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26000" y="424008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ж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856560" cy="4572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86000" y="784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32200" y="3808440"/>
            <a:ext cx="151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релки д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уски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ю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66360" y="25844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к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21280" y="4456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92200" y="445608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ложи салфетк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91200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86276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КОНКУРС НА САМЫЙ КРАСИВЫЙ СТОЛИК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6781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зажи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007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Конкурс «КОСИЧ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Конкурс « БУС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Конкурс « МАКИЯЖ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357120"/>
            <a:ext cx="4319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делье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0071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Конкурс «ШВЕ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Конкурс «КОСЫН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Конкурс «КУТЮРЬ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900000" y="0"/>
            <a:ext cx="7344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С праздником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2637000"/>
            <a:ext cx="27352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latin typeface="Monotype Corsiva"/>
              </a:rPr>
              <a:t>Здоровья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ffff"/>
              </a:solidFill>
              <a:latin typeface="Monotype Corsiva"/>
              <a:ea typeface="Monotype Corsiv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68360" y="3789360"/>
            <a:ext cx="28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latin typeface="Monotype Corsiva"/>
              </a:rPr>
              <a:t>Удачи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ffff"/>
              </a:solidFill>
              <a:latin typeface="Monotype Corsiva"/>
              <a:ea typeface="Monotype Corsiv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НКУРС СЛАДКИХ БЛЮ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30672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ШЕФ-ПОВ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КУЛИНАРНЫЙ КОНКУ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НАКРОЙ НА СТ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ЛОЖИ САЛФЕТ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491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УЛИНАРНЫЙ КОНКУРС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Назовите овощи, у которых едят клубни и корни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2340000" cy="1917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2160720" cy="1780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443640" y="1916280"/>
            <a:ext cx="1793880" cy="1703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16000" y="4076640"/>
            <a:ext cx="2232000" cy="1706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708360" y="4149720"/>
            <a:ext cx="2376360" cy="158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6443640" y="4076640"/>
            <a:ext cx="230508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овощи, у которых едят семе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2737080" cy="2049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2730600" cy="2047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716360" y="4292640"/>
            <a:ext cx="28083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овощи, у которых едят лист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1849680" cy="1531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2016360" cy="1577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867280" y="2421000"/>
            <a:ext cx="2381400" cy="281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203640" y="4292640"/>
            <a:ext cx="23781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крой на сто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095880" cy="4229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43640" y="2421000"/>
            <a:ext cx="242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иль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ставь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бо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завтр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об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уж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094520" cy="4810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58000" y="49536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Т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0200" y="460044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звием к тарел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8360" y="4724280"/>
            <a:ext cx="20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убчиками  ввер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2520" y="1916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" y="2492280"/>
            <a:ext cx="185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релка д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терброд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ечки, ма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3:47:15Z</dcterms:created>
  <dc:creator>Учитель</dc:creator>
  <dc:description/>
  <dc:language>en-US</dc:language>
  <cp:lastModifiedBy>Учитель</cp:lastModifiedBy>
  <dcterms:modified xsi:type="dcterms:W3CDTF">2013-03-13T13:19:05Z</dcterms:modified>
  <cp:revision>6</cp:revision>
  <dc:subject/>
  <dc:title>А ну-ка, девочки!</dc:title>
</cp:coreProperties>
</file>