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9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C12-3DA9-4D8E-B768-45C2FA48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F68-D2FA-49BB-AF8F-D8B8C441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B8C-0615-4BAC-AF58-B7E00BA8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200-DDC8-484C-9594-AB4CFA29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33D2-CACD-4196-88D7-50A8C447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46FD-D446-4D2B-86AC-BE8C35B9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B9FF-6AA0-45FF-BF63-BD068A7F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944B-5EA1-4B94-AE1B-B556553A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451B-6B0E-417A-8317-7CC4DB27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B886-7489-4B33-84B9-0587F14D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FE50-291B-4037-ACCB-4EB8A493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68F-DA00-49E5-81AB-0C8D43CF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3E5B-0561-4125-830E-097E55BD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5D45-AE19-4EAC-9249-FB59E9B3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A475-BD5D-4755-B7FF-7D02C6E1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137D-28AF-413C-9F9B-A6BC934D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E712-AD04-4570-9403-F3CD8CC5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1D1-542D-4F81-AE8E-9B9EEB0F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EDE-2BAC-45D7-9D96-3D199448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C9E-262A-48A5-B519-BF252EB6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9DB-1C4D-4649-8025-38E32EBB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38D-4B74-46DD-8C9D-B737A2EA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DDE-3C8A-4462-B359-459DF1A2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F40-F023-45DE-807E-B91DF56D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429C-2B9D-4B65-A854-D7C8A43CE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6501-296A-4C7B-828E-D4830872A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А ну-ка, девочки!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2013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341440" cy="312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76720" y="260280"/>
            <a:ext cx="2303280" cy="1727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13640" y="6256440"/>
            <a:ext cx="68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р: Андреева О.С. ГБОУ Гимназия №295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037640" cy="4768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3280" y="639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9440" y="386064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ТАРЕ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1-го и 2-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2360" y="244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к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4560" y="3592440"/>
            <a:ext cx="127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ре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хлеб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ик 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8000" y="515772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убчиками ввер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26000" y="424008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856560" cy="457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86000" y="784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32200" y="3808440"/>
            <a:ext cx="151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релки 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уски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ю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66360" y="25844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к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21280" y="4456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92200" y="445608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ожи салфет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91200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6276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КОНКУРС НА САМЫЙ КРАСИВЫЙ СТОЛИК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6781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зажи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007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Конкурс «КОСИЧ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Конкурс « БУС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Конкурс « МАКИЯЖ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357120"/>
            <a:ext cx="4319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делье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0071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Конкурс «ШВЕ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Конкурс «КОСЫН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Конкурс «КУТЮРЬ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900000" y="0"/>
            <a:ext cx="734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С праздником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2637000"/>
            <a:ext cx="27352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latin typeface="Monotype Corsiva"/>
              </a:rPr>
              <a:t>Здоровья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ffff"/>
              </a:solidFill>
              <a:latin typeface="Monotype Corsiva"/>
              <a:ea typeface="Monotype Corsiv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68360" y="3789360"/>
            <a:ext cx="28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latin typeface="Monotype Corsiva"/>
              </a:rPr>
              <a:t>Удачи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ffff"/>
              </a:solidFill>
              <a:latin typeface="Monotype Corsiva"/>
              <a:ea typeface="Monotype Corsiv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НКУРС СЛАДКИХ БЛЮ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3067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ШЕФ-ПОВ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КУЛИНАРНЫЙ КОНКУ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НАКРОЙ НА СТ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ЛОЖИ САЛФЕТ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491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УЛИНАРНЫЙ КОНКУРС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азовите овощи, у которых едят клубни и корн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234000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2160720" cy="1780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43640" y="1916280"/>
            <a:ext cx="1793880" cy="170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16000" y="4076640"/>
            <a:ext cx="2232000" cy="1706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708360" y="4149720"/>
            <a:ext cx="2376360" cy="158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443640" y="4076640"/>
            <a:ext cx="230508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овощи, у которых едят семе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2737080" cy="2049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716360" y="4292640"/>
            <a:ext cx="28083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овощи, у которых едят лист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1849680" cy="1531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2016360" cy="1577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867280" y="2421000"/>
            <a:ext cx="2381400" cy="281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23781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крой на сто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095880" cy="422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43640" y="2421000"/>
            <a:ext cx="242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иль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тавь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бо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завтр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об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уж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094520" cy="4810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58000" y="4953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Т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0200" y="460044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звием к тарел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8360" y="4724280"/>
            <a:ext cx="20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убчиками  ввер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2520" y="1916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" y="2492280"/>
            <a:ext cx="185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релка 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терброд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ечки, ма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3:47:15Z</dcterms:created>
  <dc:creator>Учитель</dc:creator>
  <dc:description/>
  <dc:language>en-US</dc:language>
  <cp:lastModifiedBy>Учитель</cp:lastModifiedBy>
  <dcterms:modified xsi:type="dcterms:W3CDTF">2013-03-13T13:19:05Z</dcterms:modified>
  <cp:revision>6</cp:revision>
  <dc:subject/>
  <dc:title>А ну-ка, девочки!</dc:title>
</cp:coreProperties>
</file>