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FC2-B501-4EB5-9829-834D124B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045-9346-4B1E-8075-2BFED45F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298-59A0-4C54-9EED-8D54AB40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8E7-BB85-4F9F-963A-C1CBFA53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396-B256-40F8-A51B-BFD21C89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21B-9D4F-45C9-9340-4D447FDF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FB7-FF26-40BA-BD8C-6DDF3D27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98F-0EB4-4E74-BB8C-45A69A7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EFF-B036-426C-BE0C-6AAC9ABC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59F-8BEA-4D4C-826A-B1DA320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82A-3395-40BD-AFBF-F9300714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3E0-46AB-4A6F-9ED7-BAF83E8F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86B0-8F7B-40D3-ABF5-0A1B8073D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зима 10.jpg"/>
          <p:cNvPicPr/>
          <p:nvPr/>
        </p:nvPicPr>
        <p:blipFill>
          <a:blip r:embed="rId3"/>
          <a:stretch/>
        </p:blipFill>
        <p:spPr>
          <a:xfrm>
            <a:off x="179280" y="189000"/>
            <a:ext cx="9813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669960" y="2627280"/>
            <a:ext cx="7804080" cy="348156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2" descr=""/>
          <p:cNvPicPr/>
          <p:nvPr/>
        </p:nvPicPr>
        <p:blipFill>
          <a:blip r:embed="rId2"/>
          <a:stretch/>
        </p:blipFill>
        <p:spPr>
          <a:xfrm>
            <a:off x="1682640" y="396720"/>
            <a:ext cx="64184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1" descr=""/>
          <p:cNvPicPr/>
          <p:nvPr/>
        </p:nvPicPr>
        <p:blipFill>
          <a:blip r:embed="rId1"/>
          <a:stretch/>
        </p:blipFill>
        <p:spPr>
          <a:xfrm>
            <a:off x="2182680" y="390600"/>
            <a:ext cx="4492800" cy="67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973800" y="1700280"/>
            <a:ext cx="64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Что нового узнали о глаг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01760" y="2349360"/>
            <a:ext cx="81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Что называется спряжением глаго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983880" y="3068640"/>
            <a:ext cx="67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 узнать спряжение глаго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98880" y="3860640"/>
            <a:ext cx="83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В каком времени спрягаются глаг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FaNtoM\Рабочий стол\Картинки\красивые картики школа\Ученики\прилежный.jpg"/>
          <p:cNvPicPr/>
          <p:nvPr/>
        </p:nvPicPr>
        <p:blipFill>
          <a:blip r:embed="rId2"/>
          <a:stretch/>
        </p:blipFill>
        <p:spPr>
          <a:xfrm>
            <a:off x="3348000" y="4508640"/>
            <a:ext cx="1655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1" descr=""/>
          <p:cNvPicPr/>
          <p:nvPr/>
        </p:nvPicPr>
        <p:blipFill>
          <a:blip r:embed="rId1"/>
          <a:stretch/>
        </p:blipFill>
        <p:spPr>
          <a:xfrm>
            <a:off x="1639800" y="212760"/>
            <a:ext cx="5711760" cy="88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FaNtoM\Рабочий стол\Картинки\Группа солнышки\сол с ручками.jpeg"/>
          <p:cNvPicPr/>
          <p:nvPr/>
        </p:nvPicPr>
        <p:blipFill>
          <a:blip r:embed="rId2"/>
          <a:stretch/>
        </p:blipFill>
        <p:spPr>
          <a:xfrm>
            <a:off x="684360" y="1484280"/>
            <a:ext cx="1428480" cy="1219320"/>
          </a:xfrm>
          <a:prstGeom prst="rect">
            <a:avLst/>
          </a:prstGeom>
          <a:ln w="0">
            <a:noFill/>
          </a:ln>
        </p:spPr>
      </p:pic>
      <p:sp>
        <p:nvSpPr>
          <p:cNvPr id="99" name="Овал 3"/>
          <p:cNvSpPr/>
          <p:nvPr/>
        </p:nvSpPr>
        <p:spPr>
          <a:xfrm>
            <a:off x="826920" y="3357720"/>
            <a:ext cx="914400" cy="914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FaNtoM\Рабочий стол\Картинки\Новые солнышки\сол12.jpeg"/>
          <p:cNvPicPr/>
          <p:nvPr/>
        </p:nvPicPr>
        <p:blipFill>
          <a:blip r:embed="rId3"/>
          <a:stretch/>
        </p:blipFill>
        <p:spPr>
          <a:xfrm>
            <a:off x="2987640" y="134136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5"/>
          <p:cNvSpPr/>
          <p:nvPr/>
        </p:nvSpPr>
        <p:spPr>
          <a:xfrm>
            <a:off x="3635280" y="39337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:\Documents and Settings\FaNtoM\Рабочий стол\Картинки\Новые солнышки\сол8.jpeg"/>
          <p:cNvPicPr/>
          <p:nvPr/>
        </p:nvPicPr>
        <p:blipFill>
          <a:blip r:embed="rId4"/>
          <a:stretch/>
        </p:blipFill>
        <p:spPr>
          <a:xfrm>
            <a:off x="5724360" y="1268280"/>
            <a:ext cx="1630440" cy="164484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7"/>
          <p:cNvSpPr/>
          <p:nvPr/>
        </p:nvSpPr>
        <p:spPr>
          <a:xfrm>
            <a:off x="6372360" y="4724280"/>
            <a:ext cx="914400" cy="9144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FaNtoM\Рабочий стол\Картинки\Новые солнышки\сол во.jpeg"/>
          <p:cNvPicPr/>
          <p:nvPr/>
        </p:nvPicPr>
        <p:blipFill>
          <a:blip r:embed="rId1"/>
          <a:stretch/>
        </p:blipFill>
        <p:spPr>
          <a:xfrm>
            <a:off x="3276720" y="1989000"/>
            <a:ext cx="2663640" cy="212580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2" descr=""/>
          <p:cNvPicPr/>
          <p:nvPr/>
        </p:nvPicPr>
        <p:blipFill>
          <a:blip r:embed="rId2"/>
          <a:stretch/>
        </p:blipFill>
        <p:spPr>
          <a:xfrm>
            <a:off x="1841400" y="396720"/>
            <a:ext cx="5602320" cy="361476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3" descr=""/>
          <p:cNvPicPr/>
          <p:nvPr/>
        </p:nvPicPr>
        <p:blipFill>
          <a:blip r:embed="rId3"/>
          <a:stretch/>
        </p:blipFill>
        <p:spPr>
          <a:xfrm>
            <a:off x="1322280" y="3133800"/>
            <a:ext cx="63532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Documents and Settings\FaNtoM\Рабочий стол\Картинки\Почемучка\поч4.jpeg"/>
          <p:cNvPicPr/>
          <p:nvPr/>
        </p:nvPicPr>
        <p:blipFill>
          <a:blip r:embed="rId1"/>
          <a:stretch/>
        </p:blipFill>
        <p:spPr>
          <a:xfrm>
            <a:off x="250920" y="189000"/>
            <a:ext cx="1771560" cy="25812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" descr=""/>
          <p:cNvPicPr/>
          <p:nvPr/>
        </p:nvPicPr>
        <p:blipFill>
          <a:blip r:embed="rId2"/>
          <a:stretch/>
        </p:blipFill>
        <p:spPr>
          <a:xfrm>
            <a:off x="1957320" y="285840"/>
            <a:ext cx="3138480" cy="761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981440" y="112536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На какие вопросы отвечают глаг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неопределённоё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976400" y="198900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Назовите глаголы, которые отве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 вопрос что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976400" y="285264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Назовите глаголы, которые отве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 вопрос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82760" y="400536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Вычеркните каждую вторую букву и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можете прочитать тему нашего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extBox 8" descr=""/>
          <p:cNvPicPr/>
          <p:nvPr/>
        </p:nvPicPr>
        <p:blipFill>
          <a:blip r:embed="rId3"/>
          <a:stretch/>
        </p:blipFill>
        <p:spPr>
          <a:xfrm>
            <a:off x="1974960" y="5035680"/>
            <a:ext cx="4779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FaNtoM\Рабочий стол\Картинки\Школьные принадлежности\Доски\доска09.jpeg"/>
          <p:cNvPicPr/>
          <p:nvPr/>
        </p:nvPicPr>
        <p:blipFill>
          <a:blip r:embed="rId1"/>
          <a:stretch/>
        </p:blipFill>
        <p:spPr>
          <a:xfrm>
            <a:off x="225360" y="320760"/>
            <a:ext cx="8667720" cy="60609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3" descr=""/>
          <p:cNvPicPr/>
          <p:nvPr/>
        </p:nvPicPr>
        <p:blipFill>
          <a:blip r:embed="rId2"/>
          <a:stretch/>
        </p:blipFill>
        <p:spPr>
          <a:xfrm>
            <a:off x="2554200" y="1481040"/>
            <a:ext cx="4254480" cy="6764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4" descr=""/>
          <p:cNvPicPr/>
          <p:nvPr/>
        </p:nvPicPr>
        <p:blipFill>
          <a:blip r:embed="rId3"/>
          <a:stretch/>
        </p:blipFill>
        <p:spPr>
          <a:xfrm>
            <a:off x="2554200" y="2414520"/>
            <a:ext cx="4108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65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FaNtoM\Рабочий стол\Картинки\Школьные принадлежности\Книги тетради блокноты\блокнот с кар.jpeg"/>
          <p:cNvPicPr/>
          <p:nvPr/>
        </p:nvPicPr>
        <p:blipFill>
          <a:blip r:embed="rId2"/>
          <a:stretch/>
        </p:blipFill>
        <p:spPr>
          <a:xfrm>
            <a:off x="250920" y="260280"/>
            <a:ext cx="89532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FaNtoM\Рабочий стол\Минутки чистописания\Весёлые буквы\э.jpeg"/>
          <p:cNvPicPr/>
          <p:nvPr/>
        </p:nvPicPr>
        <p:blipFill>
          <a:blip r:embed="rId3"/>
          <a:stretch/>
        </p:blipFill>
        <p:spPr>
          <a:xfrm>
            <a:off x="468360" y="2565360"/>
            <a:ext cx="1942920" cy="2082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413240" y="1557360"/>
            <a:ext cx="161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Hortensia"/>
              </a:rPr>
              <a:t>Э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371760" y="2781360"/>
            <a:ext cx="39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dine Kirnberg"/>
              </a:rPr>
              <a:t>Эк  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FaNtoM\Рабочий стол\эк.jpeg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FaNtoM\Рабочий стол\эк1.jpg"/>
          <p:cNvPicPr/>
          <p:nvPr/>
        </p:nvPicPr>
        <p:blipFill>
          <a:blip r:embed="rId3"/>
          <a:stretch/>
        </p:blipFill>
        <p:spPr>
          <a:xfrm>
            <a:off x="2771640" y="907920"/>
            <a:ext cx="3200400" cy="3552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24000" y="2852640"/>
            <a:ext cx="24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ску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6"/>
          <p:cNvSpPr/>
          <p:nvPr/>
        </p:nvSpPr>
        <p:spPr>
          <a:xfrm flipV="1">
            <a:off x="1619280" y="2707920"/>
            <a:ext cx="144360" cy="289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395280" y="2781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398520" y="28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20520" y="4941720"/>
            <a:ext cx="90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думайте предложение с новым сл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очитайте глаголы, определите время глаго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2174400"/>
            <a:ext cx="404028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л.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Я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л.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Ты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л.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н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ожествен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2174400"/>
            <a:ext cx="404172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л.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ы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л.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Ы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л.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ни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614520" y="5589720"/>
            <a:ext cx="56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Что изменяется в слов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6" descr=""/>
          <p:cNvPicPr/>
          <p:nvPr/>
        </p:nvPicPr>
        <p:blipFill>
          <a:blip r:embed="rId1"/>
          <a:stretch/>
        </p:blipFill>
        <p:spPr>
          <a:xfrm>
            <a:off x="1517760" y="457200"/>
            <a:ext cx="646272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FaNtoM\Рабочий стол\Картинки\Учебники\рус.jpeg"/>
          <p:cNvPicPr/>
          <p:nvPr/>
        </p:nvPicPr>
        <p:blipFill>
          <a:blip r:embed="rId2"/>
          <a:stretch/>
        </p:blipFill>
        <p:spPr>
          <a:xfrm>
            <a:off x="324000" y="260280"/>
            <a:ext cx="109512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2423880" y="1916280"/>
            <a:ext cx="34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авило с.74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Documents and Settings\FaNtoM\Рабочий стол\Картинки\Новые картинки\Школа\в парах1.jpg"/>
          <p:cNvPicPr/>
          <p:nvPr/>
        </p:nvPicPr>
        <p:blipFill>
          <a:blip r:embed="rId3"/>
          <a:stretch/>
        </p:blipFill>
        <p:spPr>
          <a:xfrm>
            <a:off x="6227640" y="1700280"/>
            <a:ext cx="1944720" cy="136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738000" y="3213000"/>
            <a:ext cx="79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.75 упр.424 – проспрягайте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ю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зь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FaNtoM\Рабочий стол\Картинки\красивые картики школа\Ученики\она пишет.jpg"/>
          <p:cNvPicPr/>
          <p:nvPr/>
        </p:nvPicPr>
        <p:blipFill>
          <a:blip r:embed="rId4"/>
          <a:stretch/>
        </p:blipFill>
        <p:spPr>
          <a:xfrm>
            <a:off x="539640" y="4221000"/>
            <a:ext cx="1728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842120" y="260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501480" y="1413000"/>
            <a:ext cx="828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пишите, определите лицо и число гла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делите окон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28400" y="242100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Мечтаешь о кукле, верим в сказ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итают в облаках, встречаем медвед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асписываем матрёшку, ездите на лошад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желтеют листья, краснеет ряб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FaNtoM\Рабочий стол\Картинки\красивые картики школа\Ученики\пишет.gif"/>
          <p:cNvPicPr/>
          <p:nvPr/>
        </p:nvPicPr>
        <p:blipFill>
          <a:blip r:embed="rId1"/>
          <a:stretch/>
        </p:blipFill>
        <p:spPr>
          <a:xfrm>
            <a:off x="2843280" y="4437000"/>
            <a:ext cx="3095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FaNtoM\Рабочий стол\Картинки\Детские рамки\р2.jpeg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20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432520" y="2060640"/>
            <a:ext cx="42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.74-75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.76 упр.4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0:12:47Z</dcterms:created>
  <dc:creator>FaNtoM</dc:creator>
  <dc:description/>
  <dc:language>en-US</dc:language>
  <cp:lastModifiedBy>FaNtoM</cp:lastModifiedBy>
  <dcterms:modified xsi:type="dcterms:W3CDTF">2013-03-13T12:12:49Z</dcterms:modified>
  <cp:revision>13</cp:revision>
  <dc:subject/>
  <dc:title>«Изменение глаголов по лицам и числам в настоящем и будущем времени (спряжение глаголов)».</dc:title>
</cp:coreProperties>
</file>